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wmf" ContentType="image/x-wmf"/>
  <Override PartName="/ppt/media/image33.jpeg" ContentType="image/jpeg"/>
  <Override PartName="/ppt/media/image30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media/image14.png" ContentType="image/png"/>
  <Override PartName="/ppt/media/image12.gif" ContentType="image/gif"/>
  <Override PartName="/ppt/media/image8.wmf" ContentType="image/x-wmf"/>
  <Override PartName="/ppt/media/image13.wmf" ContentType="image/x-wmf"/>
  <Override PartName="/ppt/media/image31.png" ContentType="image/png"/>
  <Override PartName="/ppt/media/image4.png" ContentType="image/png"/>
  <Override PartName="/ppt/media/image29.jpeg" ContentType="image/jpe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A83-F50F-4CCE-89DE-D954F6F5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E40-F7F7-4FAC-BC8E-3E09A83A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9DA8-7F80-42CB-8478-4AA5B87F3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C6B-808C-4C30-944E-C670ADB0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2C6-8552-4784-8986-72D70323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B24F-9087-4EE5-916D-6F1A8153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25C-1022-4968-AEAE-8DF7D7C0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B8A-2DC6-44E7-9F2B-479B5BA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25D-80AC-49D1-8FF7-4A243D36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9D1D-C2C9-4B71-9F03-AC489A2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8A70-9D3A-4734-8A9C-913E7176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A32-AAE7-4DFB-8C94-DCA2DFE1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C864-3444-458B-AF13-7B8AE06027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6817-DED4-47DE-BAED-2E8BABF60D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gi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jpeg"/><Relationship Id="rId7" Type="http://schemas.openxmlformats.org/officeDocument/2006/relationships/image" Target="../media/image30.wmf"/><Relationship Id="rId8" Type="http://schemas.openxmlformats.org/officeDocument/2006/relationships/image" Target="../media/image31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隶书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卡通物品类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592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476280"/>
            <a:ext cx="1800000" cy="1484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1512720" cy="142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8360" y="465300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987640" y="2133720"/>
            <a:ext cx="1841400" cy="1841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867280" y="2565360"/>
            <a:ext cx="2519640" cy="153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940360" y="549360"/>
            <a:ext cx="2016360" cy="17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934320" y="4648320"/>
            <a:ext cx="160164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39640" y="2349360"/>
            <a:ext cx="1944720" cy="1832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4952880" y="5029200"/>
            <a:ext cx="1362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S00580_" descr=""/>
          <p:cNvPicPr/>
          <p:nvPr/>
        </p:nvPicPr>
        <p:blipFill>
          <a:blip r:embed="rId1"/>
          <a:stretch/>
        </p:blipFill>
        <p:spPr>
          <a:xfrm>
            <a:off x="6629400" y="304920"/>
            <a:ext cx="1981080" cy="13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0" y="304920"/>
            <a:ext cx="1371600" cy="1363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948360" y="2362320"/>
            <a:ext cx="2195640" cy="145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419720" y="228600"/>
            <a:ext cx="1523880" cy="133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0" y="2514600"/>
            <a:ext cx="1828800" cy="11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304920" y="4572000"/>
            <a:ext cx="1761840" cy="1827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2590920" y="4419720"/>
            <a:ext cx="1277640" cy="191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4572000" y="472428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6858000" y="464832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562720" y="2438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1828800" y="2590920"/>
            <a:ext cx="117648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tretch/>
        </p:blipFill>
        <p:spPr>
          <a:xfrm>
            <a:off x="3733920" y="2438280"/>
            <a:ext cx="14475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505320" y="533520"/>
            <a:ext cx="1841400" cy="1654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2319480" cy="2260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4920" y="3048120"/>
            <a:ext cx="1952640" cy="2076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3276720" y="2971800"/>
            <a:ext cx="2133360" cy="212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553080" y="3200400"/>
            <a:ext cx="1770120" cy="17398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6858000" y="380880"/>
            <a:ext cx="1251000" cy="175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28600" y="5486400"/>
            <a:ext cx="266688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3564000" y="5281560"/>
            <a:ext cx="2471760" cy="1576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6300720" y="5445000"/>
            <a:ext cx="284328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744-7057-47D0-ACC6-F6D8FD91D9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6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