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306-4DFA-4394-B090-3A32CD8A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18A-2DAD-4A19-8D3B-2DEC7624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55E-A830-4752-98BA-E2ED7D8C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48E-7B95-4908-92A5-3A87A26F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E15-3AD5-4CF1-89D6-688E4374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329-6764-4220-A6BC-9D79A33A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003-3890-4958-963F-B5F4842B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EFC-CFEF-4077-B68F-7AA72AF4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AE6A-9742-4FDE-8937-21A5F979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1EF-A774-4287-847C-0D4A8173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9C4-BCE5-49BB-8A4D-56C8AE80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84B-3141-4B6A-A611-66ECA13D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9C89-B91E-4181-AD49-0476592C97F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BBC2-CCCC-42F7-ADFF-0CEF6AD3A5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 rot="1625400">
            <a:off x="2000160" y="4136760"/>
            <a:ext cx="100008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7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 rot="1625400">
            <a:off x="6241680" y="4147920"/>
            <a:ext cx="1000080" cy="45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7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 rot="19675200">
            <a:off x="4187520" y="4019040"/>
            <a:ext cx="100008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3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642960" y="2142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联动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42960" y="2708280"/>
            <a:ext cx="1643040" cy="1644480"/>
            <a:chOff x="642960" y="2708280"/>
            <a:chExt cx="1643040" cy="1644480"/>
          </a:xfrm>
        </p:grpSpPr>
        <p:sp>
          <p:nvSpPr>
            <p:cNvPr id="46" name="椭圆 8"/>
            <p:cNvSpPr/>
            <p:nvPr/>
          </p:nvSpPr>
          <p:spPr>
            <a:xfrm>
              <a:off x="642960" y="2708280"/>
              <a:ext cx="1643040" cy="16444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9"/>
            <p:cNvSpPr/>
            <p:nvPr/>
          </p:nvSpPr>
          <p:spPr>
            <a:xfrm>
              <a:off x="672120" y="2737440"/>
              <a:ext cx="1584720" cy="1586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 10"/>
            <p:cNvSpPr/>
            <p:nvPr/>
          </p:nvSpPr>
          <p:spPr>
            <a:xfrm>
              <a:off x="720000" y="2785320"/>
              <a:ext cx="1497240" cy="1498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双击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929120" y="2638440"/>
            <a:ext cx="1643040" cy="1643040"/>
            <a:chOff x="4929120" y="2638440"/>
            <a:chExt cx="1643040" cy="1643040"/>
          </a:xfrm>
        </p:grpSpPr>
        <p:sp>
          <p:nvSpPr>
            <p:cNvPr id="50" name="椭圆 12"/>
            <p:cNvSpPr/>
            <p:nvPr/>
          </p:nvSpPr>
          <p:spPr>
            <a:xfrm>
              <a:off x="4929120" y="2638440"/>
              <a:ext cx="1643040" cy="164304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13"/>
            <p:cNvSpPr/>
            <p:nvPr/>
          </p:nvSpPr>
          <p:spPr>
            <a:xfrm>
              <a:off x="4958280" y="2667600"/>
              <a:ext cx="1584720" cy="158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14"/>
            <p:cNvSpPr/>
            <p:nvPr/>
          </p:nvSpPr>
          <p:spPr>
            <a:xfrm>
              <a:off x="5006160" y="2715480"/>
              <a:ext cx="1497240" cy="1497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双击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786040" y="3781440"/>
            <a:ext cx="1643040" cy="1643040"/>
            <a:chOff x="2786040" y="3781440"/>
            <a:chExt cx="1643040" cy="1643040"/>
          </a:xfrm>
        </p:grpSpPr>
        <p:sp>
          <p:nvSpPr>
            <p:cNvPr id="54" name="椭圆 16"/>
            <p:cNvSpPr/>
            <p:nvPr/>
          </p:nvSpPr>
          <p:spPr>
            <a:xfrm>
              <a:off x="2786040" y="3781440"/>
              <a:ext cx="1643040" cy="164304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17"/>
            <p:cNvSpPr/>
            <p:nvPr/>
          </p:nvSpPr>
          <p:spPr>
            <a:xfrm>
              <a:off x="2815200" y="3810600"/>
              <a:ext cx="1584720" cy="158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18"/>
            <p:cNvSpPr/>
            <p:nvPr/>
          </p:nvSpPr>
          <p:spPr>
            <a:xfrm>
              <a:off x="2863080" y="3858480"/>
              <a:ext cx="1497240" cy="1497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双击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858000" y="3994200"/>
            <a:ext cx="1643040" cy="1644480"/>
            <a:chOff x="6858000" y="3994200"/>
            <a:chExt cx="1643040" cy="1644480"/>
          </a:xfrm>
        </p:grpSpPr>
        <p:sp>
          <p:nvSpPr>
            <p:cNvPr id="58" name="椭圆 20"/>
            <p:cNvSpPr/>
            <p:nvPr/>
          </p:nvSpPr>
          <p:spPr>
            <a:xfrm>
              <a:off x="6858000" y="3994200"/>
              <a:ext cx="1643040" cy="16444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21"/>
            <p:cNvSpPr/>
            <p:nvPr/>
          </p:nvSpPr>
          <p:spPr>
            <a:xfrm>
              <a:off x="6887160" y="4023360"/>
              <a:ext cx="1584720" cy="1586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22"/>
            <p:cNvSpPr/>
            <p:nvPr/>
          </p:nvSpPr>
          <p:spPr>
            <a:xfrm>
              <a:off x="6935040" y="4071240"/>
              <a:ext cx="1497240" cy="1498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双击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椭圆 23"/>
          <p:cNvSpPr/>
          <p:nvPr/>
        </p:nvSpPr>
        <p:spPr>
          <a:xfrm>
            <a:off x="785880" y="4565520"/>
            <a:ext cx="1428840" cy="142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24"/>
          <p:cNvSpPr/>
          <p:nvPr/>
        </p:nvSpPr>
        <p:spPr>
          <a:xfrm>
            <a:off x="2857680" y="5565600"/>
            <a:ext cx="1428480" cy="142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5"/>
          <p:cNvSpPr/>
          <p:nvPr/>
        </p:nvSpPr>
        <p:spPr>
          <a:xfrm>
            <a:off x="5072040" y="4422600"/>
            <a:ext cx="1428840" cy="142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6"/>
          <p:cNvSpPr/>
          <p:nvPr/>
        </p:nvSpPr>
        <p:spPr>
          <a:xfrm>
            <a:off x="7072200" y="5781600"/>
            <a:ext cx="1428840" cy="1429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7"/>
          <p:cNvSpPr/>
          <p:nvPr/>
        </p:nvSpPr>
        <p:spPr>
          <a:xfrm>
            <a:off x="834840" y="4924440"/>
            <a:ext cx="115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8"/>
          <p:cNvSpPr/>
          <p:nvPr/>
        </p:nvSpPr>
        <p:spPr>
          <a:xfrm>
            <a:off x="2906640" y="2422440"/>
            <a:ext cx="115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9"/>
          <p:cNvSpPr/>
          <p:nvPr/>
        </p:nvSpPr>
        <p:spPr>
          <a:xfrm>
            <a:off x="5049720" y="4924440"/>
            <a:ext cx="115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0"/>
          <p:cNvSpPr/>
          <p:nvPr/>
        </p:nvSpPr>
        <p:spPr>
          <a:xfrm>
            <a:off x="7192800" y="2352600"/>
            <a:ext cx="115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2592-853C-479F-A4E4-DA5B2CD6D4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6:02:4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