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AF97-D355-4B17-9F41-37FD049B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F55-CF1F-4B54-99C3-051DFB6D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7B4-84CF-4C05-AE25-72516D84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D685-78E9-4AA4-8E0A-A53518FC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894D-2774-4A2F-A8A7-B2CABB2C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F51-B2BB-4CE6-AEF0-6D6F8750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938-4932-442F-8EAB-5D254382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D5DC-D46B-4213-ACA5-C948694F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EC64-5014-448F-BE23-0DD5FF0D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1C7-1C42-433B-97D6-8DD7C375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32C-8E83-4EBA-9C19-F767A0E8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B70-63ED-4E1D-B06E-22D26311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8DC8-A2D2-4D44-B9F7-5F8D265BE8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7640" y="52560"/>
            <a:ext cx="3143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F:\PPT\量化工作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7640" y="52560"/>
            <a:ext cx="3143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F:\PPT\量化工作02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7640" y="52560"/>
            <a:ext cx="3143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F:\PPT\量化工作03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7640" y="52560"/>
            <a:ext cx="3143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F:\PPT\量化工作04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7640" y="52560"/>
            <a:ext cx="3143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F:\PPT\量化工作0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4A1B-B3F5-4249-B615-B5DFF7D6EC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a</cp:lastModifiedBy>
  <dcterms:modified xsi:type="dcterms:W3CDTF">2015-06-13T09:03:1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