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A3E-2758-402A-86EF-9EFF3F89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045-A8B2-49DC-B45A-F9F0A33D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435-E1AF-4C25-8105-89ACB823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AC4-395D-4590-99C9-82111978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693C-EA0C-4551-97EF-8EBE562E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ECCC-4CC1-48B6-92B7-1FE8ADF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255B-064B-4FB4-8CAF-5919645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F48-FF4D-4B58-A510-FCAF029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FD0F-7BFA-4AC0-93E7-66D5394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C8C1-CCDE-42FB-AE6F-D5EF7FD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A5A9-D8E9-41D6-9272-DB27621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BFC-7A25-44F7-9939-F1CCB7C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A4C4-D3ED-4116-915E-C5A1638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0F4-3D90-4703-B5F7-4CEF87A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3B60-0BBA-4A3B-97AA-592F3ABD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9778-6C3F-4665-8955-245B0528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732-9374-47B6-9E83-B4FED6AF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743-27C6-48C2-A725-8DEF650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411-352B-4BF7-A062-25AB0161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B73-F46F-4967-8605-27F85BF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5EE-54A0-4CCF-8627-E225D6B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007-66CD-4498-9C13-661E0EE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AE9-DD80-4497-B69B-D74B941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1CB-87D8-465F-A9C7-82480C1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114-18C5-45DE-86BB-01283D1F6D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AB2-B255-4AF5-8337-4E40709C7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FC22-D13D-4D14-8A4E-848E9D038C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246B-463A-4108-8625-86EA6CDD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6"/>
          <p:cNvGrpSpPr/>
          <p:nvPr/>
        </p:nvGrpSpPr>
        <p:grpSpPr>
          <a:xfrm>
            <a:off x="2924280" y="1798560"/>
            <a:ext cx="3198600" cy="3151440"/>
            <a:chOff x="2924280" y="1798560"/>
            <a:chExt cx="3198600" cy="3151440"/>
          </a:xfrm>
        </p:grpSpPr>
        <p:grpSp>
          <p:nvGrpSpPr>
            <p:cNvPr id="83" name="组合 26"/>
            <p:cNvGrpSpPr/>
            <p:nvPr/>
          </p:nvGrpSpPr>
          <p:grpSpPr>
            <a:xfrm>
              <a:off x="4829400" y="2130120"/>
              <a:ext cx="1293480" cy="1119600"/>
              <a:chOff x="4829400" y="2130120"/>
              <a:chExt cx="1293480" cy="1119600"/>
            </a:xfrm>
          </p:grpSpPr>
          <p:sp>
            <p:nvSpPr>
              <p:cNvPr id="84" name="Freeform 8"/>
              <p:cNvSpPr/>
              <p:nvPr/>
            </p:nvSpPr>
            <p:spPr>
              <a:xfrm>
                <a:off x="4829400" y="2130120"/>
                <a:ext cx="676800" cy="104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4829400" y="3128040"/>
                <a:ext cx="1293480" cy="121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"/>
              <p:cNvSpPr/>
              <p:nvPr/>
            </p:nvSpPr>
            <p:spPr>
              <a:xfrm>
                <a:off x="4914720" y="2130120"/>
                <a:ext cx="1208160" cy="109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"/>
              <p:cNvSpPr/>
              <p:nvPr/>
            </p:nvSpPr>
            <p:spPr>
              <a:xfrm>
                <a:off x="4930560" y="2138760"/>
                <a:ext cx="1189440" cy="10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063040" y="2138760"/>
                <a:ext cx="972000" cy="776520"/>
              </a:xfrm>
              <a:prstGeom prst="pie">
                <a:avLst/>
              </a:prstGeom>
              <a:solidFill>
                <a:srgbClr val="f2f2f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5"/>
            <p:cNvGrpSpPr/>
            <p:nvPr/>
          </p:nvGrpSpPr>
          <p:grpSpPr>
            <a:xfrm>
              <a:off x="2924280" y="1798560"/>
              <a:ext cx="3125520" cy="3151440"/>
              <a:chOff x="2924280" y="1798560"/>
              <a:chExt cx="3125520" cy="3151440"/>
            </a:xfrm>
          </p:grpSpPr>
          <p:sp>
            <p:nvSpPr>
              <p:cNvPr id="90" name="Freeform 6"/>
              <p:cNvSpPr/>
              <p:nvPr/>
            </p:nvSpPr>
            <p:spPr>
              <a:xfrm>
                <a:off x="5376960" y="3305160"/>
                <a:ext cx="379080" cy="846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>
                <a:off x="4288680" y="2166120"/>
                <a:ext cx="917280" cy="26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063040" y="4497840"/>
                <a:ext cx="56988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3554280" y="1826640"/>
                <a:ext cx="584640" cy="33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2924280" y="2179080"/>
                <a:ext cx="2062800" cy="2770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3029760" y="2193120"/>
                <a:ext cx="1957320" cy="2705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3829320" y="1853640"/>
                <a:ext cx="243000" cy="19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4996440" y="4205880"/>
                <a:ext cx="1306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7"/>
              <p:cNvSpPr/>
              <p:nvPr/>
            </p:nvSpPr>
            <p:spPr>
              <a:xfrm>
                <a:off x="5218200" y="4518360"/>
                <a:ext cx="385560" cy="14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8"/>
              <p:cNvSpPr/>
              <p:nvPr/>
            </p:nvSpPr>
            <p:spPr>
              <a:xfrm>
                <a:off x="3924360" y="2372400"/>
                <a:ext cx="218880" cy="8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9"/>
              <p:cNvSpPr/>
              <p:nvPr/>
            </p:nvSpPr>
            <p:spPr>
              <a:xfrm>
                <a:off x="4344840" y="2150640"/>
                <a:ext cx="87300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0"/>
              <p:cNvSpPr/>
              <p:nvPr/>
            </p:nvSpPr>
            <p:spPr>
              <a:xfrm>
                <a:off x="5439600" y="3305160"/>
                <a:ext cx="332280" cy="80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>
                <a:off x="4987080" y="4662000"/>
                <a:ext cx="23076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3044160" y="1798560"/>
                <a:ext cx="3005640" cy="30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>
                <a:off x="3044160" y="1798560"/>
                <a:ext cx="2293920" cy="2113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矩形 1"/>
          <p:cNvSpPr/>
          <p:nvPr/>
        </p:nvSpPr>
        <p:spPr>
          <a:xfrm>
            <a:off x="6152400" y="255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另类饼图包含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6643800" y="13716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e1247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9"/>
          <p:cNvSpPr/>
          <p:nvPr/>
        </p:nvSpPr>
        <p:spPr>
          <a:xfrm flipH="1">
            <a:off x="5702400" y="1725480"/>
            <a:ext cx="2342880" cy="954360"/>
          </a:xfrm>
          <a:prstGeom prst="pie">
            <a:avLst/>
          </a:prstGeom>
          <a:noFill/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0"/>
          <p:cNvGrpSpPr/>
          <p:nvPr/>
        </p:nvGrpSpPr>
        <p:grpSpPr>
          <a:xfrm>
            <a:off x="5986080" y="1754280"/>
            <a:ext cx="2114640" cy="466560"/>
            <a:chOff x="5986080" y="1754280"/>
            <a:chExt cx="2114640" cy="466560"/>
          </a:xfrm>
        </p:grpSpPr>
        <p:sp>
          <p:nvSpPr>
            <p:cNvPr id="109" name="TextBox 11"/>
            <p:cNvSpPr/>
            <p:nvPr/>
          </p:nvSpPr>
          <p:spPr>
            <a:xfrm flipH="1">
              <a:off x="5985720" y="1761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1"/>
            <p:cNvSpPr/>
            <p:nvPr/>
          </p:nvSpPr>
          <p:spPr>
            <a:xfrm flipH="1">
              <a:off x="6953760" y="1754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 flipH="1">
            <a:off x="1201680" y="41162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34"/>
          <p:cNvSpPr/>
          <p:nvPr/>
        </p:nvSpPr>
        <p:spPr>
          <a:xfrm flipV="1">
            <a:off x="1187280" y="3517920"/>
            <a:ext cx="2343240" cy="954000"/>
          </a:xfrm>
          <a:prstGeom prst="pie">
            <a:avLst/>
          </a:prstGeom>
          <a:noFill/>
          <a:ln w="648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5"/>
          <p:cNvGrpSpPr/>
          <p:nvPr/>
        </p:nvGrpSpPr>
        <p:grpSpPr>
          <a:xfrm>
            <a:off x="1174320" y="4506840"/>
            <a:ext cx="2114640" cy="460800"/>
            <a:chOff x="1174320" y="4506840"/>
            <a:chExt cx="2114640" cy="460800"/>
          </a:xfrm>
        </p:grpSpPr>
        <p:sp>
          <p:nvSpPr>
            <p:cNvPr id="114" name="TextBox 11"/>
            <p:cNvSpPr/>
            <p:nvPr/>
          </p:nvSpPr>
          <p:spPr>
            <a:xfrm flipH="1">
              <a:off x="1173960" y="4506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1"/>
            <p:cNvSpPr/>
            <p:nvPr/>
          </p:nvSpPr>
          <p:spPr>
            <a:xfrm flipH="1">
              <a:off x="2142000" y="45086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