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A38-BFD5-4D1B-A443-29704DC6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15C-653E-41C8-BA7E-79E4B80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A56-AE40-4651-BCFB-51D52A03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13F-19B7-4D11-9FFD-D47B5F42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A578-A742-4494-90C4-B4EE1372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F570-0D83-4CDF-B7DF-468AFDCA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214F-2C2E-43AF-AD1E-8F003CDE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D7CB-3A72-4315-BAA9-42411BA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67F-B906-4CC6-8556-45026CD8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2A40-8848-41A5-A9CC-7F8CC16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4BD5-272E-4A69-89B6-C23DF1C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CA7-26E3-4835-9B6E-5100D0B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476-5C22-403D-960E-E64A6EC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0F8-77C1-4DA0-A5B7-8A862DF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D574-6144-4808-896C-1450F2A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399E-6389-4E20-B1A9-16FCEF2C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DBFE-5908-4874-B218-FAD6C85B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D01A-35D1-4BA8-8519-93587B3D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9336-7BFE-4BF5-A0F9-32A996A3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EA03-DA7C-4551-8C7D-7E9FE3B3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30F2-CC7A-4A10-9264-62D1B9FE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5EFF-49C1-4BEA-AE9D-BDDAF80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085-088B-4A7F-A9A0-B7CF1AC0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F3D8-88AC-4178-ACBA-956AEC5F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FA12-3228-461E-8586-90B14CE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0C63-EA5A-4FA3-B189-2C295800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CAF2-4711-4423-B7E7-3536ABF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2BA8-1489-4228-A795-3336EA9C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FFDF-4FC5-4342-AFF2-EB748D79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E0B6-2D21-4BC8-8028-2BA50B2F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9F7-7B63-4806-8B57-08557F0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397-5BD4-497B-974F-DAF91526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F10-0314-4E52-9C5A-E8536B05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1E7-8CA4-4900-BE58-1F69DB5D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776-6F6D-4E78-BFE4-EEA08FE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390-9148-4318-B4B9-9EF9378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CDF8-6457-4336-9839-FE160A586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CCB5-D811-4178-9247-11D507AB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150840"/>
            <a:ext cx="9296280" cy="700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2448000" cy="370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481120" y="692280"/>
            <a:ext cx="3098880" cy="4646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8360" y="-457200"/>
            <a:ext cx="5867280" cy="611820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49520" y="0"/>
            <a:ext cx="7113600" cy="6858000"/>
            <a:chOff x="1649520" y="0"/>
            <a:chExt cx="7113600" cy="6858000"/>
          </a:xfrm>
        </p:grpSpPr>
        <p:sp>
          <p:nvSpPr>
            <p:cNvPr id="55" name=""/>
            <p:cNvSpPr/>
            <p:nvPr/>
          </p:nvSpPr>
          <p:spPr>
            <a:xfrm>
              <a:off x="1649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97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78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7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8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02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5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476440" y="-2081160"/>
            <a:ext cx="1532160" cy="208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297240" y="-2460600"/>
            <a:ext cx="1531800" cy="2082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977080" y="-2081160"/>
            <a:ext cx="1531800" cy="2081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6797520" y="-2460600"/>
            <a:ext cx="1532160" cy="20826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0" y="-598320"/>
            <a:ext cx="10980720" cy="4363920"/>
            <a:chOff x="0" y="-598320"/>
            <a:chExt cx="10980720" cy="4363920"/>
          </a:xfrm>
        </p:grpSpPr>
        <p:sp>
          <p:nvSpPr>
            <p:cNvPr id="76" name=""/>
            <p:cNvSpPr/>
            <p:nvPr/>
          </p:nvSpPr>
          <p:spPr>
            <a:xfrm>
              <a:off x="755640" y="3333600"/>
              <a:ext cx="431640" cy="4316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7280" y="3116160"/>
              <a:ext cx="648000" cy="6472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35280" y="2684880"/>
              <a:ext cx="1079280" cy="10785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16360" y="2037240"/>
              <a:ext cx="1726920" cy="1726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360" y="1702440"/>
              <a:ext cx="2063880" cy="20628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00720" y="1126440"/>
              <a:ext cx="2609640" cy="26089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0360" y="308880"/>
              <a:ext cx="3456000" cy="34545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93080" y="-193680"/>
              <a:ext cx="3887640" cy="3886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0" y="-598320"/>
              <a:ext cx="9144000" cy="436392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54200" y="-192240"/>
            <a:ext cx="10225080" cy="3958920"/>
            <a:chOff x="754200" y="-192240"/>
            <a:chExt cx="10225080" cy="3958920"/>
          </a:xfrm>
        </p:grpSpPr>
        <p:sp>
          <p:nvSpPr>
            <p:cNvPr id="87" name=""/>
            <p:cNvSpPr/>
            <p:nvPr/>
          </p:nvSpPr>
          <p:spPr>
            <a:xfrm>
              <a:off x="754200" y="3335400"/>
              <a:ext cx="431640" cy="431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85840" y="3117960"/>
              <a:ext cx="648000" cy="647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840" y="2686320"/>
              <a:ext cx="1079280" cy="10789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14920" y="2038680"/>
              <a:ext cx="1726920" cy="1726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0920" y="1704240"/>
              <a:ext cx="2063880" cy="206244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9280" y="1127880"/>
              <a:ext cx="2609640" cy="2608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38920" y="310680"/>
              <a:ext cx="3456000" cy="3454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640" y="-192240"/>
              <a:ext cx="3887640" cy="388620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38920" y="2937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1280" y="-208080"/>
            <a:ext cx="3888000" cy="38862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0200" y="4118040"/>
            <a:ext cx="1224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BDDD-B2CA-447E-A8EA-6CC4E96F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3059280" y="3716280"/>
            <a:ext cx="6145200" cy="19861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 flipH="1" rot="21165600">
            <a:off x="106920" y="3645000"/>
            <a:ext cx="7056360" cy="2416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 flipH="1" rot="35400">
            <a:off x="11160" y="3987360"/>
            <a:ext cx="4751280" cy="144144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 flipH="1" rot="21165600">
            <a:off x="102600" y="3760920"/>
            <a:ext cx="6835680" cy="23479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2556000" y="4006800"/>
            <a:ext cx="6648480" cy="22305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rot="20833200">
            <a:off x="4287960" y="4170240"/>
            <a:ext cx="5038560" cy="10083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ff">
                  <a:alpha val="43137"/>
                </a:srgbClr>
              </a:gs>
            </a:gsLst>
            <a:lin ang="11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 flipH="1" rot="133200">
            <a:off x="-35280" y="4722480"/>
            <a:ext cx="5759280" cy="15318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2516040" y="3949560"/>
            <a:ext cx="6648480" cy="22161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414" t="4698" r="398" b="4717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894400" y="2248920"/>
            <a:ext cx="740520" cy="847440"/>
            <a:chOff x="2894400" y="2248920"/>
            <a:chExt cx="740520" cy="847440"/>
          </a:xfrm>
        </p:grpSpPr>
        <p:grpSp>
          <p:nvGrpSpPr>
            <p:cNvPr id="156" name=""/>
            <p:cNvGrpSpPr/>
            <p:nvPr/>
          </p:nvGrpSpPr>
          <p:grpSpPr>
            <a:xfrm>
              <a:off x="3053160" y="2614680"/>
              <a:ext cx="410040" cy="442800"/>
              <a:chOff x="3053160" y="2614680"/>
              <a:chExt cx="410040" cy="442800"/>
            </a:xfrm>
          </p:grpSpPr>
          <p:sp>
            <p:nvSpPr>
              <p:cNvPr id="157" name="未知"/>
              <p:cNvSpPr/>
              <p:nvPr/>
            </p:nvSpPr>
            <p:spPr>
              <a:xfrm rot="3869400">
                <a:off x="3081240" y="2693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rot="5914200">
                <a:off x="3075840" y="28213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rot="6212400">
                <a:off x="3112920" y="275256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 rot="6212400">
                <a:off x="3080880" y="27792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983680" y="2535840"/>
              <a:ext cx="335520" cy="391320"/>
              <a:chOff x="2983680" y="2535840"/>
              <a:chExt cx="335520" cy="391320"/>
            </a:xfrm>
          </p:grpSpPr>
          <p:sp>
            <p:nvSpPr>
              <p:cNvPr id="162" name="未知"/>
              <p:cNvSpPr/>
              <p:nvPr/>
            </p:nvSpPr>
            <p:spPr>
              <a:xfrm rot="5910600">
                <a:off x="2974680" y="25880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7955400">
                <a:off x="2964960" y="27277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 rot="8253600">
                <a:off x="3045600" y="26640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 rot="8253600">
                <a:off x="3005640" y="2668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894400" y="2431800"/>
              <a:ext cx="442080" cy="454320"/>
              <a:chOff x="2894400" y="2431800"/>
              <a:chExt cx="442080" cy="454320"/>
            </a:xfrm>
          </p:grpSpPr>
          <p:sp>
            <p:nvSpPr>
              <p:cNvPr id="167" name="未知"/>
              <p:cNvSpPr/>
              <p:nvPr/>
            </p:nvSpPr>
            <p:spPr>
              <a:xfrm rot="7644000">
                <a:off x="2939040" y="251532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 rot="9688800">
                <a:off x="2921040" y="26611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rot="9987000">
                <a:off x="3030840" y="262008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 rot="9987000">
                <a:off x="2995560" y="2605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903760" y="2342880"/>
              <a:ext cx="428400" cy="383400"/>
              <a:chOff x="2903760" y="2342880"/>
              <a:chExt cx="428400" cy="383400"/>
            </a:xfrm>
          </p:grpSpPr>
          <p:sp>
            <p:nvSpPr>
              <p:cNvPr id="172" name="未知"/>
              <p:cNvSpPr/>
              <p:nvPr/>
            </p:nvSpPr>
            <p:spPr>
              <a:xfrm rot="9694200">
                <a:off x="2939760" y="239112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11739000">
                <a:off x="2909880" y="253764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rot="12037200">
                <a:off x="3034800" y="25380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 rot="12037200">
                <a:off x="3016080" y="250668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977200" y="2292120"/>
              <a:ext cx="418680" cy="372600"/>
              <a:chOff x="2977200" y="2292120"/>
              <a:chExt cx="418680" cy="372600"/>
            </a:xfrm>
          </p:grpSpPr>
          <p:sp>
            <p:nvSpPr>
              <p:cNvPr id="177" name="未知"/>
              <p:cNvSpPr/>
              <p:nvPr/>
            </p:nvSpPr>
            <p:spPr>
              <a:xfrm rot="11763000">
                <a:off x="3009960" y="23349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13807800">
                <a:off x="2970360" y="24753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 rot="14106000">
                <a:off x="3084120" y="251820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 rot="14106000">
                <a:off x="3088800" y="24829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054600" y="2248920"/>
              <a:ext cx="444600" cy="454680"/>
              <a:chOff x="3054600" y="2248920"/>
              <a:chExt cx="444600" cy="454680"/>
            </a:xfrm>
          </p:grpSpPr>
          <p:sp>
            <p:nvSpPr>
              <p:cNvPr id="182" name="未知"/>
              <p:cNvSpPr/>
              <p:nvPr/>
            </p:nvSpPr>
            <p:spPr>
              <a:xfrm rot="13857000">
                <a:off x="3100320" y="2333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 rot="15901800">
                <a:off x="3055680" y="24627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 rot="16200000">
                <a:off x="3136320" y="253512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 rot="16200000">
                <a:off x="3162240" y="25095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153960" y="2607120"/>
              <a:ext cx="428040" cy="386640"/>
              <a:chOff x="3153960" y="2607120"/>
              <a:chExt cx="428040" cy="386640"/>
            </a:xfrm>
          </p:grpSpPr>
          <p:sp>
            <p:nvSpPr>
              <p:cNvPr id="187" name="未知"/>
              <p:cNvSpPr/>
              <p:nvPr/>
            </p:nvSpPr>
            <p:spPr>
              <a:xfrm rot="1156800">
                <a:off x="3191400" y="2657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3201600">
                <a:off x="3180960" y="27712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3500400">
                <a:off x="3169800" y="273348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rot="3500400">
                <a:off x="3163680" y="2776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180960" y="2431800"/>
              <a:ext cx="453960" cy="448200"/>
              <a:chOff x="3180960" y="2431800"/>
              <a:chExt cx="453960" cy="448200"/>
            </a:xfrm>
          </p:grpSpPr>
          <p:sp>
            <p:nvSpPr>
              <p:cNvPr id="192" name="未知"/>
              <p:cNvSpPr/>
              <p:nvPr/>
            </p:nvSpPr>
            <p:spPr>
              <a:xfrm rot="19110000">
                <a:off x="3231360" y="25124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rot="21154800">
                <a:off x="3202200" y="26193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 rot="21453600">
                <a:off x="3186000" y="26568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 rot="21453600">
                <a:off x="3216600" y="26856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214440" y="2336400"/>
              <a:ext cx="383400" cy="425520"/>
              <a:chOff x="3214440" y="2336400"/>
              <a:chExt cx="383400" cy="425520"/>
            </a:xfrm>
          </p:grpSpPr>
          <p:sp>
            <p:nvSpPr>
              <p:cNvPr id="197" name="未知"/>
              <p:cNvSpPr/>
              <p:nvPr/>
            </p:nvSpPr>
            <p:spPr>
              <a:xfrm rot="17306400">
                <a:off x="3229560" y="240588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 rot="19351200">
                <a:off x="3190680" y="25171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rot="19650000">
                <a:off x="3200400" y="258372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19650000">
                <a:off x="3239280" y="25938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110400" y="2300760"/>
              <a:ext cx="376560" cy="424440"/>
              <a:chOff x="3110400" y="2300760"/>
              <a:chExt cx="376560" cy="424440"/>
            </a:xfrm>
          </p:grpSpPr>
          <p:sp>
            <p:nvSpPr>
              <p:cNvPr id="202" name="未知"/>
              <p:cNvSpPr/>
              <p:nvPr/>
            </p:nvSpPr>
            <p:spPr>
              <a:xfrm rot="15187200">
                <a:off x="3121920" y="236772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rot="17232000">
                <a:off x="3077640" y="24897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 rot="17530800">
                <a:off x="3130560" y="256824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 rot="17530800">
                <a:off x="3165480" y="25549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212280" y="2594520"/>
              <a:ext cx="384480" cy="306360"/>
              <a:chOff x="3212280" y="2594520"/>
              <a:chExt cx="384480" cy="306360"/>
            </a:xfrm>
          </p:grpSpPr>
          <p:sp>
            <p:nvSpPr>
              <p:cNvPr id="207" name="未知"/>
              <p:cNvSpPr/>
              <p:nvPr/>
            </p:nvSpPr>
            <p:spPr>
              <a:xfrm rot="21405000">
                <a:off x="3228840" y="26042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 rot="1849200">
                <a:off x="3213000" y="27129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 rot="2147400">
                <a:off x="3190680" y="270216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 rot="2147400">
                <a:off x="3199320" y="274464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992680" y="2549880"/>
              <a:ext cx="393840" cy="434520"/>
              <a:chOff x="2992680" y="2549880"/>
              <a:chExt cx="393840" cy="434520"/>
            </a:xfrm>
          </p:grpSpPr>
          <p:sp>
            <p:nvSpPr>
              <p:cNvPr id="212" name="未知"/>
              <p:cNvSpPr/>
              <p:nvPr/>
            </p:nvSpPr>
            <p:spPr>
              <a:xfrm rot="4137000">
                <a:off x="3012840" y="262512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 rot="6181800">
                <a:off x="3007080" y="27550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 rot="6480000">
                <a:off x="3049920" y="268560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 rot="6480000">
                <a:off x="3016080" y="27093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104280" y="2643120"/>
              <a:ext cx="450720" cy="453240"/>
              <a:chOff x="3104280" y="2643120"/>
              <a:chExt cx="450720" cy="453240"/>
            </a:xfrm>
          </p:grpSpPr>
          <p:sp>
            <p:nvSpPr>
              <p:cNvPr id="217" name="未知"/>
              <p:cNvSpPr/>
              <p:nvPr/>
            </p:nvSpPr>
            <p:spPr>
              <a:xfrm rot="2797200">
                <a:off x="3152880" y="272664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rot="4842000">
                <a:off x="3146760" y="28486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 rot="5140200">
                <a:off x="3161880" y="278748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 rot="5140200">
                <a:off x="3138120" y="28227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117960" y="2530800"/>
              <a:ext cx="302760" cy="302760"/>
              <a:chOff x="3117960" y="2530800"/>
              <a:chExt cx="302760" cy="302760"/>
            </a:xfrm>
          </p:grpSpPr>
          <p:sp>
            <p:nvSpPr>
              <p:cNvPr id="222" name=""/>
              <p:cNvSpPr/>
              <p:nvPr/>
            </p:nvSpPr>
            <p:spPr>
              <a:xfrm rot="16200000">
                <a:off x="3117960" y="2530800"/>
                <a:ext cx="302760" cy="302760"/>
              </a:xfrm>
              <a:custGeom>
                <a:avLst/>
                <a:gdLst>
                  <a:gd name="textAreaLeft" fmla="*/ 70920 w 302760"/>
                  <a:gd name="textAreaRight" fmla="*/ 231840 w 30276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3161880" y="2579040"/>
                <a:ext cx="201960" cy="201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2437560" y="2459880"/>
            <a:ext cx="765720" cy="780120"/>
            <a:chOff x="2437560" y="2459880"/>
            <a:chExt cx="765720" cy="780120"/>
          </a:xfrm>
        </p:grpSpPr>
        <p:grpSp>
          <p:nvGrpSpPr>
            <p:cNvPr id="225" name=""/>
            <p:cNvGrpSpPr/>
            <p:nvPr/>
          </p:nvGrpSpPr>
          <p:grpSpPr>
            <a:xfrm>
              <a:off x="2742480" y="2705040"/>
              <a:ext cx="398880" cy="356760"/>
              <a:chOff x="2742480" y="2705040"/>
              <a:chExt cx="398880" cy="356760"/>
            </a:xfrm>
          </p:grpSpPr>
          <p:sp>
            <p:nvSpPr>
              <p:cNvPr id="226" name="未知"/>
              <p:cNvSpPr/>
              <p:nvPr/>
            </p:nvSpPr>
            <p:spPr>
              <a:xfrm rot="9707400">
                <a:off x="2775600" y="274968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11752200">
                <a:off x="2747880" y="28864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 rot="12051000">
                <a:off x="2864520" y="288648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 rot="12051000">
                <a:off x="2847960" y="285768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614680" y="2815920"/>
              <a:ext cx="416880" cy="424080"/>
              <a:chOff x="2614680" y="2815920"/>
              <a:chExt cx="416880" cy="424080"/>
            </a:xfrm>
          </p:grpSpPr>
          <p:sp>
            <p:nvSpPr>
              <p:cNvPr id="231" name="未知"/>
              <p:cNvSpPr/>
              <p:nvPr/>
            </p:nvSpPr>
            <p:spPr>
              <a:xfrm rot="13786800">
                <a:off x="2658240" y="2894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 rot="15831600">
                <a:off x="2615760" y="30157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16129800">
                <a:off x="2692440" y="30823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 rot="16129800">
                <a:off x="2715840" y="30585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778480" y="2574000"/>
              <a:ext cx="417240" cy="424080"/>
              <a:chOff x="2778480" y="2574000"/>
              <a:chExt cx="417240" cy="424080"/>
            </a:xfrm>
          </p:grpSpPr>
          <p:sp>
            <p:nvSpPr>
              <p:cNvPr id="236" name="未知"/>
              <p:cNvSpPr/>
              <p:nvPr/>
            </p:nvSpPr>
            <p:spPr>
              <a:xfrm rot="7834200">
                <a:off x="2822400" y="265248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 rot="9879000">
                <a:off x="2804760" y="278820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 rot="10177200">
                <a:off x="2909160" y="275328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 rot="10177200">
                <a:off x="2877480" y="2738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37560" y="2647440"/>
              <a:ext cx="422640" cy="420480"/>
              <a:chOff x="2437560" y="2647440"/>
              <a:chExt cx="422640" cy="420480"/>
            </a:xfrm>
          </p:grpSpPr>
          <p:sp>
            <p:nvSpPr>
              <p:cNvPr id="241" name="未知"/>
              <p:cNvSpPr/>
              <p:nvPr/>
            </p:nvSpPr>
            <p:spPr>
              <a:xfrm rot="18982200">
                <a:off x="2484000" y="272412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 rot="21027600">
                <a:off x="2456640" y="28234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 rot="21325800">
                <a:off x="2442960" y="286092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 rot="21325800">
                <a:off x="2472120" y="288684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650680" y="2459880"/>
              <a:ext cx="385920" cy="414000"/>
              <a:chOff x="2650680" y="2459880"/>
              <a:chExt cx="385920" cy="414000"/>
            </a:xfrm>
          </p:grpSpPr>
          <p:sp>
            <p:nvSpPr>
              <p:cNvPr id="246" name="未知"/>
              <p:cNvSpPr/>
              <p:nvPr/>
            </p:nvSpPr>
            <p:spPr>
              <a:xfrm rot="3809400">
                <a:off x="2678760" y="2532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 rot="5854200">
                <a:off x="2673720" y="265284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 rot="6153000">
                <a:off x="2707560" y="25887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 rot="6153000">
                <a:off x="2677320" y="26139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0840" y="2800080"/>
              <a:ext cx="337320" cy="382680"/>
              <a:chOff x="2490840" y="2800080"/>
              <a:chExt cx="337320" cy="382680"/>
            </a:xfrm>
          </p:grpSpPr>
          <p:sp>
            <p:nvSpPr>
              <p:cNvPr id="251" name="未知"/>
              <p:cNvSpPr/>
              <p:nvPr/>
            </p:nvSpPr>
            <p:spPr>
              <a:xfrm rot="17020800">
                <a:off x="2494800" y="285768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 rot="19065000">
                <a:off x="2457720" y="29620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 rot="19363800">
                <a:off x="2471760" y="302760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 rot="19363800">
                <a:off x="2507760" y="303408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25040" y="2576160"/>
              <a:ext cx="387360" cy="343080"/>
              <a:chOff x="2525040" y="2576160"/>
              <a:chExt cx="387360" cy="343080"/>
            </a:xfrm>
          </p:grpSpPr>
          <p:sp>
            <p:nvSpPr>
              <p:cNvPr id="256" name="未知"/>
              <p:cNvSpPr/>
              <p:nvPr/>
            </p:nvSpPr>
            <p:spPr>
              <a:xfrm rot="899400">
                <a:off x="2553840" y="2613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 rot="2944800">
                <a:off x="2543760" y="27190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 rot="3243000">
                <a:off x="2530440" y="26881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 rot="3243000">
                <a:off x="2526840" y="272880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765880" y="2820240"/>
              <a:ext cx="374400" cy="325440"/>
              <a:chOff x="2765880" y="2820240"/>
              <a:chExt cx="374400" cy="325440"/>
            </a:xfrm>
          </p:grpSpPr>
          <p:sp>
            <p:nvSpPr>
              <p:cNvPr id="261" name="未知"/>
              <p:cNvSpPr/>
              <p:nvPr/>
            </p:nvSpPr>
            <p:spPr>
              <a:xfrm rot="11463600">
                <a:off x="2788200" y="2849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 rot="13508400">
                <a:off x="2752560" y="2981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 rot="13807200">
                <a:off x="2861640" y="301644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 rot="13807200">
                <a:off x="2862720" y="298368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90920" y="2795400"/>
              <a:ext cx="353160" cy="396720"/>
              <a:chOff x="2590920" y="2795400"/>
              <a:chExt cx="353160" cy="396720"/>
            </a:xfrm>
          </p:grpSpPr>
          <p:sp>
            <p:nvSpPr>
              <p:cNvPr id="266" name="未知"/>
              <p:cNvSpPr/>
              <p:nvPr/>
            </p:nvSpPr>
            <p:spPr>
              <a:xfrm rot="15164400">
                <a:off x="2602440" y="2858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 rot="17208600">
                <a:off x="2560680" y="2972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 rot="17506800">
                <a:off x="2610720" y="304560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 rot="17506800">
                <a:off x="2643120" y="30333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831400" y="2462040"/>
              <a:ext cx="279000" cy="355320"/>
              <a:chOff x="2831400" y="2462040"/>
              <a:chExt cx="279000" cy="355320"/>
            </a:xfrm>
          </p:grpSpPr>
          <p:sp>
            <p:nvSpPr>
              <p:cNvPr id="271" name="未知"/>
              <p:cNvSpPr/>
              <p:nvPr/>
            </p:nvSpPr>
            <p:spPr>
              <a:xfrm rot="5278200">
                <a:off x="2806200" y="250632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 rot="7323000">
                <a:off x="2799000" y="26341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 rot="7621200">
                <a:off x="2861640" y="257004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 rot="7621200">
                <a:off x="2825640" y="258120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556000" y="2507040"/>
              <a:ext cx="423000" cy="419760"/>
              <a:chOff x="2556000" y="2507040"/>
              <a:chExt cx="423000" cy="419760"/>
            </a:xfrm>
          </p:grpSpPr>
          <p:sp>
            <p:nvSpPr>
              <p:cNvPr id="276" name="未知"/>
              <p:cNvSpPr/>
              <p:nvPr/>
            </p:nvSpPr>
            <p:spPr>
              <a:xfrm rot="2557200">
                <a:off x="2602440" y="25830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 rot="4602600">
                <a:off x="2597040" y="26956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 rot="4900200">
                <a:off x="2607120" y="26409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 rot="4900200">
                <a:off x="2586600" y="2675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48000" y="2628720"/>
              <a:ext cx="382320" cy="328680"/>
              <a:chOff x="2448000" y="2628720"/>
              <a:chExt cx="382320" cy="328680"/>
            </a:xfrm>
          </p:grpSpPr>
          <p:sp>
            <p:nvSpPr>
              <p:cNvPr id="281" name="未知"/>
              <p:cNvSpPr/>
              <p:nvPr/>
            </p:nvSpPr>
            <p:spPr>
              <a:xfrm rot="20898000">
                <a:off x="2476800" y="265932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 rot="1342200">
                <a:off x="2459520" y="275976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 rot="1640400">
                <a:off x="2437200" y="27597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 rot="1640400">
                <a:off x="2450160" y="27975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514960" y="2694600"/>
              <a:ext cx="403200" cy="421560"/>
              <a:chOff x="2514960" y="2694600"/>
              <a:chExt cx="403200" cy="421560"/>
            </a:xfrm>
          </p:grpSpPr>
          <p:sp>
            <p:nvSpPr>
              <p:cNvPr id="286" name="未知"/>
              <p:cNvSpPr/>
              <p:nvPr/>
            </p:nvSpPr>
            <p:spPr>
              <a:xfrm rot="18171600">
                <a:off x="2551680" y="277164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 rot="20216400">
                <a:off x="2519640" y="2873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 rot="20514000">
                <a:off x="2514960" y="29239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 rot="20514000">
                <a:off x="2548800" y="294228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84600" y="2654280"/>
              <a:ext cx="418680" cy="396000"/>
              <a:chOff x="2784600" y="2654280"/>
              <a:chExt cx="418680" cy="396000"/>
            </a:xfrm>
          </p:grpSpPr>
          <p:sp>
            <p:nvSpPr>
              <p:cNvPr id="291" name="未知"/>
              <p:cNvSpPr/>
              <p:nvPr/>
            </p:nvSpPr>
            <p:spPr>
              <a:xfrm rot="8996400">
                <a:off x="2829240" y="271836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 rot="11040600">
                <a:off x="2805120" y="285552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 rot="11338800">
                <a:off x="2919240" y="284184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11338800">
                <a:off x="2896200" y="281700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815920" y="2496240"/>
              <a:ext cx="385200" cy="413280"/>
              <a:chOff x="2815920" y="2496240"/>
              <a:chExt cx="385200" cy="413280"/>
            </a:xfrm>
          </p:grpSpPr>
          <p:sp>
            <p:nvSpPr>
              <p:cNvPr id="296" name="未知"/>
              <p:cNvSpPr/>
              <p:nvPr/>
            </p:nvSpPr>
            <p:spPr>
              <a:xfrm rot="6971400">
                <a:off x="2843640" y="2568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9016200">
                <a:off x="2830680" y="27028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rot="9314400">
                <a:off x="2923200" y="265500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 rot="9314400">
                <a:off x="2888280" y="2648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643480" y="2643120"/>
              <a:ext cx="388440" cy="388080"/>
              <a:chOff x="2643480" y="2643120"/>
              <a:chExt cx="388440" cy="388080"/>
            </a:xfrm>
          </p:grpSpPr>
          <p:sp>
            <p:nvSpPr>
              <p:cNvPr id="301" name=""/>
              <p:cNvSpPr/>
              <p:nvPr/>
            </p:nvSpPr>
            <p:spPr>
              <a:xfrm rot="8901600">
                <a:off x="2696400" y="2695680"/>
                <a:ext cx="282240" cy="28224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66240 h 282240"/>
                  <a:gd name="textAreaBottom" fmla="*/ 21600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901600">
                <a:off x="2744640" y="2748600"/>
                <a:ext cx="188280" cy="187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614600" y="2347560"/>
            <a:ext cx="1270080" cy="1088640"/>
            <a:chOff x="1614600" y="2347560"/>
            <a:chExt cx="1270080" cy="1088640"/>
          </a:xfrm>
        </p:grpSpPr>
        <p:grpSp>
          <p:nvGrpSpPr>
            <p:cNvPr id="304" name=""/>
            <p:cNvGrpSpPr/>
            <p:nvPr/>
          </p:nvGrpSpPr>
          <p:grpSpPr>
            <a:xfrm>
              <a:off x="1865520" y="2542680"/>
              <a:ext cx="558000" cy="490680"/>
              <a:chOff x="1865520" y="2542680"/>
              <a:chExt cx="558000" cy="490680"/>
            </a:xfrm>
          </p:grpSpPr>
          <p:sp>
            <p:nvSpPr>
              <p:cNvPr id="305" name="未知"/>
              <p:cNvSpPr/>
              <p:nvPr/>
            </p:nvSpPr>
            <p:spPr>
              <a:xfrm rot="805800">
                <a:off x="1903680" y="2593080"/>
                <a:ext cx="48096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 rot="2850600">
                <a:off x="1888920" y="2745720"/>
                <a:ext cx="54972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 rot="3148800">
                <a:off x="1868400" y="270360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rot="3148800">
                <a:off x="1864800" y="2762640"/>
                <a:ext cx="41256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173320" y="2421720"/>
              <a:ext cx="456840" cy="545040"/>
              <a:chOff x="2173320" y="2421720"/>
              <a:chExt cx="456840" cy="545040"/>
            </a:xfrm>
          </p:grpSpPr>
          <p:sp>
            <p:nvSpPr>
              <p:cNvPr id="310" name="未知"/>
              <p:cNvSpPr/>
              <p:nvPr/>
            </p:nvSpPr>
            <p:spPr>
              <a:xfrm rot="4885200">
                <a:off x="2161080" y="250308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6929400">
                <a:off x="2152080" y="268632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rot="7227600">
                <a:off x="2232360" y="259128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 rot="7227600">
                <a:off x="2181240" y="261324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719720" y="2614320"/>
              <a:ext cx="581400" cy="518400"/>
              <a:chOff x="1719720" y="2614320"/>
              <a:chExt cx="581400" cy="518400"/>
            </a:xfrm>
          </p:grpSpPr>
          <p:sp>
            <p:nvSpPr>
              <p:cNvPr id="315" name="未知"/>
              <p:cNvSpPr/>
              <p:nvPr/>
            </p:nvSpPr>
            <p:spPr>
              <a:xfrm rot="20532600">
                <a:off x="1772280" y="267840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 rot="977400">
                <a:off x="1743840" y="282420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 rot="1275600">
                <a:off x="1711440" y="283500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 rot="1275600">
                <a:off x="1735560" y="288792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211480" y="2802600"/>
              <a:ext cx="559440" cy="481680"/>
              <a:chOff x="2211480" y="2802600"/>
              <a:chExt cx="559440" cy="481680"/>
            </a:xfrm>
          </p:grpSpPr>
          <p:sp>
            <p:nvSpPr>
              <p:cNvPr id="320" name="未知"/>
              <p:cNvSpPr/>
              <p:nvPr/>
            </p:nvSpPr>
            <p:spPr>
              <a:xfrm rot="10080600">
                <a:off x="2246400" y="284796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 rot="12125400">
                <a:off x="2204280" y="30463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 rot="12423600">
                <a:off x="2373840" y="30574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 rot="12423600">
                <a:off x="2354400" y="30132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883520" y="2874600"/>
              <a:ext cx="431280" cy="514440"/>
              <a:chOff x="1883520" y="2874600"/>
              <a:chExt cx="431280" cy="514440"/>
            </a:xfrm>
          </p:grpSpPr>
          <p:sp>
            <p:nvSpPr>
              <p:cNvPr id="325" name="未知"/>
              <p:cNvSpPr/>
              <p:nvPr/>
            </p:nvSpPr>
            <p:spPr>
              <a:xfrm rot="16507800">
                <a:off x="1858320" y="2936880"/>
                <a:ext cx="48132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 rot="18552600">
                <a:off x="1802160" y="3092760"/>
                <a:ext cx="55008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 rot="18850800">
                <a:off x="1836000" y="319428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rot="18850800">
                <a:off x="1889280" y="319536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268720" y="2561760"/>
              <a:ext cx="615960" cy="615600"/>
              <a:chOff x="2268720" y="2561760"/>
              <a:chExt cx="615960" cy="615600"/>
            </a:xfrm>
          </p:grpSpPr>
          <p:sp>
            <p:nvSpPr>
              <p:cNvPr id="330" name="未知"/>
              <p:cNvSpPr/>
              <p:nvPr/>
            </p:nvSpPr>
            <p:spPr>
              <a:xfrm rot="8118600">
                <a:off x="2336040" y="267408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 rot="10163400">
                <a:off x="2308680" y="28731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 rot="10461600">
                <a:off x="2465640" y="282924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 rot="10461600">
                <a:off x="2422080" y="28029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009880" y="2818440"/>
              <a:ext cx="613800" cy="617760"/>
              <a:chOff x="2009880" y="2818440"/>
              <a:chExt cx="613800" cy="617760"/>
            </a:xfrm>
          </p:grpSpPr>
          <p:sp>
            <p:nvSpPr>
              <p:cNvPr id="335" name="未知"/>
              <p:cNvSpPr/>
              <p:nvPr/>
            </p:nvSpPr>
            <p:spPr>
              <a:xfrm rot="13597800">
                <a:off x="2076120" y="2932200"/>
                <a:ext cx="48132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 rot="15642600">
                <a:off x="2014560" y="3110040"/>
                <a:ext cx="55008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 rot="15940800">
                <a:off x="2131560" y="320580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 rot="15940800">
                <a:off x="2163960" y="316800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896120" y="2347560"/>
              <a:ext cx="617760" cy="612720"/>
              <a:chOff x="1896120" y="2347560"/>
              <a:chExt cx="617760" cy="612720"/>
            </a:xfrm>
          </p:grpSpPr>
          <p:sp>
            <p:nvSpPr>
              <p:cNvPr id="340" name="未知"/>
              <p:cNvSpPr/>
              <p:nvPr/>
            </p:nvSpPr>
            <p:spPr>
              <a:xfrm rot="2562000">
                <a:off x="1964160" y="245880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rot="4606800">
                <a:off x="1956240" y="262368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 rot="4905000">
                <a:off x="1970640" y="254340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 rot="4905000">
                <a:off x="1941480" y="259416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193480" y="2504160"/>
              <a:ext cx="497520" cy="562320"/>
              <a:chOff x="2193480" y="2504160"/>
              <a:chExt cx="497520" cy="562320"/>
            </a:xfrm>
          </p:grpSpPr>
          <p:sp>
            <p:nvSpPr>
              <p:cNvPr id="345" name="未知"/>
              <p:cNvSpPr/>
              <p:nvPr/>
            </p:nvSpPr>
            <p:spPr>
              <a:xfrm rot="6262200">
                <a:off x="2201760" y="258984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 rot="8307000">
                <a:off x="2187000" y="27817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 rot="8605200">
                <a:off x="2305440" y="26992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 rot="8605200">
                <a:off x="2252160" y="27000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632600" y="2761560"/>
              <a:ext cx="577080" cy="610920"/>
              <a:chOff x="1632600" y="2761560"/>
              <a:chExt cx="577080" cy="610920"/>
            </a:xfrm>
          </p:grpSpPr>
          <p:sp>
            <p:nvSpPr>
              <p:cNvPr id="350" name="未知"/>
              <p:cNvSpPr/>
              <p:nvPr/>
            </p:nvSpPr>
            <p:spPr>
              <a:xfrm rot="17976000">
                <a:off x="1680480" y="287172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 rot="20020800">
                <a:off x="1632240" y="30207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 rot="20319000">
                <a:off x="1629720" y="30988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 rot="20319000">
                <a:off x="1680120" y="31230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979640" y="2844360"/>
              <a:ext cx="505080" cy="574200"/>
              <a:chOff x="1979640" y="2844360"/>
              <a:chExt cx="505080" cy="574200"/>
            </a:xfrm>
          </p:grpSpPr>
          <p:sp>
            <p:nvSpPr>
              <p:cNvPr id="355" name="未知"/>
              <p:cNvSpPr/>
              <p:nvPr/>
            </p:nvSpPr>
            <p:spPr>
              <a:xfrm rot="15255600">
                <a:off x="1991520" y="293364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rot="17300400">
                <a:off x="1930680" y="309852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rot="17598600">
                <a:off x="2000160" y="320580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rot="17598600">
                <a:off x="2048760" y="318816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154600" y="2864520"/>
              <a:ext cx="585360" cy="530280"/>
              <a:chOff x="2154600" y="2864520"/>
              <a:chExt cx="585360" cy="530280"/>
            </a:xfrm>
          </p:grpSpPr>
          <p:sp>
            <p:nvSpPr>
              <p:cNvPr id="360" name="未知"/>
              <p:cNvSpPr/>
              <p:nvPr/>
            </p:nvSpPr>
            <p:spPr>
              <a:xfrm rot="11995800">
                <a:off x="2206440" y="2934720"/>
                <a:ext cx="48132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 rot="14040600">
                <a:off x="2150640" y="3124080"/>
                <a:ext cx="55008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rot="14338800">
                <a:off x="2302560" y="3188160"/>
                <a:ext cx="412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rot="14338800">
                <a:off x="2311920" y="314064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138400" y="2652840"/>
              <a:ext cx="602640" cy="559080"/>
              <a:chOff x="2138400" y="2652840"/>
              <a:chExt cx="602640" cy="559080"/>
            </a:xfrm>
          </p:grpSpPr>
          <p:sp>
            <p:nvSpPr>
              <p:cNvPr id="365" name="未知"/>
              <p:cNvSpPr/>
              <p:nvPr/>
            </p:nvSpPr>
            <p:spPr>
              <a:xfrm rot="9269400">
                <a:off x="2198880" y="273708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 rot="11314200">
                <a:off x="2162520" y="29365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 rot="11612400">
                <a:off x="2330640" y="29242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rot="11612400">
                <a:off x="2300400" y="288540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805400" y="2584440"/>
              <a:ext cx="500400" cy="403200"/>
              <a:chOff x="1805400" y="2584440"/>
              <a:chExt cx="500400" cy="403200"/>
            </a:xfrm>
          </p:grpSpPr>
          <p:sp>
            <p:nvSpPr>
              <p:cNvPr id="370" name="未知"/>
              <p:cNvSpPr/>
              <p:nvPr/>
            </p:nvSpPr>
            <p:spPr>
              <a:xfrm rot="94200">
                <a:off x="1814760" y="259092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rot="2139000">
                <a:off x="1794960" y="274032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 rot="2437200">
                <a:off x="1766520" y="271692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rot="2437200">
                <a:off x="1773360" y="277524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614600" y="2667240"/>
              <a:ext cx="614520" cy="586440"/>
              <a:chOff x="1614600" y="2667240"/>
              <a:chExt cx="614520" cy="586440"/>
            </a:xfrm>
          </p:grpSpPr>
          <p:sp>
            <p:nvSpPr>
              <p:cNvPr id="375" name="未知"/>
              <p:cNvSpPr/>
              <p:nvPr/>
            </p:nvSpPr>
            <p:spPr>
              <a:xfrm rot="19669800">
                <a:off x="1681560" y="2765160"/>
                <a:ext cx="480600" cy="390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rot="114600">
                <a:off x="1646280" y="29109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rot="412800">
                <a:off x="1618200" y="294660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rot="412800">
                <a:off x="1653480" y="29919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031120" y="2718360"/>
              <a:ext cx="411840" cy="412560"/>
              <a:chOff x="2031120" y="2718360"/>
              <a:chExt cx="411840" cy="412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31120" y="2718360"/>
                <a:ext cx="411840" cy="412560"/>
              </a:xfrm>
              <a:custGeom>
                <a:avLst/>
                <a:gdLst>
                  <a:gd name="textAreaLeft" fmla="*/ 96480 w 411840"/>
                  <a:gd name="textAreaRight" fmla="*/ 315360 w 411840"/>
                  <a:gd name="textAreaTop" fmla="*/ 96840 h 412560"/>
                  <a:gd name="textAreaBottom" fmla="*/ 315720 h 41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02760" y="2778840"/>
                <a:ext cx="274680" cy="2750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947520" y="2714760"/>
            <a:ext cx="1792440" cy="1947240"/>
            <a:chOff x="947520" y="2714760"/>
            <a:chExt cx="1792440" cy="1947240"/>
          </a:xfrm>
        </p:grpSpPr>
        <p:grpSp>
          <p:nvGrpSpPr>
            <p:cNvPr id="383" name=""/>
            <p:cNvGrpSpPr/>
            <p:nvPr/>
          </p:nvGrpSpPr>
          <p:grpSpPr>
            <a:xfrm>
              <a:off x="1747440" y="3110400"/>
              <a:ext cx="979920" cy="983520"/>
              <a:chOff x="1747440" y="3110400"/>
              <a:chExt cx="979920" cy="983520"/>
            </a:xfrm>
          </p:grpSpPr>
          <p:sp>
            <p:nvSpPr>
              <p:cNvPr id="384" name="未知"/>
              <p:cNvSpPr/>
              <p:nvPr/>
            </p:nvSpPr>
            <p:spPr>
              <a:xfrm rot="18826800">
                <a:off x="1859400" y="328536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20871600">
                <a:off x="1793880" y="352332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 rot="21169800">
                <a:off x="1765800" y="36172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rot="21169800">
                <a:off x="1835280" y="367560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762920" y="2932200"/>
              <a:ext cx="795960" cy="885240"/>
              <a:chOff x="1762920" y="2932200"/>
              <a:chExt cx="795960" cy="885240"/>
            </a:xfrm>
          </p:grpSpPr>
          <p:sp>
            <p:nvSpPr>
              <p:cNvPr id="389" name="未知"/>
              <p:cNvSpPr/>
              <p:nvPr/>
            </p:nvSpPr>
            <p:spPr>
              <a:xfrm rot="17034600">
                <a:off x="1783080" y="3058200"/>
                <a:ext cx="75492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rot="19078800">
                <a:off x="1697760" y="3306600"/>
                <a:ext cx="862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rot="19377600">
                <a:off x="1729800" y="3457440"/>
                <a:ext cx="6469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19377600">
                <a:off x="1814760" y="3474360"/>
                <a:ext cx="647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298880" y="2714760"/>
              <a:ext cx="975600" cy="984960"/>
              <a:chOff x="1298880" y="2714760"/>
              <a:chExt cx="975600" cy="984960"/>
            </a:xfrm>
          </p:grpSpPr>
          <p:sp>
            <p:nvSpPr>
              <p:cNvPr id="394" name="未知"/>
              <p:cNvSpPr/>
              <p:nvPr/>
            </p:nvSpPr>
            <p:spPr>
              <a:xfrm rot="13688400">
                <a:off x="1409040" y="289044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15733200">
                <a:off x="1311840" y="317844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rot="16031400">
                <a:off x="1493280" y="333072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 rot="16031400">
                <a:off x="1548000" y="3273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959400" y="2984400"/>
              <a:ext cx="890640" cy="789480"/>
              <a:chOff x="959400" y="2984400"/>
              <a:chExt cx="890640" cy="789480"/>
            </a:xfrm>
          </p:grpSpPr>
          <p:sp>
            <p:nvSpPr>
              <p:cNvPr id="399" name="未知"/>
              <p:cNvSpPr/>
              <p:nvPr/>
            </p:nvSpPr>
            <p:spPr>
              <a:xfrm rot="10003800">
                <a:off x="1022040" y="306252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rot="12048600">
                <a:off x="954720" y="338472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rot="12346800">
                <a:off x="1222920" y="339732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rot="12346800">
                <a:off x="1191240" y="332676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1458360" y="3592440"/>
              <a:ext cx="981000" cy="982080"/>
              <a:chOff x="1458360" y="3592440"/>
              <a:chExt cx="981000" cy="982080"/>
            </a:xfrm>
          </p:grpSpPr>
          <p:sp>
            <p:nvSpPr>
              <p:cNvPr id="404" name="未知"/>
              <p:cNvSpPr/>
              <p:nvPr/>
            </p:nvSpPr>
            <p:spPr>
              <a:xfrm rot="2727600">
                <a:off x="1571040" y="3766680"/>
                <a:ext cx="75492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 rot="4772400">
                <a:off x="1559880" y="4036680"/>
                <a:ext cx="86292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rot="5070600">
                <a:off x="1587240" y="3907440"/>
                <a:ext cx="64692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rot="5070600">
                <a:off x="1535760" y="3984840"/>
                <a:ext cx="6472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143000" y="3644280"/>
              <a:ext cx="681480" cy="795240"/>
              <a:chOff x="1143000" y="3644280"/>
              <a:chExt cx="681480" cy="795240"/>
            </a:xfrm>
          </p:grpSpPr>
          <p:sp>
            <p:nvSpPr>
              <p:cNvPr id="409" name="未知"/>
              <p:cNvSpPr/>
              <p:nvPr/>
            </p:nvSpPr>
            <p:spPr>
              <a:xfrm rot="5628000">
                <a:off x="1105920" y="3725280"/>
                <a:ext cx="75492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7672800">
                <a:off x="1087920" y="4030920"/>
                <a:ext cx="862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 rot="7971000">
                <a:off x="1246320" y="3888000"/>
                <a:ext cx="6469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 rot="7971000">
                <a:off x="1160640" y="3904200"/>
                <a:ext cx="647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951840" y="3355200"/>
              <a:ext cx="896040" cy="954000"/>
              <a:chOff x="951840" y="3355200"/>
              <a:chExt cx="896040" cy="954000"/>
            </a:xfrm>
          </p:grpSpPr>
          <p:sp>
            <p:nvSpPr>
              <p:cNvPr id="414" name="未知"/>
              <p:cNvSpPr/>
              <p:nvPr/>
            </p:nvSpPr>
            <p:spPr>
              <a:xfrm rot="6925800">
                <a:off x="1022040" y="351540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8970600">
                <a:off x="992520" y="383292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 rot="9268800">
                <a:off x="1203480" y="37191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9268800">
                <a:off x="1121400" y="370296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832400" y="3422520"/>
              <a:ext cx="907560" cy="816840"/>
              <a:chOff x="1832400" y="3422520"/>
              <a:chExt cx="907560" cy="816840"/>
            </a:xfrm>
          </p:grpSpPr>
          <p:sp>
            <p:nvSpPr>
              <p:cNvPr id="419" name="未知"/>
              <p:cNvSpPr/>
              <p:nvPr/>
            </p:nvSpPr>
            <p:spPr>
              <a:xfrm rot="20636400">
                <a:off x="1911960" y="351432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1081200">
                <a:off x="1869120" y="37515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rot="1379400">
                <a:off x="1816920" y="37659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1379400">
                <a:off x="1852560" y="385272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644480" y="3617280"/>
              <a:ext cx="876960" cy="771120"/>
              <a:chOff x="1644480" y="3617280"/>
              <a:chExt cx="876960" cy="771120"/>
            </a:xfrm>
          </p:grpSpPr>
          <p:sp>
            <p:nvSpPr>
              <p:cNvPr id="424" name="未知"/>
              <p:cNvSpPr/>
              <p:nvPr/>
            </p:nvSpPr>
            <p:spPr>
              <a:xfrm rot="805800">
                <a:off x="1704960" y="3696480"/>
                <a:ext cx="755280" cy="612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850600">
                <a:off x="1680840" y="39362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rot="3148800">
                <a:off x="1648800" y="386928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3148800">
                <a:off x="1642680" y="396216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947520" y="3161880"/>
              <a:ext cx="1039680" cy="970920"/>
              <a:chOff x="947520" y="3161880"/>
              <a:chExt cx="1039680" cy="970920"/>
            </a:xfrm>
          </p:grpSpPr>
          <p:sp>
            <p:nvSpPr>
              <p:cNvPr id="429" name="未知"/>
              <p:cNvSpPr/>
              <p:nvPr/>
            </p:nvSpPr>
            <p:spPr>
              <a:xfrm rot="7717200">
                <a:off x="1219320" y="3179880"/>
                <a:ext cx="49572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rot="9762000">
                <a:off x="1201680" y="3655080"/>
                <a:ext cx="56664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10060200">
                <a:off x="1344960" y="3552480"/>
                <a:ext cx="4248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10060200">
                <a:off x="1285920" y="3490920"/>
                <a:ext cx="4251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463400" y="2839320"/>
              <a:ext cx="953280" cy="869400"/>
              <a:chOff x="1463400" y="2839320"/>
              <a:chExt cx="953280" cy="869400"/>
            </a:xfrm>
          </p:grpSpPr>
          <p:sp>
            <p:nvSpPr>
              <p:cNvPr id="434" name="未知"/>
              <p:cNvSpPr/>
              <p:nvPr/>
            </p:nvSpPr>
            <p:spPr>
              <a:xfrm rot="13857000">
                <a:off x="1758960" y="2806560"/>
                <a:ext cx="36144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rot="15901800">
                <a:off x="1668600" y="3223080"/>
                <a:ext cx="41292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 rot="16200000">
                <a:off x="1819080" y="3306600"/>
                <a:ext cx="3096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16200000">
                <a:off x="1904400" y="3289320"/>
                <a:ext cx="3099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269360" y="2999520"/>
              <a:ext cx="728640" cy="776160"/>
              <a:chOff x="1269360" y="2999520"/>
              <a:chExt cx="728640" cy="776160"/>
            </a:xfrm>
          </p:grpSpPr>
          <p:sp>
            <p:nvSpPr>
              <p:cNvPr id="439" name="未知"/>
              <p:cNvSpPr/>
              <p:nvPr/>
            </p:nvSpPr>
            <p:spPr>
              <a:xfrm rot="11895600">
                <a:off x="1354320" y="3071160"/>
                <a:ext cx="55836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rot="13940400">
                <a:off x="1279440" y="3378240"/>
                <a:ext cx="637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rot="14238600">
                <a:off x="1473840" y="3442680"/>
                <a:ext cx="4784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14238600">
                <a:off x="1496880" y="3380760"/>
                <a:ext cx="4788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273320" y="3722400"/>
              <a:ext cx="871920" cy="939600"/>
              <a:chOff x="1273320" y="3722400"/>
              <a:chExt cx="871920" cy="939600"/>
            </a:xfrm>
          </p:grpSpPr>
          <p:sp>
            <p:nvSpPr>
              <p:cNvPr id="444" name="未知"/>
              <p:cNvSpPr/>
              <p:nvPr/>
            </p:nvSpPr>
            <p:spPr>
              <a:xfrm rot="4063800">
                <a:off x="1331640" y="387576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rot="6108000">
                <a:off x="1321200" y="4162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 rot="6406200">
                <a:off x="1407600" y="401292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 rot="6406200">
                <a:off x="1333800" y="406584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474560" y="3362040"/>
              <a:ext cx="647280" cy="647280"/>
              <a:chOff x="1474560" y="3362040"/>
              <a:chExt cx="647280" cy="647280"/>
            </a:xfrm>
          </p:grpSpPr>
          <p:sp>
            <p:nvSpPr>
              <p:cNvPr id="449" name=""/>
              <p:cNvSpPr/>
              <p:nvPr/>
            </p:nvSpPr>
            <p:spPr>
              <a:xfrm>
                <a:off x="1474560" y="3362040"/>
                <a:ext cx="647280" cy="647280"/>
              </a:xfrm>
              <a:custGeom>
                <a:avLst/>
                <a:gdLst>
                  <a:gd name="textAreaLeft" fmla="*/ 151920 w 647280"/>
                  <a:gd name="textAreaRight" fmla="*/ 495360 w 64728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86880" y="3457080"/>
                <a:ext cx="431640" cy="431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48600" y="2471400"/>
            <a:ext cx="2012040" cy="1789560"/>
            <a:chOff x="48600" y="2471400"/>
            <a:chExt cx="2012040" cy="1789560"/>
          </a:xfrm>
        </p:grpSpPr>
        <p:grpSp>
          <p:nvGrpSpPr>
            <p:cNvPr id="452" name=""/>
            <p:cNvGrpSpPr/>
            <p:nvPr/>
          </p:nvGrpSpPr>
          <p:grpSpPr>
            <a:xfrm>
              <a:off x="582480" y="3168000"/>
              <a:ext cx="972720" cy="951840"/>
              <a:chOff x="582480" y="3168000"/>
              <a:chExt cx="972720" cy="951840"/>
            </a:xfrm>
          </p:grpSpPr>
          <p:sp>
            <p:nvSpPr>
              <p:cNvPr id="453" name="未知"/>
              <p:cNvSpPr/>
              <p:nvPr/>
            </p:nvSpPr>
            <p:spPr>
              <a:xfrm rot="13149000">
                <a:off x="690840" y="333720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 rot="15194400">
                <a:off x="596160" y="362268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rot="15492600">
                <a:off x="797760" y="376164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 rot="15492600">
                <a:off x="839160" y="369684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9400" y="3143520"/>
              <a:ext cx="808200" cy="902880"/>
              <a:chOff x="239400" y="3143520"/>
              <a:chExt cx="808200" cy="902880"/>
            </a:xfrm>
          </p:grpSpPr>
          <p:sp>
            <p:nvSpPr>
              <p:cNvPr id="458" name="未知"/>
              <p:cNvSpPr/>
              <p:nvPr/>
            </p:nvSpPr>
            <p:spPr>
              <a:xfrm rot="17227800">
                <a:off x="265680" y="328824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19273200">
                <a:off x="182520" y="352764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 rot="19571400">
                <a:off x="205560" y="36723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 rot="19571400">
                <a:off x="288720" y="36914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897480" y="3257640"/>
              <a:ext cx="833040" cy="711000"/>
              <a:chOff x="897480" y="3257640"/>
              <a:chExt cx="833040" cy="711000"/>
            </a:xfrm>
          </p:grpSpPr>
          <p:sp>
            <p:nvSpPr>
              <p:cNvPr id="463" name="未知"/>
              <p:cNvSpPr/>
              <p:nvPr/>
            </p:nvSpPr>
            <p:spPr>
              <a:xfrm rot="11275800">
                <a:off x="936000" y="33066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 rot="13320600">
                <a:off x="854640" y="36111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 rot="13619400">
                <a:off x="1109880" y="36828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13619400">
                <a:off x="1107000" y="36072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7160" y="2661480"/>
              <a:ext cx="879120" cy="774720"/>
              <a:chOff x="317160" y="2661480"/>
              <a:chExt cx="879120" cy="774720"/>
            </a:xfrm>
          </p:grpSpPr>
          <p:sp>
            <p:nvSpPr>
              <p:cNvPr id="468" name="未知"/>
              <p:cNvSpPr/>
              <p:nvPr/>
            </p:nvSpPr>
            <p:spPr>
              <a:xfrm rot="823800">
                <a:off x="378720" y="2742120"/>
                <a:ext cx="7552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rot="2868600">
                <a:off x="354600" y="298296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 rot="3166800">
                <a:off x="323280" y="291528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 rot="3166800">
                <a:off x="316440" y="300816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909000" y="2707920"/>
              <a:ext cx="913680" cy="963000"/>
              <a:chOff x="909000" y="2707920"/>
              <a:chExt cx="913680" cy="963000"/>
            </a:xfrm>
          </p:grpSpPr>
          <p:sp>
            <p:nvSpPr>
              <p:cNvPr id="473" name="未知"/>
              <p:cNvSpPr/>
              <p:nvPr/>
            </p:nvSpPr>
            <p:spPr>
              <a:xfrm rot="7251000">
                <a:off x="987840" y="288252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rot="9295800">
                <a:off x="954000" y="31917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9594000">
                <a:off x="1176840" y="30895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rot="9594000">
                <a:off x="1098000" y="306792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8600" y="2821680"/>
              <a:ext cx="919440" cy="825120"/>
              <a:chOff x="48600" y="2821680"/>
              <a:chExt cx="919440" cy="825120"/>
            </a:xfrm>
          </p:grpSpPr>
          <p:sp>
            <p:nvSpPr>
              <p:cNvPr id="478" name="未知"/>
              <p:cNvSpPr/>
              <p:nvPr/>
            </p:nvSpPr>
            <p:spPr>
              <a:xfrm rot="20461800">
                <a:off x="133560" y="292752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rot="906600">
                <a:off x="88920" y="31568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rot="1205400">
                <a:off x="37800" y="317664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rot="1205400">
                <a:off x="77760" y="325908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49080" y="2586960"/>
              <a:ext cx="813240" cy="914400"/>
              <a:chOff x="649080" y="2586960"/>
              <a:chExt cx="813240" cy="914400"/>
            </a:xfrm>
          </p:grpSpPr>
          <p:sp>
            <p:nvSpPr>
              <p:cNvPr id="483" name="未知"/>
              <p:cNvSpPr/>
              <p:nvPr/>
            </p:nvSpPr>
            <p:spPr>
              <a:xfrm rot="4341600">
                <a:off x="677880" y="274140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6385800">
                <a:off x="665280" y="30222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 rot="6684000">
                <a:off x="766080" y="28717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rot="6684000">
                <a:off x="690840" y="29188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67640" y="3328200"/>
              <a:ext cx="847800" cy="932760"/>
              <a:chOff x="467640" y="3328200"/>
              <a:chExt cx="847800" cy="932760"/>
            </a:xfrm>
          </p:grpSpPr>
          <p:sp>
            <p:nvSpPr>
              <p:cNvPr id="488" name="未知"/>
              <p:cNvSpPr/>
              <p:nvPr/>
            </p:nvSpPr>
            <p:spPr>
              <a:xfrm rot="14905200">
                <a:off x="513360" y="348588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 rot="16950000">
                <a:off x="416880" y="37497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 rot="17248800">
                <a:off x="542880" y="391788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 rot="17248800">
                <a:off x="615240" y="38826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67400" y="2958120"/>
              <a:ext cx="955440" cy="972720"/>
              <a:chOff x="167400" y="2958120"/>
              <a:chExt cx="955440" cy="972720"/>
            </a:xfrm>
          </p:grpSpPr>
          <p:sp>
            <p:nvSpPr>
              <p:cNvPr id="493" name="未知"/>
              <p:cNvSpPr/>
              <p:nvPr/>
            </p:nvSpPr>
            <p:spPr>
              <a:xfrm rot="18606000">
                <a:off x="267120" y="313812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rot="20650200">
                <a:off x="199440" y="336852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 rot="20948400">
                <a:off x="176040" y="34689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rot="20948400">
                <a:off x="248760" y="35200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090440" y="2935080"/>
              <a:ext cx="970200" cy="933840"/>
              <a:chOff x="1090440" y="2935080"/>
              <a:chExt cx="970200" cy="933840"/>
            </a:xfrm>
          </p:grpSpPr>
          <p:sp>
            <p:nvSpPr>
              <p:cNvPr id="498" name="未知"/>
              <p:cNvSpPr/>
              <p:nvPr/>
            </p:nvSpPr>
            <p:spPr>
              <a:xfrm rot="8719200">
                <a:off x="1197360" y="309528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 rot="10764000">
                <a:off x="1146600" y="34092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 rot="11062200">
                <a:off x="1405440" y="33649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11062200">
                <a:off x="1346040" y="33130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808560" y="2678400"/>
              <a:ext cx="734400" cy="850320"/>
              <a:chOff x="808560" y="2678400"/>
              <a:chExt cx="734400" cy="850320"/>
            </a:xfrm>
          </p:grpSpPr>
          <p:sp>
            <p:nvSpPr>
              <p:cNvPr id="503" name="未知"/>
              <p:cNvSpPr/>
              <p:nvPr/>
            </p:nvSpPr>
            <p:spPr>
              <a:xfrm rot="5998800">
                <a:off x="797760" y="27972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rot="8043600">
                <a:off x="776160" y="30960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 rot="8341800">
                <a:off x="952200" y="29610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 rot="8341800">
                <a:off x="867240" y="29685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89520" y="2471400"/>
              <a:ext cx="966240" cy="968760"/>
              <a:chOff x="389520" y="2471400"/>
              <a:chExt cx="966240" cy="968760"/>
            </a:xfrm>
          </p:grpSpPr>
          <p:sp>
            <p:nvSpPr>
              <p:cNvPr id="508" name="未知"/>
              <p:cNvSpPr/>
              <p:nvPr/>
            </p:nvSpPr>
            <p:spPr>
              <a:xfrm rot="2739000">
                <a:off x="494640" y="264924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 rot="4783800">
                <a:off x="482040" y="291024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 rot="5082000">
                <a:off x="512640" y="27795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 rot="5082000">
                <a:off x="462600" y="28569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49560" y="2930040"/>
              <a:ext cx="798120" cy="617040"/>
              <a:chOff x="349560" y="2930040"/>
              <a:chExt cx="798120" cy="617040"/>
            </a:xfrm>
          </p:grpSpPr>
          <p:sp>
            <p:nvSpPr>
              <p:cNvPr id="513" name="未知"/>
              <p:cNvSpPr/>
              <p:nvPr/>
            </p:nvSpPr>
            <p:spPr>
              <a:xfrm rot="12600">
                <a:off x="370800" y="293256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 rot="2057400">
                <a:off x="339120" y="316692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 rot="2355600">
                <a:off x="293040" y="31338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 rot="2355600">
                <a:off x="307080" y="32259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17840" y="3262680"/>
              <a:ext cx="951840" cy="890640"/>
              <a:chOff x="717840" y="3262680"/>
              <a:chExt cx="951840" cy="890640"/>
            </a:xfrm>
          </p:grpSpPr>
          <p:sp>
            <p:nvSpPr>
              <p:cNvPr id="518" name="未知"/>
              <p:cNvSpPr/>
              <p:nvPr/>
            </p:nvSpPr>
            <p:spPr>
              <a:xfrm rot="12437400">
                <a:off x="815760" y="340128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14482200">
                <a:off x="725760" y="36950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 rot="14781000">
                <a:off x="951120" y="381132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 rot="14781000">
                <a:off x="976680" y="374040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1085040" y="3205080"/>
              <a:ext cx="843840" cy="693720"/>
              <a:chOff x="1085040" y="3205080"/>
              <a:chExt cx="843840" cy="693720"/>
            </a:xfrm>
          </p:grpSpPr>
          <p:sp>
            <p:nvSpPr>
              <p:cNvPr id="523" name="未知"/>
              <p:cNvSpPr/>
              <p:nvPr/>
            </p:nvSpPr>
            <p:spPr>
              <a:xfrm rot="10413000">
                <a:off x="1123920" y="32454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 rot="12457800">
                <a:off x="1051920" y="35553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 rot="12756600">
                <a:off x="1317960" y="358884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 rot="12756600">
                <a:off x="1294200" y="351612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98320" y="2955960"/>
              <a:ext cx="864720" cy="864360"/>
              <a:chOff x="598320" y="2955960"/>
              <a:chExt cx="864720" cy="864360"/>
            </a:xfrm>
          </p:grpSpPr>
          <p:sp>
            <p:nvSpPr>
              <p:cNvPr id="528" name=""/>
              <p:cNvSpPr/>
              <p:nvPr/>
            </p:nvSpPr>
            <p:spPr>
              <a:xfrm rot="12343200">
                <a:off x="706680" y="3063960"/>
                <a:ext cx="647640" cy="6476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2343200">
                <a:off x="804600" y="3181320"/>
                <a:ext cx="432000" cy="431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531" name=""/>
            <p:cNvSpPr/>
            <p:nvPr/>
          </p:nvSpPr>
          <p:spPr>
            <a:xfrm>
              <a:off x="5834520" y="6031440"/>
              <a:ext cx="715680" cy="715680"/>
            </a:xfrm>
            <a:prstGeom prst="donut">
              <a:avLst>
                <a:gd name="adj" fmla="val 881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24360" y="5921280"/>
              <a:ext cx="936720" cy="936720"/>
            </a:xfrm>
            <a:prstGeom prst="donut">
              <a:avLst>
                <a:gd name="adj" fmla="val 3759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504120" y="5340240"/>
            <a:ext cx="913320" cy="989640"/>
            <a:chOff x="6504120" y="5340240"/>
            <a:chExt cx="913320" cy="989640"/>
          </a:xfrm>
        </p:grpSpPr>
        <p:grpSp>
          <p:nvGrpSpPr>
            <p:cNvPr id="534" name=""/>
            <p:cNvGrpSpPr/>
            <p:nvPr/>
          </p:nvGrpSpPr>
          <p:grpSpPr>
            <a:xfrm>
              <a:off x="6912000" y="5540760"/>
              <a:ext cx="498600" cy="500400"/>
              <a:chOff x="6912000" y="5540760"/>
              <a:chExt cx="498600" cy="500400"/>
            </a:xfrm>
          </p:grpSpPr>
          <p:sp>
            <p:nvSpPr>
              <p:cNvPr id="535" name="未知"/>
              <p:cNvSpPr/>
              <p:nvPr/>
            </p:nvSpPr>
            <p:spPr>
              <a:xfrm rot="18826800">
                <a:off x="6968880" y="5629680"/>
                <a:ext cx="38448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 rot="20871600">
                <a:off x="6935040" y="57510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 rot="21169800">
                <a:off x="6920640" y="579888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 rot="21169800">
                <a:off x="6955920" y="582840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6919560" y="5450400"/>
              <a:ext cx="404640" cy="450360"/>
              <a:chOff x="6919560" y="5450400"/>
              <a:chExt cx="404640" cy="450360"/>
            </a:xfrm>
          </p:grpSpPr>
          <p:sp>
            <p:nvSpPr>
              <p:cNvPr id="540" name="未知"/>
              <p:cNvSpPr/>
              <p:nvPr/>
            </p:nvSpPr>
            <p:spPr>
              <a:xfrm rot="17034600">
                <a:off x="6929640" y="5514480"/>
                <a:ext cx="38412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 rot="19078800">
                <a:off x="6886440" y="564084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 rot="19377600">
                <a:off x="6902640" y="57171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 rot="19377600">
                <a:off x="6945840" y="57258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683400" y="5340240"/>
              <a:ext cx="496440" cy="501120"/>
              <a:chOff x="6683400" y="5340240"/>
              <a:chExt cx="496440" cy="501120"/>
            </a:xfrm>
          </p:grpSpPr>
          <p:sp>
            <p:nvSpPr>
              <p:cNvPr id="545" name="未知"/>
              <p:cNvSpPr/>
              <p:nvPr/>
            </p:nvSpPr>
            <p:spPr>
              <a:xfrm rot="13688400">
                <a:off x="6739200" y="542952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 rot="15733200">
                <a:off x="6689880" y="557604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 rot="16031400">
                <a:off x="6782400" y="56530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 rot="16031400">
                <a:off x="6810120" y="562428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510240" y="5476680"/>
              <a:ext cx="453240" cy="401400"/>
              <a:chOff x="6510240" y="5476680"/>
              <a:chExt cx="453240" cy="401400"/>
            </a:xfrm>
          </p:grpSpPr>
          <p:sp>
            <p:nvSpPr>
              <p:cNvPr id="550" name="未知"/>
              <p:cNvSpPr/>
              <p:nvPr/>
            </p:nvSpPr>
            <p:spPr>
              <a:xfrm rot="10003800">
                <a:off x="6541920" y="551628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 rot="12048600">
                <a:off x="6508080" y="56800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 rot="12346800">
                <a:off x="6644160" y="568656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 rot="12346800">
                <a:off x="6627960" y="565092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764400" y="5785920"/>
              <a:ext cx="498960" cy="499680"/>
              <a:chOff x="6764400" y="5785920"/>
              <a:chExt cx="498960" cy="499680"/>
            </a:xfrm>
          </p:grpSpPr>
          <p:sp>
            <p:nvSpPr>
              <p:cNvPr id="555" name="未知"/>
              <p:cNvSpPr/>
              <p:nvPr/>
            </p:nvSpPr>
            <p:spPr>
              <a:xfrm rot="2727600">
                <a:off x="6821640" y="58744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 rot="4772400">
                <a:off x="6816240" y="6012000"/>
                <a:ext cx="43884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 rot="5070600">
                <a:off x="6829920" y="5946120"/>
                <a:ext cx="3290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5070600">
                <a:off x="6803640" y="59857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603480" y="5812560"/>
              <a:ext cx="347040" cy="404640"/>
              <a:chOff x="6603480" y="5812560"/>
              <a:chExt cx="347040" cy="404640"/>
            </a:xfrm>
          </p:grpSpPr>
          <p:sp>
            <p:nvSpPr>
              <p:cNvPr id="560" name="未知"/>
              <p:cNvSpPr/>
              <p:nvPr/>
            </p:nvSpPr>
            <p:spPr>
              <a:xfrm rot="5628000">
                <a:off x="6584760" y="585360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 rot="7672800">
                <a:off x="6575760" y="6008760"/>
                <a:ext cx="43884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 rot="7971000">
                <a:off x="6656040" y="5936400"/>
                <a:ext cx="3290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rot="7971000">
                <a:off x="6612480" y="59443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6506280" y="5665680"/>
              <a:ext cx="455760" cy="485280"/>
              <a:chOff x="6506280" y="5665680"/>
              <a:chExt cx="455760" cy="485280"/>
            </a:xfrm>
          </p:grpSpPr>
          <p:sp>
            <p:nvSpPr>
              <p:cNvPr id="565" name="未知"/>
              <p:cNvSpPr/>
              <p:nvPr/>
            </p:nvSpPr>
            <p:spPr>
              <a:xfrm rot="6925800">
                <a:off x="6541560" y="574740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 rot="8970600">
                <a:off x="6527160" y="590796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 rot="9268800">
                <a:off x="6634080" y="585072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 rot="9268800">
                <a:off x="6592680" y="584208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54840" y="5699880"/>
              <a:ext cx="462600" cy="415440"/>
              <a:chOff x="6954840" y="5699880"/>
              <a:chExt cx="462600" cy="415440"/>
            </a:xfrm>
          </p:grpSpPr>
          <p:sp>
            <p:nvSpPr>
              <p:cNvPr id="570" name="未知"/>
              <p:cNvSpPr/>
              <p:nvPr/>
            </p:nvSpPr>
            <p:spPr>
              <a:xfrm rot="20636400">
                <a:off x="6995520" y="574632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 rot="1081200">
                <a:off x="6973560" y="58672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 rot="1379400">
                <a:off x="6946920" y="587412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 rot="1379400">
                <a:off x="6964920" y="591804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859080" y="5798160"/>
              <a:ext cx="446040" cy="392400"/>
              <a:chOff x="6859080" y="5798160"/>
              <a:chExt cx="446040" cy="392400"/>
            </a:xfrm>
          </p:grpSpPr>
          <p:sp>
            <p:nvSpPr>
              <p:cNvPr id="575" name="未知"/>
              <p:cNvSpPr/>
              <p:nvPr/>
            </p:nvSpPr>
            <p:spPr>
              <a:xfrm rot="805800">
                <a:off x="6889680" y="5838480"/>
                <a:ext cx="38412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 rot="2850600">
                <a:off x="6877800" y="5960880"/>
                <a:ext cx="4392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 rot="3148800">
                <a:off x="6861600" y="5927040"/>
                <a:ext cx="32940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 rot="3148800">
                <a:off x="6858360" y="5974200"/>
                <a:ext cx="3294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504120" y="5566680"/>
              <a:ext cx="529200" cy="494280"/>
              <a:chOff x="6504120" y="5566680"/>
              <a:chExt cx="529200" cy="494280"/>
            </a:xfrm>
          </p:grpSpPr>
          <p:sp>
            <p:nvSpPr>
              <p:cNvPr id="580" name="未知"/>
              <p:cNvSpPr/>
              <p:nvPr/>
            </p:nvSpPr>
            <p:spPr>
              <a:xfrm rot="7717200">
                <a:off x="6642360" y="5575680"/>
                <a:ext cx="25236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 rot="9762000">
                <a:off x="6633000" y="5817960"/>
                <a:ext cx="28872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 rot="10060200">
                <a:off x="6706080" y="5766120"/>
                <a:ext cx="21636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 rot="10060200">
                <a:off x="6676560" y="5734800"/>
                <a:ext cx="2163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767280" y="5402520"/>
              <a:ext cx="485280" cy="442440"/>
              <a:chOff x="6767280" y="5402520"/>
              <a:chExt cx="485280" cy="442440"/>
            </a:xfrm>
          </p:grpSpPr>
          <p:sp>
            <p:nvSpPr>
              <p:cNvPr id="585" name="未知"/>
              <p:cNvSpPr/>
              <p:nvPr/>
            </p:nvSpPr>
            <p:spPr>
              <a:xfrm rot="13857000">
                <a:off x="6917760" y="5385600"/>
                <a:ext cx="18360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 rot="15901800">
                <a:off x="6871320" y="5598000"/>
                <a:ext cx="20988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 rot="16200000">
                <a:off x="6948360" y="5640480"/>
                <a:ext cx="15732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 rot="16200000">
                <a:off x="6991560" y="5631840"/>
                <a:ext cx="1576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67920" y="5484240"/>
              <a:ext cx="370800" cy="394920"/>
              <a:chOff x="6667920" y="5484240"/>
              <a:chExt cx="370800" cy="394920"/>
            </a:xfrm>
          </p:grpSpPr>
          <p:sp>
            <p:nvSpPr>
              <p:cNvPr id="590" name="未知"/>
              <p:cNvSpPr/>
              <p:nvPr/>
            </p:nvSpPr>
            <p:spPr>
              <a:xfrm rot="11895600">
                <a:off x="6711120" y="5520240"/>
                <a:ext cx="284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 rot="13940400">
                <a:off x="6673680" y="5677200"/>
                <a:ext cx="3243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 rot="14238600">
                <a:off x="6772320" y="5709600"/>
                <a:ext cx="2433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 rot="14238600">
                <a:off x="6783840" y="5678280"/>
                <a:ext cx="2433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6670440" y="5852160"/>
              <a:ext cx="443520" cy="477720"/>
              <a:chOff x="6670440" y="5852160"/>
              <a:chExt cx="443520" cy="477720"/>
            </a:xfrm>
          </p:grpSpPr>
          <p:sp>
            <p:nvSpPr>
              <p:cNvPr id="595" name="未知"/>
              <p:cNvSpPr/>
              <p:nvPr/>
            </p:nvSpPr>
            <p:spPr>
              <a:xfrm rot="4063800">
                <a:off x="6699960" y="592956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 rot="6108000">
                <a:off x="6694560" y="607608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 rot="6406200">
                <a:off x="6738480" y="60004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rot="6406200">
                <a:off x="6701040" y="60271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772680" y="5668920"/>
              <a:ext cx="329400" cy="329040"/>
              <a:chOff x="6772680" y="5668920"/>
              <a:chExt cx="329400" cy="329040"/>
            </a:xfrm>
          </p:grpSpPr>
          <p:sp>
            <p:nvSpPr>
              <p:cNvPr id="600" name=""/>
              <p:cNvSpPr/>
              <p:nvPr/>
            </p:nvSpPr>
            <p:spPr>
              <a:xfrm>
                <a:off x="6772680" y="5668920"/>
                <a:ext cx="329400" cy="32904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29920" y="5717160"/>
                <a:ext cx="219600" cy="2192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6217920" y="5850000"/>
            <a:ext cx="728640" cy="789480"/>
            <a:chOff x="6217920" y="5850000"/>
            <a:chExt cx="728640" cy="789480"/>
          </a:xfrm>
        </p:grpSpPr>
        <p:grpSp>
          <p:nvGrpSpPr>
            <p:cNvPr id="603" name=""/>
            <p:cNvGrpSpPr/>
            <p:nvPr/>
          </p:nvGrpSpPr>
          <p:grpSpPr>
            <a:xfrm>
              <a:off x="6543000" y="6010200"/>
              <a:ext cx="398160" cy="399600"/>
              <a:chOff x="6543000" y="6010200"/>
              <a:chExt cx="398160" cy="399600"/>
            </a:xfrm>
          </p:grpSpPr>
          <p:sp>
            <p:nvSpPr>
              <p:cNvPr id="604" name="未知"/>
              <p:cNvSpPr/>
              <p:nvPr/>
            </p:nvSpPr>
            <p:spPr>
              <a:xfrm rot="18826800">
                <a:off x="6588360" y="6081480"/>
                <a:ext cx="30708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rot="20871600">
                <a:off x="6561720" y="617760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 rot="21169800">
                <a:off x="6549840" y="621648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 rot="21169800">
                <a:off x="6578280" y="6239880"/>
                <a:ext cx="26316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6549840" y="5937840"/>
              <a:ext cx="322920" cy="359280"/>
              <a:chOff x="6549840" y="5937840"/>
              <a:chExt cx="322920" cy="359280"/>
            </a:xfrm>
          </p:grpSpPr>
          <p:sp>
            <p:nvSpPr>
              <p:cNvPr id="609" name="未知"/>
              <p:cNvSpPr/>
              <p:nvPr/>
            </p:nvSpPr>
            <p:spPr>
              <a:xfrm rot="17034600">
                <a:off x="6557760" y="5988960"/>
                <a:ext cx="30672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 rot="19078800">
                <a:off x="6522840" y="6089760"/>
                <a:ext cx="35064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 rot="19377600">
                <a:off x="6535800" y="615132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rot="19377600">
                <a:off x="6570360" y="615780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6360840" y="5850000"/>
              <a:ext cx="396360" cy="399960"/>
              <a:chOff x="6360840" y="5850000"/>
              <a:chExt cx="396360" cy="399960"/>
            </a:xfrm>
          </p:grpSpPr>
          <p:sp>
            <p:nvSpPr>
              <p:cNvPr id="614" name="未知"/>
              <p:cNvSpPr/>
              <p:nvPr/>
            </p:nvSpPr>
            <p:spPr>
              <a:xfrm rot="13688400">
                <a:off x="6405480" y="592128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 rot="15733200">
                <a:off x="6365880" y="603828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 rot="16031400">
                <a:off x="6439680" y="609984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未知"/>
              <p:cNvSpPr/>
              <p:nvPr/>
            </p:nvSpPr>
            <p:spPr>
              <a:xfrm rot="16031400">
                <a:off x="6461640" y="607644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6222600" y="5958720"/>
              <a:ext cx="362160" cy="320400"/>
              <a:chOff x="6222600" y="5958720"/>
              <a:chExt cx="362160" cy="320400"/>
            </a:xfrm>
          </p:grpSpPr>
          <p:sp>
            <p:nvSpPr>
              <p:cNvPr id="619" name="未知"/>
              <p:cNvSpPr/>
              <p:nvPr/>
            </p:nvSpPr>
            <p:spPr>
              <a:xfrm rot="10003800">
                <a:off x="6247800" y="599040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 rot="12048600">
                <a:off x="6220800" y="612144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 rot="12346800">
                <a:off x="6329880" y="612684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rot="12346800">
                <a:off x="6316920" y="609804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24920" y="6206040"/>
              <a:ext cx="398520" cy="398880"/>
              <a:chOff x="6424920" y="6206040"/>
              <a:chExt cx="398520" cy="398880"/>
            </a:xfrm>
          </p:grpSpPr>
          <p:sp>
            <p:nvSpPr>
              <p:cNvPr id="624" name="未知"/>
              <p:cNvSpPr/>
              <p:nvPr/>
            </p:nvSpPr>
            <p:spPr>
              <a:xfrm rot="2727600">
                <a:off x="6471000" y="627660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未知"/>
              <p:cNvSpPr/>
              <p:nvPr/>
            </p:nvSpPr>
            <p:spPr>
              <a:xfrm rot="4772400">
                <a:off x="6466680" y="638640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 rot="5070600">
                <a:off x="6477480" y="633384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未知"/>
              <p:cNvSpPr/>
              <p:nvPr/>
            </p:nvSpPr>
            <p:spPr>
              <a:xfrm rot="5070600">
                <a:off x="6456960" y="636516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297480" y="6227280"/>
              <a:ext cx="276840" cy="322560"/>
              <a:chOff x="6297480" y="6227280"/>
              <a:chExt cx="276840" cy="322560"/>
            </a:xfrm>
          </p:grpSpPr>
          <p:sp>
            <p:nvSpPr>
              <p:cNvPr id="629" name="未知"/>
              <p:cNvSpPr/>
              <p:nvPr/>
            </p:nvSpPr>
            <p:spPr>
              <a:xfrm rot="5628000">
                <a:off x="6282720" y="6259680"/>
                <a:ext cx="30636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 rot="7672800">
                <a:off x="6275520" y="638424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 rot="7971000">
                <a:off x="6338880" y="632628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未知"/>
              <p:cNvSpPr/>
              <p:nvPr/>
            </p:nvSpPr>
            <p:spPr>
              <a:xfrm rot="7971000">
                <a:off x="6304320" y="633240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6219720" y="6109560"/>
              <a:ext cx="363600" cy="387360"/>
              <a:chOff x="6219720" y="6109560"/>
              <a:chExt cx="363600" cy="387360"/>
            </a:xfrm>
          </p:grpSpPr>
          <p:sp>
            <p:nvSpPr>
              <p:cNvPr id="634" name="未知"/>
              <p:cNvSpPr/>
              <p:nvPr/>
            </p:nvSpPr>
            <p:spPr>
              <a:xfrm rot="6925800">
                <a:off x="6247800" y="617472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 rot="8970600">
                <a:off x="6235920" y="630360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 rot="9268800">
                <a:off x="6321600" y="625716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未知"/>
              <p:cNvSpPr/>
              <p:nvPr/>
            </p:nvSpPr>
            <p:spPr>
              <a:xfrm rot="9268800">
                <a:off x="6288840" y="625068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577560" y="6137280"/>
              <a:ext cx="369000" cy="331560"/>
              <a:chOff x="6577560" y="6137280"/>
              <a:chExt cx="369000" cy="331560"/>
            </a:xfrm>
          </p:grpSpPr>
          <p:sp>
            <p:nvSpPr>
              <p:cNvPr id="639" name="未知"/>
              <p:cNvSpPr/>
              <p:nvPr/>
            </p:nvSpPr>
            <p:spPr>
              <a:xfrm rot="20636400">
                <a:off x="6609600" y="617472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未知"/>
              <p:cNvSpPr/>
              <p:nvPr/>
            </p:nvSpPr>
            <p:spPr>
              <a:xfrm rot="1081200">
                <a:off x="6592320" y="627048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未知"/>
              <p:cNvSpPr/>
              <p:nvPr/>
            </p:nvSpPr>
            <p:spPr>
              <a:xfrm rot="1379400">
                <a:off x="6571080" y="627660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 rot="1379400">
                <a:off x="6585480" y="631152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500880" y="6216120"/>
              <a:ext cx="356040" cy="313200"/>
              <a:chOff x="6500880" y="6216120"/>
              <a:chExt cx="356040" cy="313200"/>
            </a:xfrm>
          </p:grpSpPr>
          <p:sp>
            <p:nvSpPr>
              <p:cNvPr id="644" name="未知"/>
              <p:cNvSpPr/>
              <p:nvPr/>
            </p:nvSpPr>
            <p:spPr>
              <a:xfrm rot="805800">
                <a:off x="6525720" y="6248160"/>
                <a:ext cx="306360" cy="248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 rot="2850600">
                <a:off x="6515640" y="6345360"/>
                <a:ext cx="3502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 rot="3148800">
                <a:off x="6503040" y="6318720"/>
                <a:ext cx="262800" cy="2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 rot="3148800">
                <a:off x="6500160" y="6355800"/>
                <a:ext cx="2628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6217920" y="6031080"/>
              <a:ext cx="422280" cy="394200"/>
              <a:chOff x="6217920" y="6031080"/>
              <a:chExt cx="422280" cy="394200"/>
            </a:xfrm>
          </p:grpSpPr>
          <p:sp>
            <p:nvSpPr>
              <p:cNvPr id="649" name="未知"/>
              <p:cNvSpPr/>
              <p:nvPr/>
            </p:nvSpPr>
            <p:spPr>
              <a:xfrm rot="7717200">
                <a:off x="6328080" y="6038280"/>
                <a:ext cx="201600" cy="379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 rot="9762000">
                <a:off x="6320520" y="6231600"/>
                <a:ext cx="23040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 rot="10060200">
                <a:off x="6379200" y="6190560"/>
                <a:ext cx="172800" cy="32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 rot="10060200">
                <a:off x="6355440" y="6165000"/>
                <a:ext cx="17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6427800" y="5900040"/>
              <a:ext cx="387000" cy="353160"/>
              <a:chOff x="6427800" y="5900040"/>
              <a:chExt cx="387000" cy="353160"/>
            </a:xfrm>
          </p:grpSpPr>
          <p:sp>
            <p:nvSpPr>
              <p:cNvPr id="654" name="未知"/>
              <p:cNvSpPr/>
              <p:nvPr/>
            </p:nvSpPr>
            <p:spPr>
              <a:xfrm rot="13857000">
                <a:off x="6548040" y="5886720"/>
                <a:ext cx="146520" cy="379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 rot="15901800">
                <a:off x="6510960" y="6055920"/>
                <a:ext cx="1677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 rot="16200000">
                <a:off x="6572160" y="6089760"/>
                <a:ext cx="125640" cy="32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 rot="16200000">
                <a:off x="6606720" y="6082920"/>
                <a:ext cx="1256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348960" y="5965560"/>
              <a:ext cx="295560" cy="315000"/>
              <a:chOff x="6348960" y="5965560"/>
              <a:chExt cx="295560" cy="315000"/>
            </a:xfrm>
          </p:grpSpPr>
          <p:sp>
            <p:nvSpPr>
              <p:cNvPr id="659" name="未知"/>
              <p:cNvSpPr/>
              <p:nvPr/>
            </p:nvSpPr>
            <p:spPr>
              <a:xfrm rot="11895600">
                <a:off x="6383160" y="5994360"/>
                <a:ext cx="22644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 rot="13940400">
                <a:off x="6352560" y="6119280"/>
                <a:ext cx="25884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 rot="14238600">
                <a:off x="6431760" y="6144840"/>
                <a:ext cx="1940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 rot="14238600">
                <a:off x="6441120" y="6119640"/>
                <a:ext cx="1944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50400" y="6258600"/>
              <a:ext cx="354240" cy="380880"/>
              <a:chOff x="6350400" y="6258600"/>
              <a:chExt cx="354240" cy="380880"/>
            </a:xfrm>
          </p:grpSpPr>
          <p:sp>
            <p:nvSpPr>
              <p:cNvPr id="664" name="未知"/>
              <p:cNvSpPr/>
              <p:nvPr/>
            </p:nvSpPr>
            <p:spPr>
              <a:xfrm rot="4063800">
                <a:off x="6374160" y="6320520"/>
                <a:ext cx="30636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 rot="6108000">
                <a:off x="6370200" y="643716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未知"/>
              <p:cNvSpPr/>
              <p:nvPr/>
            </p:nvSpPr>
            <p:spPr>
              <a:xfrm rot="6406200">
                <a:off x="6404400" y="637668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未知"/>
              <p:cNvSpPr/>
              <p:nvPr/>
            </p:nvSpPr>
            <p:spPr>
              <a:xfrm rot="6406200">
                <a:off x="6374880" y="639792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6432120" y="6112800"/>
              <a:ext cx="263160" cy="262800"/>
              <a:chOff x="6432120" y="6112800"/>
              <a:chExt cx="263160" cy="262800"/>
            </a:xfrm>
          </p:grpSpPr>
          <p:sp>
            <p:nvSpPr>
              <p:cNvPr id="669" name=""/>
              <p:cNvSpPr/>
              <p:nvPr/>
            </p:nvSpPr>
            <p:spPr>
              <a:xfrm>
                <a:off x="6432120" y="6112800"/>
                <a:ext cx="263160" cy="262800"/>
              </a:xfrm>
              <a:custGeom>
                <a:avLst/>
                <a:gdLst>
                  <a:gd name="textAreaLeft" fmla="*/ 61560 w 263160"/>
                  <a:gd name="textAreaRight" fmla="*/ 201600 w 26316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77840" y="6151320"/>
                <a:ext cx="175680" cy="1749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6602760" y="4272120"/>
            <a:ext cx="1925280" cy="1872720"/>
            <a:chOff x="6602760" y="4272120"/>
            <a:chExt cx="1925280" cy="1872720"/>
          </a:xfrm>
        </p:grpSpPr>
        <p:grpSp>
          <p:nvGrpSpPr>
            <p:cNvPr id="672" name=""/>
            <p:cNvGrpSpPr/>
            <p:nvPr/>
          </p:nvGrpSpPr>
          <p:grpSpPr>
            <a:xfrm>
              <a:off x="7110360" y="5078880"/>
              <a:ext cx="888840" cy="979200"/>
              <a:chOff x="7110360" y="5078880"/>
              <a:chExt cx="888840" cy="979200"/>
            </a:xfrm>
          </p:grpSpPr>
          <p:sp>
            <p:nvSpPr>
              <p:cNvPr id="673" name="未知"/>
              <p:cNvSpPr/>
              <p:nvPr/>
            </p:nvSpPr>
            <p:spPr>
              <a:xfrm rot="3869400">
                <a:off x="7161120" y="526716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未知"/>
              <p:cNvSpPr/>
              <p:nvPr/>
            </p:nvSpPr>
            <p:spPr>
              <a:xfrm rot="5914200">
                <a:off x="7148160" y="554004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未知"/>
              <p:cNvSpPr/>
              <p:nvPr/>
            </p:nvSpPr>
            <p:spPr>
              <a:xfrm rot="6213000">
                <a:off x="7233120" y="538668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未知"/>
              <p:cNvSpPr/>
              <p:nvPr/>
            </p:nvSpPr>
            <p:spPr>
              <a:xfrm rot="6213000">
                <a:off x="7163640" y="5446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863400" y="4952880"/>
              <a:ext cx="742320" cy="839160"/>
              <a:chOff x="6863400" y="4952880"/>
              <a:chExt cx="742320" cy="839160"/>
            </a:xfrm>
          </p:grpSpPr>
          <p:sp>
            <p:nvSpPr>
              <p:cNvPr id="678" name="未知"/>
              <p:cNvSpPr/>
              <p:nvPr/>
            </p:nvSpPr>
            <p:spPr>
              <a:xfrm rot="5910600">
                <a:off x="6858000" y="505332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未知"/>
              <p:cNvSpPr/>
              <p:nvPr/>
            </p:nvSpPr>
            <p:spPr>
              <a:xfrm rot="7955400">
                <a:off x="6838200" y="536400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未知"/>
              <p:cNvSpPr/>
              <p:nvPr/>
            </p:nvSpPr>
            <p:spPr>
              <a:xfrm rot="8253600">
                <a:off x="7007760" y="522576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未知"/>
              <p:cNvSpPr/>
              <p:nvPr/>
            </p:nvSpPr>
            <p:spPr>
              <a:xfrm rot="8253600">
                <a:off x="6921720" y="523440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602760" y="4713120"/>
              <a:ext cx="964080" cy="985680"/>
              <a:chOff x="6602760" y="4713120"/>
              <a:chExt cx="964080" cy="985680"/>
            </a:xfrm>
          </p:grpSpPr>
          <p:sp>
            <p:nvSpPr>
              <p:cNvPr id="683" name="未知"/>
              <p:cNvSpPr/>
              <p:nvPr/>
            </p:nvSpPr>
            <p:spPr>
              <a:xfrm rot="7644000">
                <a:off x="6708240" y="488700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 rot="9688800">
                <a:off x="6670440" y="521028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未知"/>
              <p:cNvSpPr/>
              <p:nvPr/>
            </p:nvSpPr>
            <p:spPr>
              <a:xfrm rot="9987000">
                <a:off x="6904080" y="512064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未知"/>
              <p:cNvSpPr/>
              <p:nvPr/>
            </p:nvSpPr>
            <p:spPr>
              <a:xfrm rot="9987000">
                <a:off x="6828840" y="508788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796440" y="4482000"/>
              <a:ext cx="919440" cy="843120"/>
              <a:chOff x="6796440" y="4482000"/>
              <a:chExt cx="919440" cy="843120"/>
            </a:xfrm>
          </p:grpSpPr>
          <p:sp>
            <p:nvSpPr>
              <p:cNvPr id="688" name="未知"/>
              <p:cNvSpPr/>
              <p:nvPr/>
            </p:nvSpPr>
            <p:spPr>
              <a:xfrm rot="9694200">
                <a:off x="6877800" y="458424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未知"/>
              <p:cNvSpPr/>
              <p:nvPr/>
            </p:nvSpPr>
            <p:spPr>
              <a:xfrm rot="11739000">
                <a:off x="6814080" y="490968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 rot="12037200">
                <a:off x="7081560" y="490788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 rot="12037200">
                <a:off x="7043040" y="483984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938640" y="4372560"/>
              <a:ext cx="924480" cy="810000"/>
              <a:chOff x="6938640" y="4372560"/>
              <a:chExt cx="924480" cy="810000"/>
            </a:xfrm>
          </p:grpSpPr>
          <p:sp>
            <p:nvSpPr>
              <p:cNvPr id="693" name="未知"/>
              <p:cNvSpPr/>
              <p:nvPr/>
            </p:nvSpPr>
            <p:spPr>
              <a:xfrm rot="11763000">
                <a:off x="7007400" y="446904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 rot="13807800">
                <a:off x="6920280" y="476820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 rot="14106000">
                <a:off x="7173000" y="48654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 rot="14106000">
                <a:off x="7180560" y="478764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110360" y="4272120"/>
              <a:ext cx="968760" cy="994680"/>
              <a:chOff x="7110360" y="4272120"/>
              <a:chExt cx="968760" cy="994680"/>
            </a:xfrm>
          </p:grpSpPr>
          <p:sp>
            <p:nvSpPr>
              <p:cNvPr id="698" name="未知"/>
              <p:cNvSpPr/>
              <p:nvPr/>
            </p:nvSpPr>
            <p:spPr>
              <a:xfrm rot="13857000">
                <a:off x="7201080" y="446436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 rot="15901800">
                <a:off x="7102800" y="474084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rot="16200000">
                <a:off x="7279920" y="49021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 rot="16200000">
                <a:off x="7335360" y="484452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7317720" y="5068800"/>
              <a:ext cx="943560" cy="841320"/>
              <a:chOff x="7317720" y="5068800"/>
              <a:chExt cx="943560" cy="841320"/>
            </a:xfrm>
          </p:grpSpPr>
          <p:sp>
            <p:nvSpPr>
              <p:cNvPr id="703" name="未知"/>
              <p:cNvSpPr/>
              <p:nvPr/>
            </p:nvSpPr>
            <p:spPr>
              <a:xfrm rot="1156800">
                <a:off x="7396200" y="518760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 rot="3201600">
                <a:off x="7372440" y="54295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 rot="3499800">
                <a:off x="7350480" y="53431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 rot="3499800">
                <a:off x="7337160" y="5437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7541640" y="4651200"/>
              <a:ext cx="986400" cy="976320"/>
              <a:chOff x="7541640" y="4651200"/>
              <a:chExt cx="986400" cy="976320"/>
            </a:xfrm>
          </p:grpSpPr>
          <p:sp>
            <p:nvSpPr>
              <p:cNvPr id="708" name="未知"/>
              <p:cNvSpPr/>
              <p:nvPr/>
            </p:nvSpPr>
            <p:spPr>
              <a:xfrm rot="19110000">
                <a:off x="7658280" y="482040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未知"/>
              <p:cNvSpPr/>
              <p:nvPr/>
            </p:nvSpPr>
            <p:spPr>
              <a:xfrm rot="21154800">
                <a:off x="7596720" y="505872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未知"/>
              <p:cNvSpPr/>
              <p:nvPr/>
            </p:nvSpPr>
            <p:spPr>
              <a:xfrm rot="21453000">
                <a:off x="7561800" y="514152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未知"/>
              <p:cNvSpPr/>
              <p:nvPr/>
            </p:nvSpPr>
            <p:spPr>
              <a:xfrm rot="21453000">
                <a:off x="7627320" y="520632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7450920" y="4476960"/>
              <a:ext cx="843120" cy="915840"/>
              <a:chOff x="7450920" y="4476960"/>
              <a:chExt cx="843120" cy="915840"/>
            </a:xfrm>
          </p:grpSpPr>
          <p:sp>
            <p:nvSpPr>
              <p:cNvPr id="713" name="未知"/>
              <p:cNvSpPr/>
              <p:nvPr/>
            </p:nvSpPr>
            <p:spPr>
              <a:xfrm rot="17306400">
                <a:off x="7495920" y="4615920"/>
                <a:ext cx="752760" cy="637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未知"/>
              <p:cNvSpPr/>
              <p:nvPr/>
            </p:nvSpPr>
            <p:spPr>
              <a:xfrm rot="19351800">
                <a:off x="7413120" y="486432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未知"/>
              <p:cNvSpPr/>
              <p:nvPr/>
            </p:nvSpPr>
            <p:spPr>
              <a:xfrm rot="19649400">
                <a:off x="7434360" y="500904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未知"/>
              <p:cNvSpPr/>
              <p:nvPr/>
            </p:nvSpPr>
            <p:spPr>
              <a:xfrm rot="19649400">
                <a:off x="7518240" y="503316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47320" y="4320000"/>
              <a:ext cx="642240" cy="847080"/>
              <a:chOff x="7447320" y="4320000"/>
              <a:chExt cx="642240" cy="847080"/>
            </a:xfrm>
          </p:grpSpPr>
          <p:sp>
            <p:nvSpPr>
              <p:cNvPr id="718" name="未知"/>
              <p:cNvSpPr/>
              <p:nvPr/>
            </p:nvSpPr>
            <p:spPr>
              <a:xfrm rot="16059600">
                <a:off x="7374960" y="4435560"/>
                <a:ext cx="786600" cy="610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 rot="18104400">
                <a:off x="7281000" y="468576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 rot="18402600">
                <a:off x="7354440" y="48553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 rot="18402600">
                <a:off x="7438680" y="484416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7457400" y="5036760"/>
              <a:ext cx="822960" cy="679680"/>
              <a:chOff x="7457400" y="5036760"/>
              <a:chExt cx="822960" cy="679680"/>
            </a:xfrm>
          </p:grpSpPr>
          <p:sp>
            <p:nvSpPr>
              <p:cNvPr id="723" name="未知"/>
              <p:cNvSpPr/>
              <p:nvPr/>
            </p:nvSpPr>
            <p:spPr>
              <a:xfrm rot="21405000">
                <a:off x="7494840" y="505764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未知"/>
              <p:cNvSpPr/>
              <p:nvPr/>
            </p:nvSpPr>
            <p:spPr>
              <a:xfrm rot="1849200">
                <a:off x="7461720" y="530064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未知"/>
              <p:cNvSpPr/>
              <p:nvPr/>
            </p:nvSpPr>
            <p:spPr>
              <a:xfrm rot="2148000">
                <a:off x="7412040" y="527940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 rot="2148000">
                <a:off x="7429320" y="537264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7004520" y="5109840"/>
              <a:ext cx="671400" cy="863280"/>
              <a:chOff x="7004520" y="5109840"/>
              <a:chExt cx="671400" cy="863280"/>
            </a:xfrm>
          </p:grpSpPr>
          <p:sp>
            <p:nvSpPr>
              <p:cNvPr id="728" name="未知"/>
              <p:cNvSpPr/>
              <p:nvPr/>
            </p:nvSpPr>
            <p:spPr>
              <a:xfrm rot="5119200">
                <a:off x="6946560" y="524124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未知"/>
              <p:cNvSpPr/>
              <p:nvPr/>
            </p:nvSpPr>
            <p:spPr>
              <a:xfrm rot="7164000">
                <a:off x="6929280" y="552924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 rot="7462200">
                <a:off x="7074360" y="537624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 rot="7462200">
                <a:off x="6990840" y="54082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217280" y="5153760"/>
              <a:ext cx="983880" cy="991080"/>
              <a:chOff x="7217280" y="5153760"/>
              <a:chExt cx="983880" cy="991080"/>
            </a:xfrm>
          </p:grpSpPr>
          <p:sp>
            <p:nvSpPr>
              <p:cNvPr id="733" name="未知"/>
              <p:cNvSpPr/>
              <p:nvPr/>
            </p:nvSpPr>
            <p:spPr>
              <a:xfrm rot="2797200">
                <a:off x="7315920" y="5343840"/>
                <a:ext cx="786600" cy="610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 rot="4842000">
                <a:off x="7301520" y="56041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未知"/>
              <p:cNvSpPr/>
              <p:nvPr/>
            </p:nvSpPr>
            <p:spPr>
              <a:xfrm rot="5140200">
                <a:off x="7338240" y="54666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 rot="5140200">
                <a:off x="7287120" y="5545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276680" y="4818960"/>
              <a:ext cx="644040" cy="673920"/>
              <a:chOff x="7276680" y="4818960"/>
              <a:chExt cx="644040" cy="673920"/>
            </a:xfrm>
          </p:grpSpPr>
          <p:sp>
            <p:nvSpPr>
              <p:cNvPr id="738" name=""/>
              <p:cNvSpPr/>
              <p:nvPr/>
            </p:nvSpPr>
            <p:spPr>
              <a:xfrm rot="16200000">
                <a:off x="7261560" y="4833720"/>
                <a:ext cx="673920" cy="644040"/>
              </a:xfrm>
              <a:custGeom>
                <a:avLst/>
                <a:gdLst>
                  <a:gd name="textAreaLeft" fmla="*/ 158040 w 673920"/>
                  <a:gd name="textAreaRight" fmla="*/ 515880 w 673920"/>
                  <a:gd name="textAreaTop" fmla="*/ 151200 h 644040"/>
                  <a:gd name="textAreaBottom" fmla="*/ 492840 h 64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200000">
                <a:off x="7360920" y="4936320"/>
                <a:ext cx="449640" cy="42912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7756560" y="4313520"/>
            <a:ext cx="1404720" cy="1527120"/>
            <a:chOff x="7756560" y="4313520"/>
            <a:chExt cx="1404720" cy="1527120"/>
          </a:xfrm>
        </p:grpSpPr>
        <p:grpSp>
          <p:nvGrpSpPr>
            <p:cNvPr id="741" name=""/>
            <p:cNvGrpSpPr/>
            <p:nvPr/>
          </p:nvGrpSpPr>
          <p:grpSpPr>
            <a:xfrm>
              <a:off x="8383680" y="4624200"/>
              <a:ext cx="767880" cy="770760"/>
              <a:chOff x="8383680" y="4624200"/>
              <a:chExt cx="767880" cy="770760"/>
            </a:xfrm>
          </p:grpSpPr>
          <p:sp>
            <p:nvSpPr>
              <p:cNvPr id="742" name="未知"/>
              <p:cNvSpPr/>
              <p:nvPr/>
            </p:nvSpPr>
            <p:spPr>
              <a:xfrm rot="18826800">
                <a:off x="8471520" y="476136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 rot="20871600">
                <a:off x="8420400" y="494748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 rot="21169800">
                <a:off x="8397720" y="50212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 rot="21169800">
                <a:off x="8452440" y="50666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395920" y="4484160"/>
              <a:ext cx="624240" cy="694080"/>
              <a:chOff x="8395920" y="4484160"/>
              <a:chExt cx="624240" cy="694080"/>
            </a:xfrm>
          </p:grpSpPr>
          <p:sp>
            <p:nvSpPr>
              <p:cNvPr id="747" name="未知"/>
              <p:cNvSpPr/>
              <p:nvPr/>
            </p:nvSpPr>
            <p:spPr>
              <a:xfrm rot="17034600">
                <a:off x="8411760" y="458280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 rot="19078800">
                <a:off x="8345160" y="477756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 rot="19377600">
                <a:off x="8370000" y="489600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 rot="19377600">
                <a:off x="8436600" y="490932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8031960" y="4313520"/>
              <a:ext cx="765000" cy="772200"/>
              <a:chOff x="8031960" y="4313520"/>
              <a:chExt cx="765000" cy="772200"/>
            </a:xfrm>
          </p:grpSpPr>
          <p:sp>
            <p:nvSpPr>
              <p:cNvPr id="752" name="未知"/>
              <p:cNvSpPr/>
              <p:nvPr/>
            </p:nvSpPr>
            <p:spPr>
              <a:xfrm rot="13688400">
                <a:off x="8118360" y="4451040"/>
                <a:ext cx="59220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 rot="15733200">
                <a:off x="8041680" y="4676760"/>
                <a:ext cx="67716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 rot="16031400">
                <a:off x="8184240" y="4796640"/>
                <a:ext cx="5076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 rot="16031400">
                <a:off x="8227080" y="475128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7765920" y="4524480"/>
              <a:ext cx="698040" cy="618840"/>
              <a:chOff x="7765920" y="4524480"/>
              <a:chExt cx="698040" cy="618840"/>
            </a:xfrm>
          </p:grpSpPr>
          <p:sp>
            <p:nvSpPr>
              <p:cNvPr id="757" name="未知"/>
              <p:cNvSpPr/>
              <p:nvPr/>
            </p:nvSpPr>
            <p:spPr>
              <a:xfrm rot="10003800">
                <a:off x="7814880" y="458568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 rot="12048600">
                <a:off x="7761960" y="483804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 rot="12346800">
                <a:off x="7972560" y="48484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 rot="12346800">
                <a:off x="7948080" y="47930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8156880" y="5001840"/>
              <a:ext cx="769320" cy="770400"/>
              <a:chOff x="8156880" y="5001840"/>
              <a:chExt cx="769320" cy="770400"/>
            </a:xfrm>
          </p:grpSpPr>
          <p:sp>
            <p:nvSpPr>
              <p:cNvPr id="762" name="未知"/>
              <p:cNvSpPr/>
              <p:nvPr/>
            </p:nvSpPr>
            <p:spPr>
              <a:xfrm rot="2727600">
                <a:off x="8245080" y="5138640"/>
                <a:ext cx="59220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 rot="4772400">
                <a:off x="8236080" y="5350320"/>
                <a:ext cx="67680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 rot="5070600">
                <a:off x="8258040" y="524880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 rot="5070600">
                <a:off x="8217720" y="5309280"/>
                <a:ext cx="5076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7909920" y="5042160"/>
              <a:ext cx="534240" cy="623880"/>
              <a:chOff x="7909920" y="5042160"/>
              <a:chExt cx="534240" cy="623880"/>
            </a:xfrm>
          </p:grpSpPr>
          <p:sp>
            <p:nvSpPr>
              <p:cNvPr id="767" name="未知"/>
              <p:cNvSpPr/>
              <p:nvPr/>
            </p:nvSpPr>
            <p:spPr>
              <a:xfrm rot="5628000">
                <a:off x="7880760" y="5105880"/>
                <a:ext cx="59220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 rot="7672800">
                <a:off x="7866720" y="5345640"/>
                <a:ext cx="67680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 rot="7971000">
                <a:off x="7991280" y="52336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 rot="7971000">
                <a:off x="7923960" y="5245920"/>
                <a:ext cx="5076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759800" y="4815720"/>
              <a:ext cx="702360" cy="747720"/>
              <a:chOff x="7759800" y="4815720"/>
              <a:chExt cx="702360" cy="747720"/>
            </a:xfrm>
          </p:grpSpPr>
          <p:sp>
            <p:nvSpPr>
              <p:cNvPr id="772" name="未知"/>
              <p:cNvSpPr/>
              <p:nvPr/>
            </p:nvSpPr>
            <p:spPr>
              <a:xfrm rot="6925800">
                <a:off x="7814880" y="494100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 rot="8970600">
                <a:off x="7791480" y="518940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 rot="9268800">
                <a:off x="7957080" y="510084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 rot="9268800">
                <a:off x="7893000" y="508788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8449920" y="4868640"/>
              <a:ext cx="711360" cy="640800"/>
              <a:chOff x="8449920" y="4868640"/>
              <a:chExt cx="711360" cy="640800"/>
            </a:xfrm>
          </p:grpSpPr>
          <p:sp>
            <p:nvSpPr>
              <p:cNvPr id="777" name="未知"/>
              <p:cNvSpPr/>
              <p:nvPr/>
            </p:nvSpPr>
            <p:spPr>
              <a:xfrm rot="20636400">
                <a:off x="8512200" y="4940640"/>
                <a:ext cx="59184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 rot="1081200">
                <a:off x="8479080" y="512676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未知"/>
              <p:cNvSpPr/>
              <p:nvPr/>
            </p:nvSpPr>
            <p:spPr>
              <a:xfrm rot="1379400">
                <a:off x="8438040" y="513756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 rot="1379400">
                <a:off x="8465760" y="520560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302680" y="5021280"/>
              <a:ext cx="687600" cy="604440"/>
              <a:chOff x="8302680" y="5021280"/>
              <a:chExt cx="687600" cy="604440"/>
            </a:xfrm>
          </p:grpSpPr>
          <p:sp>
            <p:nvSpPr>
              <p:cNvPr id="782" name="未知"/>
              <p:cNvSpPr/>
              <p:nvPr/>
            </p:nvSpPr>
            <p:spPr>
              <a:xfrm rot="805800">
                <a:off x="8350200" y="5083200"/>
                <a:ext cx="592200" cy="47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未知"/>
              <p:cNvSpPr/>
              <p:nvPr/>
            </p:nvSpPr>
            <p:spPr>
              <a:xfrm rot="2850600">
                <a:off x="8331480" y="5271840"/>
                <a:ext cx="67716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未知"/>
              <p:cNvSpPr/>
              <p:nvPr/>
            </p:nvSpPr>
            <p:spPr>
              <a:xfrm rot="3148800">
                <a:off x="8305920" y="5218920"/>
                <a:ext cx="50760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未知"/>
              <p:cNvSpPr/>
              <p:nvPr/>
            </p:nvSpPr>
            <p:spPr>
              <a:xfrm rot="3148800">
                <a:off x="8301600" y="5291640"/>
                <a:ext cx="5079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7756560" y="4664520"/>
              <a:ext cx="815040" cy="761040"/>
              <a:chOff x="7756560" y="4664520"/>
              <a:chExt cx="815040" cy="761040"/>
            </a:xfrm>
          </p:grpSpPr>
          <p:sp>
            <p:nvSpPr>
              <p:cNvPr id="787" name="未知"/>
              <p:cNvSpPr/>
              <p:nvPr/>
            </p:nvSpPr>
            <p:spPr>
              <a:xfrm rot="7717200">
                <a:off x="7969680" y="4678560"/>
                <a:ext cx="388800" cy="732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 rot="9762000">
                <a:off x="7956000" y="5051160"/>
                <a:ext cx="444240" cy="84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 rot="10060200">
                <a:off x="8067960" y="4970520"/>
                <a:ext cx="33336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未知"/>
              <p:cNvSpPr/>
              <p:nvPr/>
            </p:nvSpPr>
            <p:spPr>
              <a:xfrm rot="10060200">
                <a:off x="8021880" y="4922640"/>
                <a:ext cx="33336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8160840" y="4411440"/>
              <a:ext cx="747360" cy="681480"/>
              <a:chOff x="8160840" y="4411440"/>
              <a:chExt cx="747360" cy="681480"/>
            </a:xfrm>
          </p:grpSpPr>
          <p:sp>
            <p:nvSpPr>
              <p:cNvPr id="792" name="未知"/>
              <p:cNvSpPr/>
              <p:nvPr/>
            </p:nvSpPr>
            <p:spPr>
              <a:xfrm rot="13857000">
                <a:off x="8392320" y="4385880"/>
                <a:ext cx="283680" cy="732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未知"/>
              <p:cNvSpPr/>
              <p:nvPr/>
            </p:nvSpPr>
            <p:spPr>
              <a:xfrm rot="15901800">
                <a:off x="8321760" y="4712040"/>
                <a:ext cx="324000" cy="84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未知"/>
              <p:cNvSpPr/>
              <p:nvPr/>
            </p:nvSpPr>
            <p:spPr>
              <a:xfrm rot="16200000">
                <a:off x="8439840" y="4777920"/>
                <a:ext cx="24300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 rot="16200000">
                <a:off x="8506440" y="4764240"/>
                <a:ext cx="24300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8008560" y="4537080"/>
              <a:ext cx="571680" cy="608400"/>
              <a:chOff x="8008560" y="4537080"/>
              <a:chExt cx="571680" cy="608400"/>
            </a:xfrm>
          </p:grpSpPr>
          <p:sp>
            <p:nvSpPr>
              <p:cNvPr id="797" name="未知"/>
              <p:cNvSpPr/>
              <p:nvPr/>
            </p:nvSpPr>
            <p:spPr>
              <a:xfrm rot="11895600">
                <a:off x="8075160" y="4592880"/>
                <a:ext cx="43812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未知"/>
              <p:cNvSpPr/>
              <p:nvPr/>
            </p:nvSpPr>
            <p:spPr>
              <a:xfrm rot="13940400">
                <a:off x="8017200" y="4834080"/>
                <a:ext cx="50040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未知"/>
              <p:cNvSpPr/>
              <p:nvPr/>
            </p:nvSpPr>
            <p:spPr>
              <a:xfrm rot="14238600">
                <a:off x="8169480" y="4884840"/>
                <a:ext cx="37548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未知"/>
              <p:cNvSpPr/>
              <p:nvPr/>
            </p:nvSpPr>
            <p:spPr>
              <a:xfrm rot="14238600">
                <a:off x="8187480" y="4836240"/>
                <a:ext cx="3754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8012160" y="5103720"/>
              <a:ext cx="683280" cy="736920"/>
              <a:chOff x="8012160" y="5103720"/>
              <a:chExt cx="683280" cy="736920"/>
            </a:xfrm>
          </p:grpSpPr>
          <p:sp>
            <p:nvSpPr>
              <p:cNvPr id="802" name="未知"/>
              <p:cNvSpPr/>
              <p:nvPr/>
            </p:nvSpPr>
            <p:spPr>
              <a:xfrm rot="4063800">
                <a:off x="8057520" y="5224320"/>
                <a:ext cx="59220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 rot="6108000">
                <a:off x="8049240" y="5448960"/>
                <a:ext cx="67716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 rot="6406200">
                <a:off x="8117280" y="5331600"/>
                <a:ext cx="5076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未知"/>
              <p:cNvSpPr/>
              <p:nvPr/>
            </p:nvSpPr>
            <p:spPr>
              <a:xfrm rot="6406200">
                <a:off x="8059320" y="537336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8169840" y="4821120"/>
              <a:ext cx="507240" cy="507600"/>
              <a:chOff x="8169840" y="4821120"/>
              <a:chExt cx="507240" cy="507600"/>
            </a:xfrm>
          </p:grpSpPr>
          <p:sp>
            <p:nvSpPr>
              <p:cNvPr id="807" name=""/>
              <p:cNvSpPr/>
              <p:nvPr/>
            </p:nvSpPr>
            <p:spPr>
              <a:xfrm>
                <a:off x="8169840" y="4821120"/>
                <a:ext cx="507240" cy="507600"/>
              </a:xfrm>
              <a:custGeom>
                <a:avLst/>
                <a:gdLst>
                  <a:gd name="textAreaLeft" fmla="*/ 119160 w 507240"/>
                  <a:gd name="textAreaRight" fmla="*/ 388080 w 507240"/>
                  <a:gd name="textAreaTop" fmla="*/ 119160 h 507600"/>
                  <a:gd name="textAreaBottom" fmla="*/ 388440 h 50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258040" y="4895640"/>
                <a:ext cx="338400" cy="3380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7731720" y="2991960"/>
            <a:ext cx="1827360" cy="1924920"/>
            <a:chOff x="7731720" y="2991960"/>
            <a:chExt cx="1827360" cy="1924920"/>
          </a:xfrm>
        </p:grpSpPr>
        <p:grpSp>
          <p:nvGrpSpPr>
            <p:cNvPr id="810" name=""/>
            <p:cNvGrpSpPr/>
            <p:nvPr/>
          </p:nvGrpSpPr>
          <p:grpSpPr>
            <a:xfrm>
              <a:off x="8552520" y="3376800"/>
              <a:ext cx="986400" cy="991080"/>
              <a:chOff x="8552520" y="3376800"/>
              <a:chExt cx="986400" cy="991080"/>
            </a:xfrm>
          </p:grpSpPr>
          <p:sp>
            <p:nvSpPr>
              <p:cNvPr id="811" name="未知"/>
              <p:cNvSpPr/>
              <p:nvPr/>
            </p:nvSpPr>
            <p:spPr>
              <a:xfrm rot="18826800">
                <a:off x="8656200" y="3562200"/>
                <a:ext cx="778320" cy="620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 rot="20871600">
                <a:off x="8588880" y="379476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 rot="21169800">
                <a:off x="8559000" y="388800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未知"/>
              <p:cNvSpPr/>
              <p:nvPr/>
            </p:nvSpPr>
            <p:spPr>
              <a:xfrm rot="21169800">
                <a:off x="8630640" y="394452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8572680" y="3197160"/>
              <a:ext cx="788760" cy="904320"/>
              <a:chOff x="8572680" y="3197160"/>
              <a:chExt cx="788760" cy="904320"/>
            </a:xfrm>
          </p:grpSpPr>
          <p:sp>
            <p:nvSpPr>
              <p:cNvPr id="816" name="未知"/>
              <p:cNvSpPr/>
              <p:nvPr/>
            </p:nvSpPr>
            <p:spPr>
              <a:xfrm rot="17034600">
                <a:off x="8578080" y="3339360"/>
                <a:ext cx="77796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 rot="19078800">
                <a:off x="8490960" y="3582720"/>
                <a:ext cx="88920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未知"/>
              <p:cNvSpPr/>
              <p:nvPr/>
            </p:nvSpPr>
            <p:spPr>
              <a:xfrm rot="19377600">
                <a:off x="8521920" y="3735000"/>
                <a:ext cx="66672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未知"/>
              <p:cNvSpPr/>
              <p:nvPr/>
            </p:nvSpPr>
            <p:spPr>
              <a:xfrm rot="19377600">
                <a:off x="8607600" y="3749400"/>
                <a:ext cx="66708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8091000" y="2991960"/>
              <a:ext cx="979560" cy="986400"/>
              <a:chOff x="8091000" y="2991960"/>
              <a:chExt cx="979560" cy="986400"/>
            </a:xfrm>
          </p:grpSpPr>
          <p:sp>
            <p:nvSpPr>
              <p:cNvPr id="821" name="未知"/>
              <p:cNvSpPr/>
              <p:nvPr/>
            </p:nvSpPr>
            <p:spPr>
              <a:xfrm rot="13688400">
                <a:off x="8210880" y="3158640"/>
                <a:ext cx="73980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未知"/>
              <p:cNvSpPr/>
              <p:nvPr/>
            </p:nvSpPr>
            <p:spPr>
              <a:xfrm rot="15733200">
                <a:off x="8113320" y="345600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未知"/>
              <p:cNvSpPr/>
              <p:nvPr/>
            </p:nvSpPr>
            <p:spPr>
              <a:xfrm rot="16031400">
                <a:off x="8295120" y="360504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未知"/>
              <p:cNvSpPr/>
              <p:nvPr/>
            </p:nvSpPr>
            <p:spPr>
              <a:xfrm rot="16031400">
                <a:off x="8350920" y="354924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731720" y="3262680"/>
              <a:ext cx="912600" cy="781920"/>
              <a:chOff x="7731720" y="3262680"/>
              <a:chExt cx="912600" cy="781920"/>
            </a:xfrm>
          </p:grpSpPr>
          <p:sp>
            <p:nvSpPr>
              <p:cNvPr id="826" name="未知"/>
              <p:cNvSpPr/>
              <p:nvPr/>
            </p:nvSpPr>
            <p:spPr>
              <a:xfrm rot="10003800">
                <a:off x="7792560" y="334368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rot="12048600">
                <a:off x="7723800" y="365904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未知"/>
              <p:cNvSpPr/>
              <p:nvPr/>
            </p:nvSpPr>
            <p:spPr>
              <a:xfrm rot="12346800">
                <a:off x="7998840" y="367524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未知"/>
              <p:cNvSpPr/>
              <p:nvPr/>
            </p:nvSpPr>
            <p:spPr>
              <a:xfrm rot="12346800">
                <a:off x="7964640" y="360432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8256960" y="3852000"/>
              <a:ext cx="983520" cy="984960"/>
              <a:chOff x="8256960" y="3852000"/>
              <a:chExt cx="983520" cy="984960"/>
            </a:xfrm>
          </p:grpSpPr>
          <p:sp>
            <p:nvSpPr>
              <p:cNvPr id="831" name="未知"/>
              <p:cNvSpPr/>
              <p:nvPr/>
            </p:nvSpPr>
            <p:spPr>
              <a:xfrm rot="2727600">
                <a:off x="8378640" y="4017960"/>
                <a:ext cx="73944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 rot="4772400">
                <a:off x="8370000" y="4295880"/>
                <a:ext cx="84528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未知"/>
              <p:cNvSpPr/>
              <p:nvPr/>
            </p:nvSpPr>
            <p:spPr>
              <a:xfrm rot="5070600">
                <a:off x="8393760" y="4170600"/>
                <a:ext cx="6336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 rot="5070600">
                <a:off x="8340120" y="4246920"/>
                <a:ext cx="63396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7919640" y="3913560"/>
              <a:ext cx="699840" cy="780840"/>
              <a:chOff x="7919640" y="3913560"/>
              <a:chExt cx="699840" cy="780840"/>
            </a:xfrm>
          </p:grpSpPr>
          <p:sp>
            <p:nvSpPr>
              <p:cNvPr id="836" name="未知"/>
              <p:cNvSpPr/>
              <p:nvPr/>
            </p:nvSpPr>
            <p:spPr>
              <a:xfrm rot="5628000">
                <a:off x="7899480" y="3977640"/>
                <a:ext cx="73944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 rot="7672800">
                <a:off x="7883640" y="4291560"/>
                <a:ext cx="84528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 rot="7971000">
                <a:off x="8036640" y="4150440"/>
                <a:ext cx="6336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 rot="7971000">
                <a:off x="7950240" y="4164480"/>
                <a:ext cx="63396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7734600" y="3614040"/>
              <a:ext cx="894240" cy="969120"/>
              <a:chOff x="7734600" y="3614040"/>
              <a:chExt cx="894240" cy="969120"/>
            </a:xfrm>
          </p:grpSpPr>
          <p:sp>
            <p:nvSpPr>
              <p:cNvPr id="841" name="未知"/>
              <p:cNvSpPr/>
              <p:nvPr/>
            </p:nvSpPr>
            <p:spPr>
              <a:xfrm rot="6925800">
                <a:off x="7792560" y="378864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 rot="8970600">
                <a:off x="7760880" y="409896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 rot="9268800">
                <a:off x="7979760" y="398448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 rot="9268800">
                <a:off x="7896600" y="397044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8629200" y="3691800"/>
              <a:ext cx="929880" cy="811080"/>
              <a:chOff x="8629200" y="3691800"/>
              <a:chExt cx="929880" cy="811080"/>
            </a:xfrm>
          </p:grpSpPr>
          <p:sp>
            <p:nvSpPr>
              <p:cNvPr id="846" name="未知"/>
              <p:cNvSpPr/>
              <p:nvPr/>
            </p:nvSpPr>
            <p:spPr>
              <a:xfrm rot="20636400">
                <a:off x="8709840" y="378720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 rot="1081200">
                <a:off x="8665200" y="401976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 rot="1379400">
                <a:off x="8612640" y="403056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 rot="1379400">
                <a:off x="8650800" y="411660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8452800" y="3871440"/>
              <a:ext cx="866520" cy="786240"/>
              <a:chOff x="8452800" y="3871440"/>
              <a:chExt cx="866520" cy="786240"/>
            </a:xfrm>
          </p:grpSpPr>
          <p:sp>
            <p:nvSpPr>
              <p:cNvPr id="851" name="未知"/>
              <p:cNvSpPr/>
              <p:nvPr/>
            </p:nvSpPr>
            <p:spPr>
              <a:xfrm rot="805800">
                <a:off x="8516160" y="3948480"/>
                <a:ext cx="739800" cy="631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 rot="2850600">
                <a:off x="8494200" y="4196880"/>
                <a:ext cx="8456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未知"/>
              <p:cNvSpPr/>
              <p:nvPr/>
            </p:nvSpPr>
            <p:spPr>
              <a:xfrm rot="3148800">
                <a:off x="8460000" y="4133520"/>
                <a:ext cx="6339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未知"/>
              <p:cNvSpPr/>
              <p:nvPr/>
            </p:nvSpPr>
            <p:spPr>
              <a:xfrm rot="3148800">
                <a:off x="8451720" y="4226760"/>
                <a:ext cx="6343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7734240" y="3431880"/>
              <a:ext cx="1034280" cy="970920"/>
              <a:chOff x="7734240" y="3431880"/>
              <a:chExt cx="1034280" cy="970920"/>
            </a:xfrm>
          </p:grpSpPr>
          <p:sp>
            <p:nvSpPr>
              <p:cNvPr id="856" name="未知"/>
              <p:cNvSpPr/>
              <p:nvPr/>
            </p:nvSpPr>
            <p:spPr>
              <a:xfrm rot="7717200">
                <a:off x="7995600" y="3459600"/>
                <a:ext cx="511200" cy="915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未知"/>
              <p:cNvSpPr/>
              <p:nvPr/>
            </p:nvSpPr>
            <p:spPr>
              <a:xfrm rot="9762000">
                <a:off x="7976880" y="3924720"/>
                <a:ext cx="584280" cy="10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未知"/>
              <p:cNvSpPr/>
              <p:nvPr/>
            </p:nvSpPr>
            <p:spPr>
              <a:xfrm rot="10060200">
                <a:off x="8125560" y="3823920"/>
                <a:ext cx="438120" cy="77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未知"/>
              <p:cNvSpPr/>
              <p:nvPr/>
            </p:nvSpPr>
            <p:spPr>
              <a:xfrm rot="10060200">
                <a:off x="8065440" y="3763440"/>
                <a:ext cx="4384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8253360" y="3110040"/>
              <a:ext cx="971280" cy="882000"/>
              <a:chOff x="8253360" y="3110040"/>
              <a:chExt cx="971280" cy="882000"/>
            </a:xfrm>
          </p:grpSpPr>
          <p:sp>
            <p:nvSpPr>
              <p:cNvPr id="861" name="未知"/>
              <p:cNvSpPr/>
              <p:nvPr/>
            </p:nvSpPr>
            <p:spPr>
              <a:xfrm rot="13857000">
                <a:off x="8561880" y="3069360"/>
                <a:ext cx="354240" cy="963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 rot="15901800">
                <a:off x="8469720" y="3498480"/>
                <a:ext cx="404640" cy="11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未知"/>
              <p:cNvSpPr/>
              <p:nvPr/>
            </p:nvSpPr>
            <p:spPr>
              <a:xfrm rot="16200000">
                <a:off x="8622360" y="3581280"/>
                <a:ext cx="303480" cy="82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 rot="16200000">
                <a:off x="8710200" y="3565440"/>
                <a:ext cx="3034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8061840" y="3267000"/>
              <a:ext cx="723600" cy="790920"/>
              <a:chOff x="8061840" y="3267000"/>
              <a:chExt cx="723600" cy="790920"/>
            </a:xfrm>
          </p:grpSpPr>
          <p:sp>
            <p:nvSpPr>
              <p:cNvPr id="866" name="未知"/>
              <p:cNvSpPr/>
              <p:nvPr/>
            </p:nvSpPr>
            <p:spPr>
              <a:xfrm rot="11895600">
                <a:off x="8150040" y="3336120"/>
                <a:ext cx="54684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 rot="13940400">
                <a:off x="8075880" y="3652560"/>
                <a:ext cx="62496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未知"/>
              <p:cNvSpPr/>
              <p:nvPr/>
            </p:nvSpPr>
            <p:spPr>
              <a:xfrm rot="14238600">
                <a:off x="8268480" y="3714120"/>
                <a:ext cx="46872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 rot="14238600">
                <a:off x="8294040" y="3652560"/>
                <a:ext cx="4687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8059680" y="3985200"/>
              <a:ext cx="884160" cy="931680"/>
              <a:chOff x="8059680" y="3985200"/>
              <a:chExt cx="884160" cy="931680"/>
            </a:xfrm>
          </p:grpSpPr>
          <p:sp>
            <p:nvSpPr>
              <p:cNvPr id="871" name="未知"/>
              <p:cNvSpPr/>
              <p:nvPr/>
            </p:nvSpPr>
            <p:spPr>
              <a:xfrm rot="4063800">
                <a:off x="8131680" y="4124880"/>
                <a:ext cx="73980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 rot="6108000">
                <a:off x="8123400" y="442008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 rot="6406200">
                <a:off x="8204400" y="427320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 rot="6406200">
                <a:off x="8129520" y="432468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8259120" y="3637440"/>
              <a:ext cx="667080" cy="633960"/>
              <a:chOff x="8259120" y="3637440"/>
              <a:chExt cx="667080" cy="633960"/>
            </a:xfrm>
          </p:grpSpPr>
          <p:sp>
            <p:nvSpPr>
              <p:cNvPr id="876" name=""/>
              <p:cNvSpPr/>
              <p:nvPr/>
            </p:nvSpPr>
            <p:spPr>
              <a:xfrm>
                <a:off x="8259120" y="3637440"/>
                <a:ext cx="667080" cy="633960"/>
              </a:xfrm>
              <a:custGeom>
                <a:avLst/>
                <a:gdLst>
                  <a:gd name="textAreaLeft" fmla="*/ 156600 w 667080"/>
                  <a:gd name="textAreaRight" fmla="*/ 510480 w 667080"/>
                  <a:gd name="textAreaTop" fmla="*/ 148680 h 633960"/>
                  <a:gd name="textAreaBottom" fmla="*/ 485280 h 63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75040" y="3730680"/>
                <a:ext cx="444960" cy="42228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-87480" y="3068640"/>
            <a:ext cx="8928360" cy="576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8408880" y="3218760"/>
            <a:ext cx="252360" cy="3690000"/>
            <a:chOff x="8408880" y="3218760"/>
            <a:chExt cx="252360" cy="3690000"/>
          </a:xfrm>
        </p:grpSpPr>
        <p:sp>
          <p:nvSpPr>
            <p:cNvPr id="916" name=""/>
            <p:cNvSpPr/>
            <p:nvPr/>
          </p:nvSpPr>
          <p:spPr>
            <a:xfrm rot="16215000">
              <a:off x="8312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08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8193240" y="3218760"/>
            <a:ext cx="252360" cy="3690000"/>
            <a:chOff x="8193240" y="3218760"/>
            <a:chExt cx="252360" cy="3690000"/>
          </a:xfrm>
        </p:grpSpPr>
        <p:sp>
          <p:nvSpPr>
            <p:cNvPr id="919" name=""/>
            <p:cNvSpPr/>
            <p:nvPr/>
          </p:nvSpPr>
          <p:spPr>
            <a:xfrm rot="16215000">
              <a:off x="8097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193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7977240" y="3218760"/>
            <a:ext cx="252360" cy="3690000"/>
            <a:chOff x="7977240" y="3218760"/>
            <a:chExt cx="252360" cy="3690000"/>
          </a:xfrm>
        </p:grpSpPr>
        <p:sp>
          <p:nvSpPr>
            <p:cNvPr id="922" name=""/>
            <p:cNvSpPr/>
            <p:nvPr/>
          </p:nvSpPr>
          <p:spPr>
            <a:xfrm rot="16215000">
              <a:off x="7881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77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7759800" y="3218760"/>
            <a:ext cx="252360" cy="3690000"/>
            <a:chOff x="7759800" y="3218760"/>
            <a:chExt cx="252360" cy="3690000"/>
          </a:xfrm>
        </p:grpSpPr>
        <p:sp>
          <p:nvSpPr>
            <p:cNvPr id="925" name=""/>
            <p:cNvSpPr/>
            <p:nvPr/>
          </p:nvSpPr>
          <p:spPr>
            <a:xfrm rot="16215000">
              <a:off x="7663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759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543800" y="3218760"/>
            <a:ext cx="252360" cy="3690000"/>
            <a:chOff x="7543800" y="3218760"/>
            <a:chExt cx="252360" cy="3690000"/>
          </a:xfrm>
        </p:grpSpPr>
        <p:sp>
          <p:nvSpPr>
            <p:cNvPr id="928" name=""/>
            <p:cNvSpPr/>
            <p:nvPr/>
          </p:nvSpPr>
          <p:spPr>
            <a:xfrm rot="16215000">
              <a:off x="7447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43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27800" y="3218760"/>
            <a:ext cx="252360" cy="3690000"/>
            <a:chOff x="7327800" y="3218760"/>
            <a:chExt cx="252360" cy="3690000"/>
          </a:xfrm>
        </p:grpSpPr>
        <p:sp>
          <p:nvSpPr>
            <p:cNvPr id="931" name=""/>
            <p:cNvSpPr/>
            <p:nvPr/>
          </p:nvSpPr>
          <p:spPr>
            <a:xfrm rot="16215000">
              <a:off x="7231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327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7112160" y="3218760"/>
            <a:ext cx="252360" cy="3690000"/>
            <a:chOff x="7112160" y="3218760"/>
            <a:chExt cx="252360" cy="3690000"/>
          </a:xfrm>
        </p:grpSpPr>
        <p:sp>
          <p:nvSpPr>
            <p:cNvPr id="934" name=""/>
            <p:cNvSpPr/>
            <p:nvPr/>
          </p:nvSpPr>
          <p:spPr>
            <a:xfrm rot="16215000">
              <a:off x="7016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12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6896160" y="3218760"/>
            <a:ext cx="252360" cy="3690000"/>
            <a:chOff x="6896160" y="3218760"/>
            <a:chExt cx="252360" cy="3690000"/>
          </a:xfrm>
        </p:grpSpPr>
        <p:sp>
          <p:nvSpPr>
            <p:cNvPr id="937" name=""/>
            <p:cNvSpPr/>
            <p:nvPr/>
          </p:nvSpPr>
          <p:spPr>
            <a:xfrm rot="16215000">
              <a:off x="6800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96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680160" y="3218760"/>
            <a:ext cx="252360" cy="3690000"/>
            <a:chOff x="6680160" y="3218760"/>
            <a:chExt cx="252360" cy="3690000"/>
          </a:xfrm>
        </p:grpSpPr>
        <p:sp>
          <p:nvSpPr>
            <p:cNvPr id="940" name=""/>
            <p:cNvSpPr/>
            <p:nvPr/>
          </p:nvSpPr>
          <p:spPr>
            <a:xfrm rot="16215000">
              <a:off x="6584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0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6442200" y="3218760"/>
            <a:ext cx="252360" cy="3690000"/>
            <a:chOff x="6442200" y="3218760"/>
            <a:chExt cx="252360" cy="3690000"/>
          </a:xfrm>
        </p:grpSpPr>
        <p:sp>
          <p:nvSpPr>
            <p:cNvPr id="943" name=""/>
            <p:cNvSpPr/>
            <p:nvPr/>
          </p:nvSpPr>
          <p:spPr>
            <a:xfrm rot="16215000">
              <a:off x="63460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22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189840" y="3218760"/>
            <a:ext cx="252360" cy="3690000"/>
            <a:chOff x="6189840" y="3218760"/>
            <a:chExt cx="252360" cy="3690000"/>
          </a:xfrm>
        </p:grpSpPr>
        <p:sp>
          <p:nvSpPr>
            <p:cNvPr id="946" name=""/>
            <p:cNvSpPr/>
            <p:nvPr/>
          </p:nvSpPr>
          <p:spPr>
            <a:xfrm rot="16215000">
              <a:off x="60937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898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937120" y="3218760"/>
            <a:ext cx="311040" cy="3690000"/>
            <a:chOff x="5937120" y="3218760"/>
            <a:chExt cx="311040" cy="3690000"/>
          </a:xfrm>
        </p:grpSpPr>
        <p:sp>
          <p:nvSpPr>
            <p:cNvPr id="949" name=""/>
            <p:cNvSpPr/>
            <p:nvPr/>
          </p:nvSpPr>
          <p:spPr>
            <a:xfrm rot="16215000">
              <a:off x="5860440" y="3311280"/>
              <a:ext cx="360360" cy="1760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7120" y="3573360"/>
              <a:ext cx="31104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695920" y="3218760"/>
            <a:ext cx="252360" cy="3690000"/>
            <a:chOff x="5695920" y="3218760"/>
            <a:chExt cx="252360" cy="3690000"/>
          </a:xfrm>
        </p:grpSpPr>
        <p:sp>
          <p:nvSpPr>
            <p:cNvPr id="952" name=""/>
            <p:cNvSpPr/>
            <p:nvPr/>
          </p:nvSpPr>
          <p:spPr>
            <a:xfrm rot="16215000">
              <a:off x="55998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959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446800" y="3218760"/>
            <a:ext cx="296280" cy="3690000"/>
            <a:chOff x="5446800" y="3218760"/>
            <a:chExt cx="296280" cy="3690000"/>
          </a:xfrm>
        </p:grpSpPr>
        <p:sp>
          <p:nvSpPr>
            <p:cNvPr id="955" name=""/>
            <p:cNvSpPr/>
            <p:nvPr/>
          </p:nvSpPr>
          <p:spPr>
            <a:xfrm rot="16215000">
              <a:off x="5365080" y="3315240"/>
              <a:ext cx="360360" cy="1677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46800" y="3573360"/>
              <a:ext cx="29628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5213520" y="3218760"/>
            <a:ext cx="313920" cy="3690000"/>
            <a:chOff x="5213520" y="3218760"/>
            <a:chExt cx="313920" cy="3690000"/>
          </a:xfrm>
        </p:grpSpPr>
        <p:sp>
          <p:nvSpPr>
            <p:cNvPr id="958" name=""/>
            <p:cNvSpPr/>
            <p:nvPr/>
          </p:nvSpPr>
          <p:spPr>
            <a:xfrm rot="16215000">
              <a:off x="5137560" y="3310200"/>
              <a:ext cx="360360" cy="177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13520" y="3573360"/>
              <a:ext cx="31392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959360" y="3218760"/>
            <a:ext cx="352080" cy="3690000"/>
            <a:chOff x="4959360" y="3218760"/>
            <a:chExt cx="352080" cy="3690000"/>
          </a:xfrm>
        </p:grpSpPr>
        <p:sp>
          <p:nvSpPr>
            <p:cNvPr id="961" name=""/>
            <p:cNvSpPr/>
            <p:nvPr/>
          </p:nvSpPr>
          <p:spPr>
            <a:xfrm rot="16215000">
              <a:off x="4896000" y="3299400"/>
              <a:ext cx="360360" cy="1994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59360" y="3573360"/>
              <a:ext cx="35208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710240" y="3218760"/>
            <a:ext cx="252360" cy="3690000"/>
            <a:chOff x="4710240" y="3218760"/>
            <a:chExt cx="252360" cy="3690000"/>
          </a:xfrm>
        </p:grpSpPr>
        <p:sp>
          <p:nvSpPr>
            <p:cNvPr id="964" name=""/>
            <p:cNvSpPr/>
            <p:nvPr/>
          </p:nvSpPr>
          <p:spPr>
            <a:xfrm rot="16215000">
              <a:off x="4614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10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4457880" y="3218760"/>
            <a:ext cx="252360" cy="3690000"/>
            <a:chOff x="4457880" y="3218760"/>
            <a:chExt cx="252360" cy="3690000"/>
          </a:xfrm>
        </p:grpSpPr>
        <p:sp>
          <p:nvSpPr>
            <p:cNvPr id="967" name=""/>
            <p:cNvSpPr/>
            <p:nvPr/>
          </p:nvSpPr>
          <p:spPr>
            <a:xfrm rot="16215000">
              <a:off x="4361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57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4205160" y="3218760"/>
            <a:ext cx="252360" cy="3690000"/>
            <a:chOff x="4205160" y="3218760"/>
            <a:chExt cx="252360" cy="3690000"/>
          </a:xfrm>
        </p:grpSpPr>
        <p:sp>
          <p:nvSpPr>
            <p:cNvPr id="970" name=""/>
            <p:cNvSpPr/>
            <p:nvPr/>
          </p:nvSpPr>
          <p:spPr>
            <a:xfrm rot="16215000">
              <a:off x="4109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05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63960" y="3218760"/>
            <a:ext cx="252360" cy="3690000"/>
            <a:chOff x="3963960" y="3218760"/>
            <a:chExt cx="252360" cy="3690000"/>
          </a:xfrm>
        </p:grpSpPr>
        <p:sp>
          <p:nvSpPr>
            <p:cNvPr id="973" name=""/>
            <p:cNvSpPr/>
            <p:nvPr/>
          </p:nvSpPr>
          <p:spPr>
            <a:xfrm rot="16215000">
              <a:off x="38678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639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714840" y="3218760"/>
            <a:ext cx="252360" cy="3690000"/>
            <a:chOff x="3714840" y="3218760"/>
            <a:chExt cx="252360" cy="3690000"/>
          </a:xfrm>
        </p:grpSpPr>
        <p:sp>
          <p:nvSpPr>
            <p:cNvPr id="976" name=""/>
            <p:cNvSpPr/>
            <p:nvPr/>
          </p:nvSpPr>
          <p:spPr>
            <a:xfrm rot="16215000">
              <a:off x="36187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148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463920" y="3218760"/>
            <a:ext cx="252360" cy="3690000"/>
            <a:chOff x="3463920" y="3218760"/>
            <a:chExt cx="252360" cy="3690000"/>
          </a:xfrm>
        </p:grpSpPr>
        <p:sp>
          <p:nvSpPr>
            <p:cNvPr id="979" name=""/>
            <p:cNvSpPr/>
            <p:nvPr/>
          </p:nvSpPr>
          <p:spPr>
            <a:xfrm rot="16215000">
              <a:off x="33678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639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222720" y="3218760"/>
            <a:ext cx="252360" cy="3690000"/>
            <a:chOff x="3222720" y="3218760"/>
            <a:chExt cx="252360" cy="3690000"/>
          </a:xfrm>
        </p:grpSpPr>
        <p:sp>
          <p:nvSpPr>
            <p:cNvPr id="982" name=""/>
            <p:cNvSpPr/>
            <p:nvPr/>
          </p:nvSpPr>
          <p:spPr>
            <a:xfrm rot="16215000">
              <a:off x="31266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227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973240" y="3218760"/>
            <a:ext cx="252360" cy="3690000"/>
            <a:chOff x="2973240" y="3218760"/>
            <a:chExt cx="252360" cy="3690000"/>
          </a:xfrm>
        </p:grpSpPr>
        <p:sp>
          <p:nvSpPr>
            <p:cNvPr id="985" name=""/>
            <p:cNvSpPr/>
            <p:nvPr/>
          </p:nvSpPr>
          <p:spPr>
            <a:xfrm rot="16215000">
              <a:off x="28771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732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2720880" y="3218760"/>
            <a:ext cx="252360" cy="3690000"/>
            <a:chOff x="2720880" y="3218760"/>
            <a:chExt cx="252360" cy="3690000"/>
          </a:xfrm>
        </p:grpSpPr>
        <p:sp>
          <p:nvSpPr>
            <p:cNvPr id="988" name=""/>
            <p:cNvSpPr/>
            <p:nvPr/>
          </p:nvSpPr>
          <p:spPr>
            <a:xfrm rot="16215000">
              <a:off x="2624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20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468520" y="3218760"/>
            <a:ext cx="252360" cy="3690000"/>
            <a:chOff x="2468520" y="3218760"/>
            <a:chExt cx="252360" cy="3690000"/>
          </a:xfrm>
        </p:grpSpPr>
        <p:sp>
          <p:nvSpPr>
            <p:cNvPr id="991" name=""/>
            <p:cNvSpPr/>
            <p:nvPr/>
          </p:nvSpPr>
          <p:spPr>
            <a:xfrm rot="16215000">
              <a:off x="23724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685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227320" y="3218760"/>
            <a:ext cx="252360" cy="3690000"/>
            <a:chOff x="2227320" y="3218760"/>
            <a:chExt cx="252360" cy="3690000"/>
          </a:xfrm>
        </p:grpSpPr>
        <p:sp>
          <p:nvSpPr>
            <p:cNvPr id="994" name=""/>
            <p:cNvSpPr/>
            <p:nvPr/>
          </p:nvSpPr>
          <p:spPr>
            <a:xfrm rot="16215000">
              <a:off x="21312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273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1978200" y="3218760"/>
            <a:ext cx="252360" cy="3690000"/>
            <a:chOff x="1978200" y="3218760"/>
            <a:chExt cx="252360" cy="3690000"/>
          </a:xfrm>
        </p:grpSpPr>
        <p:sp>
          <p:nvSpPr>
            <p:cNvPr id="997" name=""/>
            <p:cNvSpPr/>
            <p:nvPr/>
          </p:nvSpPr>
          <p:spPr>
            <a:xfrm rot="16215000">
              <a:off x="18820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782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727280" y="3218760"/>
            <a:ext cx="252360" cy="3690000"/>
            <a:chOff x="1727280" y="3218760"/>
            <a:chExt cx="252360" cy="3690000"/>
          </a:xfrm>
        </p:grpSpPr>
        <p:sp>
          <p:nvSpPr>
            <p:cNvPr id="1000" name=""/>
            <p:cNvSpPr/>
            <p:nvPr/>
          </p:nvSpPr>
          <p:spPr>
            <a:xfrm rot="16215000">
              <a:off x="16311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272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1484280" y="3218760"/>
            <a:ext cx="252360" cy="3690000"/>
            <a:chOff x="1484280" y="3218760"/>
            <a:chExt cx="252360" cy="3690000"/>
          </a:xfrm>
        </p:grpSpPr>
        <p:sp>
          <p:nvSpPr>
            <p:cNvPr id="1003" name=""/>
            <p:cNvSpPr/>
            <p:nvPr/>
          </p:nvSpPr>
          <p:spPr>
            <a:xfrm rot="16215000">
              <a:off x="13881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4842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1235160" y="3218760"/>
            <a:ext cx="252360" cy="3690000"/>
            <a:chOff x="1235160" y="3218760"/>
            <a:chExt cx="252360" cy="3690000"/>
          </a:xfrm>
        </p:grpSpPr>
        <p:sp>
          <p:nvSpPr>
            <p:cNvPr id="1006" name=""/>
            <p:cNvSpPr/>
            <p:nvPr/>
          </p:nvSpPr>
          <p:spPr>
            <a:xfrm rot="16215000">
              <a:off x="1139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35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982800" y="3218760"/>
            <a:ext cx="252360" cy="3690000"/>
            <a:chOff x="982800" y="3218760"/>
            <a:chExt cx="252360" cy="3690000"/>
          </a:xfrm>
        </p:grpSpPr>
        <p:sp>
          <p:nvSpPr>
            <p:cNvPr id="1009" name=""/>
            <p:cNvSpPr/>
            <p:nvPr/>
          </p:nvSpPr>
          <p:spPr>
            <a:xfrm rot="16215000">
              <a:off x="886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82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30080" y="3218760"/>
            <a:ext cx="252360" cy="3690000"/>
            <a:chOff x="730080" y="3218760"/>
            <a:chExt cx="252360" cy="3690000"/>
          </a:xfrm>
        </p:grpSpPr>
        <p:sp>
          <p:nvSpPr>
            <p:cNvPr id="1012" name=""/>
            <p:cNvSpPr/>
            <p:nvPr/>
          </p:nvSpPr>
          <p:spPr>
            <a:xfrm rot="16215000">
              <a:off x="633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488880" y="3218760"/>
            <a:ext cx="252360" cy="3690000"/>
            <a:chOff x="488880" y="3218760"/>
            <a:chExt cx="252360" cy="3690000"/>
          </a:xfrm>
        </p:grpSpPr>
        <p:sp>
          <p:nvSpPr>
            <p:cNvPr id="1015" name=""/>
            <p:cNvSpPr/>
            <p:nvPr/>
          </p:nvSpPr>
          <p:spPr>
            <a:xfrm rot="16215000">
              <a:off x="3927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888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39760" y="3218760"/>
            <a:ext cx="252360" cy="3690000"/>
            <a:chOff x="239760" y="3218760"/>
            <a:chExt cx="252360" cy="3690000"/>
          </a:xfrm>
        </p:grpSpPr>
        <p:sp>
          <p:nvSpPr>
            <p:cNvPr id="1018" name=""/>
            <p:cNvSpPr/>
            <p:nvPr/>
          </p:nvSpPr>
          <p:spPr>
            <a:xfrm rot="16215000">
              <a:off x="1436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97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-9360" y="3218760"/>
            <a:ext cx="250560" cy="3690000"/>
            <a:chOff x="-9360" y="3218760"/>
            <a:chExt cx="250560" cy="3690000"/>
          </a:xfrm>
        </p:grpSpPr>
        <p:sp>
          <p:nvSpPr>
            <p:cNvPr id="1021" name=""/>
            <p:cNvSpPr/>
            <p:nvPr/>
          </p:nvSpPr>
          <p:spPr>
            <a:xfrm rot="16215000">
              <a:off x="-106200" y="3328200"/>
              <a:ext cx="360360" cy="141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-9360" y="3573360"/>
              <a:ext cx="2505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624880" y="3411360"/>
            <a:ext cx="366120" cy="3598560"/>
            <a:chOff x="8624880" y="3411360"/>
            <a:chExt cx="366120" cy="3598560"/>
          </a:xfrm>
        </p:grpSpPr>
        <p:sp>
          <p:nvSpPr>
            <p:cNvPr id="1024" name=""/>
            <p:cNvSpPr/>
            <p:nvPr/>
          </p:nvSpPr>
          <p:spPr>
            <a:xfrm rot="5400000">
              <a:off x="8662320" y="3376440"/>
              <a:ext cx="2937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624880" y="3649680"/>
              <a:ext cx="363240" cy="33602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8724600" y="-183960"/>
            <a:ext cx="252360" cy="3687480"/>
            <a:chOff x="8724600" y="-183960"/>
            <a:chExt cx="252360" cy="3687480"/>
          </a:xfrm>
        </p:grpSpPr>
        <p:sp>
          <p:nvSpPr>
            <p:cNvPr id="1027" name=""/>
            <p:cNvSpPr/>
            <p:nvPr/>
          </p:nvSpPr>
          <p:spPr>
            <a:xfrm rot="5415000">
              <a:off x="87130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0800000">
              <a:off x="87246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8483400" y="-183960"/>
            <a:ext cx="252360" cy="3687480"/>
            <a:chOff x="8483400" y="-183960"/>
            <a:chExt cx="252360" cy="3687480"/>
          </a:xfrm>
        </p:grpSpPr>
        <p:sp>
          <p:nvSpPr>
            <p:cNvPr id="1030" name=""/>
            <p:cNvSpPr/>
            <p:nvPr/>
          </p:nvSpPr>
          <p:spPr>
            <a:xfrm rot="5415000">
              <a:off x="8471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0800000">
              <a:off x="8483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8233920" y="-183960"/>
            <a:ext cx="252360" cy="3687480"/>
            <a:chOff x="8233920" y="-183960"/>
            <a:chExt cx="252360" cy="3687480"/>
          </a:xfrm>
        </p:grpSpPr>
        <p:sp>
          <p:nvSpPr>
            <p:cNvPr id="1033" name=""/>
            <p:cNvSpPr/>
            <p:nvPr/>
          </p:nvSpPr>
          <p:spPr>
            <a:xfrm rot="5415000">
              <a:off x="8222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8233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7981560" y="-183960"/>
            <a:ext cx="252360" cy="3687480"/>
            <a:chOff x="7981560" y="-183960"/>
            <a:chExt cx="252360" cy="3687480"/>
          </a:xfrm>
        </p:grpSpPr>
        <p:sp>
          <p:nvSpPr>
            <p:cNvPr id="1036" name=""/>
            <p:cNvSpPr/>
            <p:nvPr/>
          </p:nvSpPr>
          <p:spPr>
            <a:xfrm rot="5415000">
              <a:off x="7970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0800000">
              <a:off x="7981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729200" y="-183960"/>
            <a:ext cx="252360" cy="3687480"/>
            <a:chOff x="7729200" y="-183960"/>
            <a:chExt cx="252360" cy="3687480"/>
          </a:xfrm>
        </p:grpSpPr>
        <p:sp>
          <p:nvSpPr>
            <p:cNvPr id="1039" name=""/>
            <p:cNvSpPr/>
            <p:nvPr/>
          </p:nvSpPr>
          <p:spPr>
            <a:xfrm rot="5415000">
              <a:off x="77176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0800000">
              <a:off x="77292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7488000" y="-183960"/>
            <a:ext cx="252360" cy="3687480"/>
            <a:chOff x="7488000" y="-183960"/>
            <a:chExt cx="252360" cy="3687480"/>
          </a:xfrm>
        </p:grpSpPr>
        <p:sp>
          <p:nvSpPr>
            <p:cNvPr id="1042" name=""/>
            <p:cNvSpPr/>
            <p:nvPr/>
          </p:nvSpPr>
          <p:spPr>
            <a:xfrm rot="5415000">
              <a:off x="7476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0800000">
              <a:off x="7488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256160" y="-169560"/>
            <a:ext cx="252360" cy="3687840"/>
            <a:chOff x="7256160" y="-169560"/>
            <a:chExt cx="252360" cy="3687840"/>
          </a:xfrm>
        </p:grpSpPr>
        <p:sp>
          <p:nvSpPr>
            <p:cNvPr id="1045" name=""/>
            <p:cNvSpPr/>
            <p:nvPr/>
          </p:nvSpPr>
          <p:spPr>
            <a:xfrm rot="5415000">
              <a:off x="7244280" y="326628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0800000">
              <a:off x="7256160" y="-1695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969600" y="-169560"/>
            <a:ext cx="286920" cy="3687840"/>
            <a:chOff x="6969600" y="-169560"/>
            <a:chExt cx="286920" cy="3687840"/>
          </a:xfrm>
        </p:grpSpPr>
        <p:sp>
          <p:nvSpPr>
            <p:cNvPr id="1048" name=""/>
            <p:cNvSpPr/>
            <p:nvPr/>
          </p:nvSpPr>
          <p:spPr>
            <a:xfrm rot="5415000">
              <a:off x="6981120" y="3256560"/>
              <a:ext cx="360000" cy="1623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0800000">
              <a:off x="6969600" y="-169560"/>
              <a:ext cx="2869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733800" y="-183960"/>
            <a:ext cx="252360" cy="3687480"/>
            <a:chOff x="6733800" y="-183960"/>
            <a:chExt cx="252360" cy="3687480"/>
          </a:xfrm>
        </p:grpSpPr>
        <p:sp>
          <p:nvSpPr>
            <p:cNvPr id="1051" name=""/>
            <p:cNvSpPr/>
            <p:nvPr/>
          </p:nvSpPr>
          <p:spPr>
            <a:xfrm rot="5415000">
              <a:off x="6722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6733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6484680" y="-183960"/>
            <a:ext cx="252360" cy="3687480"/>
            <a:chOff x="6484680" y="-183960"/>
            <a:chExt cx="252360" cy="3687480"/>
          </a:xfrm>
        </p:grpSpPr>
        <p:sp>
          <p:nvSpPr>
            <p:cNvPr id="1054" name=""/>
            <p:cNvSpPr/>
            <p:nvPr/>
          </p:nvSpPr>
          <p:spPr>
            <a:xfrm rot="5415000">
              <a:off x="64731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64846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232320" y="-183960"/>
            <a:ext cx="252360" cy="3687480"/>
            <a:chOff x="6232320" y="-183960"/>
            <a:chExt cx="252360" cy="3687480"/>
          </a:xfrm>
        </p:grpSpPr>
        <p:sp>
          <p:nvSpPr>
            <p:cNvPr id="1057" name=""/>
            <p:cNvSpPr/>
            <p:nvPr/>
          </p:nvSpPr>
          <p:spPr>
            <a:xfrm rot="5415000">
              <a:off x="6220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0800000">
              <a:off x="6232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980320" y="-183960"/>
            <a:ext cx="252360" cy="3687480"/>
            <a:chOff x="5980320" y="-183960"/>
            <a:chExt cx="252360" cy="3687480"/>
          </a:xfrm>
        </p:grpSpPr>
        <p:sp>
          <p:nvSpPr>
            <p:cNvPr id="1060" name=""/>
            <p:cNvSpPr/>
            <p:nvPr/>
          </p:nvSpPr>
          <p:spPr>
            <a:xfrm rot="5415000">
              <a:off x="5968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0800000">
              <a:off x="5980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5738400" y="-183960"/>
            <a:ext cx="252360" cy="3687480"/>
            <a:chOff x="5738400" y="-183960"/>
            <a:chExt cx="252360" cy="3687480"/>
          </a:xfrm>
        </p:grpSpPr>
        <p:sp>
          <p:nvSpPr>
            <p:cNvPr id="1063" name=""/>
            <p:cNvSpPr/>
            <p:nvPr/>
          </p:nvSpPr>
          <p:spPr>
            <a:xfrm rot="5415000">
              <a:off x="5726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0800000">
              <a:off x="5738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489280" y="-183960"/>
            <a:ext cx="252360" cy="3687480"/>
            <a:chOff x="5489280" y="-183960"/>
            <a:chExt cx="252360" cy="3687480"/>
          </a:xfrm>
        </p:grpSpPr>
        <p:sp>
          <p:nvSpPr>
            <p:cNvPr id="1066" name=""/>
            <p:cNvSpPr/>
            <p:nvPr/>
          </p:nvSpPr>
          <p:spPr>
            <a:xfrm rot="5415000">
              <a:off x="54777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0800000">
              <a:off x="54892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5256000" y="-183960"/>
            <a:ext cx="252360" cy="3687480"/>
            <a:chOff x="5256000" y="-183960"/>
            <a:chExt cx="252360" cy="3687480"/>
          </a:xfrm>
        </p:grpSpPr>
        <p:sp>
          <p:nvSpPr>
            <p:cNvPr id="1069" name=""/>
            <p:cNvSpPr/>
            <p:nvPr/>
          </p:nvSpPr>
          <p:spPr>
            <a:xfrm rot="5415000">
              <a:off x="5244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0800000">
              <a:off x="5256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001840" y="-183960"/>
            <a:ext cx="252360" cy="3687480"/>
            <a:chOff x="5001840" y="-183960"/>
            <a:chExt cx="252360" cy="3687480"/>
          </a:xfrm>
        </p:grpSpPr>
        <p:sp>
          <p:nvSpPr>
            <p:cNvPr id="1072" name=""/>
            <p:cNvSpPr/>
            <p:nvPr/>
          </p:nvSpPr>
          <p:spPr>
            <a:xfrm rot="5415000">
              <a:off x="4990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0800000">
              <a:off x="5001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752720" y="-183960"/>
            <a:ext cx="252360" cy="3687480"/>
            <a:chOff x="4752720" y="-183960"/>
            <a:chExt cx="252360" cy="3687480"/>
          </a:xfrm>
        </p:grpSpPr>
        <p:sp>
          <p:nvSpPr>
            <p:cNvPr id="1075" name=""/>
            <p:cNvSpPr/>
            <p:nvPr/>
          </p:nvSpPr>
          <p:spPr>
            <a:xfrm rot="5415000">
              <a:off x="47412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0800000">
              <a:off x="47527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500360" y="-183960"/>
            <a:ext cx="252360" cy="3687480"/>
            <a:chOff x="4500360" y="-183960"/>
            <a:chExt cx="252360" cy="3687480"/>
          </a:xfrm>
        </p:grpSpPr>
        <p:sp>
          <p:nvSpPr>
            <p:cNvPr id="1078" name=""/>
            <p:cNvSpPr/>
            <p:nvPr/>
          </p:nvSpPr>
          <p:spPr>
            <a:xfrm rot="5415000">
              <a:off x="44888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0800000">
              <a:off x="45003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4248360" y="-183960"/>
            <a:ext cx="252360" cy="3687480"/>
            <a:chOff x="4248360" y="-183960"/>
            <a:chExt cx="252360" cy="3687480"/>
          </a:xfrm>
        </p:grpSpPr>
        <p:sp>
          <p:nvSpPr>
            <p:cNvPr id="1081" name=""/>
            <p:cNvSpPr/>
            <p:nvPr/>
          </p:nvSpPr>
          <p:spPr>
            <a:xfrm rot="5415000">
              <a:off x="42368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0800000">
              <a:off x="42483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006440" y="-183960"/>
            <a:ext cx="252360" cy="3687480"/>
            <a:chOff x="4006440" y="-183960"/>
            <a:chExt cx="252360" cy="3687480"/>
          </a:xfrm>
        </p:grpSpPr>
        <p:sp>
          <p:nvSpPr>
            <p:cNvPr id="1084" name=""/>
            <p:cNvSpPr/>
            <p:nvPr/>
          </p:nvSpPr>
          <p:spPr>
            <a:xfrm rot="5415000">
              <a:off x="39949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0800000">
              <a:off x="40064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757320" y="-183960"/>
            <a:ext cx="252360" cy="3687480"/>
            <a:chOff x="3757320" y="-183960"/>
            <a:chExt cx="252360" cy="3687480"/>
          </a:xfrm>
        </p:grpSpPr>
        <p:sp>
          <p:nvSpPr>
            <p:cNvPr id="1087" name=""/>
            <p:cNvSpPr/>
            <p:nvPr/>
          </p:nvSpPr>
          <p:spPr>
            <a:xfrm rot="5415000">
              <a:off x="3745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0800000">
              <a:off x="3757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3506400" y="-183960"/>
            <a:ext cx="252360" cy="3687480"/>
            <a:chOff x="3506400" y="-183960"/>
            <a:chExt cx="252360" cy="3687480"/>
          </a:xfrm>
        </p:grpSpPr>
        <p:sp>
          <p:nvSpPr>
            <p:cNvPr id="1090" name=""/>
            <p:cNvSpPr/>
            <p:nvPr/>
          </p:nvSpPr>
          <p:spPr>
            <a:xfrm rot="5415000">
              <a:off x="3494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0800000">
              <a:off x="3506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265200" y="-183960"/>
            <a:ext cx="252360" cy="3687480"/>
            <a:chOff x="3265200" y="-183960"/>
            <a:chExt cx="252360" cy="3687480"/>
          </a:xfrm>
        </p:grpSpPr>
        <p:sp>
          <p:nvSpPr>
            <p:cNvPr id="1093" name=""/>
            <p:cNvSpPr/>
            <p:nvPr/>
          </p:nvSpPr>
          <p:spPr>
            <a:xfrm rot="5415000">
              <a:off x="32536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0800000">
              <a:off x="32652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3016440" y="-183960"/>
            <a:ext cx="252360" cy="3687480"/>
            <a:chOff x="3016440" y="-183960"/>
            <a:chExt cx="252360" cy="3687480"/>
          </a:xfrm>
        </p:grpSpPr>
        <p:sp>
          <p:nvSpPr>
            <p:cNvPr id="1096" name=""/>
            <p:cNvSpPr/>
            <p:nvPr/>
          </p:nvSpPr>
          <p:spPr>
            <a:xfrm rot="5415000">
              <a:off x="30049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0800000">
              <a:off x="30164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2763360" y="-183960"/>
            <a:ext cx="252360" cy="3687480"/>
            <a:chOff x="2763360" y="-183960"/>
            <a:chExt cx="252360" cy="3687480"/>
          </a:xfrm>
        </p:grpSpPr>
        <p:sp>
          <p:nvSpPr>
            <p:cNvPr id="1099" name=""/>
            <p:cNvSpPr/>
            <p:nvPr/>
          </p:nvSpPr>
          <p:spPr>
            <a:xfrm rot="5415000">
              <a:off x="27518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0800000">
              <a:off x="27633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511000" y="-183960"/>
            <a:ext cx="252360" cy="3687480"/>
            <a:chOff x="2511000" y="-183960"/>
            <a:chExt cx="252360" cy="3687480"/>
          </a:xfrm>
        </p:grpSpPr>
        <p:sp>
          <p:nvSpPr>
            <p:cNvPr id="1102" name=""/>
            <p:cNvSpPr/>
            <p:nvPr/>
          </p:nvSpPr>
          <p:spPr>
            <a:xfrm rot="5415000">
              <a:off x="2499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2511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2269800" y="-183960"/>
            <a:ext cx="252360" cy="3687480"/>
            <a:chOff x="2269800" y="-183960"/>
            <a:chExt cx="252360" cy="3687480"/>
          </a:xfrm>
        </p:grpSpPr>
        <p:sp>
          <p:nvSpPr>
            <p:cNvPr id="1105" name=""/>
            <p:cNvSpPr/>
            <p:nvPr/>
          </p:nvSpPr>
          <p:spPr>
            <a:xfrm rot="5415000">
              <a:off x="2258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0800000">
              <a:off x="2269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2020680" y="-183960"/>
            <a:ext cx="252360" cy="3687480"/>
            <a:chOff x="2020680" y="-183960"/>
            <a:chExt cx="252360" cy="3687480"/>
          </a:xfrm>
        </p:grpSpPr>
        <p:sp>
          <p:nvSpPr>
            <p:cNvPr id="1108" name=""/>
            <p:cNvSpPr/>
            <p:nvPr/>
          </p:nvSpPr>
          <p:spPr>
            <a:xfrm rot="5415000">
              <a:off x="20091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0800000">
              <a:off x="20206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1769760" y="-183960"/>
            <a:ext cx="252360" cy="3687480"/>
            <a:chOff x="1769760" y="-183960"/>
            <a:chExt cx="252360" cy="3687480"/>
          </a:xfrm>
        </p:grpSpPr>
        <p:sp>
          <p:nvSpPr>
            <p:cNvPr id="1111" name=""/>
            <p:cNvSpPr/>
            <p:nvPr/>
          </p:nvSpPr>
          <p:spPr>
            <a:xfrm rot="5415000">
              <a:off x="17582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0800000">
              <a:off x="17697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526760" y="-183960"/>
            <a:ext cx="252360" cy="3687480"/>
            <a:chOff x="1526760" y="-183960"/>
            <a:chExt cx="252360" cy="3687480"/>
          </a:xfrm>
        </p:grpSpPr>
        <p:sp>
          <p:nvSpPr>
            <p:cNvPr id="1114" name=""/>
            <p:cNvSpPr/>
            <p:nvPr/>
          </p:nvSpPr>
          <p:spPr>
            <a:xfrm rot="5415000">
              <a:off x="15152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0800000">
              <a:off x="15267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1277640" y="-183960"/>
            <a:ext cx="252360" cy="3687480"/>
            <a:chOff x="1277640" y="-183960"/>
            <a:chExt cx="252360" cy="3687480"/>
          </a:xfrm>
        </p:grpSpPr>
        <p:sp>
          <p:nvSpPr>
            <p:cNvPr id="1117" name=""/>
            <p:cNvSpPr/>
            <p:nvPr/>
          </p:nvSpPr>
          <p:spPr>
            <a:xfrm rot="5415000">
              <a:off x="12661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0800000">
              <a:off x="12776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1025280" y="-183960"/>
            <a:ext cx="252360" cy="3687480"/>
            <a:chOff x="1025280" y="-183960"/>
            <a:chExt cx="252360" cy="3687480"/>
          </a:xfrm>
        </p:grpSpPr>
        <p:sp>
          <p:nvSpPr>
            <p:cNvPr id="1120" name=""/>
            <p:cNvSpPr/>
            <p:nvPr/>
          </p:nvSpPr>
          <p:spPr>
            <a:xfrm rot="5415000">
              <a:off x="10137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0800000">
              <a:off x="10252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72920" y="-183960"/>
            <a:ext cx="252360" cy="3687480"/>
            <a:chOff x="772920" y="-183960"/>
            <a:chExt cx="252360" cy="3687480"/>
          </a:xfrm>
        </p:grpSpPr>
        <p:sp>
          <p:nvSpPr>
            <p:cNvPr id="1123" name=""/>
            <p:cNvSpPr/>
            <p:nvPr/>
          </p:nvSpPr>
          <p:spPr>
            <a:xfrm rot="5415000">
              <a:off x="761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0800000">
              <a:off x="772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531360" y="-182160"/>
            <a:ext cx="252360" cy="3687480"/>
            <a:chOff x="531360" y="-182160"/>
            <a:chExt cx="252360" cy="3687480"/>
          </a:xfrm>
        </p:grpSpPr>
        <p:sp>
          <p:nvSpPr>
            <p:cNvPr id="1126" name=""/>
            <p:cNvSpPr/>
            <p:nvPr/>
          </p:nvSpPr>
          <p:spPr>
            <a:xfrm rot="5415000">
              <a:off x="519840" y="32533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0800000">
              <a:off x="531360" y="-1821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228600" y="-183960"/>
            <a:ext cx="328320" cy="3687840"/>
            <a:chOff x="228600" y="-183960"/>
            <a:chExt cx="328320" cy="3687840"/>
          </a:xfrm>
        </p:grpSpPr>
        <p:sp>
          <p:nvSpPr>
            <p:cNvPr id="1129" name=""/>
            <p:cNvSpPr/>
            <p:nvPr/>
          </p:nvSpPr>
          <p:spPr>
            <a:xfrm rot="5415000">
              <a:off x="267480" y="3230280"/>
              <a:ext cx="360000" cy="1857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0800000">
              <a:off x="228600" y="-183960"/>
              <a:ext cx="3283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0" y="-183960"/>
            <a:ext cx="328320" cy="3687840"/>
            <a:chOff x="0" y="-183960"/>
            <a:chExt cx="328320" cy="3687840"/>
          </a:xfrm>
        </p:grpSpPr>
        <p:sp>
          <p:nvSpPr>
            <p:cNvPr id="1132" name=""/>
            <p:cNvSpPr/>
            <p:nvPr/>
          </p:nvSpPr>
          <p:spPr>
            <a:xfrm rot="5415000">
              <a:off x="38880" y="3230280"/>
              <a:ext cx="360000" cy="18576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0800000">
              <a:off x="0" y="-183960"/>
              <a:ext cx="3283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184080" y="2810520"/>
            <a:ext cx="2795400" cy="1056960"/>
            <a:chOff x="6184080" y="2810520"/>
            <a:chExt cx="2795400" cy="1056960"/>
          </a:xfrm>
        </p:grpSpPr>
        <p:grpSp>
          <p:nvGrpSpPr>
            <p:cNvPr id="1135" name=""/>
            <p:cNvGrpSpPr/>
            <p:nvPr/>
          </p:nvGrpSpPr>
          <p:grpSpPr>
            <a:xfrm>
              <a:off x="7843320" y="3147840"/>
              <a:ext cx="514440" cy="477000"/>
              <a:chOff x="7843320" y="3147840"/>
              <a:chExt cx="514440" cy="477000"/>
            </a:xfrm>
          </p:grpSpPr>
          <p:sp>
            <p:nvSpPr>
              <p:cNvPr id="1136" name=""/>
              <p:cNvSpPr/>
              <p:nvPr/>
            </p:nvSpPr>
            <p:spPr>
              <a:xfrm rot="5317200">
                <a:off x="786780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5317200">
                <a:off x="786780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8" name="未知"/>
            <p:cNvSpPr/>
            <p:nvPr/>
          </p:nvSpPr>
          <p:spPr>
            <a:xfrm rot="5317200">
              <a:off x="8013240" y="2903040"/>
              <a:ext cx="103644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902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 rot="5317200">
              <a:off x="8044560" y="2928600"/>
              <a:ext cx="94428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>
                    <a:alpha val="0"/>
                  </a:srgbClr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7674120" y="3112920"/>
              <a:ext cx="820440" cy="506880"/>
              <a:chOff x="7674120" y="3112920"/>
              <a:chExt cx="820440" cy="506880"/>
            </a:xfrm>
          </p:grpSpPr>
          <p:sp>
            <p:nvSpPr>
              <p:cNvPr id="1141" name=""/>
              <p:cNvSpPr/>
              <p:nvPr/>
            </p:nvSpPr>
            <p:spPr>
              <a:xfrm rot="21571200">
                <a:off x="7675920" y="3116160"/>
                <a:ext cx="816120" cy="50004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1571200">
                <a:off x="7750800" y="3169080"/>
                <a:ext cx="663840" cy="39312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 rot="5317200">
              <a:off x="8399160" y="2966760"/>
              <a:ext cx="182520" cy="771480"/>
            </a:xfrm>
            <a:custGeom>
              <a:avLst/>
              <a:gdLst>
                <a:gd name="textAreaLeft" fmla="*/ 26640 w 182520"/>
                <a:gd name="textAreaRight" fmla="*/ 155880 w 182520"/>
                <a:gd name="textAreaTop" fmla="*/ 26640 h 771480"/>
                <a:gd name="textAreaBottom" fmla="*/ 744840 h 771480"/>
              </a:gdLst>
              <a:ahLst/>
              <a:rect l="textAreaLeft" t="textAreaTop" r="textAreaRight" b="textAreaBottom"/>
              <a:pathLst>
                <a:path w="21600" h="91162">
                  <a:moveTo>
                    <a:pt x="10800" y="0"/>
                  </a:moveTo>
                  <a:arcTo wR="10800" hR="10800" stAng="16200000" swAng="-5400000"/>
                  <a:lnTo>
                    <a:pt x="0" y="80362"/>
                  </a:lnTo>
                  <a:arcTo wR="10800" hR="10800" stAng="10800000" swAng="-5400000"/>
                  <a:lnTo>
                    <a:pt x="10800" y="91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317200">
              <a:off x="8445600" y="2958120"/>
              <a:ext cx="90360" cy="725400"/>
            </a:xfrm>
            <a:custGeom>
              <a:avLst/>
              <a:gdLst>
                <a:gd name="textAreaLeft" fmla="*/ 12960 w 90360"/>
                <a:gd name="textAreaRight" fmla="*/ 77400 w 90360"/>
                <a:gd name="textAreaTop" fmla="*/ 12960 h 725400"/>
                <a:gd name="textAreaBottom" fmla="*/ 712440 h 725400"/>
              </a:gdLst>
              <a:ahLst/>
              <a:rect l="textAreaLeft" t="textAreaTop" r="textAreaRight" b="textAreaBottom"/>
              <a:pathLst>
                <a:path w="21600" h="172800">
                  <a:moveTo>
                    <a:pt x="10800" y="0"/>
                  </a:moveTo>
                  <a:arcTo wR="10800" hR="10800" stAng="16200000" swAng="-5400000"/>
                  <a:lnTo>
                    <a:pt x="0" y="162000"/>
                  </a:lnTo>
                  <a:arcTo wR="10800" hR="10800" stAng="10800000" swAng="-5400000"/>
                  <a:lnTo>
                    <a:pt x="10800" y="1728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6184080" y="2946960"/>
              <a:ext cx="1751040" cy="818280"/>
              <a:chOff x="6184080" y="2946960"/>
              <a:chExt cx="1751040" cy="818280"/>
            </a:xfrm>
          </p:grpSpPr>
          <p:sp>
            <p:nvSpPr>
              <p:cNvPr id="1146" name="未知"/>
              <p:cNvSpPr/>
              <p:nvPr/>
            </p:nvSpPr>
            <p:spPr>
              <a:xfrm rot="5493600">
                <a:off x="6673680" y="2490840"/>
                <a:ext cx="771480" cy="1730520"/>
              </a:xfrm>
              <a:custGeom>
                <a:avLst/>
                <a:gdLst/>
                <a:ahLst/>
                <a:rect l="l" t="t" r="r" b="b"/>
                <a:pathLst>
                  <a:path w="772" h="1730">
                    <a:moveTo>
                      <a:pt x="228" y="363"/>
                    </a:moveTo>
                    <a:lnTo>
                      <a:pt x="228" y="0"/>
                    </a:lnTo>
                    <a:lnTo>
                      <a:pt x="545" y="0"/>
                    </a:lnTo>
                    <a:lnTo>
                      <a:pt x="545" y="363"/>
                    </a:lnTo>
                    <a:lnTo>
                      <a:pt x="681" y="363"/>
                    </a:lnTo>
                    <a:lnTo>
                      <a:pt x="772" y="1315"/>
                    </a:lnTo>
                    <a:cubicBezTo>
                      <a:pt x="727" y="1542"/>
                      <a:pt x="538" y="1713"/>
                      <a:pt x="409" y="1723"/>
                    </a:cubicBezTo>
                    <a:cubicBezTo>
                      <a:pt x="273" y="1730"/>
                      <a:pt x="54" y="1602"/>
                      <a:pt x="0" y="1377"/>
                    </a:cubicBezTo>
                    <a:lnTo>
                      <a:pt x="85" y="371"/>
                    </a:lnTo>
                    <a:lnTo>
                      <a:pt x="228" y="363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 rot="5493600">
                <a:off x="6796080" y="3050640"/>
                <a:ext cx="590760" cy="612720"/>
              </a:xfrm>
              <a:custGeom>
                <a:avLst/>
                <a:gdLst/>
                <a:ahLst/>
                <a:rect l="l" t="t" r="r" b="b"/>
                <a:pathLst>
                  <a:path w="590" h="612">
                    <a:moveTo>
                      <a:pt x="91" y="0"/>
                    </a:moveTo>
                    <a:lnTo>
                      <a:pt x="499" y="0"/>
                    </a:lnTo>
                    <a:lnTo>
                      <a:pt x="590" y="544"/>
                    </a:lnTo>
                    <a:cubicBezTo>
                      <a:pt x="552" y="612"/>
                      <a:pt x="525" y="405"/>
                      <a:pt x="273" y="408"/>
                    </a:cubicBezTo>
                    <a:cubicBezTo>
                      <a:pt x="21" y="411"/>
                      <a:pt x="30" y="612"/>
                      <a:pt x="0" y="544"/>
                    </a:cubicBez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5493600">
                <a:off x="6283800" y="3018240"/>
                <a:ext cx="634680" cy="635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乐子吴吞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制作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"/>
          <p:cNvSpPr/>
          <p:nvPr/>
        </p:nvSpPr>
        <p:spPr>
          <a:xfrm>
            <a:off x="1909800" y="666720"/>
            <a:ext cx="16020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406600" y="650880"/>
            <a:ext cx="16056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71800" y="469800"/>
            <a:ext cx="320400" cy="341280"/>
            <a:chOff x="2071800" y="469800"/>
            <a:chExt cx="320400" cy="341280"/>
          </a:xfrm>
        </p:grpSpPr>
        <p:sp>
          <p:nvSpPr>
            <p:cNvPr id="1152" name=""/>
            <p:cNvSpPr/>
            <p:nvPr/>
          </p:nvSpPr>
          <p:spPr>
            <a:xfrm flipH="1">
              <a:off x="2071800" y="640440"/>
              <a:ext cx="16056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231640" y="469800"/>
              <a:ext cx="16056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081160" y="479520"/>
            <a:ext cx="320760" cy="341280"/>
            <a:chOff x="2081160" y="479520"/>
            <a:chExt cx="320760" cy="341280"/>
          </a:xfrm>
        </p:grpSpPr>
        <p:sp>
          <p:nvSpPr>
            <p:cNvPr id="1155" name=""/>
            <p:cNvSpPr/>
            <p:nvPr/>
          </p:nvSpPr>
          <p:spPr>
            <a:xfrm>
              <a:off x="2241720" y="650160"/>
              <a:ext cx="16020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81160" y="479520"/>
              <a:ext cx="16020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171288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未知"/>
          <p:cNvSpPr/>
          <p:nvPr/>
        </p:nvSpPr>
        <p:spPr>
          <a:xfrm>
            <a:off x="173520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未知"/>
          <p:cNvSpPr/>
          <p:nvPr/>
        </p:nvSpPr>
        <p:spPr>
          <a:xfrm>
            <a:off x="207180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未知"/>
          <p:cNvSpPr/>
          <p:nvPr/>
        </p:nvSpPr>
        <p:spPr>
          <a:xfrm>
            <a:off x="1916280" y="24768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07180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7283E-006 L -1.0158 0.02104 E">
                                      <p:cBhvr>
                                        <p:cTn id="6" dur="8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02312E-006 L -0.96893 0.02197 E">
                                      <p:cBhvr>
                                        <p:cTn id="8" dur="8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0.01434 L -4.44444E-006 0.31869 E">
                                      <p:cBhvr>
                                        <p:cTn id="10" dur="3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" dur="3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" dur="3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" dur="3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3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" dur="3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" dur="3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4" dur="3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3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" dur="3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2" dur="3000" fill="hold"/>
                                        <p:tgtEl>
                                          <p:spTgt spid="1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4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8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0" dur="3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2" dur="3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4" dur="3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6" dur="3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8" dur="3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0" dur="3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2" dur="3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4" dur="3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6" dur="3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8" dur="3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0" dur="3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2" dur="3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4" dur="3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6" dur="3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8" dur="3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0" dur="3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2" dur="3000" fill="hold"/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4" dur="3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4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6" dur="3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8" dur="3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0" dur="3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2" dur="3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4" dur="3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6" dur="3000" fill="hold"/>
                                        <p:tgtEl>
                                          <p:spTgt spid="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8" dur="3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0" dur="3000" fill="hold"/>
                                        <p:tgtEl>
                                          <p:spTgt spid="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3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4" dur="3000" fill="hold"/>
                                        <p:tgtEl>
                                          <p:spTgt spid="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6" dur="3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8" dur="3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4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0" dur="3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2" dur="3000" fill="hold"/>
                                        <p:tgtEl>
                                          <p:spTgt spid="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4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4" dur="3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6" dur="3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8" dur="3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0" dur="3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2" dur="3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3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4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6" dur="3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8" dur="3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64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0" dur="3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2" dur="3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64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4" dur="3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2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6" dur="3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8" dur="3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2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0" dur="3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2" dur="30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2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4" dur="3000" fill="hold"/>
                                        <p:tgtEl>
                                          <p:spTgt spid="10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4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6" dur="3000" fill="hold"/>
                                        <p:tgtEl>
                                          <p:spTgt spid="1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8" dur="3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4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0" dur="3000" fill="hold"/>
                                        <p:tgtEl>
                                          <p:spTgt spid="1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2" dur="3000" fill="hold"/>
                                        <p:tgtEl>
                                          <p:spTgt spid="1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4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5E-006 1.68363E-006 L 5E-006 -0.33303 E">
                                      <p:cBhvr>
                                        <p:cTn id="144" dur="30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6" dur="3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8" dur="3000" fill="hold"/>
                                        <p:tgtEl>
                                          <p:spTgt spid="1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0" dur="3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2" dur="3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4" dur="3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2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2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02153 -0.00509 E">
                                      <p:cBhvr>
                                        <p:cTn id="183" dur="5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116 L -0.01563 -0.00602 E">
                                      <p:cBhvr>
                                        <p:cTn id="185" dur="500" fill="hold"/>
                                        <p:tgtEl>
                                          <p:spTgt spid="1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7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701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1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65A-090C-44FA-813A-F32860D0E7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9T06:25:58Z</dcterms:created>
  <dc:creator/>
  <dc:description/>
  <dc:language>en-US</dc:language>
  <cp:lastModifiedBy>user</cp:lastModifiedBy>
  <dcterms:modified xsi:type="dcterms:W3CDTF">2015-06-12T15:12:2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