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E87-CBD8-4993-9AA6-10C61FF1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97A-A033-425E-A186-31EBA4D8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904-DF12-4808-947A-9D3D8AD9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BB1-E9C3-4B5B-9DBD-12CAA69B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41C4-DB8D-4019-9187-A5DF8861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1FF5-A649-4A8A-8928-8931D1ED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F537-0A7C-4B76-A073-67534270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C507-A9A8-4480-AA3B-4E9EEB43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8D24-B51A-4C35-B5CD-F6F7099C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7918-9C15-45D9-B454-AAEA9778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4C9F-E847-4E1A-AD06-76945F6F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444-A0D7-44BF-BB0F-D38FA3AA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1CCA-DE38-4FFE-B0E9-445FACC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3AF1-CE45-40C0-A881-9B5F6D4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0C9E-2116-4CDF-B773-071E21D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A3E2-CF9E-4BC3-9D8D-F5F0613C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7896-1B6E-4B73-B2DD-63DA3D9D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1D0-9034-4484-86AC-B46843B8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00E-6ADA-4A14-9A87-7C929E18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20A-4EDA-4732-9432-62F31052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E98-A47F-45CA-B80B-ADD0EF4B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CF1-F709-4A3B-B6BC-6A0128A8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50E-0C75-461B-93AD-F8C85F54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8BF-C388-4903-A8DE-91D07BA7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1CB6-CA93-40BC-BFF5-D2F31FBAAB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2B4B-419F-4C07-85AD-DEE7C6D73D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hyperlink" Target="../../&#36890;&#36807;/&#35748;&#30693;&#30446;&#26631;.ppt" TargetMode="External"/><Relationship Id="rId5" Type="http://schemas.openxmlformats.org/officeDocument/2006/relationships/image" Target="../media/image3.png"/><Relationship Id="rId6" Type="http://schemas.openxmlformats.org/officeDocument/2006/relationships/hyperlink" Target="../../&#36890;&#36807;/&#24773;&#24863;&#30446;&#26631;.ppt" TargetMode="External"/><Relationship Id="rId7" Type="http://schemas.openxmlformats.org/officeDocument/2006/relationships/image" Target="../media/image3.png"/><Relationship Id="rId8" Type="http://schemas.openxmlformats.org/officeDocument/2006/relationships/hyperlink" Target="&#35748;&#30693;&#30446;&#26631;.ppt" TargetMode="External"/><Relationship Id="rId9" Type="http://schemas.openxmlformats.org/officeDocument/2006/relationships/image" Target="../media/image3.png"/><Relationship Id="rId10" Type="http://schemas.openxmlformats.org/officeDocument/2006/relationships/hyperlink" Target="&#25216;&#33021;&#30446;&#26631;.ppt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3520" y="1523520"/>
            <a:ext cx="6985080" cy="19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篮球教学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390920" y="4191120"/>
            <a:ext cx="4753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333300"/>
                </a:solidFill>
                <a:latin typeface="Calibri"/>
              </a:rPr>
              <a:t>授  课  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333300"/>
                </a:solidFill>
                <a:latin typeface="Calibri"/>
              </a:rPr>
              <a:t>授课对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/Users/Administrator.ZZ3LB8NZPL7WRE6/说课稿汇总/图片说课素材/20101222211622916 (2).jpg20101222211622916 (2)"/>
          <p:cNvPicPr/>
          <p:nvPr/>
        </p:nvPicPr>
        <p:blipFill>
          <a:blip r:embed="rId2"/>
          <a:stretch/>
        </p:blipFill>
        <p:spPr>
          <a:xfrm>
            <a:off x="304920" y="3340080"/>
            <a:ext cx="4114800" cy="26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333 -2.02497E-006 C -0.52691 -0.02519 -0.51823 -0.04924 -0.50122 -0.04924 C -0.48194 -0.04924 -0.47535 -0.02519 -0.4691 -2.02497E-006 C -0.46042 0.02797 -0.45434 0.05594 -0.43281 0.05594 C -0.41354 0.05594 -0.40694 0.02797 -0.39878 -2.02497E-006 C -0.39427 -0.02519 -0.38611 -0.04924 -0.36701 -0.04924 C -0.35 -0.04924 -0.34149 -0.02519 -0.3349 -2.02497E-006 C -0.32847 0.02797 -0.32014 0.05594 -0.30087 0.05594 C -0.28125 0.05594 -0.26667 -2.02496999999999E-006 -0.26667 0.00023 C -0.26059 -0.02519 -0.25382 -0.04924 -0.23507 -0.04924 C -0.2158 -0.04924 -0.2092 -0.02519 -0.20278 -2.02497E-006 C -0.19427 0.02797 -0.18802 0.05594 -0.16649 0.05594 C -0.14722 0.05594 -0.14097 0.02797 -0.13455 -2.02497E-006 C -0.12622 -0.02519 -0.11979 -0.04924 -0.10052 -0.04924 C -0.08351 -0.04924 -0.075 -0.02519 -0.0684 -2.02497E-006 C -0.06198 0.02797 -0.05365 0.05594 -0.03437 0.05594 C -0.0151 0.05594 -0.00868 0.02797 5.55112E-017 -2.02497E-006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圆角矩形 6"/>
          <p:cNvSpPr/>
          <p:nvPr/>
        </p:nvSpPr>
        <p:spPr>
          <a:xfrm>
            <a:off x="762120" y="1219320"/>
            <a:ext cx="8381880" cy="563868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066680" y="1295280"/>
            <a:ext cx="807732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答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示范法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教学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讲解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练习法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整练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5"/>
          <p:cNvSpPr/>
          <p:nvPr/>
        </p:nvSpPr>
        <p:spPr>
          <a:xfrm>
            <a:off x="4572000" y="2057400"/>
            <a:ext cx="380880" cy="350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2320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25 -2.82146E-006 C -1.125 -0.04671 -0.99878 -0.08256 -0.84618 -0.08256 C -0.68854 -0.08256 -0.5625 -0.04671 -0.5625 -2.82146E-006 C -0.5625 0.04672 -0.43698 0.08257 -0.27934 0.08257 C -0.12621 0.08257 -3.33333E-006 0.04672 -3.33333E-006 -2.82146E-006 E">
                                      <p:cBhvr>
                                        <p:cTn id="274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8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学模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90676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探索”与“发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导           实践          示范           讲解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互相纠错           探索合作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2133720" y="3886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172200" y="3809880"/>
            <a:ext cx="838080" cy="457200"/>
          </a:xfrm>
          <a:custGeom>
            <a:avLst/>
            <a:gdLst>
              <a:gd name="textAreaLeft" fmla="*/ 10476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191120" y="3886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8153280" y="4038480"/>
            <a:ext cx="381240" cy="1295640"/>
          </a:xfrm>
          <a:custGeom>
            <a:avLst/>
            <a:gdLst>
              <a:gd name="textAreaLeft" fmla="*/ 51120 w 381240"/>
              <a:gd name="textAreaRight" fmla="*/ 330120 w 38124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4191120" y="5029200"/>
            <a:ext cx="761760" cy="304920"/>
          </a:xfrm>
          <a:prstGeom prst="leftArrow">
            <a:avLst>
              <a:gd name="adj1" fmla="val 50000"/>
              <a:gd name="adj2" fmla="val 62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198108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1228379086wtzLPQS0"/>
          <p:cNvPicPr/>
          <p:nvPr/>
        </p:nvPicPr>
        <p:blipFill>
          <a:blip r:embed="rId3"/>
          <a:stretch/>
        </p:blipFill>
        <p:spPr>
          <a:xfrm>
            <a:off x="5867280" y="1066680"/>
            <a:ext cx="2924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625 -0.310556 C 0.424873 -0.311296 0.421296 -0.313534 0.417986 -0.315 C 0.414676 -0.316466 0.410243 -0.318256 0.406389 -0.319352 C 0.402535 -0.320448 0.398715 -0.321204 0.394861 -0.321574 C 0.391007 -0.321944 0.38713 -0.321204 0.383264 -0.321574 C 0.379398 -0.321944 0.374965 -0.323426 0.371667 -0.323796 C 0.368368 -0.324167 0.366771 -0.323796 0.363472 -0.323796 C 0.360174 -0.323796 0.355729 -0.323796 0.351875 -0.323796 C 0.348021 -0.323796 0.344479 -0.323796 0.340347 -0.323796 C 0.336215 -0.323796 0.330949 -0.323796 0.327083 -0.323796 C 0.323218 -0.323796 0.320451 -0.323796 0.317153 -0.323796 C 0.313854 -0.323796 0.310868 -0.324537 0.307292 -0.323796 C 0.303715 -0.323056 0.299548 -0.320463 0.295694 -0.319352 C 0.29184 -0.318241 0.287465 -0.317855 0.284167 -0.31713 C 0.280868 -0.316404 0.278935 -0.315355 0.275903 -0.315 C 0.27287 -0.314645 0.269282 -0.31537 0.265972 -0.315 C 0.262662 -0.31463 0.25934 -0.313889 0.256042 -0.312778 C 0.252743 -0.311667 0.249479 -0.309799 0.246181 -0.308333 C 0.242882 -0.306867 0.23956 -0.305077 0.23625 -0.303981 C 0.23294 -0.302886 0.229352 -0.3025 0.226319 -0.301759 C 0.223287 -0.301019 0.221632 -0.301003 0.218056 -0.299537 C 0.214479 -0.298071 0.209537 -0.29517 0.204861 -0.292963 C 0.200185 -0.290756 0.194687 -0.288133 0.19 -0.286296 C 0.185312 -0.28446 0.180868 -0.283411 0.176736 -0.281944 C 0.172604 -0.280478 0.168507 -0.278966 0.165208 -0.2775 C 0.16191 -0.276034 0.159977 -0.274244 0.156944 -0.273148 C 0.153912 -0.272052 0.150046 -0.272037 0.147014 -0.270926 C 0.143981 -0.269815 0.141771 -0.268318 0.13875 -0.266481 C 0.135729 -0.264645 0.132187 -0.262469 0.128889 -0.259907 C 0.12559 -0.257346 0.121991 -0.253318 0.118958 -0.251111 C 0.115926 -0.248904 0.113727 -0.248503 0.110694 -0.246667 C 0.107662 -0.24483 0.104074 -0.242654 0.100764 -0.240093 C 0.097454 -0.237531 0.094132 -0.233503 0.090833 -0.231296 C 0.087535 -0.22909 0.084549 -0.229059 0.080972 -0.226852 C 0.077396 -0.224645 0.072685 -0.220262 0.069375 -0.218056 C 0.066065 -0.215849 0.063866 -0.215448 0.061111 -0.213611 C 0.058356 -0.211775 0.055324 -0.209969 0.052847 -0.207037 C 0.05037 -0.204105 0.048727 -0.199691 0.04625 -0.196019 C 0.043773 -0.192346 0.040741 -0.188302 0.037986 -0.185 C 0.035231 -0.181698 0.031643 -0.179506 0.029722 -0.176204 C 0.027801 -0.172901 0.027002 -0.168858 0.026458 -0.165185 C 0.025914 -0.161512 0.026736 -0.15784 0.026458 -0.154167 C 0.026181 -0.150494 0.025347 -0.146821 0.024792 -0.143148 C 0.024236 -0.139475 0.023947 -0.135802 0.023125 -0.13213 C 0.022303 -0.128457 0.020683 -0.124784 0.019861 -0.121111 C 0.019039 -0.117438 0.018472 -0.113765 0.018194 -0.110093 C 0.017917 -0.10642 0.018194 -0.102747 0.018194 -0.099074 C 0.018194 -0.095401 0.017917 -0.092083 0.018194 -0.088056 C 0.018472 -0.084028 0.020961 -0.07821 0.019861 -0.074907 C 0.018762 -0.071605 0.012153 -0.071188 0.011597 -0.068241 C 0.011042 -0.065293 0.014329 -0.060525 0.016528 -0.057222 C 0.018727 -0.05392 0.022037 -0.050617 0.024792 -0.048426 C 0.027546 -0.046235 0.030301 -0.04554 0.033056 -0.044074 C 0.03581 -0.042608 0.038565 -0.04037 0.041319 -0.03963 C 0.044074 -0.038889 0.046563 -0.03963 0.049583 -0.03963 C 0.052604 -0.03963 0.056424 -0.038164 0.059444 -0.03963 C 0.062465 -0.041096 0.065498 -0.045123 0.067708 -0.048426 C 0.069919 -0.051728 0.071875 -0.055772 0.072708 -0.059444 C 0.073542 -0.063117 0.073264 -0.06679 0.072708 -0.070463 C 0.072153 -0.074136 0.071308 -0.078549 0.069375 -0.081481 C 0.067442 -0.084414 0.063866 -0.085849 0.061111 -0.088056 C 0.058356 -0.090262 0.055602 -0.092886 0.052847 -0.094722 C 0.050093 -0.096559 0.047604 -0.097608 0.044583 -0.099074 C 0.041563 -0.10054 0.038299 -0.102052 0.034722 -0.103519 C 0.031146 -0.104985 0.026435 -0.106775 0.023125 -0.10787 C 0.019815 -0.108966 0.017616 -0.109352 0.014861 -0.110093 C 0.012106 -0.110833 0.00963 -0.111944 0.006597 -0.112315 C 0.003565 -0.112685 -0.000313 -0.112315 -0.003333 -0.112315 C -0.006354 -0.112315 -0.007951 -0.112315 -0.011528 -0.112315 C -0.015104 -0.112315 -0.020938 -0.112315 -0.024792 -0.112315 C -0.028646 -0.112315 -0.030799 -0.112315 -0.034653 -0.112315 C -0.038507 -0.112315 -0.044329 -0.112315 -0.047917 -0.112315 C -0.051505 -0.112315 -0.052326 -0.112685 -0.056181 -0.112315 C -0.060035 -0.111944 -0.066644 -0.110833 -0.071042 -0.110093 C -0.07544 -0.109352 -0.078993 -0.108596 -0.082569 -0.10787 C -0.086146 -0.107145 -0.089468 -0.106836 -0.0925 -0.105741 C -0.095532 -0.104645 -0.098287 -0.103873 -0.100764 -0.101296 C -0.103241 -0.098719 -0.105706 -0.094321 -0.107361 -0.090278 C -0.109016 -0.086235 -0.109595 -0.08108 -0.110694 -0.077037 C -0.111794 -0.072994 -0.112859 -0.069691 -0.113958 -0.066019 C -0.115058 -0.062346 -0.116736 -0.058657 -0.117292 -0.055 C -0.117847 -0.051343 -0.118113 -0.047731 -0.117292 -0.044074 C -0.11647 -0.040417 -0.112361 -0.036728 -0.112361 -0.033056 C -0.112361 -0.029383 -0.117847 -0.024614 -0.117292 -0.022037 C -0.116736 -0.01946 -0.111782 -0.019074 -0.109028 -0.017593 C -0.106273 -0.016111 -0.103519 -0.014244 -0.100764 -0.013148 C -0.098009 -0.012052 -0.095255 -0.011744 -0.0925 -0.011019 C -0.089745 -0.010293 -0.087269 -0.009167 -0.084236 -0.008796 C -0.081204 -0.008426 -0.077604 -0.009167 -0.074306 -0.008796 C -0.071007 -0.008426 -0.068021 -0.006944 -0.064444 -0.006574 C -0.060868 -0.006204 -0.056435 -0.006574 -0.052847 -0.006574 C -0.049259 -0.006574 -0.045949 -0.006574 -0.042917 -0.006574 C -0.039884 -0.006574 -0.037396 -0.006574 -0.034653 -0.006574 C -0.03191 -0.006574 -0.029479 -0.006574 -0.026458 -0.006574 C -0.023438 -0.006574 -0.01956 -0.006574 -0.016528 -0.006574 C -0.013495 -0.006574 -0.011019 -0.006574 -0.008264 -0.006574 C -0.005509 -0.006574 -0.002755 -0.006574 0 -0.006574 C 0.002755 -0.006574 0.005509 -0.006574 0.008264 -0.006574 C 0.011018 -0.006574 0.016528 -0.007299 0.016528 -0.006574 C 0.016528 -0.005849 0.011018 -0.003318 0.008264 -0.002222 C 0.005509 -0.001127 0.001377 -0.00037 0 0 E">
                                      <p:cBhvr>
                                        <p:cTn id="29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0880" y="1447920"/>
            <a:ext cx="8305920" cy="464796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198108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搜狗浏览器截图(1)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球   行    进    间    单    手    低    手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0" y="236232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准备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mi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2362320" y="1523880"/>
            <a:ext cx="380880" cy="2743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743200" y="1371600"/>
            <a:ext cx="624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堂常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身练习（慢跑、球性练习及拉伸练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线快速运球接力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b4ccc335886c9688d1a2d3d3"/>
          <p:cNvPicPr/>
          <p:nvPr/>
        </p:nvPicPr>
        <p:blipFill>
          <a:blip r:embed="rId3"/>
          <a:stretch/>
        </p:blipFill>
        <p:spPr>
          <a:xfrm>
            <a:off x="6219720" y="4573440"/>
            <a:ext cx="284976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球   行    进    间    单    手    低    手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523880" y="990720"/>
            <a:ext cx="7620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出问题，导入教学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示范讲解技术动作要领点出本节课的重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球的模仿练习，注重“一大二小三高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组分场地练习教师及时发现并解决易犯错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小组集中展示，学生讨论教师做出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分开强化练习，教师巡回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进间单手低手投篮接力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-470520" y="2743200"/>
            <a:ext cx="1826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5mi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基本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1143000" y="1371600"/>
            <a:ext cx="380880" cy="5029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球   行    进    间    单    手    低    手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609480" y="289548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mi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2819520" y="2057400"/>
            <a:ext cx="380880" cy="2743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200400" y="1828800"/>
            <a:ext cx="541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松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布下课、师生再见、收还器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E:\图片夹\素材类\20090821_8e2ca1c6ba7ba7d3ca9asCTGdQJLNE87.jpg"/>
          <p:cNvPicPr/>
          <p:nvPr/>
        </p:nvPicPr>
        <p:blipFill>
          <a:blip r:embed="rId2"/>
          <a:stretch/>
        </p:blipFill>
        <p:spPr>
          <a:xfrm>
            <a:off x="5943600" y="3276720"/>
            <a:ext cx="2843280" cy="29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7000"/>
              </a:srgbClr>
            </a:outerShdw>
          </a:effectLst>
        </p:spPr>
      </p:pic>
      <p:sp>
        <p:nvSpPr>
          <p:cNvPr id="265" name="圆角矩形 6"/>
          <p:cNvSpPr/>
          <p:nvPr/>
        </p:nvSpPr>
        <p:spPr>
          <a:xfrm>
            <a:off x="457200" y="1371600"/>
            <a:ext cx="5410080" cy="518148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1143000" y="1371600"/>
            <a:ext cx="48769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、场地器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篮球场两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篮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八、生理状况预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密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%—45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强度：中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均心率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0—1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∕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tb2"/>
          <p:cNvPicPr/>
          <p:nvPr/>
        </p:nvPicPr>
        <p:blipFill>
          <a:blip r:embed="rId3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球    行    进    间    单    手    低    手 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标题 1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4235400" cy="101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tb2"/>
          <p:cNvPicPr/>
          <p:nvPr/>
        </p:nvPicPr>
        <p:blipFill>
          <a:blip r:embed="rId3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球   行    进    间    单    手    低    手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562720" y="6491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765-8E11-4E73-8F15-69E944508E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276720" y="1905120"/>
            <a:ext cx="5113080" cy="944280"/>
            <a:chOff x="3276720" y="1905120"/>
            <a:chExt cx="5113080" cy="944280"/>
          </a:xfrm>
        </p:grpSpPr>
        <p:grpSp>
          <p:nvGrpSpPr>
            <p:cNvPr id="86" name=""/>
            <p:cNvGrpSpPr/>
            <p:nvPr/>
          </p:nvGrpSpPr>
          <p:grpSpPr>
            <a:xfrm>
              <a:off x="3276720" y="1939680"/>
              <a:ext cx="5113080" cy="909720"/>
              <a:chOff x="3276720" y="1939680"/>
              <a:chExt cx="5113080" cy="909720"/>
            </a:xfrm>
          </p:grpSpPr>
          <p:pic>
            <p:nvPicPr>
              <p:cNvPr id="87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1939680"/>
                <a:ext cx="5113080" cy="9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5"/>
              <p:cNvSpPr/>
              <p:nvPr/>
            </p:nvSpPr>
            <p:spPr>
              <a:xfrm>
                <a:off x="3370680" y="2012760"/>
                <a:ext cx="491868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标题 1"/>
            <p:cNvSpPr/>
            <p:nvPr/>
          </p:nvSpPr>
          <p:spPr>
            <a:xfrm>
              <a:off x="4228920" y="1905120"/>
              <a:ext cx="32022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材分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76720" y="2819520"/>
            <a:ext cx="5113080" cy="944280"/>
            <a:chOff x="3276720" y="2819520"/>
            <a:chExt cx="5113080" cy="944280"/>
          </a:xfrm>
        </p:grpSpPr>
        <p:grpSp>
          <p:nvGrpSpPr>
            <p:cNvPr id="91" name=""/>
            <p:cNvGrpSpPr/>
            <p:nvPr/>
          </p:nvGrpSpPr>
          <p:grpSpPr>
            <a:xfrm>
              <a:off x="3276720" y="2854440"/>
              <a:ext cx="5113080" cy="909360"/>
              <a:chOff x="3276720" y="2854440"/>
              <a:chExt cx="5113080" cy="909360"/>
            </a:xfrm>
          </p:grpSpPr>
          <p:pic>
            <p:nvPicPr>
              <p:cNvPr id="92" name="圆角矩形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2854440"/>
                <a:ext cx="5113080" cy="90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10"/>
              <p:cNvSpPr/>
              <p:nvPr/>
            </p:nvSpPr>
            <p:spPr>
              <a:xfrm>
                <a:off x="3370680" y="2926800"/>
                <a:ext cx="491868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标题 1"/>
            <p:cNvSpPr/>
            <p:nvPr/>
          </p:nvSpPr>
          <p:spPr>
            <a:xfrm>
              <a:off x="4228920" y="2819520"/>
              <a:ext cx="3202200" cy="8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学情分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76720" y="3733920"/>
            <a:ext cx="5113080" cy="946080"/>
            <a:chOff x="3276720" y="3733920"/>
            <a:chExt cx="5113080" cy="946080"/>
          </a:xfrm>
        </p:grpSpPr>
        <p:grpSp>
          <p:nvGrpSpPr>
            <p:cNvPr id="96" name=""/>
            <p:cNvGrpSpPr/>
            <p:nvPr/>
          </p:nvGrpSpPr>
          <p:grpSpPr>
            <a:xfrm>
              <a:off x="3276720" y="3769200"/>
              <a:ext cx="5113080" cy="910800"/>
              <a:chOff x="3276720" y="3769200"/>
              <a:chExt cx="5113080" cy="910800"/>
            </a:xfrm>
          </p:grpSpPr>
          <p:pic>
            <p:nvPicPr>
              <p:cNvPr id="97" name="圆角矩形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3769200"/>
                <a:ext cx="5113080" cy="91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15"/>
              <p:cNvSpPr/>
              <p:nvPr/>
            </p:nvSpPr>
            <p:spPr>
              <a:xfrm>
                <a:off x="3370680" y="3841560"/>
                <a:ext cx="4918680" cy="67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标题 1"/>
            <p:cNvSpPr/>
            <p:nvPr/>
          </p:nvSpPr>
          <p:spPr>
            <a:xfrm>
              <a:off x="4228920" y="3733920"/>
              <a:ext cx="32022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学目标及重难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276720" y="4648320"/>
            <a:ext cx="5113080" cy="944280"/>
            <a:chOff x="3276720" y="4648320"/>
            <a:chExt cx="5113080" cy="944280"/>
          </a:xfrm>
        </p:grpSpPr>
        <p:grpSp>
          <p:nvGrpSpPr>
            <p:cNvPr id="101" name=""/>
            <p:cNvGrpSpPr/>
            <p:nvPr/>
          </p:nvGrpSpPr>
          <p:grpSpPr>
            <a:xfrm>
              <a:off x="3276720" y="4683960"/>
              <a:ext cx="5113080" cy="908640"/>
              <a:chOff x="3276720" y="4683960"/>
              <a:chExt cx="5113080" cy="908640"/>
            </a:xfrm>
          </p:grpSpPr>
          <p:pic>
            <p:nvPicPr>
              <p:cNvPr id="102" name="圆角矩形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6720" y="4683960"/>
                <a:ext cx="5113080" cy="90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Text Box 20"/>
              <p:cNvSpPr/>
              <p:nvPr/>
            </p:nvSpPr>
            <p:spPr>
              <a:xfrm>
                <a:off x="3370680" y="4755600"/>
                <a:ext cx="4918680" cy="67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标题 1"/>
            <p:cNvSpPr/>
            <p:nvPr/>
          </p:nvSpPr>
          <p:spPr>
            <a:xfrm>
              <a:off x="4228920" y="4648320"/>
              <a:ext cx="320220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学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276720" y="5562720"/>
            <a:ext cx="5113080" cy="944280"/>
            <a:chOff x="3276720" y="5562720"/>
            <a:chExt cx="5113080" cy="944280"/>
          </a:xfrm>
        </p:grpSpPr>
        <p:grpSp>
          <p:nvGrpSpPr>
            <p:cNvPr id="106" name=""/>
            <p:cNvGrpSpPr/>
            <p:nvPr/>
          </p:nvGrpSpPr>
          <p:grpSpPr>
            <a:xfrm>
              <a:off x="3276720" y="5598720"/>
              <a:ext cx="5113080" cy="908280"/>
              <a:chOff x="3276720" y="5598720"/>
              <a:chExt cx="5113080" cy="908280"/>
            </a:xfrm>
          </p:grpSpPr>
          <p:pic>
            <p:nvPicPr>
              <p:cNvPr id="107" name="圆角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3276720" y="5598720"/>
                <a:ext cx="511308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25"/>
              <p:cNvSpPr/>
              <p:nvPr/>
            </p:nvSpPr>
            <p:spPr>
              <a:xfrm>
                <a:off x="3370680" y="5670000"/>
                <a:ext cx="491868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标题 1"/>
            <p:cNvSpPr/>
            <p:nvPr/>
          </p:nvSpPr>
          <p:spPr>
            <a:xfrm>
              <a:off x="4228920" y="5562720"/>
              <a:ext cx="32022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学流程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720" y="990720"/>
            <a:ext cx="5113080" cy="944280"/>
            <a:chOff x="3276720" y="990720"/>
            <a:chExt cx="5113080" cy="944280"/>
          </a:xfrm>
        </p:grpSpPr>
        <p:grpSp>
          <p:nvGrpSpPr>
            <p:cNvPr id="111" name=""/>
            <p:cNvGrpSpPr/>
            <p:nvPr/>
          </p:nvGrpSpPr>
          <p:grpSpPr>
            <a:xfrm>
              <a:off x="3276720" y="1024920"/>
              <a:ext cx="5113080" cy="910080"/>
              <a:chOff x="3276720" y="1024920"/>
              <a:chExt cx="5113080" cy="910080"/>
            </a:xfrm>
          </p:grpSpPr>
          <p:pic>
            <p:nvPicPr>
              <p:cNvPr id="112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3276720" y="1024920"/>
                <a:ext cx="511308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0"/>
              <p:cNvSpPr/>
              <p:nvPr/>
            </p:nvSpPr>
            <p:spPr>
              <a:xfrm>
                <a:off x="3370680" y="1098360"/>
                <a:ext cx="491868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标题 1"/>
            <p:cNvSpPr/>
            <p:nvPr/>
          </p:nvSpPr>
          <p:spPr>
            <a:xfrm>
              <a:off x="4228920" y="990720"/>
              <a:ext cx="320220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指导思想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tb2"/>
          <p:cNvPicPr/>
          <p:nvPr/>
        </p:nvPicPr>
        <p:blipFill>
          <a:blip r:embed="rId8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QQ截图未命名"/>
          <p:cNvPicPr/>
          <p:nvPr/>
        </p:nvPicPr>
        <p:blipFill>
          <a:blip r:embed="rId9"/>
          <a:stretch/>
        </p:blipFill>
        <p:spPr>
          <a:xfrm>
            <a:off x="304920" y="1828800"/>
            <a:ext cx="2666880" cy="4714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22320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圆角矩形 3"/>
          <p:cNvSpPr/>
          <p:nvPr/>
        </p:nvSpPr>
        <p:spPr>
          <a:xfrm>
            <a:off x="914400" y="990720"/>
            <a:ext cx="7632720" cy="544176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95280" y="1295280"/>
            <a:ext cx="7315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指导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健康第一”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3"/>
          <p:cNvPicPr/>
          <p:nvPr/>
        </p:nvPicPr>
        <p:blipFill>
          <a:blip r:embed="rId3"/>
          <a:stretch/>
        </p:blipFill>
        <p:spPr>
          <a:xfrm>
            <a:off x="6019920" y="2209680"/>
            <a:ext cx="2286000" cy="3962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8537040" y="4724280"/>
            <a:ext cx="6069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姚”   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23200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3"/>
          <p:cNvSpPr/>
          <p:nvPr/>
        </p:nvSpPr>
        <p:spPr>
          <a:xfrm>
            <a:off x="914400" y="990720"/>
            <a:ext cx="7632720" cy="563868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3200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9680" y="990720"/>
            <a:ext cx="5191200" cy="946080"/>
            <a:chOff x="2209680" y="990720"/>
            <a:chExt cx="5191200" cy="946080"/>
          </a:xfrm>
        </p:grpSpPr>
        <p:grpSp>
          <p:nvGrpSpPr>
            <p:cNvPr id="128" name=""/>
            <p:cNvGrpSpPr/>
            <p:nvPr/>
          </p:nvGrpSpPr>
          <p:grpSpPr>
            <a:xfrm>
              <a:off x="2209680" y="1024920"/>
              <a:ext cx="5191200" cy="911880"/>
              <a:chOff x="2209680" y="1024920"/>
              <a:chExt cx="5191200" cy="911880"/>
            </a:xfrm>
          </p:grpSpPr>
          <p:pic>
            <p:nvPicPr>
              <p:cNvPr id="129" name="圆角矩形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1024920"/>
                <a:ext cx="519120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8"/>
              <p:cNvSpPr/>
              <p:nvPr/>
            </p:nvSpPr>
            <p:spPr>
              <a:xfrm>
                <a:off x="2305080" y="1098360"/>
                <a:ext cx="499356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标题 1"/>
            <p:cNvSpPr/>
            <p:nvPr/>
          </p:nvSpPr>
          <p:spPr>
            <a:xfrm>
              <a:off x="3176280" y="990720"/>
              <a:ext cx="325116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学习篮球技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09680" y="1905120"/>
            <a:ext cx="5181840" cy="946080"/>
            <a:chOff x="2209680" y="1905120"/>
            <a:chExt cx="5181840" cy="946080"/>
          </a:xfrm>
        </p:grpSpPr>
        <p:grpSp>
          <p:nvGrpSpPr>
            <p:cNvPr id="133" name=""/>
            <p:cNvGrpSpPr/>
            <p:nvPr/>
          </p:nvGrpSpPr>
          <p:grpSpPr>
            <a:xfrm>
              <a:off x="2209680" y="1939320"/>
              <a:ext cx="5181840" cy="911880"/>
              <a:chOff x="2209680" y="1939320"/>
              <a:chExt cx="5181840" cy="911880"/>
            </a:xfrm>
          </p:grpSpPr>
          <p:pic>
            <p:nvPicPr>
              <p:cNvPr id="134" name="圆角矩形 4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1939320"/>
                <a:ext cx="518184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13"/>
              <p:cNvSpPr/>
              <p:nvPr/>
            </p:nvSpPr>
            <p:spPr>
              <a:xfrm>
                <a:off x="2305080" y="2012760"/>
                <a:ext cx="498456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标题 1"/>
            <p:cNvSpPr/>
            <p:nvPr/>
          </p:nvSpPr>
          <p:spPr>
            <a:xfrm>
              <a:off x="3174840" y="1905120"/>
              <a:ext cx="324540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提高身心水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0" y="2819520"/>
            <a:ext cx="5114880" cy="946080"/>
            <a:chOff x="2286000" y="2819520"/>
            <a:chExt cx="5114880" cy="946080"/>
          </a:xfrm>
        </p:grpSpPr>
        <p:grpSp>
          <p:nvGrpSpPr>
            <p:cNvPr id="138" name=""/>
            <p:cNvGrpSpPr/>
            <p:nvPr/>
          </p:nvGrpSpPr>
          <p:grpSpPr>
            <a:xfrm>
              <a:off x="2286000" y="2853720"/>
              <a:ext cx="5114880" cy="911880"/>
              <a:chOff x="2286000" y="2853720"/>
              <a:chExt cx="5114880" cy="911880"/>
            </a:xfrm>
          </p:grpSpPr>
          <p:pic>
            <p:nvPicPr>
              <p:cNvPr id="139" name="圆角矩形 4" descr=""/>
              <p:cNvPicPr/>
              <p:nvPr/>
            </p:nvPicPr>
            <p:blipFill>
              <a:blip r:embed="rId5"/>
              <a:stretch/>
            </p:blipFill>
            <p:spPr>
              <a:xfrm>
                <a:off x="2286000" y="2853720"/>
                <a:ext cx="511488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18"/>
              <p:cNvSpPr/>
              <p:nvPr/>
            </p:nvSpPr>
            <p:spPr>
              <a:xfrm>
                <a:off x="2379960" y="2927160"/>
                <a:ext cx="49201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标题 1"/>
            <p:cNvSpPr/>
            <p:nvPr/>
          </p:nvSpPr>
          <p:spPr>
            <a:xfrm>
              <a:off x="3238560" y="2819520"/>
              <a:ext cx="32032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培养合作精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733920"/>
            <a:ext cx="5114880" cy="946080"/>
            <a:chOff x="2286000" y="3733920"/>
            <a:chExt cx="5114880" cy="946080"/>
          </a:xfrm>
        </p:grpSpPr>
        <p:grpSp>
          <p:nvGrpSpPr>
            <p:cNvPr id="143" name=""/>
            <p:cNvGrpSpPr/>
            <p:nvPr/>
          </p:nvGrpSpPr>
          <p:grpSpPr>
            <a:xfrm>
              <a:off x="2286000" y="3768120"/>
              <a:ext cx="5114880" cy="911880"/>
              <a:chOff x="2286000" y="3768120"/>
              <a:chExt cx="5114880" cy="911880"/>
            </a:xfrm>
          </p:grpSpPr>
          <p:pic>
            <p:nvPicPr>
              <p:cNvPr id="144" name="圆角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3768120"/>
                <a:ext cx="511488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23"/>
              <p:cNvSpPr/>
              <p:nvPr/>
            </p:nvSpPr>
            <p:spPr>
              <a:xfrm>
                <a:off x="2379960" y="3841560"/>
                <a:ext cx="49201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标题 1"/>
            <p:cNvSpPr/>
            <p:nvPr/>
          </p:nvSpPr>
          <p:spPr>
            <a:xfrm>
              <a:off x="3238560" y="3733920"/>
              <a:ext cx="32032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感受个体价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86000" y="5562720"/>
            <a:ext cx="5114880" cy="946080"/>
            <a:chOff x="2286000" y="5562720"/>
            <a:chExt cx="5114880" cy="946080"/>
          </a:xfrm>
        </p:grpSpPr>
        <p:grpSp>
          <p:nvGrpSpPr>
            <p:cNvPr id="148" name=""/>
            <p:cNvGrpSpPr/>
            <p:nvPr/>
          </p:nvGrpSpPr>
          <p:grpSpPr>
            <a:xfrm>
              <a:off x="2286000" y="5596920"/>
              <a:ext cx="5114880" cy="911880"/>
              <a:chOff x="2286000" y="5596920"/>
              <a:chExt cx="5114880" cy="911880"/>
            </a:xfrm>
          </p:grpSpPr>
          <p:pic>
            <p:nvPicPr>
              <p:cNvPr id="149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6000" y="5596920"/>
                <a:ext cx="511488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28"/>
              <p:cNvSpPr/>
              <p:nvPr/>
            </p:nvSpPr>
            <p:spPr>
              <a:xfrm>
                <a:off x="2379960" y="5670360"/>
                <a:ext cx="49201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标题 1"/>
            <p:cNvSpPr/>
            <p:nvPr/>
          </p:nvSpPr>
          <p:spPr>
            <a:xfrm>
              <a:off x="3238560" y="5562720"/>
              <a:ext cx="32032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为终身体育打下基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286000" y="4648320"/>
            <a:ext cx="5114880" cy="946080"/>
            <a:chOff x="2286000" y="4648320"/>
            <a:chExt cx="5114880" cy="946080"/>
          </a:xfrm>
        </p:grpSpPr>
        <p:grpSp>
          <p:nvGrpSpPr>
            <p:cNvPr id="153" name=""/>
            <p:cNvGrpSpPr/>
            <p:nvPr/>
          </p:nvGrpSpPr>
          <p:grpSpPr>
            <a:xfrm>
              <a:off x="2286000" y="4682520"/>
              <a:ext cx="5114880" cy="911880"/>
              <a:chOff x="2286000" y="4682520"/>
              <a:chExt cx="5114880" cy="911880"/>
            </a:xfrm>
          </p:grpSpPr>
          <p:pic>
            <p:nvPicPr>
              <p:cNvPr id="154" name="圆角矩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2286000" y="4682520"/>
                <a:ext cx="511488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33"/>
              <p:cNvSpPr/>
              <p:nvPr/>
            </p:nvSpPr>
            <p:spPr>
              <a:xfrm>
                <a:off x="2379960" y="4755960"/>
                <a:ext cx="49201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标题 1"/>
            <p:cNvSpPr/>
            <p:nvPr/>
          </p:nvSpPr>
          <p:spPr>
            <a:xfrm>
              <a:off x="3238560" y="4648320"/>
              <a:ext cx="32032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创设教学气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6"/>
          <p:cNvSpPr/>
          <p:nvPr/>
        </p:nvSpPr>
        <p:spPr>
          <a:xfrm>
            <a:off x="838080" y="838080"/>
            <a:ext cx="7925040" cy="579132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1219320" y="1523880"/>
            <a:ext cx="73911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教材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学内容：篮球行进间单手低手投篮，是水平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重点学习内容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技术特点：该技术攻击性很强、运用比较广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现状：技术学习难度较大，给初学者带来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一定的困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20574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438280" y="1905120"/>
            <a:ext cx="5113440" cy="944280"/>
            <a:chOff x="2438280" y="1905120"/>
            <a:chExt cx="5113440" cy="944280"/>
          </a:xfrm>
        </p:grpSpPr>
        <p:grpSp>
          <p:nvGrpSpPr>
            <p:cNvPr id="162" name=""/>
            <p:cNvGrpSpPr/>
            <p:nvPr/>
          </p:nvGrpSpPr>
          <p:grpSpPr>
            <a:xfrm>
              <a:off x="2438280" y="1939680"/>
              <a:ext cx="5113440" cy="909720"/>
              <a:chOff x="2438280" y="1939680"/>
              <a:chExt cx="5113440" cy="909720"/>
            </a:xfrm>
          </p:grpSpPr>
          <p:pic>
            <p:nvPicPr>
              <p:cNvPr id="163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438280" y="1939680"/>
                <a:ext cx="5113440" cy="9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Text Box 5"/>
              <p:cNvSpPr/>
              <p:nvPr/>
            </p:nvSpPr>
            <p:spPr>
              <a:xfrm>
                <a:off x="2532240" y="2012760"/>
                <a:ext cx="491904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标题 1"/>
            <p:cNvSpPr/>
            <p:nvPr/>
          </p:nvSpPr>
          <p:spPr>
            <a:xfrm>
              <a:off x="3390480" y="1905120"/>
              <a:ext cx="320256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发育不成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38280" y="2819520"/>
            <a:ext cx="5113440" cy="944280"/>
            <a:chOff x="2438280" y="2819520"/>
            <a:chExt cx="5113440" cy="944280"/>
          </a:xfrm>
        </p:grpSpPr>
        <p:grpSp>
          <p:nvGrpSpPr>
            <p:cNvPr id="167" name=""/>
            <p:cNvGrpSpPr/>
            <p:nvPr/>
          </p:nvGrpSpPr>
          <p:grpSpPr>
            <a:xfrm>
              <a:off x="2438280" y="2854440"/>
              <a:ext cx="5113440" cy="909360"/>
              <a:chOff x="2438280" y="2854440"/>
              <a:chExt cx="5113440" cy="909360"/>
            </a:xfrm>
          </p:grpSpPr>
          <p:pic>
            <p:nvPicPr>
              <p:cNvPr id="168" name="圆角矩形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2438280" y="2854440"/>
                <a:ext cx="5113440" cy="90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Text Box 10"/>
              <p:cNvSpPr/>
              <p:nvPr/>
            </p:nvSpPr>
            <p:spPr>
              <a:xfrm>
                <a:off x="2532240" y="2926800"/>
                <a:ext cx="491904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标题 1"/>
            <p:cNvSpPr/>
            <p:nvPr/>
          </p:nvSpPr>
          <p:spPr>
            <a:xfrm>
              <a:off x="3390480" y="2819520"/>
              <a:ext cx="3202560" cy="8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情绪不稳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438280" y="3733920"/>
            <a:ext cx="5113440" cy="946080"/>
            <a:chOff x="2438280" y="3733920"/>
            <a:chExt cx="5113440" cy="946080"/>
          </a:xfrm>
        </p:grpSpPr>
        <p:grpSp>
          <p:nvGrpSpPr>
            <p:cNvPr id="172" name=""/>
            <p:cNvGrpSpPr/>
            <p:nvPr/>
          </p:nvGrpSpPr>
          <p:grpSpPr>
            <a:xfrm>
              <a:off x="2438280" y="3769200"/>
              <a:ext cx="5113440" cy="910800"/>
              <a:chOff x="2438280" y="3769200"/>
              <a:chExt cx="5113440" cy="910800"/>
            </a:xfrm>
          </p:grpSpPr>
          <p:pic>
            <p:nvPicPr>
              <p:cNvPr id="173" name="圆角矩形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38280" y="3769200"/>
                <a:ext cx="5113440" cy="91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Text Box 15"/>
              <p:cNvSpPr/>
              <p:nvPr/>
            </p:nvSpPr>
            <p:spPr>
              <a:xfrm>
                <a:off x="2532240" y="3841560"/>
                <a:ext cx="4919040" cy="67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标题 1"/>
            <p:cNvSpPr/>
            <p:nvPr/>
          </p:nvSpPr>
          <p:spPr>
            <a:xfrm>
              <a:off x="3390480" y="3733920"/>
              <a:ext cx="320256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知识了解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438280" y="4648320"/>
            <a:ext cx="5113440" cy="944280"/>
            <a:chOff x="2438280" y="4648320"/>
            <a:chExt cx="5113440" cy="944280"/>
          </a:xfrm>
        </p:grpSpPr>
        <p:grpSp>
          <p:nvGrpSpPr>
            <p:cNvPr id="177" name=""/>
            <p:cNvGrpSpPr/>
            <p:nvPr/>
          </p:nvGrpSpPr>
          <p:grpSpPr>
            <a:xfrm>
              <a:off x="2438280" y="4683960"/>
              <a:ext cx="5113440" cy="908640"/>
              <a:chOff x="2438280" y="4683960"/>
              <a:chExt cx="5113440" cy="908640"/>
            </a:xfrm>
          </p:grpSpPr>
          <p:pic>
            <p:nvPicPr>
              <p:cNvPr id="178" name="圆角矩形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8280" y="4683960"/>
                <a:ext cx="5113440" cy="90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20"/>
              <p:cNvSpPr/>
              <p:nvPr/>
            </p:nvSpPr>
            <p:spPr>
              <a:xfrm>
                <a:off x="2532240" y="4755600"/>
                <a:ext cx="4919040" cy="67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标题 1"/>
            <p:cNvSpPr/>
            <p:nvPr/>
          </p:nvSpPr>
          <p:spPr>
            <a:xfrm>
              <a:off x="3390480" y="4648320"/>
              <a:ext cx="320256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水平相对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38280" y="5562720"/>
            <a:ext cx="5113440" cy="944280"/>
            <a:chOff x="2438280" y="5562720"/>
            <a:chExt cx="5113440" cy="944280"/>
          </a:xfrm>
        </p:grpSpPr>
        <p:grpSp>
          <p:nvGrpSpPr>
            <p:cNvPr id="182" name=""/>
            <p:cNvGrpSpPr/>
            <p:nvPr/>
          </p:nvGrpSpPr>
          <p:grpSpPr>
            <a:xfrm>
              <a:off x="2438280" y="5598720"/>
              <a:ext cx="5113440" cy="908280"/>
              <a:chOff x="2438280" y="5598720"/>
              <a:chExt cx="5113440" cy="908280"/>
            </a:xfrm>
          </p:grpSpPr>
          <p:pic>
            <p:nvPicPr>
              <p:cNvPr id="183" name="圆角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2438280" y="5598720"/>
                <a:ext cx="511344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5"/>
              <p:cNvSpPr/>
              <p:nvPr/>
            </p:nvSpPr>
            <p:spPr>
              <a:xfrm>
                <a:off x="2532240" y="5670000"/>
                <a:ext cx="491904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标题 1"/>
            <p:cNvSpPr/>
            <p:nvPr/>
          </p:nvSpPr>
          <p:spPr>
            <a:xfrm>
              <a:off x="3390480" y="5562720"/>
              <a:ext cx="320256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易形成错误动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438280" y="990720"/>
            <a:ext cx="5113440" cy="944280"/>
            <a:chOff x="2438280" y="990720"/>
            <a:chExt cx="5113440" cy="944280"/>
          </a:xfrm>
        </p:grpSpPr>
        <p:grpSp>
          <p:nvGrpSpPr>
            <p:cNvPr id="187" name=""/>
            <p:cNvGrpSpPr/>
            <p:nvPr/>
          </p:nvGrpSpPr>
          <p:grpSpPr>
            <a:xfrm>
              <a:off x="2438280" y="1024920"/>
              <a:ext cx="5113440" cy="910080"/>
              <a:chOff x="2438280" y="1024920"/>
              <a:chExt cx="5113440" cy="910080"/>
            </a:xfrm>
          </p:grpSpPr>
          <p:pic>
            <p:nvPicPr>
              <p:cNvPr id="188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2438280" y="1024920"/>
                <a:ext cx="511344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 Box 30"/>
              <p:cNvSpPr/>
              <p:nvPr/>
            </p:nvSpPr>
            <p:spPr>
              <a:xfrm>
                <a:off x="2532240" y="1098360"/>
                <a:ext cx="491904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标题 1"/>
            <p:cNvSpPr/>
            <p:nvPr/>
          </p:nvSpPr>
          <p:spPr>
            <a:xfrm>
              <a:off x="3390480" y="990720"/>
              <a:ext cx="32025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热情很高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" descr="tb2"/>
          <p:cNvPicPr/>
          <p:nvPr/>
        </p:nvPicPr>
        <p:blipFill>
          <a:blip r:embed="rId8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3"/>
          <p:cNvSpPr/>
          <p:nvPr/>
        </p:nvSpPr>
        <p:spPr>
          <a:xfrm>
            <a:off x="842040" y="2057400"/>
            <a:ext cx="78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学情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320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圆角矩形 6"/>
          <p:cNvSpPr/>
          <p:nvPr/>
        </p:nvSpPr>
        <p:spPr>
          <a:xfrm>
            <a:off x="457200" y="1143000"/>
            <a:ext cx="8305920" cy="510552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0" y="198108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授课对象：初三年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程度：对篮球的基本技术有一定的掌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学任务：教授学生掌握正确的方法跟技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学生的篮球水平　　　　　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22320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圆角矩形 6"/>
          <p:cNvSpPr/>
          <p:nvPr/>
        </p:nvSpPr>
        <p:spPr>
          <a:xfrm>
            <a:off x="762120" y="914400"/>
            <a:ext cx="7848360" cy="556272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895480" y="31240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教学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2133720" y="1066680"/>
            <a:ext cx="5037120" cy="944640"/>
            <a:chOff x="2133720" y="1066680"/>
            <a:chExt cx="5037120" cy="944640"/>
          </a:xfrm>
        </p:grpSpPr>
        <p:grpSp>
          <p:nvGrpSpPr>
            <p:cNvPr id="202" name=""/>
            <p:cNvGrpSpPr/>
            <p:nvPr/>
          </p:nvGrpSpPr>
          <p:grpSpPr>
            <a:xfrm>
              <a:off x="2133720" y="1101240"/>
              <a:ext cx="5037120" cy="910080"/>
              <a:chOff x="2133720" y="1101240"/>
              <a:chExt cx="5037120" cy="910080"/>
            </a:xfrm>
          </p:grpSpPr>
          <p:pic>
            <p:nvPicPr>
              <p:cNvPr id="203" name="圆角矩形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33720" y="1101240"/>
                <a:ext cx="503712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8">
                <a:hlinkClick r:id="rId4"/>
              </p:cNvPr>
              <p:cNvSpPr/>
              <p:nvPr/>
            </p:nvSpPr>
            <p:spPr>
              <a:xfrm>
                <a:off x="2226240" y="1174320"/>
                <a:ext cx="484560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标题 1"/>
            <p:cNvSpPr/>
            <p:nvPr/>
          </p:nvSpPr>
          <p:spPr>
            <a:xfrm>
              <a:off x="3071880" y="1066680"/>
              <a:ext cx="315468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认知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086600" y="1447560"/>
            <a:ext cx="944640" cy="4351320"/>
            <a:chOff x="7086600" y="1447560"/>
            <a:chExt cx="944640" cy="4351320"/>
          </a:xfrm>
        </p:grpSpPr>
        <p:grpSp>
          <p:nvGrpSpPr>
            <p:cNvPr id="207" name=""/>
            <p:cNvGrpSpPr/>
            <p:nvPr/>
          </p:nvGrpSpPr>
          <p:grpSpPr>
            <a:xfrm>
              <a:off x="7121160" y="1447560"/>
              <a:ext cx="910080" cy="4351320"/>
              <a:chOff x="7121160" y="1447560"/>
              <a:chExt cx="910080" cy="4351320"/>
            </a:xfrm>
          </p:grpSpPr>
          <p:pic>
            <p:nvPicPr>
              <p:cNvPr id="208" name="圆角矩形 4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5400360" y="3168000"/>
                <a:ext cx="435132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13"/>
              <p:cNvSpPr/>
              <p:nvPr/>
            </p:nvSpPr>
            <p:spPr>
              <a:xfrm rot="16200000">
                <a:off x="5438880" y="3288600"/>
                <a:ext cx="418572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标题 1">
              <a:hlinkClick r:id="rId6"/>
            </p:cNvPr>
            <p:cNvSpPr/>
            <p:nvPr/>
          </p:nvSpPr>
          <p:spPr>
            <a:xfrm rot="16200000">
              <a:off x="6169320" y="3180600"/>
              <a:ext cx="272520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3"/>
          <p:cNvSpPr/>
          <p:nvPr/>
        </p:nvSpPr>
        <p:spPr>
          <a:xfrm>
            <a:off x="223200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33720" y="5105520"/>
            <a:ext cx="5029200" cy="944280"/>
            <a:chOff x="2133720" y="5105520"/>
            <a:chExt cx="5029200" cy="944280"/>
          </a:xfrm>
        </p:grpSpPr>
        <p:grpSp>
          <p:nvGrpSpPr>
            <p:cNvPr id="213" name=""/>
            <p:cNvGrpSpPr/>
            <p:nvPr/>
          </p:nvGrpSpPr>
          <p:grpSpPr>
            <a:xfrm>
              <a:off x="2133720" y="5140080"/>
              <a:ext cx="5029200" cy="909720"/>
              <a:chOff x="2133720" y="5140080"/>
              <a:chExt cx="5029200" cy="909720"/>
            </a:xfrm>
          </p:grpSpPr>
          <p:pic>
            <p:nvPicPr>
              <p:cNvPr id="214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2133720" y="5140080"/>
                <a:ext cx="5029200" cy="9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 Box 19">
                <a:hlinkClick r:id="rId8"/>
              </p:cNvPr>
              <p:cNvSpPr/>
              <p:nvPr/>
            </p:nvSpPr>
            <p:spPr>
              <a:xfrm>
                <a:off x="2226240" y="5213160"/>
                <a:ext cx="483768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标题 1"/>
            <p:cNvSpPr/>
            <p:nvPr/>
          </p:nvSpPr>
          <p:spPr>
            <a:xfrm>
              <a:off x="3070440" y="5105520"/>
              <a:ext cx="314964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体能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95280" y="1600200"/>
            <a:ext cx="944640" cy="4141800"/>
            <a:chOff x="1295280" y="1600200"/>
            <a:chExt cx="944640" cy="4141800"/>
          </a:xfrm>
        </p:grpSpPr>
        <p:grpSp>
          <p:nvGrpSpPr>
            <p:cNvPr id="218" name=""/>
            <p:cNvGrpSpPr/>
            <p:nvPr/>
          </p:nvGrpSpPr>
          <p:grpSpPr>
            <a:xfrm>
              <a:off x="1295280" y="1600200"/>
              <a:ext cx="910080" cy="4141800"/>
              <a:chOff x="1295280" y="1600200"/>
              <a:chExt cx="910080" cy="4141800"/>
            </a:xfrm>
          </p:grpSpPr>
          <p:pic>
            <p:nvPicPr>
              <p:cNvPr id="219" name="圆角矩形 4" descr=""/>
              <p:cNvPicPr/>
              <p:nvPr/>
            </p:nvPicPr>
            <p:blipFill>
              <a:blip r:embed="rId9"/>
              <a:stretch/>
            </p:blipFill>
            <p:spPr>
              <a:xfrm rot="5400000">
                <a:off x="-320400" y="3215880"/>
                <a:ext cx="414180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24"/>
              <p:cNvSpPr/>
              <p:nvPr/>
            </p:nvSpPr>
            <p:spPr>
              <a:xfrm rot="5400000">
                <a:off x="-197280" y="3331440"/>
                <a:ext cx="398412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标题 1">
              <a:hlinkClick r:id="rId10"/>
            </p:cNvPr>
            <p:cNvSpPr/>
            <p:nvPr/>
          </p:nvSpPr>
          <p:spPr>
            <a:xfrm rot="5400000">
              <a:off x="497160" y="3223080"/>
              <a:ext cx="25941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26"/>
          <p:cNvSpPr/>
          <p:nvPr/>
        </p:nvSpPr>
        <p:spPr>
          <a:xfrm>
            <a:off x="1025280" y="2590920"/>
            <a:ext cx="103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技 能 目 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815160" y="2514600"/>
            <a:ext cx="103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感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1"/>
          <p:cNvSpPr/>
          <p:nvPr/>
        </p:nvSpPr>
        <p:spPr>
          <a:xfrm>
            <a:off x="4572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重点：上篮时脚步动作的一大、二小、三高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533520" y="51055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难点：运球与上篮的协调配合、上篮时手腕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力及对球的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223200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20101222211622916"/>
          <p:cNvPicPr/>
          <p:nvPr/>
        </p:nvPicPr>
        <p:blipFill>
          <a:blip r:embed="rId3"/>
          <a:stretch/>
        </p:blipFill>
        <p:spPr>
          <a:xfrm>
            <a:off x="1447920" y="91440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8733 -3.33333E-006 C -1.28733 -0.04676 -1.14323 -0.08264 -0.96806 -0.08264 C -0.78767 -0.08264 -0.64358 -0.04676 -0.64358 -3.33333E-006 C -0.64358 0.04676 -0.49965 0.08264 -0.31927 0.08264 C -0.1441 0.08264 2.77778E-007 0.04676 2.77778E-007 -3.33333E-006 E">
                                      <p:cBhvr>
                                        <p:cTn id="240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6:41:16Z</dcterms:created>
  <dc:creator/>
  <dc:description/>
  <dc:language>en-US</dc:language>
  <cp:lastModifiedBy>a</cp:lastModifiedBy>
  <dcterms:modified xsi:type="dcterms:W3CDTF">2015-06-13T09:06:59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