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9F6-8445-4A59-8958-4E21E5B6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ACC-0C0A-4A9D-BDE2-5CBEA845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437-6D9B-48AB-840A-E8CC9096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3B9-E7D7-4C35-B60F-587EE7CD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682-7A90-4590-9904-1DD479AD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727-F80F-4845-95C2-BFD1D5EC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91A8-29C2-4D25-8D2C-17AA926B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8A1E-C2A7-4ACB-8B15-6444E4A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37D1-B538-4057-920D-4AB1C27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9C1-40FE-4DD9-83A7-786786C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5039-7DB1-4FFD-B458-DE0A9C0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834-272C-4826-BE57-31E72B82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A8D6-0DB2-4723-B9E8-7E581F28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529B-1A54-4388-BE2D-08883D2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009-46B7-4ED8-AE8C-30505B8C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9C8-36AB-416C-BC9D-860B1D06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BA4B-452D-4FFE-B439-7BD6059B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5D4-C2D6-40B5-BF2C-A09C427F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96D-35D7-44A1-A947-E9CD4D46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067-BDAA-4B96-8A29-2D6D7103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D72-8C36-4FE1-8557-0B17455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1C0-B339-4702-936D-AB1FE09F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46A-9F53-48DC-BF2B-81CB173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2F28-991C-4988-ACE4-C086D61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207-9F27-4A45-919B-C515B478D1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6EB1-609F-49D9-B0FE-5D763ACC5E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80E-B4BD-4AB8-A79F-1841D8E214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C775-8CD7-4834-B814-8B79B9500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66"/>
          <p:cNvGrpSpPr/>
          <p:nvPr/>
        </p:nvGrpSpPr>
        <p:grpSpPr>
          <a:xfrm>
            <a:off x="2106720" y="1511280"/>
            <a:ext cx="4176720" cy="3732120"/>
            <a:chOff x="2106720" y="1511280"/>
            <a:chExt cx="4176720" cy="3732120"/>
          </a:xfrm>
        </p:grpSpPr>
        <p:grpSp>
          <p:nvGrpSpPr>
            <p:cNvPr id="83" name="组合 61"/>
            <p:cNvGrpSpPr/>
            <p:nvPr/>
          </p:nvGrpSpPr>
          <p:grpSpPr>
            <a:xfrm>
              <a:off x="2383920" y="1511280"/>
              <a:ext cx="3284640" cy="2327040"/>
              <a:chOff x="2383920" y="1511280"/>
              <a:chExt cx="3284640" cy="2327040"/>
            </a:xfrm>
          </p:grpSpPr>
          <p:sp>
            <p:nvSpPr>
              <p:cNvPr id="84" name="Freeform 7"/>
              <p:cNvSpPr/>
              <p:nvPr/>
            </p:nvSpPr>
            <p:spPr>
              <a:xfrm>
                <a:off x="2383920" y="1511280"/>
                <a:ext cx="3051000" cy="175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>
                <a:off x="4582080" y="3327840"/>
                <a:ext cx="1081800" cy="51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4614480" y="3407400"/>
                <a:ext cx="1026000" cy="35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>
                <a:off x="2426040" y="1511280"/>
                <a:ext cx="3021120" cy="172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2"/>
              <p:cNvSpPr/>
              <p:nvPr/>
            </p:nvSpPr>
            <p:spPr>
              <a:xfrm>
                <a:off x="2979720" y="1541520"/>
                <a:ext cx="2688840" cy="219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2"/>
              <p:cNvSpPr/>
              <p:nvPr/>
            </p:nvSpPr>
            <p:spPr>
              <a:xfrm>
                <a:off x="2984760" y="1517400"/>
                <a:ext cx="2654280" cy="1482120"/>
              </a:xfrm>
              <a:prstGeom prst="pie">
                <a:avLst/>
              </a:prstGeom>
              <a:solidFill>
                <a:srgbClr val="f2f2f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组合 30"/>
            <p:cNvGrpSpPr/>
            <p:nvPr/>
          </p:nvGrpSpPr>
          <p:grpSpPr>
            <a:xfrm>
              <a:off x="2106720" y="1756080"/>
              <a:ext cx="3153240" cy="3193560"/>
              <a:chOff x="2106720" y="1756080"/>
              <a:chExt cx="3153240" cy="3193560"/>
            </a:xfrm>
          </p:grpSpPr>
          <p:sp>
            <p:nvSpPr>
              <p:cNvPr id="91" name="Freeform 9"/>
              <p:cNvSpPr/>
              <p:nvPr/>
            </p:nvSpPr>
            <p:spPr>
              <a:xfrm>
                <a:off x="2583360" y="2001600"/>
                <a:ext cx="2666520" cy="115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2106720" y="2349720"/>
                <a:ext cx="574920" cy="2599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0"/>
              <p:cNvSpPr/>
              <p:nvPr/>
            </p:nvSpPr>
            <p:spPr>
              <a:xfrm>
                <a:off x="2439720" y="1980360"/>
                <a:ext cx="2810520" cy="112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1"/>
              <p:cNvSpPr/>
              <p:nvPr/>
            </p:nvSpPr>
            <p:spPr>
              <a:xfrm>
                <a:off x="2172960" y="2705400"/>
                <a:ext cx="519120" cy="21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"/>
              <p:cNvSpPr/>
              <p:nvPr/>
            </p:nvSpPr>
            <p:spPr>
              <a:xfrm>
                <a:off x="2190960" y="1835640"/>
                <a:ext cx="3065400" cy="2884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1"/>
              <p:cNvSpPr/>
              <p:nvPr/>
            </p:nvSpPr>
            <p:spPr>
              <a:xfrm>
                <a:off x="5112720" y="2887560"/>
                <a:ext cx="146160" cy="190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6"/>
              <p:cNvSpPr/>
              <p:nvPr/>
            </p:nvSpPr>
            <p:spPr>
              <a:xfrm>
                <a:off x="2185560" y="1756080"/>
                <a:ext cx="3074400" cy="170136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62"/>
            <p:cNvGrpSpPr/>
            <p:nvPr/>
          </p:nvGrpSpPr>
          <p:grpSpPr>
            <a:xfrm>
              <a:off x="2962440" y="2152080"/>
              <a:ext cx="3321000" cy="3091320"/>
              <a:chOff x="2962440" y="2152080"/>
              <a:chExt cx="3321000" cy="3091320"/>
            </a:xfrm>
          </p:grpSpPr>
          <p:sp>
            <p:nvSpPr>
              <p:cNvPr id="99" name="Freeform 8"/>
              <p:cNvSpPr/>
              <p:nvPr/>
            </p:nvSpPr>
            <p:spPr>
              <a:xfrm>
                <a:off x="3520080" y="2293920"/>
                <a:ext cx="972720" cy="3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2962440" y="2559240"/>
                <a:ext cx="3321000" cy="2684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8"/>
              <p:cNvSpPr/>
              <p:nvPr/>
            </p:nvSpPr>
            <p:spPr>
              <a:xfrm>
                <a:off x="3011760" y="2752560"/>
                <a:ext cx="3271680" cy="240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>
                <a:off x="3510000" y="2274120"/>
                <a:ext cx="982440" cy="43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29"/>
              <p:cNvSpPr/>
              <p:nvPr/>
            </p:nvSpPr>
            <p:spPr>
              <a:xfrm>
                <a:off x="3022560" y="2170440"/>
                <a:ext cx="3210120" cy="2948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3020760" y="2152080"/>
                <a:ext cx="1465920" cy="93924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63"/>
            <p:cNvGrpSpPr/>
            <p:nvPr/>
          </p:nvGrpSpPr>
          <p:grpSpPr>
            <a:xfrm>
              <a:off x="3642840" y="2192760"/>
              <a:ext cx="2432160" cy="2302200"/>
              <a:chOff x="3642840" y="2192760"/>
              <a:chExt cx="2432160" cy="2302200"/>
            </a:xfrm>
          </p:grpSpPr>
          <p:sp>
            <p:nvSpPr>
              <p:cNvPr id="106" name="Freeform 6"/>
              <p:cNvSpPr/>
              <p:nvPr/>
            </p:nvSpPr>
            <p:spPr>
              <a:xfrm>
                <a:off x="5312160" y="2192760"/>
                <a:ext cx="618120" cy="1255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1"/>
              <p:cNvSpPr/>
              <p:nvPr/>
            </p:nvSpPr>
            <p:spPr>
              <a:xfrm>
                <a:off x="3642840" y="2814840"/>
                <a:ext cx="2428920" cy="1680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6"/>
              <p:cNvSpPr/>
              <p:nvPr/>
            </p:nvSpPr>
            <p:spPr>
              <a:xfrm>
                <a:off x="5312160" y="2192760"/>
                <a:ext cx="633240" cy="135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7"/>
              <p:cNvSpPr/>
              <p:nvPr/>
            </p:nvSpPr>
            <p:spPr>
              <a:xfrm>
                <a:off x="3687120" y="2860560"/>
                <a:ext cx="2349720" cy="154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3700800" y="2596680"/>
                <a:ext cx="2374200" cy="175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4"/>
              <p:cNvSpPr/>
              <p:nvPr/>
            </p:nvSpPr>
            <p:spPr>
              <a:xfrm>
                <a:off x="3706560" y="2693520"/>
                <a:ext cx="211680" cy="23400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5672880" y="2593080"/>
                <a:ext cx="287280" cy="507960"/>
              </a:xfrm>
              <a:prstGeom prst="pi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任意多边形 32"/>
          <p:cNvSpPr/>
          <p:nvPr/>
        </p:nvSpPr>
        <p:spPr>
          <a:xfrm flipH="1">
            <a:off x="5185800" y="3157560"/>
            <a:ext cx="2049480" cy="468360"/>
          </a:xfrm>
          <a:prstGeom prst="pie">
            <a:avLst/>
          </a:prstGeom>
          <a:noFill/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3"/>
          <p:cNvSpPr/>
          <p:nvPr/>
        </p:nvSpPr>
        <p:spPr>
          <a:xfrm flipV="1">
            <a:off x="1692360" y="4282200"/>
            <a:ext cx="2152440" cy="466920"/>
          </a:xfrm>
          <a:prstGeom prst="pie">
            <a:avLst/>
          </a:prstGeom>
          <a:noFill/>
          <a:ln w="648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34"/>
          <p:cNvSpPr/>
          <p:nvPr/>
        </p:nvSpPr>
        <p:spPr>
          <a:xfrm flipH="1" flipV="1">
            <a:off x="4541760" y="3908520"/>
            <a:ext cx="2697120" cy="473040"/>
          </a:xfrm>
          <a:prstGeom prst="pie">
            <a:avLst/>
          </a:prstGeom>
          <a:noFill/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35"/>
          <p:cNvSpPr/>
          <p:nvPr/>
        </p:nvSpPr>
        <p:spPr>
          <a:xfrm>
            <a:off x="1687680" y="2031840"/>
            <a:ext cx="3235320" cy="466920"/>
          </a:xfrm>
          <a:prstGeom prst="pie">
            <a:avLst/>
          </a:prstGeom>
          <a:noFill/>
          <a:ln w="648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9"/>
          <p:cNvSpPr/>
          <p:nvPr/>
        </p:nvSpPr>
        <p:spPr>
          <a:xfrm>
            <a:off x="1619280" y="1785960"/>
            <a:ext cx="25200" cy="53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0"/>
          <p:cNvSpPr/>
          <p:nvPr/>
        </p:nvSpPr>
        <p:spPr>
          <a:xfrm>
            <a:off x="1620720" y="4464000"/>
            <a:ext cx="25560" cy="53964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1"/>
          <p:cNvSpPr/>
          <p:nvPr/>
        </p:nvSpPr>
        <p:spPr>
          <a:xfrm>
            <a:off x="7292880" y="4111560"/>
            <a:ext cx="25560" cy="539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7291440" y="2887560"/>
            <a:ext cx="25200" cy="5400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 flipH="1">
            <a:off x="527040" y="19843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6"/>
          <p:cNvSpPr/>
          <p:nvPr/>
        </p:nvSpPr>
        <p:spPr>
          <a:xfrm>
            <a:off x="587520" y="167148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36c09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 flipH="1">
            <a:off x="527040" y="46656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587520" y="4352760"/>
            <a:ext cx="11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970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flipH="1">
            <a:off x="7326360" y="3070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2"/>
          <p:cNvSpPr/>
          <p:nvPr/>
        </p:nvSpPr>
        <p:spPr>
          <a:xfrm>
            <a:off x="7346880" y="275760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e1247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7326360" y="4292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7346880" y="398160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596700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螺旋交错关系</a:t>
            </a:r>
            <a:r>
              <a:rPr b="1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