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25C-CBC9-40BC-802B-B1D2C118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8E8-9799-4541-8F08-4B63D32C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8B4-3825-43F6-B51A-CF3F8D20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438-081F-4E3D-A489-3C9B54C1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A8A1-F4B7-4EBF-9B3C-629AFF75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CCFF-1087-4C7A-A2CA-F91360EB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9F3B-7C77-440D-B588-EDBD5982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9B8E-DF9F-42C2-A11B-50BA90F9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380B-A774-4B30-A812-25057387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D78C-EF59-483F-B444-F383877F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7964-6635-4348-8B75-5C5D2597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0FC-CA98-40A5-A29F-FA5D24BD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0596-7FE0-432E-81AA-F821AF6F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4118-A555-4C01-A79F-62A18361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CE9F-9506-4956-B97F-1BAD9AAD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411D-C21B-4927-A3A7-58BC9509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32C3-C0CE-4FC7-8A22-6FC8DF27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F26-0034-44EC-BE47-8C9C443E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0C3-D813-42D4-B942-EBAADF94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D10-0877-4297-A3EC-7880F491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B0F-05CA-41B3-8190-74E11ED9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ECE-B4BD-4536-9678-69AF6A3A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753-6B3C-46C6-A240-1B470181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BE9-23E3-41BB-97AC-17A3D987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084C-6B77-43AC-98F4-57D7CF71CA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4F29-5F48-47E2-A1A4-39DB4216F2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B768-DF9B-4C0A-A014-10D110C702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8FCA-3DEF-427B-8B8F-E57B172C4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65"/>
          <p:cNvSpPr/>
          <p:nvPr/>
        </p:nvSpPr>
        <p:spPr>
          <a:xfrm>
            <a:off x="1857240" y="5072040"/>
            <a:ext cx="5286600" cy="2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4"/>
          <p:cNvSpPr/>
          <p:nvPr/>
        </p:nvSpPr>
        <p:spPr>
          <a:xfrm>
            <a:off x="4357800" y="4844880"/>
            <a:ext cx="428400" cy="4287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"/>
          <p:cNvSpPr/>
          <p:nvPr/>
        </p:nvSpPr>
        <p:spPr>
          <a:xfrm rot="1040400">
            <a:off x="1020600" y="3813120"/>
            <a:ext cx="7091640" cy="1290600"/>
          </a:xfrm>
          <a:prstGeom prst="roundRect">
            <a:avLst>
              <a:gd name="adj" fmla="val 898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362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1"/>
          <p:cNvGrpSpPr/>
          <p:nvPr/>
        </p:nvGrpSpPr>
        <p:grpSpPr>
          <a:xfrm>
            <a:off x="5500800" y="3571920"/>
            <a:ext cx="1062000" cy="1168560"/>
            <a:chOff x="5500800" y="3571920"/>
            <a:chExt cx="1062000" cy="1168560"/>
          </a:xfrm>
        </p:grpSpPr>
        <p:grpSp>
          <p:nvGrpSpPr>
            <p:cNvPr id="86" name="组合 12"/>
            <p:cNvGrpSpPr/>
            <p:nvPr/>
          </p:nvGrpSpPr>
          <p:grpSpPr>
            <a:xfrm>
              <a:off x="5500800" y="3571920"/>
              <a:ext cx="1062000" cy="1062000"/>
              <a:chOff x="5500800" y="3571920"/>
              <a:chExt cx="1062000" cy="1062000"/>
            </a:xfrm>
          </p:grpSpPr>
          <p:sp>
            <p:nvSpPr>
              <p:cNvPr id="87" name="椭圆 14"/>
              <p:cNvSpPr/>
              <p:nvPr/>
            </p:nvSpPr>
            <p:spPr>
              <a:xfrm>
                <a:off x="5500800" y="3571920"/>
                <a:ext cx="1062000" cy="10620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椭圆 15"/>
              <p:cNvSpPr/>
              <p:nvPr/>
            </p:nvSpPr>
            <p:spPr>
              <a:xfrm>
                <a:off x="5535720" y="3638520"/>
                <a:ext cx="672480" cy="554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椭圆 13"/>
            <p:cNvSpPr/>
            <p:nvPr/>
          </p:nvSpPr>
          <p:spPr>
            <a:xfrm rot="20122200">
              <a:off x="5879880" y="4395240"/>
              <a:ext cx="644400" cy="221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Oval 65"/>
          <p:cNvSpPr/>
          <p:nvPr/>
        </p:nvSpPr>
        <p:spPr>
          <a:xfrm>
            <a:off x="1522440" y="4051440"/>
            <a:ext cx="11430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16"/>
          <p:cNvGrpSpPr/>
          <p:nvPr/>
        </p:nvGrpSpPr>
        <p:grpSpPr>
          <a:xfrm>
            <a:off x="1500120" y="2857680"/>
            <a:ext cx="1276560" cy="1404360"/>
            <a:chOff x="1500120" y="2857680"/>
            <a:chExt cx="1276560" cy="1404360"/>
          </a:xfrm>
        </p:grpSpPr>
        <p:grpSp>
          <p:nvGrpSpPr>
            <p:cNvPr id="92" name="组合 17"/>
            <p:cNvGrpSpPr/>
            <p:nvPr/>
          </p:nvGrpSpPr>
          <p:grpSpPr>
            <a:xfrm>
              <a:off x="1500120" y="2857680"/>
              <a:ext cx="1276560" cy="1276200"/>
              <a:chOff x="1500120" y="2857680"/>
              <a:chExt cx="1276560" cy="1276200"/>
            </a:xfrm>
          </p:grpSpPr>
          <p:sp>
            <p:nvSpPr>
              <p:cNvPr id="93" name="椭圆 19"/>
              <p:cNvSpPr/>
              <p:nvPr/>
            </p:nvSpPr>
            <p:spPr>
              <a:xfrm>
                <a:off x="1500120" y="2857680"/>
                <a:ext cx="1276560" cy="12762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椭圆 20"/>
              <p:cNvSpPr/>
              <p:nvPr/>
            </p:nvSpPr>
            <p:spPr>
              <a:xfrm>
                <a:off x="1541880" y="2937960"/>
                <a:ext cx="808560" cy="6656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椭圆 18"/>
            <p:cNvSpPr/>
            <p:nvPr/>
          </p:nvSpPr>
          <p:spPr>
            <a:xfrm rot="20122200">
              <a:off x="1955520" y="3846600"/>
              <a:ext cx="774720" cy="26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Oval 65"/>
          <p:cNvSpPr/>
          <p:nvPr/>
        </p:nvSpPr>
        <p:spPr>
          <a:xfrm rot="393000">
            <a:off x="6653160" y="4778280"/>
            <a:ext cx="11430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0"/>
          <p:cNvGrpSpPr/>
          <p:nvPr/>
        </p:nvGrpSpPr>
        <p:grpSpPr>
          <a:xfrm>
            <a:off x="6643800" y="3571920"/>
            <a:ext cx="1276200" cy="1404360"/>
            <a:chOff x="6643800" y="3571920"/>
            <a:chExt cx="1276200" cy="1404360"/>
          </a:xfrm>
        </p:grpSpPr>
        <p:grpSp>
          <p:nvGrpSpPr>
            <p:cNvPr id="98" name="组合 5"/>
            <p:cNvGrpSpPr/>
            <p:nvPr/>
          </p:nvGrpSpPr>
          <p:grpSpPr>
            <a:xfrm>
              <a:off x="6643800" y="3571920"/>
              <a:ext cx="1276200" cy="1276200"/>
              <a:chOff x="6643800" y="3571920"/>
              <a:chExt cx="1276200" cy="1276200"/>
            </a:xfrm>
          </p:grpSpPr>
          <p:sp>
            <p:nvSpPr>
              <p:cNvPr id="99" name="椭圆 6"/>
              <p:cNvSpPr/>
              <p:nvPr/>
            </p:nvSpPr>
            <p:spPr>
              <a:xfrm>
                <a:off x="6643800" y="3571920"/>
                <a:ext cx="1276200" cy="12762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椭圆 7"/>
              <p:cNvSpPr/>
              <p:nvPr/>
            </p:nvSpPr>
            <p:spPr>
              <a:xfrm>
                <a:off x="6685560" y="3652200"/>
                <a:ext cx="808200" cy="6656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椭圆 9"/>
            <p:cNvSpPr/>
            <p:nvPr/>
          </p:nvSpPr>
          <p:spPr>
            <a:xfrm rot="20122200">
              <a:off x="7099200" y="4561200"/>
              <a:ext cx="774360" cy="26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Oval 65"/>
          <p:cNvSpPr/>
          <p:nvPr/>
        </p:nvSpPr>
        <p:spPr>
          <a:xfrm rot="555000">
            <a:off x="5572080" y="4594320"/>
            <a:ext cx="857160" cy="171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下箭头 26"/>
          <p:cNvSpPr/>
          <p:nvPr/>
        </p:nvSpPr>
        <p:spPr>
          <a:xfrm rot="16801800">
            <a:off x="3879000" y="2838600"/>
            <a:ext cx="757080" cy="1663920"/>
          </a:xfrm>
          <a:prstGeom prst="down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2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1698480" y="3298680"/>
            <a:ext cx="8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6838920" y="4013280"/>
            <a:ext cx="8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5572080" y="3936960"/>
            <a:ext cx="8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 rot="563400">
            <a:off x="3574080" y="3454200"/>
            <a:ext cx="1214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1220760" y="1582560"/>
            <a:ext cx="189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9"/>
          <p:cNvSpPr/>
          <p:nvPr/>
        </p:nvSpPr>
        <p:spPr>
          <a:xfrm>
            <a:off x="1285920" y="1309680"/>
            <a:ext cx="1581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36c09"/>
                </a:solidFill>
                <a:latin typeface="微软雅黑"/>
                <a:ea typeface="微软雅黑"/>
              </a:rPr>
              <a:t>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9"/>
          <p:cNvSpPr/>
          <p:nvPr/>
        </p:nvSpPr>
        <p:spPr>
          <a:xfrm>
            <a:off x="1214280" y="2143080"/>
            <a:ext cx="189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9"/>
          <p:cNvSpPr/>
          <p:nvPr/>
        </p:nvSpPr>
        <p:spPr>
          <a:xfrm>
            <a:off x="6364440" y="2201760"/>
            <a:ext cx="189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9"/>
          <p:cNvSpPr/>
          <p:nvPr/>
        </p:nvSpPr>
        <p:spPr>
          <a:xfrm>
            <a:off x="6429240" y="1928880"/>
            <a:ext cx="1581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6357960" y="2762280"/>
            <a:ext cx="1900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4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比关系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系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1360" y="310824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比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5:5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