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B36-D79C-46D4-8876-43CA991D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2CB-7F63-4F83-B4CA-A85E9EE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C73-DB4D-4451-A171-996EB713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EF6-3459-4ABC-9DDF-90FE7A60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2E8-82FA-4B75-B52F-1BDEF720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138-E521-468B-A3D6-A8F37D71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544-AA54-47A2-9095-126BCEA7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74D-DFC5-486C-BE51-3DEDCB57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F4B-DEA2-4686-970D-A25514C9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14A-561F-42DC-B5DF-4E847FD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6A8-6AB9-4509-8486-BE828DE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82D-3257-4777-8FAC-1641F9DB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4FAD-2C97-44B2-A794-009CBA5ED5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E1D4-0F1A-47E6-8CB8-CB491F18F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5248440"/>
            <a:ext cx="9161640" cy="1609560"/>
          </a:xfrm>
          <a:custGeom>
            <a:avLst/>
            <a:gdLst/>
            <a:ahLst/>
            <a:rect l="l" t="t" r="r" b="b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-15840" y="4305240"/>
            <a:ext cx="9158400" cy="1571760"/>
          </a:xfrm>
          <a:custGeom>
            <a:avLst/>
            <a:gdLst/>
            <a:ahLst/>
            <a:rect l="l" t="t" r="r" b="b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"/>
          <p:cNvSpPr/>
          <p:nvPr/>
        </p:nvSpPr>
        <p:spPr>
          <a:xfrm>
            <a:off x="-15840" y="2665440"/>
            <a:ext cx="9159840" cy="1695600"/>
          </a:xfrm>
          <a:custGeom>
            <a:avLst/>
            <a:gdLst/>
            <a:ahLst/>
            <a:rect l="l" t="t" r="r" b="b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-15840" y="1701720"/>
            <a:ext cx="9164520" cy="1446120"/>
          </a:xfrm>
          <a:custGeom>
            <a:avLst/>
            <a:gdLst/>
            <a:ahLst/>
            <a:rect l="l" t="t" r="r" b="b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-3240" y="227160"/>
            <a:ext cx="9151920" cy="1792080"/>
          </a:xfrm>
          <a:custGeom>
            <a:avLst/>
            <a:gdLst/>
            <a:ahLst/>
            <a:rect l="l" t="t" r="r" b="b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0" y="-20520"/>
            <a:ext cx="9151920" cy="128592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21435600">
            <a:off x="-2176200" y="2013120"/>
            <a:ext cx="771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蜜蜂</a:t>
            </a: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 rot="21420000">
            <a:off x="258840" y="2603160"/>
            <a:ext cx="51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4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Documents and Settings\Administrator\桌面\图片1.png"/>
          <p:cNvPicPr/>
          <p:nvPr/>
        </p:nvPicPr>
        <p:blipFill>
          <a:blip r:embed="rId1"/>
          <a:stretch/>
        </p:blipFill>
        <p:spPr>
          <a:xfrm>
            <a:off x="2073240" y="2693880"/>
            <a:ext cx="4230720" cy="1238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2340000" y="3608280"/>
            <a:ext cx="4395600" cy="18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2135160" y="2644920"/>
            <a:ext cx="4957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 flipH="1" rot="831600">
            <a:off x="1798920" y="2477880"/>
            <a:ext cx="12193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58" name="Picture 2" descr=""/>
            <p:cNvPicPr/>
            <p:nvPr/>
          </p:nvPicPr>
          <p:blipFill>
            <a:blip r:embed="rId3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" descr=""/>
            <p:cNvPicPr/>
            <p:nvPr/>
          </p:nvPicPr>
          <p:blipFill>
            <a:blip r:embed="rId5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"/>
            <p:cNvPicPr/>
            <p:nvPr/>
          </p:nvPicPr>
          <p:blipFill>
            <a:blip r:embed="rId6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7268400" y="6607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1.85185E-006 L 0.44063 1.85185E-006 E">
                                      <p:cBhvr>
                                        <p:cTn id="69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71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72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74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椭圆 19"/>
          <p:cNvSpPr/>
          <p:nvPr/>
        </p:nvSpPr>
        <p:spPr>
          <a:xfrm>
            <a:off x="7064280" y="833400"/>
            <a:ext cx="676440" cy="660600"/>
          </a:xfrm>
          <a:prstGeom prst="ellipse">
            <a:avLst/>
          </a:prstGeom>
          <a:solidFill>
            <a:srgbClr val="d9d9d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"/>
          <p:cNvSpPr/>
          <p:nvPr/>
        </p:nvSpPr>
        <p:spPr>
          <a:xfrm>
            <a:off x="-392040" y="5516640"/>
            <a:ext cx="1434960" cy="1441440"/>
          </a:xfrm>
          <a:prstGeom prst="ellips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355320" y="-699120"/>
            <a:ext cx="1973880" cy="1874160"/>
            <a:chOff x="-355320" y="-699120"/>
            <a:chExt cx="1973880" cy="1874160"/>
          </a:xfrm>
        </p:grpSpPr>
        <p:sp>
          <p:nvSpPr>
            <p:cNvPr id="66" name="Rectangle 4"/>
            <p:cNvSpPr/>
            <p:nvPr/>
          </p:nvSpPr>
          <p:spPr>
            <a:xfrm>
              <a:off x="-11160" y="3240"/>
              <a:ext cx="968760" cy="829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 rot="19526400">
              <a:off x="-156960" y="-356400"/>
              <a:ext cx="15778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sp>
        <p:nvSpPr>
          <p:cNvPr id="70" name="椭圆 16"/>
          <p:cNvSpPr/>
          <p:nvPr/>
        </p:nvSpPr>
        <p:spPr>
          <a:xfrm>
            <a:off x="4718160" y="3838680"/>
            <a:ext cx="1295280" cy="131904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7"/>
          <p:cNvSpPr/>
          <p:nvPr/>
        </p:nvSpPr>
        <p:spPr>
          <a:xfrm>
            <a:off x="1314360" y="2217600"/>
            <a:ext cx="2178000" cy="2148120"/>
          </a:xfrm>
          <a:prstGeom prst="ellipse">
            <a:avLst/>
          </a:prstGeom>
          <a:solidFill>
            <a:srgbClr val="d9d9d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8"/>
          <p:cNvSpPr/>
          <p:nvPr/>
        </p:nvSpPr>
        <p:spPr>
          <a:xfrm>
            <a:off x="4743360" y="2297160"/>
            <a:ext cx="906480" cy="922320"/>
          </a:xfrm>
          <a:prstGeom prst="ellipse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8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8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9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9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AA3-5CCF-4B73-86FA-4C3FA3A144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30:4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