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811-231B-43C5-B3D2-8F3E6FB1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B09-F0BD-430A-B375-EA87C3A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030-9224-426D-A710-BA1AF16D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BA0-C7D5-418A-BA53-DD0E090A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4C9-F842-4654-88B8-4E3AE1A0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F9C-D0F8-4E9C-8387-33B6B86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8E0-7ABF-4975-AC0F-7E9E75A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993-3594-451A-88CA-39331704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346-AF27-44AE-BC76-D067DF8F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563-FD57-4F73-BEED-40551B0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167-32C3-4DDC-A74B-EAF5A225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C4D-04CD-4419-AC8D-3B499989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329-7A96-4EE5-94C6-EA16EBE83D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DFE-129E-47A0-ADF5-727083A7E7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5093-13102ZR13374.jpg"/>
          <p:cNvPicPr/>
          <p:nvPr/>
        </p:nvPicPr>
        <p:blipFill>
          <a:blip r:embed="rId1"/>
          <a:stretch/>
        </p:blipFill>
        <p:spPr>
          <a:xfrm>
            <a:off x="4881600" y="15840"/>
            <a:ext cx="4286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35103-13031FS01628.jpg"/>
          <p:cNvPicPr/>
          <p:nvPr/>
        </p:nvPicPr>
        <p:blipFill>
          <a:blip r:embed="rId1"/>
          <a:stretch/>
        </p:blipFill>
        <p:spPr>
          <a:xfrm>
            <a:off x="4160880" y="879480"/>
            <a:ext cx="4983120" cy="59785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67859-1303010F11369.jpg"/>
          <p:cNvPicPr/>
          <p:nvPr/>
        </p:nvPicPr>
        <p:blipFill>
          <a:blip r:embed="rId1"/>
          <a:stretch/>
        </p:blipFill>
        <p:spPr>
          <a:xfrm>
            <a:off x="0" y="-1440"/>
            <a:ext cx="7520040" cy="685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