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06D9-5E96-4077-A07E-3EADE6C2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4BF3-3BFA-4E41-9CDC-1174C7C4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1E70-B359-4BEA-9219-7B5B7B30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033-50B1-43E9-8B21-AA4DAA6F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0AF-3AA1-4595-B929-B7B367EE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A15C-9601-4B3A-8C02-33B5C069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2E1-4B84-40AB-8254-16F3ACCB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9F3A-F72B-4FDC-9916-766D64FB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37C-4497-49E9-8059-0C4DD771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7D0-6CC7-4D88-BBA8-8DAA5435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9602-3E40-4860-9E28-F22E88AE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CAD-A693-492B-BE02-3790E8D8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EFA0-9CD3-4550-88F7-A10F251C57F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C184-4895-468D-883B-C4EB0F20E1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2481466_225303001652_2.jpg"/>
          <p:cNvPicPr/>
          <p:nvPr/>
        </p:nvPicPr>
        <p:blipFill>
          <a:blip r:embed="rId1"/>
          <a:stretch/>
        </p:blipFill>
        <p:spPr>
          <a:xfrm>
            <a:off x="0" y="803160"/>
            <a:ext cx="914400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20111114_1da4f58d05cb14993859r02ieCqWpV7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9:1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