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5CA-6AC8-4C8E-A998-5CBDF171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6E5-5637-46C6-BC39-47109036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B42-6D36-4B41-927C-B4BBCE3A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CC6-0FE7-4CB7-9377-A5655D6B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2F15-748F-4B35-A0B0-00381C24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7449-CD2F-4394-8FEE-C287D970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17B5-7AE1-4AED-BA31-CA0755E5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117C-AD18-49FC-84F3-935910D4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4084-A15A-41B6-AA61-37C0B70D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1EC1-C8BB-4ADF-9602-D592C167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C5C1-81A8-497C-B44A-D6E5D4B5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B4E-B84C-4468-88DA-387DCC3A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5C77-9DEA-477E-8055-9F225114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D6AE-98DC-4711-B320-790F43DC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198C-A182-490C-A834-A643CEDE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5000-799B-4DC2-804A-8EE17578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83F1-F790-4285-AB14-6A8D8D40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8F0-3669-4C98-B910-DC2246AD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8AB-78EA-4BCB-9723-5E2B89D7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D91-3927-48A9-A995-F3FDD208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66A-18C3-45C4-870E-9B95AB0E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E46-74FD-4DFC-8946-895371AA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DCE-A906-4C04-A9A7-E02D2742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2BD-EC69-4EDF-80F7-8A7381D8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1026-939A-448C-888A-161A336790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9F6A-7FDE-4501-A311-3CC69A1608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674A-9C1B-485F-8010-B5D618F688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06D5-FDCA-4423-B453-232DC3017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57000" y="6477120"/>
            <a:ext cx="22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迷你简柏青"/>
                <a:ea typeface="迷你简柏青"/>
              </a:rPr>
              <a:t>www.eeppt.com</a:t>
            </a:r>
            <a:r>
              <a:rPr b="0" lang="zh-CN" sz="1800" spc="-1" strike="noStrike">
                <a:solidFill>
                  <a:srgbClr val="008000"/>
                </a:solidFill>
                <a:latin typeface="迷你简柏青"/>
                <a:ea typeface="迷你简柏青"/>
              </a:rPr>
              <a:t>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0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