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8AC-0B66-48D2-9987-C620E03F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CFA-F824-46F4-AC56-736A4691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4B0-5612-4E4E-899D-AA99A22B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DA1-787F-40D0-9D63-272D6759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762-25BD-40B7-AB89-476671E5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85A-0C0B-47A7-900A-9752D4F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E47-BB8A-4BC0-81EE-E3B248DE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33D-C283-4E5B-87EE-916C914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42D6-1AB2-4AD3-8D63-A886486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289-7310-4207-8ECF-874CBC6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ADB-8D5F-4551-8F35-C5BBECC7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DA5-0BFF-4441-878B-8445214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FBD-C2F5-44D0-99A5-ED27300ED3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1EAC-8A0C-4EDD-A548-AC42D6CA5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​​ 13"/>
          <p:cNvSpPr/>
          <p:nvPr/>
        </p:nvSpPr>
        <p:spPr>
          <a:xfrm>
            <a:off x="0" y="3573360"/>
            <a:ext cx="9144000" cy="12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​​ 14"/>
          <p:cNvSpPr/>
          <p:nvPr/>
        </p:nvSpPr>
        <p:spPr>
          <a:xfrm>
            <a:off x="4414680" y="1463760"/>
            <a:ext cx="3961080" cy="33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http://86g5.com/bbs/attachments/month_1004/10040922276c9edcce0c049945.png"/>
          <p:cNvPicPr/>
          <p:nvPr/>
        </p:nvPicPr>
        <p:blipFill>
          <a:blip r:embed="rId1"/>
          <a:stretch/>
        </p:blipFill>
        <p:spPr>
          <a:xfrm>
            <a:off x="684360" y="134136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45" name="矩形​​ 12"/>
          <p:cNvSpPr/>
          <p:nvPr/>
        </p:nvSpPr>
        <p:spPr>
          <a:xfrm>
            <a:off x="4427640" y="836640"/>
            <a:ext cx="3960720" cy="576360"/>
          </a:xfrm>
          <a:prstGeom prst="rect">
            <a:avLst/>
          </a:prstGeom>
          <a:solidFill>
            <a:srgbClr val="538cd5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标题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5094000" y="1873080"/>
            <a:ext cx="16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​​ 6"/>
          <p:cNvSpPr/>
          <p:nvPr/>
        </p:nvSpPr>
        <p:spPr>
          <a:xfrm>
            <a:off x="0" y="4044960"/>
            <a:ext cx="9144000" cy="12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3"/>
          <p:cNvSpPr/>
          <p:nvPr/>
        </p:nvSpPr>
        <p:spPr>
          <a:xfrm>
            <a:off x="755640" y="1968480"/>
            <a:ext cx="3960720" cy="33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4"/>
          <p:cNvSpPr/>
          <p:nvPr/>
        </p:nvSpPr>
        <p:spPr>
          <a:xfrm>
            <a:off x="755640" y="1339920"/>
            <a:ext cx="3960720" cy="576360"/>
          </a:xfrm>
          <a:prstGeom prst="rect">
            <a:avLst/>
          </a:prstGeom>
          <a:solidFill>
            <a:srgbClr val="538cd5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标题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433880" y="2378160"/>
            <a:ext cx="16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4" descr="http://ui.okbase.net/ui/life/2009/05/826.png"/>
          <p:cNvPicPr/>
          <p:nvPr/>
        </p:nvPicPr>
        <p:blipFill>
          <a:blip r:embed="rId1"/>
          <a:stretch/>
        </p:blipFill>
        <p:spPr>
          <a:xfrm>
            <a:off x="5003640" y="1793880"/>
            <a:ext cx="3510000" cy="3508200"/>
          </a:xfrm>
          <a:prstGeom prst="rect">
            <a:avLst/>
          </a:prstGeom>
          <a:ln w="0">
            <a:noFill/>
          </a:ln>
        </p:spPr>
      </p:pic>
      <p:sp>
        <p:nvSpPr>
          <p:cNvPr id="57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5433840" y="944640"/>
            <a:ext cx="2810160" cy="94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433840" y="3435480"/>
            <a:ext cx="2810160" cy="94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6"/>
          <p:cNvGrpSpPr/>
          <p:nvPr/>
        </p:nvGrpSpPr>
        <p:grpSpPr>
          <a:xfrm>
            <a:off x="584280" y="836640"/>
            <a:ext cx="4564080" cy="4665600"/>
            <a:chOff x="584280" y="836640"/>
            <a:chExt cx="4564080" cy="4665600"/>
          </a:xfrm>
        </p:grpSpPr>
        <p:sp>
          <p:nvSpPr>
            <p:cNvPr id="68" name="椭圆​​ 2"/>
            <p:cNvSpPr/>
            <p:nvPr/>
          </p:nvSpPr>
          <p:spPr>
            <a:xfrm>
              <a:off x="1046160" y="1441080"/>
              <a:ext cx="3460320" cy="3460320"/>
            </a:xfrm>
            <a:prstGeom prst="ellipse">
              <a:avLst/>
            </a:prstGeom>
            <a:noFill/>
            <a:ln w="12600">
              <a:solidFill>
                <a:srgbClr val="a5a5a5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​​ 9"/>
            <p:cNvSpPr/>
            <p:nvPr/>
          </p:nvSpPr>
          <p:spPr>
            <a:xfrm>
              <a:off x="2271240" y="83664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​​ 10"/>
            <p:cNvSpPr/>
            <p:nvPr/>
          </p:nvSpPr>
          <p:spPr>
            <a:xfrm>
              <a:off x="2271240" y="449208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​​ 13"/>
            <p:cNvSpPr/>
            <p:nvPr/>
          </p:nvSpPr>
          <p:spPr>
            <a:xfrm>
              <a:off x="584280" y="1846800"/>
              <a:ext cx="1008720" cy="100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​​ 18"/>
            <p:cNvSpPr/>
            <p:nvPr/>
          </p:nvSpPr>
          <p:spPr>
            <a:xfrm>
              <a:off x="657720" y="3658320"/>
              <a:ext cx="1010160" cy="10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​​ 3"/>
            <p:cNvSpPr/>
            <p:nvPr/>
          </p:nvSpPr>
          <p:spPr>
            <a:xfrm>
              <a:off x="1915200" y="2310120"/>
              <a:ext cx="1722240" cy="172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录入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流程图: 摘录 4"/>
            <p:cNvSpPr/>
            <p:nvPr/>
          </p:nvSpPr>
          <p:spPr>
            <a:xfrm>
              <a:off x="2520000" y="18864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流程图: 摘录 19"/>
            <p:cNvSpPr/>
            <p:nvPr/>
          </p:nvSpPr>
          <p:spPr>
            <a:xfrm flipV="1">
              <a:off x="2496600" y="40788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流程图: 摘录 20"/>
            <p:cNvSpPr/>
            <p:nvPr/>
          </p:nvSpPr>
          <p:spPr>
            <a:xfrm flipH="1" rot="14187000">
              <a:off x="1515240" y="368964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5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流程图: 摘录 21"/>
            <p:cNvSpPr/>
            <p:nvPr/>
          </p:nvSpPr>
          <p:spPr>
            <a:xfrm flipH="1" rot="17812800">
              <a:off x="1485360" y="2457000"/>
              <a:ext cx="576720" cy="333360"/>
            </a:xfrm>
            <a:prstGeom prst="flowChartExtra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右箭头​​ 5"/>
            <p:cNvSpPr/>
            <p:nvPr/>
          </p:nvSpPr>
          <p:spPr>
            <a:xfrm>
              <a:off x="3481560" y="1926720"/>
              <a:ext cx="1666800" cy="255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22"/>
          <p:cNvSpPr/>
          <p:nvPr/>
        </p:nvSpPr>
        <p:spPr>
          <a:xfrm>
            <a:off x="5433840" y="4681440"/>
            <a:ext cx="2810160" cy="943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5433840" y="2189160"/>
            <a:ext cx="2810160" cy="94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72000" anchor="b">
            <a:no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​​ 24"/>
          <p:cNvSpPr/>
          <p:nvPr/>
        </p:nvSpPr>
        <p:spPr>
          <a:xfrm>
            <a:off x="5587920" y="69228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​​ 25"/>
          <p:cNvSpPr/>
          <p:nvPr/>
        </p:nvSpPr>
        <p:spPr>
          <a:xfrm>
            <a:off x="5587920" y="194004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​​ 26"/>
          <p:cNvSpPr/>
          <p:nvPr/>
        </p:nvSpPr>
        <p:spPr>
          <a:xfrm>
            <a:off x="5578560" y="3187800"/>
            <a:ext cx="542880" cy="54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​​ 27"/>
          <p:cNvSpPr/>
          <p:nvPr/>
        </p:nvSpPr>
        <p:spPr>
          <a:xfrm>
            <a:off x="5587920" y="4437000"/>
            <a:ext cx="54000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9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