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75DD-1DD1-4BB9-96F6-0AFF8360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434-9CE1-4525-9466-E917AFE2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588-1134-4B91-8A29-66347A00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543-C55E-4650-BD63-4927574C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E2BD-25D3-43B7-8C38-2713C4B2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F527-6872-4595-9F4A-44189A6E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F6BF-7C8B-46AB-9E4C-66990FFD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3601-DC76-4847-89BE-4AC4905A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4640-5B08-47A6-91EE-7E1653D0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6DFA-D23A-4348-89D5-10755978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D482-7CB0-43CD-8291-1CB67B16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A0D-535D-43BD-A08F-BF1A2E18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CD11-A32B-4195-8041-3DBBF5A6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61B7-7047-46B9-BE05-73438EB9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BE2B-85FA-45B2-B764-EE59219E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412C-53A6-4CA0-8C35-671CA8DB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0F1F-5ADC-40E7-A563-617EDC12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0A9-3186-49C4-93CA-AF90C89C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5F5-AA1F-4681-8154-DD981D4B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A92-82E7-4AF3-842B-5D98C7AA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DC08-7C18-4BC4-83E6-7BD41B92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676C-13FD-49F8-BCD3-2C31B43F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3BBE-F846-4D9D-90F2-F1A2A66F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7672-97E9-4428-8F64-FD8AAEEC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D7D0-28AF-4BCF-B947-4F7283EBC37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05D2-4966-4B0A-ABB1-9A3D39ED45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4301-BC6B-4AEA-ADDB-21C8FC7943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ED18-7694-40A0-A511-6594BA0C8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​​ 27"/>
          <p:cNvSpPr/>
          <p:nvPr/>
        </p:nvSpPr>
        <p:spPr>
          <a:xfrm>
            <a:off x="1476360" y="1773360"/>
            <a:ext cx="6264360" cy="2376360"/>
          </a:xfrm>
          <a:prstGeom prst="rect">
            <a:avLst/>
          </a:prstGeom>
          <a:solidFill>
            <a:srgbClr val="f2f2f2"/>
          </a:solidFill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304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​​ 6"/>
          <p:cNvSpPr/>
          <p:nvPr/>
        </p:nvSpPr>
        <p:spPr>
          <a:xfrm>
            <a:off x="0" y="5013360"/>
            <a:ext cx="914400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​​ 7"/>
          <p:cNvSpPr/>
          <p:nvPr/>
        </p:nvSpPr>
        <p:spPr>
          <a:xfrm>
            <a:off x="2963880" y="5013360"/>
            <a:ext cx="93672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​​ 9"/>
          <p:cNvSpPr/>
          <p:nvPr/>
        </p:nvSpPr>
        <p:spPr>
          <a:xfrm>
            <a:off x="2050920" y="4834080"/>
            <a:ext cx="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​​ 10"/>
          <p:cNvSpPr/>
          <p:nvPr/>
        </p:nvSpPr>
        <p:spPr>
          <a:xfrm>
            <a:off x="3895560" y="4834080"/>
            <a:ext cx="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​​ 11"/>
          <p:cNvSpPr/>
          <p:nvPr/>
        </p:nvSpPr>
        <p:spPr>
          <a:xfrm>
            <a:off x="2973240" y="4834080"/>
            <a:ext cx="180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​​ 12"/>
          <p:cNvSpPr/>
          <p:nvPr/>
        </p:nvSpPr>
        <p:spPr>
          <a:xfrm>
            <a:off x="4816440" y="4834080"/>
            <a:ext cx="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​​ 13"/>
          <p:cNvSpPr/>
          <p:nvPr/>
        </p:nvSpPr>
        <p:spPr>
          <a:xfrm>
            <a:off x="5738760" y="4834080"/>
            <a:ext cx="180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​​ 14"/>
          <p:cNvSpPr/>
          <p:nvPr/>
        </p:nvSpPr>
        <p:spPr>
          <a:xfrm>
            <a:off x="6659640" y="4834080"/>
            <a:ext cx="1440" cy="1792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5"/>
          <p:cNvSpPr/>
          <p:nvPr/>
        </p:nvSpPr>
        <p:spPr>
          <a:xfrm>
            <a:off x="2302920" y="47354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6"/>
          <p:cNvSpPr/>
          <p:nvPr/>
        </p:nvSpPr>
        <p:spPr>
          <a:xfrm>
            <a:off x="3223440" y="47354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9012"/>
                </a:solidFill>
                <a:latin typeface="Arial Unicode MS"/>
                <a:ea typeface="Arial Unicode MS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7"/>
          <p:cNvSpPr/>
          <p:nvPr/>
        </p:nvSpPr>
        <p:spPr>
          <a:xfrm>
            <a:off x="4145760" y="47354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8"/>
          <p:cNvSpPr/>
          <p:nvPr/>
        </p:nvSpPr>
        <p:spPr>
          <a:xfrm>
            <a:off x="5068080" y="47354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9"/>
          <p:cNvSpPr/>
          <p:nvPr/>
        </p:nvSpPr>
        <p:spPr>
          <a:xfrm>
            <a:off x="5988960" y="47354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20" descr=""/>
          <p:cNvPicPr/>
          <p:nvPr/>
        </p:nvPicPr>
        <p:blipFill>
          <a:blip r:embed="rId1"/>
          <a:srcRect l="0" t="7602" r="0" b="8468"/>
          <a:stretch/>
        </p:blipFill>
        <p:spPr>
          <a:xfrm>
            <a:off x="1569960" y="1917720"/>
            <a:ext cx="1609920" cy="2031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21"/>
          <p:cNvSpPr/>
          <p:nvPr/>
        </p:nvSpPr>
        <p:spPr>
          <a:xfrm>
            <a:off x="4114080" y="2421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章节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2"/>
          <p:cNvSpPr/>
          <p:nvPr/>
        </p:nvSpPr>
        <p:spPr>
          <a:xfrm>
            <a:off x="4287240" y="314172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章节内容的简单介绍或者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​​ 23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4"/>
          <p:cNvSpPr/>
          <p:nvPr/>
        </p:nvSpPr>
        <p:spPr>
          <a:xfrm>
            <a:off x="3933720" y="5897520"/>
            <a:ext cx="17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章过度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5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6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5:1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