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165-ACE0-47DE-B226-997B5BEF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CC1-CE90-4EEB-8772-E945AAD3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139-205B-456C-A8EC-D1DCC5C7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208-8B45-4F66-8C9D-79D5F8B5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A04-1219-4551-A828-90C8746D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171-9D38-48A8-B68D-EC4842E3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9EF-D8AD-4CAB-87E1-B95195DC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3A5-C74F-4AAB-A06E-3CEC5C69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C57-FEEE-44B6-9C0A-A04BA5C2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45C-EB52-4701-94BD-9B973B49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893-AB31-401C-B0E7-7CF1B208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F98-905F-4F38-AF19-61998EBB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50CA-BEBB-4247-8DC4-E348E93CEF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1D51-C27A-408A-BF03-8DB71F3859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all"/>
          <p:cNvPicPr/>
          <p:nvPr/>
        </p:nvPicPr>
        <p:blipFill>
          <a:blip r:embed="rId1"/>
          <a:stretch/>
        </p:blipFill>
        <p:spPr>
          <a:xfrm>
            <a:off x="1905120" y="12952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066680" y="1981080"/>
            <a:ext cx="20163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029200" y="54864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143000" y="5029200"/>
            <a:ext cx="201600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095880" y="335268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uzzle3"/>
          <p:cNvSpPr/>
          <p:nvPr/>
        </p:nvSpPr>
        <p:spPr>
          <a:xfrm>
            <a:off x="6156360" y="1916280"/>
            <a:ext cx="1766880" cy="239868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857160 h 2398680"/>
              <a:gd name="textAreaBottom" fmla="*/ 2247480 h 2398680"/>
            </a:gdLst>
            <a:ahLst/>
            <a:rect l="textAreaLeft" t="textAreaTop" r="textAreaRight" b="textAreaBottom"/>
            <a:pathLst>
              <a:path w="21653" h="21678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9955"/>
              </a:gs>
            </a:gsLst>
            <a:lin ang="5400000"/>
          </a:gradFill>
          <a:ln w="57240">
            <a:solidFill>
              <a:srgbClr val="ffffff"/>
            </a:solidFill>
            <a:round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uzzle2"/>
          <p:cNvSpPr/>
          <p:nvPr/>
        </p:nvSpPr>
        <p:spPr>
          <a:xfrm>
            <a:off x="3059280" y="371628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e374"/>
              </a:gs>
            </a:gsLst>
            <a:lin ang="5400000"/>
          </a:gradFill>
          <a:ln w="57240">
            <a:solidFill>
              <a:srgbClr val="ffffff"/>
            </a:solidFill>
            <a:round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uzzle4"/>
          <p:cNvSpPr/>
          <p:nvPr/>
        </p:nvSpPr>
        <p:spPr>
          <a:xfrm>
            <a:off x="684360" y="4292640"/>
            <a:ext cx="1699920" cy="2793960"/>
          </a:xfrm>
          <a:custGeom>
            <a:avLst/>
            <a:gdLst>
              <a:gd name="textAreaLeft" fmla="*/ 163080 w 1699920"/>
              <a:gd name="textAreaRight" fmla="*/ 1590120 w 169992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18" h="21666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gradFill rotWithShape="0">
            <a:gsLst>
              <a:gs pos="0">
                <a:srgbClr val="8cd59c"/>
              </a:gs>
              <a:gs pos="100000">
                <a:srgbClr val="20ae3e"/>
              </a:gs>
            </a:gsLst>
            <a:lin ang="13500000"/>
          </a:gradFill>
          <a:ln w="57240">
            <a:solidFill>
              <a:srgbClr val="ffffff"/>
            </a:solidFill>
            <a:round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zzle1"/>
          <p:cNvSpPr/>
          <p:nvPr/>
        </p:nvSpPr>
        <p:spPr>
          <a:xfrm>
            <a:off x="611280" y="1844640"/>
            <a:ext cx="2855880" cy="166536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360"/>
              <a:gd name="textAreaBottom" fmla="*/ 1507680 h 1665360"/>
            </a:gdLst>
            <a:ahLst/>
            <a:rect l="textAreaLeft" t="textAreaTop" r="textAreaRight" b="textAreaBottom"/>
            <a:pathLst>
              <a:path w="21645" h="2173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976060"/>
              </a:gs>
            </a:gsLst>
            <a:lin ang="5400000"/>
          </a:gradFill>
          <a:ln w="57240">
            <a:solidFill>
              <a:srgbClr val="ffffff"/>
            </a:solidFill>
            <a:round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8432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84456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444760" y="1447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273560" y="56386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52480" y="1447920"/>
            <a:ext cx="4495680" cy="4514400"/>
            <a:chOff x="1752480" y="1447920"/>
            <a:chExt cx="4495680" cy="4514400"/>
          </a:xfrm>
        </p:grpSpPr>
        <p:sp>
          <p:nvSpPr>
            <p:cNvPr id="58" name="Puzzle3"/>
            <p:cNvSpPr/>
            <p:nvPr/>
          </p:nvSpPr>
          <p:spPr>
            <a:xfrm>
              <a:off x="3941640" y="1447920"/>
              <a:ext cx="1767240" cy="2399040"/>
            </a:xfrm>
            <a:custGeom>
              <a:avLst/>
              <a:gdLst>
                <a:gd name="textAreaLeft" fmla="*/ 185400 w 1767240"/>
                <a:gd name="textAreaRight" fmla="*/ 1567440 w 176724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53" h="21678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9955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uzzle2"/>
            <p:cNvSpPr/>
            <p:nvPr/>
          </p:nvSpPr>
          <p:spPr>
            <a:xfrm>
              <a:off x="3427920" y="3195720"/>
              <a:ext cx="2820240" cy="218520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5200"/>
                <a:gd name="textAreaBottom" fmla="*/ 2068200 h 21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e374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uzzle4"/>
            <p:cNvSpPr/>
            <p:nvPr/>
          </p:nvSpPr>
          <p:spPr>
            <a:xfrm>
              <a:off x="2336040" y="31687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18" h="21666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8cd59c"/>
                </a:gs>
                <a:gs pos="100000">
                  <a:srgbClr val="20ae3e"/>
                </a:gs>
              </a:gsLst>
              <a:lin ang="135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uzzle1"/>
            <p:cNvSpPr/>
            <p:nvPr/>
          </p:nvSpPr>
          <p:spPr>
            <a:xfrm>
              <a:off x="1752480" y="2173680"/>
              <a:ext cx="2855520" cy="166500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000"/>
                <a:gd name="textAreaBottom" fmla="*/ 1506600 h 1665000"/>
              </a:gdLst>
              <a:ahLst/>
              <a:rect l="textAreaLeft" t="textAreaTop" r="textAreaRight" b="textAreaBottom"/>
              <a:pathLst>
                <a:path w="21645" h="2173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76060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8"/>
          <p:cNvSpPr/>
          <p:nvPr/>
        </p:nvSpPr>
        <p:spPr>
          <a:xfrm>
            <a:off x="594468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04920" y="33526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905120" y="1447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3733920" y="56386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AC8-E84D-4C1D-B1A4-86561FDEFE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49:4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