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EBF-5CB8-494C-A5CD-625BBCF9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59F-8DE4-4D15-A47D-C7463EBD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7C6-F5A7-4B5E-A615-07CE9017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A69-5B01-4DCC-A3DA-51E57144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47FD-2DAA-43C0-8A0D-0F5E8E7E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CE45-A14E-459C-98CD-BF93EB0A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C919-942C-4ACE-B523-D20FBF40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1791-FC38-428B-81AC-303CA76F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DDA0-5253-425C-8C1B-EA03BBCE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8A43-073D-4507-AF89-E411DE0D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63A1-2F07-44C8-8FBD-6EEBD45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0D4-4988-4649-9F7D-E4915CE2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D3EB-7413-4D93-AC1D-56232BC7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7429-24F4-4165-866A-38ED603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47F0-545F-4304-BB18-E2C0FE98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E20B-1DBE-4D06-92AF-82642670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A6C2-7C79-4B70-8DBE-AD54BFFC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866-BD27-464D-B6D7-C4B6D74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3E3-0B5F-43AF-B1ED-2344DCE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3C0-1DF6-4176-A56D-5D2EC243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09E-2F26-498D-BA45-969404E6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058-2094-4E2B-AA1E-A8638AC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F3E-4C06-483F-80AF-09B1AA9B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3B3-CCCF-43FB-8885-C9D49BBC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566-AC01-44CE-AE30-63096B5325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C597-6667-494C-9B6C-9D0583A6AE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677-9215-41D9-8B6B-FA1F062488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DBDB-6BF0-4F74-BFA7-CB19D671B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8"/>
          <p:cNvGrpSpPr/>
          <p:nvPr/>
        </p:nvGrpSpPr>
        <p:grpSpPr>
          <a:xfrm>
            <a:off x="754200" y="1920960"/>
            <a:ext cx="4032000" cy="4008240"/>
            <a:chOff x="754200" y="1920960"/>
            <a:chExt cx="4032000" cy="4008240"/>
          </a:xfrm>
        </p:grpSpPr>
        <p:sp>
          <p:nvSpPr>
            <p:cNvPr id="83" name="Freeform 2"/>
            <p:cNvSpPr/>
            <p:nvPr/>
          </p:nvSpPr>
          <p:spPr>
            <a:xfrm>
              <a:off x="2112120" y="3269160"/>
              <a:ext cx="131040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112120" y="1920960"/>
              <a:ext cx="159768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754200" y="1924560"/>
              <a:ext cx="1593720" cy="131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756000" y="4331880"/>
              <a:ext cx="1306440" cy="1595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1826640" y="4619160"/>
              <a:ext cx="1595520" cy="131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3184920" y="4615200"/>
              <a:ext cx="1601280" cy="131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464280" y="1920960"/>
              <a:ext cx="130860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756000" y="2983680"/>
              <a:ext cx="1591920" cy="160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 rot="10800000">
              <a:off x="3175200" y="3255480"/>
              <a:ext cx="159768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Freeform 8"/>
          <p:cNvSpPr/>
          <p:nvPr/>
        </p:nvSpPr>
        <p:spPr>
          <a:xfrm rot="1453800">
            <a:off x="5240160" y="4587480"/>
            <a:ext cx="1336680" cy="109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948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125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1"/>
          <p:cNvSpPr/>
          <p:nvPr/>
        </p:nvSpPr>
        <p:spPr>
          <a:xfrm rot="10800000">
            <a:off x="6715080" y="4048200"/>
            <a:ext cx="1333440" cy="133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125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5637240" y="2265480"/>
            <a:ext cx="21207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5637240" y="2922480"/>
            <a:ext cx="21207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5651640" y="1870200"/>
            <a:ext cx="2120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调说明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5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