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2B0-70C8-49BD-B0AE-3D180207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289-72D7-42C4-820D-25EFFEF6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BE5-FE0E-425B-B857-F405261C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0AE-DB14-48F6-A115-741932DC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CBB-AB9F-4752-B58B-9B55936D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6D9-99C4-4A14-9C72-61C39961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9A9-6E56-4FAE-9200-37652E9F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17B-7BD1-4C64-B21C-CE46C8EE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155-4C93-457B-B7F2-172B05A5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419-C8CD-4E76-AEB6-633113E6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C92-E35F-4C92-8104-C6D672A8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54F-A96C-4A73-B18F-5262C5D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98FE-3190-40A8-A790-7836BD315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81760" y="64771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81760" y="64771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967-A99B-44CD-AA6A-D65D27B759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8:48:25Z</dcterms:created>
  <dc:creator/>
  <dc:description/>
  <dc:language>en-US</dc:language>
  <cp:lastModifiedBy>微软用户</cp:lastModifiedBy>
  <dcterms:modified xsi:type="dcterms:W3CDTF">2015-06-13T05:40:0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