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FE6-7198-413E-AB99-235E3BEF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A1C-508F-4765-A8AB-04D8BA0D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5D9-8849-4F72-8179-D53D2395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642-79C7-495D-9AB0-34DDEC29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1BF4-29CE-4B50-BD73-9D954A7D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E2E6-1A85-4788-B6DD-03579CEF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7D5-06F0-4764-848E-E7DBBD17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E60-6A21-499A-A720-CA20657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A275-CFBA-4293-A743-58133734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A8E-98EB-4EB1-9874-D5110533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C48-3267-488A-B3AB-4A0957A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9D1-8844-4D79-BD84-8C2FC241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D18-944F-499D-90A6-DE1B574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2F3-0BF7-48B0-A5C8-2ABAA3B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4F72-4C44-4365-B6FB-674BDAB9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593D-E80B-42D0-8DA6-E061171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C24E-78D8-406E-939A-7E01B0A8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55A-0DD7-4C6D-B763-406E729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291-5CC8-4258-B7B7-C69A052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170-052C-4989-99F2-E64E6E7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CB8-5786-4B30-A6BA-C020D9F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E17-3703-4D05-9416-65D83C6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FD9-46CD-476C-9A1E-5CDD58E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AE4-91E5-419A-8251-8911722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67D3-8EF9-4B2A-BD1A-FC56EDDF38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6064-C247-411B-983C-EF42505F9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C65D-1362-4716-A669-D79EE9BA20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DA34-1B30-4F63-B1F2-0FAB5FD3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 rot="21234600">
            <a:off x="3144960" y="4673520"/>
            <a:ext cx="3098520" cy="912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坏账率仅为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。由五年前的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7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，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坏账率大为下降，处同业最好水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869400" y="706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坏账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 rot="19837200">
            <a:off x="2754000" y="3490920"/>
            <a:ext cx="3279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2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