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E4B-BEBB-44AF-9854-1B47461B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395-675F-4602-AE85-E2BD3D93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CAB-D46E-4732-B7BA-804229D3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703-F643-47D0-B0B6-9A7BFA30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E35D-F84E-452D-93A9-6BB9416E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FFB8-AF70-49B4-9DF7-E35535A2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4AB6-32C0-415F-B2F5-AAA83C0C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F2AD-4CCC-472E-8398-357E73A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3549-5333-4139-A825-EA5C524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731C-93C5-4EDE-B05C-83001C76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D849-438B-4C27-8E89-049392EE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3A1-E913-42F4-B301-A17EFE78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B9DD-4E2D-45CC-ACCD-09893AF2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4BB1-773E-4709-A96B-CCB0AE4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4F0C-60D0-42A2-9992-99AD9FC5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829-9224-4B63-A476-9B0ABDF3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7A75-32F3-4ABB-B3AF-18955563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CA7-CEB2-4130-85AD-E319FC40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393-8187-4D46-BE58-1DF1C912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DC8-D3D4-4AD4-94A3-D939B946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1AF-F2DF-4DA6-9F52-69393FB8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A26-0431-4299-8F3E-BDFA597E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202-BCE9-4059-B57E-DD1718C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26D-B2A9-49AC-BE01-D0ADFAD1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3268800" y="0"/>
            <a:ext cx="5151240" cy="686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FD6F-5498-438D-844D-8717522822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7867800" y="272880"/>
            <a:ext cx="110304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-31680" y="2289240"/>
            <a:ext cx="9175680" cy="24717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23A4-2AF2-48F4-BC5C-BF26AC1AE0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hyperlink" Target="http://www.eeppt.com/moban/jiaoyu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5839560" y="41353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科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7337520" y="4135320"/>
            <a:ext cx="9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878040" y="2813040"/>
            <a:ext cx="78642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7518240" y="1766880"/>
            <a:ext cx="11034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7"/>
          <p:cNvSpPr/>
          <p:nvPr/>
        </p:nvSpPr>
        <p:spPr>
          <a:xfrm>
            <a:off x="3481560" y="2673360"/>
            <a:ext cx="34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，即将回校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3481560" y="1623960"/>
            <a:ext cx="382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拿大 蒙特利尔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图片 11" descr=""/>
          <p:cNvPicPr/>
          <p:nvPr/>
        </p:nvPicPr>
        <p:blipFill>
          <a:blip r:embed="rId1"/>
          <a:stretch/>
        </p:blipFill>
        <p:spPr>
          <a:xfrm>
            <a:off x="1598760" y="4462560"/>
            <a:ext cx="1557360" cy="8557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3" descr=""/>
          <p:cNvPicPr/>
          <p:nvPr/>
        </p:nvPicPr>
        <p:blipFill>
          <a:blip r:embed="rId2"/>
          <a:stretch/>
        </p:blipFill>
        <p:spPr>
          <a:xfrm>
            <a:off x="1263600" y="1712880"/>
            <a:ext cx="197640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矩形 15"/>
          <p:cNvSpPr/>
          <p:nvPr/>
        </p:nvSpPr>
        <p:spPr>
          <a:xfrm>
            <a:off x="3481560" y="4309920"/>
            <a:ext cx="282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国 蒙彼利埃第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7"/>
          <p:cNvSpPr/>
          <p:nvPr/>
        </p:nvSpPr>
        <p:spPr>
          <a:xfrm>
            <a:off x="3481560" y="5326200"/>
            <a:ext cx="3369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1601640" y="1781280"/>
            <a:ext cx="5774040" cy="3846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6166-A3B1-4924-9118-456EB0251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3319560" y="1724040"/>
            <a:ext cx="515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研究生课程 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。总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0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均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48960" y="3360600"/>
            <a:ext cx="4463280" cy="757800"/>
            <a:chOff x="3648960" y="3360600"/>
            <a:chExt cx="4463280" cy="757800"/>
          </a:xfrm>
        </p:grpSpPr>
        <p:sp>
          <p:nvSpPr>
            <p:cNvPr id="91" name="矩形 8"/>
            <p:cNvSpPr/>
            <p:nvPr/>
          </p:nvSpPr>
          <p:spPr>
            <a:xfrm>
              <a:off x="5499000" y="336060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6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9"/>
            <p:cNvSpPr/>
            <p:nvPr/>
          </p:nvSpPr>
          <p:spPr>
            <a:xfrm>
              <a:off x="6996240" y="336060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>
              <a:off x="3648960" y="37353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硕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矩形 11"/>
            <p:cNvSpPr/>
            <p:nvPr/>
          </p:nvSpPr>
          <p:spPr>
            <a:xfrm>
              <a:off x="5499000" y="371952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9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12"/>
            <p:cNvSpPr/>
            <p:nvPr/>
          </p:nvSpPr>
          <p:spPr>
            <a:xfrm>
              <a:off x="7104960" y="3719520"/>
              <a:ext cx="8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14"/>
            <p:cNvSpPr/>
            <p:nvPr/>
          </p:nvSpPr>
          <p:spPr>
            <a:xfrm>
              <a:off x="3648960" y="33764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博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2190600" y="324324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Paralife\Downloads\1305510976_ordinateur off.png"/>
          <p:cNvPicPr/>
          <p:nvPr/>
        </p:nvPicPr>
        <p:blipFill>
          <a:blip r:embed="rId2"/>
          <a:stretch/>
        </p:blipFill>
        <p:spPr>
          <a:xfrm>
            <a:off x="2313000" y="184464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99" name="矩形 15"/>
          <p:cNvSpPr/>
          <p:nvPr/>
        </p:nvSpPr>
        <p:spPr>
          <a:xfrm>
            <a:off x="3319560" y="4786200"/>
            <a:ext cx="51512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硕士论文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4" descr=""/>
          <p:cNvPicPr/>
          <p:nvPr/>
        </p:nvPicPr>
        <p:blipFill>
          <a:blip r:embed="rId3"/>
          <a:stretch/>
        </p:blipFill>
        <p:spPr>
          <a:xfrm rot="748200">
            <a:off x="2300400" y="4879800"/>
            <a:ext cx="966600" cy="966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4"/>
          <a:stretch/>
        </p:blipFill>
        <p:spPr>
          <a:xfrm>
            <a:off x="52560" y="382680"/>
            <a:ext cx="33955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7"/>
          <p:cNvSpPr/>
          <p:nvPr/>
        </p:nvSpPr>
        <p:spPr>
          <a:xfrm>
            <a:off x="3402000" y="2444760"/>
            <a:ext cx="4884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加了理学院化学博士点的建设工作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学一级学科博士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顺利通过教育部的批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3" descr=""/>
          <p:cNvPicPr/>
          <p:nvPr/>
        </p:nvPicPr>
        <p:blipFill>
          <a:blip r:embed="rId1"/>
          <a:stretch/>
        </p:blipFill>
        <p:spPr>
          <a:xfrm>
            <a:off x="1330200" y="2719440"/>
            <a:ext cx="1695600" cy="169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61880" y="115920"/>
            <a:ext cx="298764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3378240" y="5286240"/>
            <a:ext cx="457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了校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98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科建设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3413160" y="1711440"/>
            <a:ext cx="4887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组织并申报了西北工业大学</a:t>
            </a:r>
            <a:br>
              <a:rPr sz="1800"/>
            </a:b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分子化学与物理的博士后流动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3413160" y="3216240"/>
            <a:ext cx="488772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等学校科学研究及大型仪器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享平台</a:t>
            </a:r>
            <a:br>
              <a:rPr sz="20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材料已上报省教育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2" descr=""/>
          <p:cNvPicPr/>
          <p:nvPr/>
        </p:nvPicPr>
        <p:blipFill>
          <a:blip r:embed="rId1"/>
          <a:stretch/>
        </p:blipFill>
        <p:spPr>
          <a:xfrm>
            <a:off x="2190600" y="180648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Paralife\Downloads\1306049947_microscope.png"/>
          <p:cNvPicPr/>
          <p:nvPr/>
        </p:nvPicPr>
        <p:blipFill>
          <a:blip r:embed="rId2"/>
          <a:stretch/>
        </p:blipFill>
        <p:spPr>
          <a:xfrm>
            <a:off x="1928880" y="3368520"/>
            <a:ext cx="1384200" cy="138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2287440" y="51832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461880" y="115920"/>
            <a:ext cx="2987640" cy="140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04800" y="6342120"/>
            <a:ext cx="64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教育教学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3413160" y="2440080"/>
            <a:ext cx="48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生已留校工作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4" descr=""/>
          <p:cNvPicPr/>
          <p:nvPr/>
        </p:nvPicPr>
        <p:blipFill>
          <a:blip r:embed="rId1"/>
          <a:stretch/>
        </p:blipFill>
        <p:spPr>
          <a:xfrm>
            <a:off x="1998720" y="231300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115" name="矩形 5"/>
          <p:cNvSpPr/>
          <p:nvPr/>
        </p:nvSpPr>
        <p:spPr>
          <a:xfrm>
            <a:off x="3413160" y="3454560"/>
            <a:ext cx="372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破格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教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73040" y="3618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3456000" y="441000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田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3456000" y="5081760"/>
            <a:ext cx="482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博士后特别奖励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自然科学基金 青年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陕西省科学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I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，最高影响因子：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4.5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965960" y="863640"/>
            <a:ext cx="6168240" cy="1303200"/>
            <a:chOff x="1965960" y="863640"/>
            <a:chExt cx="6168240" cy="1303200"/>
          </a:xfrm>
        </p:grpSpPr>
        <p:sp>
          <p:nvSpPr>
            <p:cNvPr id="120" name="矩形 3"/>
            <p:cNvSpPr/>
            <p:nvPr/>
          </p:nvSpPr>
          <p:spPr>
            <a:xfrm>
              <a:off x="3455640" y="863640"/>
              <a:ext cx="4678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刘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6"/>
            <p:cNvSpPr/>
            <p:nvPr/>
          </p:nvSpPr>
          <p:spPr>
            <a:xfrm>
              <a:off x="3455640" y="1335240"/>
              <a:ext cx="4630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面上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CI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 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篇，最高影响因子：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.5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Picture 2" descr="C:\Users\Paralife\Downloads\1306051577_User.png"/>
            <p:cNvPicPr/>
            <p:nvPr/>
          </p:nvPicPr>
          <p:blipFill>
            <a:blip r:embed="rId1"/>
            <a:stretch/>
          </p:blipFill>
          <p:spPr>
            <a:xfrm flipH="1" rot="21081600">
              <a:off x="2042640" y="982800"/>
              <a:ext cx="1104840" cy="110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1924200" y="2344680"/>
            <a:ext cx="6210000" cy="2314080"/>
            <a:chOff x="1924200" y="2344680"/>
            <a:chExt cx="6210000" cy="2314080"/>
          </a:xfrm>
        </p:grpSpPr>
        <p:sp>
          <p:nvSpPr>
            <p:cNvPr id="124" name="矩形 7"/>
            <p:cNvSpPr/>
            <p:nvPr/>
          </p:nvSpPr>
          <p:spPr>
            <a:xfrm>
              <a:off x="3456000" y="2344680"/>
              <a:ext cx="2286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3456000" y="2739600"/>
              <a:ext cx="46782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洪堡基金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面上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青年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航空基金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CI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篇，最高影响因子：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.5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3" descr="C:\Users\Paralife\Downloads\1306051570_administrator.png"/>
            <p:cNvPicPr/>
            <p:nvPr/>
          </p:nvPicPr>
          <p:blipFill>
            <a:blip r:embed="rId2"/>
            <a:stretch/>
          </p:blipFill>
          <p:spPr>
            <a:xfrm>
              <a:off x="1924200" y="3104640"/>
              <a:ext cx="1190520" cy="119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4" descr="C:\Users\Paralife\Downloads\1306051563_administrator.png"/>
          <p:cNvPicPr/>
          <p:nvPr/>
        </p:nvPicPr>
        <p:blipFill>
          <a:blip r:embed="rId3"/>
          <a:stretch/>
        </p:blipFill>
        <p:spPr>
          <a:xfrm rot="21117600">
            <a:off x="1938240" y="531036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473040" y="136440"/>
            <a:ext cx="2987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3311640" y="760320"/>
            <a:ext cx="510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持科研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自然科学基金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部级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3311640" y="2643120"/>
            <a:ext cx="51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研经费累计到款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00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22" descr=""/>
          <p:cNvPicPr/>
          <p:nvPr/>
        </p:nvPicPr>
        <p:blipFill>
          <a:blip r:embed="rId1"/>
          <a:stretch/>
        </p:blipFill>
        <p:spPr>
          <a:xfrm>
            <a:off x="1963800" y="958680"/>
            <a:ext cx="130500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63520" y="3614760"/>
          <a:ext cx="8156520" cy="2967120"/>
        </p:xfrm>
        <a:graphic>
          <a:graphicData uri="http://schemas.openxmlformats.org/drawingml/2006/table">
            <a:tbl>
              <a:tblPr/>
              <a:tblGrid>
                <a:gridCol w="747720"/>
                <a:gridCol w="4100400"/>
                <a:gridCol w="852480"/>
                <a:gridCol w="1227240"/>
                <a:gridCol w="122868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项目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本人排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总经费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已到款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36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国家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横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</a:tbl>
          </a:graphicData>
        </a:graphic>
      </p:graphicFrame>
      <p:pic>
        <p:nvPicPr>
          <p:cNvPr id="133" name="图片 26" descr=""/>
          <p:cNvPicPr/>
          <p:nvPr/>
        </p:nvPicPr>
        <p:blipFill>
          <a:blip r:embed="rId2"/>
          <a:stretch/>
        </p:blipFill>
        <p:spPr>
          <a:xfrm>
            <a:off x="2208240" y="2597040"/>
            <a:ext cx="88596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3" descr=""/>
          <p:cNvPicPr/>
          <p:nvPr/>
        </p:nvPicPr>
        <p:blipFill>
          <a:blip r:embed="rId3"/>
          <a:stretch/>
        </p:blipFill>
        <p:spPr>
          <a:xfrm>
            <a:off x="63360" y="201600"/>
            <a:ext cx="33958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"/>
          <p:cNvSpPr/>
          <p:nvPr/>
        </p:nvSpPr>
        <p:spPr>
          <a:xfrm>
            <a:off x="3594240" y="2532240"/>
            <a:ext cx="5149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石油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油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行了大规模的推广应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由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1028880" y="1793880"/>
            <a:ext cx="2565360" cy="3857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3" descr=""/>
          <p:cNvPicPr/>
          <p:nvPr/>
        </p:nvPicPr>
        <p:blipFill>
          <a:blip r:embed="rId2"/>
          <a:stretch/>
        </p:blipFill>
        <p:spPr>
          <a:xfrm>
            <a:off x="63360" y="368280"/>
            <a:ext cx="33958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7"/>
          <p:cNvSpPr/>
          <p:nvPr/>
        </p:nvSpPr>
        <p:spPr>
          <a:xfrm>
            <a:off x="5083920" y="1852560"/>
            <a:ext cx="24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集成分子及大分子材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际会议（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IMME-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2765520" y="1852560"/>
            <a:ext cx="198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议名称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宣读论文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C:\Users\Paralife\Downloads\1305556563_Microphone.png"/>
          <p:cNvPicPr/>
          <p:nvPr/>
        </p:nvPicPr>
        <p:blipFill>
          <a:blip r:embed="rId1"/>
          <a:srcRect l="20145" t="0" r="20780" b="0"/>
          <a:stretch/>
        </p:blipFill>
        <p:spPr>
          <a:xfrm>
            <a:off x="1633680" y="2797200"/>
            <a:ext cx="1404720" cy="2379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8:48:18Z</dcterms:created>
  <dc:creator/>
  <dc:description/>
  <dc:language>en-US</dc:language>
  <cp:lastModifiedBy>a</cp:lastModifiedBy>
  <dcterms:modified xsi:type="dcterms:W3CDTF">2015-06-13T11:53:17Z</dcterms:modified>
  <cp:revision>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