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265-0E29-4D73-BB4F-BED581DF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2E9-38A5-4952-A547-9E19A944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678-7CF1-4DAC-84FB-A89520DF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3DF-2831-4CB2-8EC4-F9279DF4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E80-62E9-467E-8DF9-2CB76F8E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0DF2-0A38-4D84-871A-BC20F7A9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966-7D66-41A9-AFE3-85F0B592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C08-78BE-4E4B-A439-769FCA64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73F-B3C1-4D90-9982-C166BFAA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2E3-D30D-4757-808D-626706FD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D88-AF7F-4057-B374-4F0DAFF9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1C5-C1D0-49EC-B1E2-B3A1EB26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EF1D-D790-4BE0-97D6-EA47264FBF3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371C-C477-4CF3-976B-C9BC047719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1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4750"/>
          <a:stretch/>
        </p:blipFill>
        <p:spPr>
          <a:xfrm>
            <a:off x="-1141560" y="304920"/>
            <a:ext cx="10285560" cy="7010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738" t="0" r="738" b="3378"/>
          <a:stretch/>
        </p:blipFill>
        <p:spPr>
          <a:xfrm>
            <a:off x="-303120" y="0"/>
            <a:ext cx="9447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0" r="0" b="4750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-227160" y="0"/>
            <a:ext cx="9142560" cy="7009920"/>
            <a:chOff x="-227160" y="0"/>
            <a:chExt cx="9142560" cy="7009920"/>
          </a:xfrm>
        </p:grpSpPr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-227160" y="0"/>
              <a:ext cx="9142560" cy="70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-182520" y="6401160"/>
              <a:ext cx="2838960" cy="584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5"/>
          <a:srcRect l="746" t="0" r="746" b="3364"/>
          <a:stretch/>
        </p:blipFill>
        <p:spPr>
          <a:xfrm>
            <a:off x="5226120" y="0"/>
            <a:ext cx="3917880" cy="552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rcRect l="0" t="4497" r="0" b="0"/>
          <a:stretch/>
        </p:blipFill>
        <p:spPr>
          <a:xfrm>
            <a:off x="-608040" y="0"/>
            <a:ext cx="9142560" cy="7010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rcRect l="0" t="0" r="0" b="4750"/>
          <a:stretch/>
        </p:blipFill>
        <p:spPr>
          <a:xfrm>
            <a:off x="-1446120" y="0"/>
            <a:ext cx="10285200" cy="701028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-227160" y="0"/>
            <a:ext cx="10361520" cy="7009920"/>
            <a:chOff x="-227160" y="0"/>
            <a:chExt cx="10361520" cy="7009920"/>
          </a:xfrm>
        </p:grpSpPr>
        <p:pic>
          <p:nvPicPr>
            <p:cNvPr id="51" name="" descr=""/>
            <p:cNvPicPr/>
            <p:nvPr/>
          </p:nvPicPr>
          <p:blipFill>
            <a:blip r:embed="rId8"/>
            <a:stretch/>
          </p:blipFill>
          <p:spPr>
            <a:xfrm flipH="1">
              <a:off x="-227160" y="0"/>
              <a:ext cx="10361520" cy="70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flipH="1">
              <a:off x="6865920" y="6401160"/>
              <a:ext cx="3217680" cy="584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-74160" y="152280"/>
            <a:ext cx="10361160" cy="7010280"/>
            <a:chOff x="-74160" y="152280"/>
            <a:chExt cx="10361160" cy="7010280"/>
          </a:xfrm>
        </p:grpSpPr>
        <p:pic>
          <p:nvPicPr>
            <p:cNvPr id="54" name="" descr=""/>
            <p:cNvPicPr/>
            <p:nvPr/>
          </p:nvPicPr>
          <p:blipFill>
            <a:blip r:embed="rId9"/>
            <a:stretch/>
          </p:blipFill>
          <p:spPr>
            <a:xfrm flipH="1">
              <a:off x="-74160" y="152280"/>
              <a:ext cx="10361160" cy="70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flipH="1">
              <a:off x="7018560" y="6553800"/>
              <a:ext cx="3217680" cy="585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6680" y="304920"/>
            <a:ext cx="10362600" cy="7009920"/>
            <a:chOff x="76680" y="304920"/>
            <a:chExt cx="10362600" cy="7009920"/>
          </a:xfrm>
        </p:grpSpPr>
        <p:pic>
          <p:nvPicPr>
            <p:cNvPr id="57" name="" descr=""/>
            <p:cNvPicPr/>
            <p:nvPr/>
          </p:nvPicPr>
          <p:blipFill>
            <a:blip r:embed="rId10"/>
            <a:stretch/>
          </p:blipFill>
          <p:spPr>
            <a:xfrm flipH="1">
              <a:off x="76680" y="304920"/>
              <a:ext cx="10362600" cy="70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 flipH="1">
              <a:off x="7170480" y="6706080"/>
              <a:ext cx="3218040" cy="584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11"/>
          <a:srcRect l="0" t="0" r="0" b="4750"/>
          <a:stretch/>
        </p:blipFill>
        <p:spPr>
          <a:xfrm>
            <a:off x="-912960" y="0"/>
            <a:ext cx="10285560" cy="701028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-1293840" y="-709560"/>
            <a:ext cx="11046960" cy="8253000"/>
            <a:chOff x="-1293840" y="-709560"/>
            <a:chExt cx="11046960" cy="8253000"/>
          </a:xfrm>
        </p:grpSpPr>
        <p:pic>
          <p:nvPicPr>
            <p:cNvPr id="61" name="" descr=""/>
            <p:cNvPicPr/>
            <p:nvPr/>
          </p:nvPicPr>
          <p:blipFill>
            <a:blip r:embed="rId12"/>
            <a:stretch/>
          </p:blipFill>
          <p:spPr>
            <a:xfrm>
              <a:off x="-1293840" y="-709560"/>
              <a:ext cx="11046960" cy="825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-1271880" y="7084440"/>
              <a:ext cx="3818880" cy="411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"/>
                            </p:stCondLst>
                            <p:childTnLst>
                              <p:par>
                                <p:cTn id="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"/>
                            </p:stCondLst>
                            <p:childTnLst>
                              <p:par>
                                <p:cTn id="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"/>
                            </p:stCondLst>
                            <p:childTnLst>
                              <p:par>
                                <p:cTn id="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"/>
                            </p:stCondLst>
                            <p:childTnLst>
                              <p:par>
                                <p:cTn id="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"/>
                            </p:stCondLst>
                            <p:childTnLst>
                              <p:par>
                                <p:cTn id="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"/>
                            </p:stCondLst>
                            <p:childTnLst>
                              <p:par>
                                <p:cTn id="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"/>
                            </p:stCondLst>
                            <p:childTnLst>
                              <p:par>
                                <p:cTn id="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0"/>
                            </p:stCondLst>
                            <p:childTnLst>
                              <p:par>
                                <p:cTn id="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"/>
                            </p:stCondLst>
                            <p:childTnLst>
                              <p:par>
                                <p:cTn id="38" nodeType="after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00"/>
                            </p:stCondLst>
                            <p:childTnLst>
                              <p:par>
                                <p:cTn id="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1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600"/>
                            </p:stCondLst>
                            <p:childTnLst>
                              <p:par>
                                <p:cTn id="53" nodeType="after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300"/>
                            </p:stCondLst>
                            <p:childTnLst>
                              <p:par>
                                <p:cTn id="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7BA-C936-4E52-97A2-47B3516816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06:3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