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63C-EC12-4B24-BA1C-CFB106E1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7C0-27EE-47AF-BAB6-B07CEB5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6A0-70DF-437A-A98D-5858748D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ECC-C386-4EC3-909E-1704F9D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A4E-B8ED-4D7B-A250-DFBC1A54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4308-F99C-4886-B376-B1905B71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C6E-0421-49A9-BEAE-B94BC7E5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1AB5-3706-495C-9218-681FF8BE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BFDC-C4CB-4151-BB9F-64877C2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AB45-467B-41F4-AE54-2FDBBB6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F0CC-A859-4669-A50E-6D72BA8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1C2-C90C-43ED-A555-82152BF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1CB8-358A-40BE-B668-0529A48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EDEF-9A9F-45D5-BCE3-E5994B7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C91-CE60-4D69-BD3C-21FF3EC8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89C5-3F36-4F87-8800-4D39890F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5296-6758-4957-8008-1AC47065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7EB-E6EC-4C8E-8C75-C6BCEE82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7CA-A23B-4BED-B688-3C723BE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DF3-926A-4A39-B2A9-D95250B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B2E-56F1-4D3B-95F6-3B4B0BD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E88-6BDC-4456-AE09-ED65B63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285-D2D0-4EE8-9905-E82AFFF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AB3-C948-4849-A327-62D53D9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D22-0493-4910-93D6-FD936F7E20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1ED-732E-4213-82CC-72123B104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7EA7-D8C1-446F-A20D-316107B1D1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6D8-0B22-4A6D-B763-EEC03CD6D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 flipV="1">
            <a:off x="1403280" y="3021120"/>
            <a:ext cx="0" cy="17762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"/>
          <p:cNvSpPr/>
          <p:nvPr/>
        </p:nvSpPr>
        <p:spPr>
          <a:xfrm flipV="1">
            <a:off x="7921800" y="3020760"/>
            <a:ext cx="0" cy="19796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5"/>
          <p:cNvSpPr/>
          <p:nvPr/>
        </p:nvSpPr>
        <p:spPr>
          <a:xfrm flipV="1">
            <a:off x="1403280" y="3811680"/>
            <a:ext cx="1584360" cy="6523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6"/>
          <p:cNvSpPr/>
          <p:nvPr/>
        </p:nvSpPr>
        <p:spPr>
          <a:xfrm flipV="1">
            <a:off x="1420920" y="3449160"/>
            <a:ext cx="1566720" cy="6462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7"/>
          <p:cNvSpPr/>
          <p:nvPr/>
        </p:nvSpPr>
        <p:spPr>
          <a:xfrm flipV="1">
            <a:off x="1403280" y="2363760"/>
            <a:ext cx="1584360" cy="657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8"/>
          <p:cNvSpPr/>
          <p:nvPr/>
        </p:nvSpPr>
        <p:spPr>
          <a:xfrm flipV="1">
            <a:off x="1403280" y="2725560"/>
            <a:ext cx="1584360" cy="6415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"/>
          <p:cNvSpPr/>
          <p:nvPr/>
        </p:nvSpPr>
        <p:spPr>
          <a:xfrm flipV="1">
            <a:off x="1403280" y="3087720"/>
            <a:ext cx="1584360" cy="6523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0"/>
          <p:cNvSpPr/>
          <p:nvPr/>
        </p:nvSpPr>
        <p:spPr>
          <a:xfrm>
            <a:off x="2987640" y="2343240"/>
            <a:ext cx="4934160" cy="67788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1"/>
          <p:cNvSpPr/>
          <p:nvPr/>
        </p:nvSpPr>
        <p:spPr>
          <a:xfrm>
            <a:off x="2987640" y="2725560"/>
            <a:ext cx="4934160" cy="676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2987640" y="3087720"/>
            <a:ext cx="4934160" cy="7286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2987640" y="3449520"/>
            <a:ext cx="4934160" cy="792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4"/>
          <p:cNvSpPr/>
          <p:nvPr/>
        </p:nvSpPr>
        <p:spPr>
          <a:xfrm>
            <a:off x="2987640" y="3816360"/>
            <a:ext cx="4934160" cy="8492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 rot="691200">
            <a:off x="1878120" y="51177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 rot="691200">
            <a:off x="2957040" y="534960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 rot="691200">
            <a:off x="4037040" y="5554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 rot="691200">
            <a:off x="5114880" y="5773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872280" y="450684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872280" y="422280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872280" y="393876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872280" y="36543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872280" y="33717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872280" y="308772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11120" y="4071960"/>
            <a:ext cx="6673680" cy="1865160"/>
            <a:chOff x="1311120" y="4071960"/>
            <a:chExt cx="6673680" cy="1865160"/>
          </a:xfrm>
        </p:grpSpPr>
        <p:pic>
          <p:nvPicPr>
            <p:cNvPr id="105" name="任意多边形 25" descr=""/>
            <p:cNvPicPr/>
            <p:nvPr/>
          </p:nvPicPr>
          <p:blipFill>
            <a:blip r:embed="rId1"/>
            <a:stretch/>
          </p:blipFill>
          <p:spPr>
            <a:xfrm>
              <a:off x="1311120" y="4071960"/>
              <a:ext cx="667368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333440" y="4095720"/>
              <a:ext cx="6619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26"/>
          <p:cNvSpPr/>
          <p:nvPr/>
        </p:nvSpPr>
        <p:spPr>
          <a:xfrm rot="15542400">
            <a:off x="3922200" y="3618720"/>
            <a:ext cx="398520" cy="17859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7"/>
          <p:cNvSpPr/>
          <p:nvPr/>
        </p:nvSpPr>
        <p:spPr>
          <a:xfrm rot="15542400">
            <a:off x="4599360" y="4137120"/>
            <a:ext cx="398520" cy="11365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8"/>
          <p:cNvSpPr/>
          <p:nvPr/>
        </p:nvSpPr>
        <p:spPr>
          <a:xfrm rot="15542400">
            <a:off x="5662440" y="4322880"/>
            <a:ext cx="398160" cy="11952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9"/>
          <p:cNvSpPr/>
          <p:nvPr/>
        </p:nvSpPr>
        <p:spPr>
          <a:xfrm rot="15542400">
            <a:off x="6717240" y="4557960"/>
            <a:ext cx="398520" cy="1193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89280" y="2343240"/>
            <a:ext cx="806400" cy="2535120"/>
            <a:chOff x="2789280" y="2343240"/>
            <a:chExt cx="806400" cy="2535120"/>
          </a:xfrm>
        </p:grpSpPr>
        <p:sp>
          <p:nvSpPr>
            <p:cNvPr id="112" name="直接连接符 31"/>
            <p:cNvSpPr/>
            <p:nvPr/>
          </p:nvSpPr>
          <p:spPr>
            <a:xfrm flipV="1">
              <a:off x="2988000" y="2343240"/>
              <a:ext cx="0" cy="175680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789640" y="4195080"/>
              <a:ext cx="806040" cy="683280"/>
              <a:chOff x="2789640" y="4195080"/>
              <a:chExt cx="806040" cy="683280"/>
            </a:xfrm>
          </p:grpSpPr>
          <p:sp>
            <p:nvSpPr>
              <p:cNvPr id="114" name="平行四边形 42"/>
              <p:cNvSpPr/>
              <p:nvPr/>
            </p:nvSpPr>
            <p:spPr>
              <a:xfrm flipV="1" rot="5400000">
                <a:off x="2679120" y="4305600"/>
                <a:ext cx="532800" cy="311760"/>
              </a:xfrm>
              <a:prstGeom prst="parallelogram">
                <a:avLst>
                  <a:gd name="adj" fmla="val 23720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平行四边形 43"/>
              <p:cNvSpPr/>
              <p:nvPr/>
            </p:nvSpPr>
            <p:spPr>
              <a:xfrm rot="5400000">
                <a:off x="2730960" y="4325040"/>
                <a:ext cx="612360" cy="494280"/>
              </a:xfrm>
              <a:prstGeom prst="parallelogram">
                <a:avLst>
                  <a:gd name="adj" fmla="val 11592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平行四边形 44"/>
              <p:cNvSpPr/>
              <p:nvPr/>
            </p:nvSpPr>
            <p:spPr>
              <a:xfrm flipV="1" rot="5400000">
                <a:off x="3121920" y="4403520"/>
                <a:ext cx="636480" cy="310680"/>
              </a:xfrm>
              <a:prstGeom prst="parallelogram">
                <a:avLst>
                  <a:gd name="adj" fmla="val 23740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789280" y="3467160"/>
              <a:ext cx="806400" cy="943920"/>
              <a:chOff x="2789280" y="3467160"/>
              <a:chExt cx="806400" cy="943920"/>
            </a:xfrm>
          </p:grpSpPr>
          <p:sp>
            <p:nvSpPr>
              <p:cNvPr id="118" name="平行四边形 40"/>
              <p:cNvSpPr/>
              <p:nvPr/>
            </p:nvSpPr>
            <p:spPr>
              <a:xfrm rot="5400000">
                <a:off x="2563560" y="3692520"/>
                <a:ext cx="943560" cy="492480"/>
              </a:xfrm>
              <a:prstGeom prst="parallelogram">
                <a:avLst>
                  <a:gd name="adj" fmla="val 19275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平行四边形 41"/>
              <p:cNvSpPr/>
              <p:nvPr/>
            </p:nvSpPr>
            <p:spPr>
              <a:xfrm flipV="1" rot="5400000">
                <a:off x="2971080" y="3786120"/>
                <a:ext cx="936360" cy="312840"/>
              </a:xfrm>
              <a:prstGeom prst="parallelogram">
                <a:avLst>
                  <a:gd name="adj" fmla="val 39464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789640" y="2622240"/>
              <a:ext cx="801000" cy="1013760"/>
              <a:chOff x="2789640" y="2622240"/>
              <a:chExt cx="801000" cy="1013760"/>
            </a:xfrm>
          </p:grpSpPr>
          <p:sp>
            <p:nvSpPr>
              <p:cNvPr id="121" name="平行四边形 36"/>
              <p:cNvSpPr/>
              <p:nvPr/>
            </p:nvSpPr>
            <p:spPr>
              <a:xfrm flipV="1" rot="5400000">
                <a:off x="2557440" y="2854440"/>
                <a:ext cx="774000" cy="309600"/>
              </a:xfrm>
              <a:prstGeom prst="parallelogram">
                <a:avLst>
                  <a:gd name="adj" fmla="val 35613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平行四边形 37"/>
              <p:cNvSpPr/>
              <p:nvPr/>
            </p:nvSpPr>
            <p:spPr>
              <a:xfrm rot="5400000">
                <a:off x="3024000" y="2696760"/>
                <a:ext cx="640800" cy="491400"/>
              </a:xfrm>
              <a:prstGeom prst="parallelogram">
                <a:avLst>
                  <a:gd name="adj" fmla="val 17387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平行四边形 38"/>
              <p:cNvSpPr/>
              <p:nvPr/>
            </p:nvSpPr>
            <p:spPr>
              <a:xfrm rot="5400000">
                <a:off x="2607840" y="2962440"/>
                <a:ext cx="855360" cy="491400"/>
              </a:xfrm>
              <a:prstGeom prst="parallelogram">
                <a:avLst>
                  <a:gd name="adj" fmla="val 17390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平行四边形 39"/>
              <p:cNvSpPr/>
              <p:nvPr/>
            </p:nvSpPr>
            <p:spPr>
              <a:xfrm flipV="1" rot="5400000">
                <a:off x="2986560" y="3031920"/>
                <a:ext cx="899280" cy="308880"/>
              </a:xfrm>
              <a:prstGeom prst="parallelogram">
                <a:avLst>
                  <a:gd name="adj" fmla="val 35611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任意多边形 35"/>
            <p:cNvSpPr/>
            <p:nvPr/>
          </p:nvSpPr>
          <p:spPr>
            <a:xfrm>
              <a:off x="2791080" y="2613960"/>
              <a:ext cx="795960" cy="290520"/>
            </a:xfrm>
            <a:custGeom>
              <a:avLst/>
              <a:gdLst/>
              <a:ahLst/>
              <a:rect l="l" t="t" r="r" b="b"/>
              <a:pathLst>
                <a:path w="796813" h="290479">
                  <a:moveTo>
                    <a:pt x="319591" y="0"/>
                  </a:moveTo>
                  <a:lnTo>
                    <a:pt x="0" y="168130"/>
                  </a:lnTo>
                  <a:lnTo>
                    <a:pt x="488694" y="290479"/>
                  </a:lnTo>
                  <a:lnTo>
                    <a:pt x="796813" y="119264"/>
                  </a:lnTo>
                  <a:lnTo>
                    <a:pt x="3195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6000" y="2787480"/>
            <a:ext cx="807840" cy="2264040"/>
            <a:chOff x="3726000" y="2787480"/>
            <a:chExt cx="807840" cy="2264040"/>
          </a:xfrm>
        </p:grpSpPr>
        <p:grpSp>
          <p:nvGrpSpPr>
            <p:cNvPr id="127" name=""/>
            <p:cNvGrpSpPr/>
            <p:nvPr/>
          </p:nvGrpSpPr>
          <p:grpSpPr>
            <a:xfrm>
              <a:off x="3727080" y="3848760"/>
              <a:ext cx="806760" cy="1202760"/>
              <a:chOff x="3727080" y="3848760"/>
              <a:chExt cx="806760" cy="1202760"/>
            </a:xfrm>
          </p:grpSpPr>
          <p:sp>
            <p:nvSpPr>
              <p:cNvPr id="128" name="平行四边形 56"/>
              <p:cNvSpPr/>
              <p:nvPr/>
            </p:nvSpPr>
            <p:spPr>
              <a:xfrm rot="5400000">
                <a:off x="3421800" y="4251240"/>
                <a:ext cx="1105200" cy="495000"/>
              </a:xfrm>
              <a:prstGeom prst="parallelogram">
                <a:avLst>
                  <a:gd name="adj" fmla="val 21862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平行四边形 57"/>
              <p:cNvSpPr/>
              <p:nvPr/>
            </p:nvSpPr>
            <p:spPr>
              <a:xfrm flipV="1" rot="5400000">
                <a:off x="3777120" y="4293720"/>
                <a:ext cx="1202040" cy="311400"/>
              </a:xfrm>
              <a:prstGeom prst="parallelogram">
                <a:avLst>
                  <a:gd name="adj" fmla="val 44731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726000" y="3566880"/>
              <a:ext cx="805320" cy="510480"/>
              <a:chOff x="3726000" y="3566880"/>
              <a:chExt cx="805320" cy="510480"/>
            </a:xfrm>
          </p:grpSpPr>
          <p:sp>
            <p:nvSpPr>
              <p:cNvPr id="131" name="平行四边形 54"/>
              <p:cNvSpPr/>
              <p:nvPr/>
            </p:nvSpPr>
            <p:spPr>
              <a:xfrm rot="5400000">
                <a:off x="3717360" y="3575520"/>
                <a:ext cx="510480" cy="493200"/>
              </a:xfrm>
              <a:prstGeom prst="parallelogram">
                <a:avLst>
                  <a:gd name="adj" fmla="val 10365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平行四边形 55"/>
              <p:cNvSpPr/>
              <p:nvPr/>
            </p:nvSpPr>
            <p:spPr>
              <a:xfrm flipV="1" rot="5400000">
                <a:off x="4161960" y="3708000"/>
                <a:ext cx="429120" cy="309240"/>
              </a:xfrm>
              <a:prstGeom prst="parallelogram">
                <a:avLst>
                  <a:gd name="adj" fmla="val 21232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726720" y="2793960"/>
              <a:ext cx="802080" cy="1015560"/>
              <a:chOff x="3726720" y="2793960"/>
              <a:chExt cx="802080" cy="1015560"/>
            </a:xfrm>
          </p:grpSpPr>
          <p:sp>
            <p:nvSpPr>
              <p:cNvPr id="134" name="平行四边形 84"/>
              <p:cNvSpPr/>
              <p:nvPr/>
            </p:nvSpPr>
            <p:spPr>
              <a:xfrm flipV="1" rot="5400000">
                <a:off x="3494160" y="3026160"/>
                <a:ext cx="775080" cy="309960"/>
              </a:xfrm>
              <a:custGeom>
                <a:avLst/>
                <a:gdLst/>
                <a:ahLst/>
                <a:rect l="l" t="t" r="r" b="b"/>
                <a:pathLst>
                  <a:path w="774846" h="310069">
                    <a:moveTo>
                      <a:pt x="0" y="310069"/>
                    </a:moveTo>
                    <a:lnTo>
                      <a:pt x="149229" y="0"/>
                    </a:lnTo>
                    <a:lnTo>
                      <a:pt x="774846" y="0"/>
                    </a:lnTo>
                    <a:lnTo>
                      <a:pt x="616089" y="310067"/>
                    </a:lnTo>
                    <a:lnTo>
                      <a:pt x="0" y="310069"/>
                    </a:lnTo>
                    <a:close/>
                  </a:path>
                </a:pathLst>
              </a:custGeom>
              <a:solidFill>
                <a:srgbClr val="119707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平行四边形 51"/>
              <p:cNvSpPr/>
              <p:nvPr/>
            </p:nvSpPr>
            <p:spPr>
              <a:xfrm rot="5400000">
                <a:off x="3961800" y="2869560"/>
                <a:ext cx="640800" cy="492120"/>
              </a:xfrm>
              <a:prstGeom prst="parallelogram">
                <a:avLst>
                  <a:gd name="adj" fmla="val 17362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平行四边形 52"/>
              <p:cNvSpPr/>
              <p:nvPr/>
            </p:nvSpPr>
            <p:spPr>
              <a:xfrm rot="5400000">
                <a:off x="3545280" y="3135600"/>
                <a:ext cx="855360" cy="492120"/>
              </a:xfrm>
              <a:prstGeom prst="parallelogram">
                <a:avLst>
                  <a:gd name="adj" fmla="val 17365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平行四边形 53"/>
              <p:cNvSpPr/>
              <p:nvPr/>
            </p:nvSpPr>
            <p:spPr>
              <a:xfrm flipV="1" rot="5400000">
                <a:off x="3924360" y="3204000"/>
                <a:ext cx="899640" cy="309240"/>
              </a:xfrm>
              <a:prstGeom prst="parallelogram">
                <a:avLst>
                  <a:gd name="adj" fmla="val 35584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任意多边形 49"/>
            <p:cNvSpPr/>
            <p:nvPr/>
          </p:nvSpPr>
          <p:spPr>
            <a:xfrm>
              <a:off x="3726000" y="2787480"/>
              <a:ext cx="804240" cy="288000"/>
            </a:xfrm>
            <a:custGeom>
              <a:avLst/>
              <a:gdLst/>
              <a:ahLst/>
              <a:rect l="l" t="t" r="r" b="b"/>
              <a:pathLst>
                <a:path w="803956" h="288098">
                  <a:moveTo>
                    <a:pt x="321972" y="0"/>
                  </a:moveTo>
                  <a:lnTo>
                    <a:pt x="0" y="160986"/>
                  </a:lnTo>
                  <a:lnTo>
                    <a:pt x="486312" y="288098"/>
                  </a:lnTo>
                  <a:lnTo>
                    <a:pt x="803956" y="124025"/>
                  </a:lnTo>
                  <a:lnTo>
                    <a:pt x="3219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775040" y="2970360"/>
            <a:ext cx="804960" cy="2274840"/>
            <a:chOff x="4775040" y="2970360"/>
            <a:chExt cx="804960" cy="2274840"/>
          </a:xfrm>
        </p:grpSpPr>
        <p:grpSp>
          <p:nvGrpSpPr>
            <p:cNvPr id="140" name=""/>
            <p:cNvGrpSpPr/>
            <p:nvPr/>
          </p:nvGrpSpPr>
          <p:grpSpPr>
            <a:xfrm>
              <a:off x="4775040" y="3449520"/>
              <a:ext cx="804960" cy="1795680"/>
              <a:chOff x="4775040" y="3449520"/>
              <a:chExt cx="804960" cy="1795680"/>
            </a:xfrm>
          </p:grpSpPr>
          <p:sp>
            <p:nvSpPr>
              <p:cNvPr id="141" name="平行四边形 67"/>
              <p:cNvSpPr/>
              <p:nvPr/>
            </p:nvSpPr>
            <p:spPr>
              <a:xfrm flipV="1" rot="5400000">
                <a:off x="4174560" y="4051080"/>
                <a:ext cx="1514880" cy="311400"/>
              </a:xfrm>
              <a:prstGeom prst="parallelogram">
                <a:avLst>
                  <a:gd name="adj" fmla="val 62138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平行四边形 92"/>
              <p:cNvSpPr/>
              <p:nvPr/>
            </p:nvSpPr>
            <p:spPr>
              <a:xfrm rot="5400000">
                <a:off x="4330440" y="4303800"/>
                <a:ext cx="1385640" cy="496800"/>
              </a:xfrm>
              <a:custGeom>
                <a:avLst/>
                <a:gdLst/>
                <a:ahLst/>
                <a:rect l="l" t="t" r="r" b="b"/>
                <a:pathLst>
                  <a:path w="1385305" h="497342">
                    <a:moveTo>
                      <a:pt x="0" y="494959"/>
                    </a:moveTo>
                    <a:lnTo>
                      <a:pt x="123740" y="0"/>
                    </a:lnTo>
                    <a:lnTo>
                      <a:pt x="1385305" y="2382"/>
                    </a:lnTo>
                    <a:lnTo>
                      <a:pt x="1261565" y="497342"/>
                    </a:lnTo>
                    <a:lnTo>
                      <a:pt x="0" y="4949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平行四边形 93"/>
              <p:cNvSpPr/>
              <p:nvPr/>
            </p:nvSpPr>
            <p:spPr>
              <a:xfrm flipV="1" rot="5400000">
                <a:off x="4710960" y="4376160"/>
                <a:ext cx="1427040" cy="310680"/>
              </a:xfrm>
              <a:custGeom>
                <a:avLst/>
                <a:gdLst/>
                <a:ahLst/>
                <a:rect l="l" t="t" r="r" b="b"/>
                <a:pathLst>
                  <a:path w="1426852" h="311190">
                    <a:moveTo>
                      <a:pt x="0" y="311190"/>
                    </a:moveTo>
                    <a:lnTo>
                      <a:pt x="156950" y="2384"/>
                    </a:lnTo>
                    <a:lnTo>
                      <a:pt x="1426852" y="0"/>
                    </a:lnTo>
                    <a:lnTo>
                      <a:pt x="1267521" y="311188"/>
                    </a:lnTo>
                    <a:lnTo>
                      <a:pt x="0" y="311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775040" y="3573360"/>
              <a:ext cx="804960" cy="420840"/>
              <a:chOff x="4775040" y="3573360"/>
              <a:chExt cx="804960" cy="420840"/>
            </a:xfrm>
          </p:grpSpPr>
          <p:sp>
            <p:nvSpPr>
              <p:cNvPr id="145" name="平行四边形 95"/>
              <p:cNvSpPr/>
              <p:nvPr/>
            </p:nvSpPr>
            <p:spPr>
              <a:xfrm rot="5400000">
                <a:off x="4833360" y="3556440"/>
                <a:ext cx="379440" cy="496080"/>
              </a:xfrm>
              <a:custGeom>
                <a:avLst/>
                <a:gdLst/>
                <a:ahLst/>
                <a:rect l="l" t="t" r="r" b="b"/>
                <a:pathLst>
                  <a:path w="379325" h="493959">
                    <a:moveTo>
                      <a:pt x="0" y="493959"/>
                    </a:moveTo>
                    <a:lnTo>
                      <a:pt x="121703" y="7144"/>
                    </a:lnTo>
                    <a:lnTo>
                      <a:pt x="379325" y="0"/>
                    </a:lnTo>
                    <a:lnTo>
                      <a:pt x="257621" y="493959"/>
                    </a:lnTo>
                    <a:lnTo>
                      <a:pt x="0" y="4939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平行四边形 96"/>
              <p:cNvSpPr/>
              <p:nvPr/>
            </p:nvSpPr>
            <p:spPr>
              <a:xfrm flipV="1" rot="5400000">
                <a:off x="5213160" y="3626280"/>
                <a:ext cx="420120" cy="313560"/>
              </a:xfrm>
              <a:custGeom>
                <a:avLst/>
                <a:gdLst/>
                <a:ahLst/>
                <a:rect l="l" t="t" r="r" b="b"/>
                <a:pathLst>
                  <a:path w="420308" h="314004">
                    <a:moveTo>
                      <a:pt x="0" y="314004"/>
                    </a:moveTo>
                    <a:lnTo>
                      <a:pt x="167859" y="0"/>
                    </a:lnTo>
                    <a:lnTo>
                      <a:pt x="420308" y="4760"/>
                    </a:lnTo>
                    <a:lnTo>
                      <a:pt x="261973" y="314002"/>
                    </a:lnTo>
                    <a:lnTo>
                      <a:pt x="0" y="3140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775040" y="3103200"/>
              <a:ext cx="799920" cy="635760"/>
              <a:chOff x="4775040" y="3103200"/>
              <a:chExt cx="799920" cy="635760"/>
            </a:xfrm>
          </p:grpSpPr>
          <p:sp>
            <p:nvSpPr>
              <p:cNvPr id="148" name="平行四边形 100"/>
              <p:cNvSpPr/>
              <p:nvPr/>
            </p:nvSpPr>
            <p:spPr>
              <a:xfrm rot="5400000">
                <a:off x="4716360" y="3189240"/>
                <a:ext cx="608040" cy="491040"/>
              </a:xfrm>
              <a:custGeom>
                <a:avLst/>
                <a:gdLst/>
                <a:ahLst/>
                <a:rect l="l" t="t" r="r" b="b"/>
                <a:pathLst>
                  <a:path w="607895" h="491864">
                    <a:moveTo>
                      <a:pt x="0" y="479958"/>
                    </a:moveTo>
                    <a:lnTo>
                      <a:pt x="115820" y="0"/>
                    </a:lnTo>
                    <a:lnTo>
                      <a:pt x="607895" y="0"/>
                    </a:lnTo>
                    <a:lnTo>
                      <a:pt x="484929" y="491864"/>
                    </a:lnTo>
                    <a:lnTo>
                      <a:pt x="0" y="479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平行四边形 101"/>
              <p:cNvSpPr/>
              <p:nvPr/>
            </p:nvSpPr>
            <p:spPr>
              <a:xfrm flipV="1" rot="5400000">
                <a:off x="5102640" y="3266640"/>
                <a:ext cx="635760" cy="308880"/>
              </a:xfrm>
              <a:custGeom>
                <a:avLst/>
                <a:gdLst/>
                <a:ahLst/>
                <a:rect l="l" t="t" r="r" b="b"/>
                <a:pathLst>
                  <a:path w="635858" h="309242">
                    <a:moveTo>
                      <a:pt x="0" y="302099"/>
                    </a:moveTo>
                    <a:lnTo>
                      <a:pt x="146429" y="0"/>
                    </a:lnTo>
                    <a:lnTo>
                      <a:pt x="635858" y="0"/>
                    </a:lnTo>
                    <a:lnTo>
                      <a:pt x="477523" y="309242"/>
                    </a:lnTo>
                    <a:lnTo>
                      <a:pt x="0" y="3020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任意多边形 62"/>
            <p:cNvSpPr/>
            <p:nvPr/>
          </p:nvSpPr>
          <p:spPr>
            <a:xfrm>
              <a:off x="4785120" y="2970360"/>
              <a:ext cx="783720" cy="283320"/>
            </a:xfrm>
            <a:custGeom>
              <a:avLst/>
              <a:gdLst/>
              <a:ahLst/>
              <a:rect l="l" t="t" r="r" b="b"/>
              <a:pathLst>
                <a:path w="784907" h="283335">
                  <a:moveTo>
                    <a:pt x="310066" y="0"/>
                  </a:moveTo>
                  <a:lnTo>
                    <a:pt x="0" y="160986"/>
                  </a:lnTo>
                  <a:lnTo>
                    <a:pt x="483931" y="283335"/>
                  </a:lnTo>
                  <a:lnTo>
                    <a:pt x="784907" y="128788"/>
                  </a:lnTo>
                  <a:lnTo>
                    <a:pt x="310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50000" y="3205080"/>
            <a:ext cx="809640" cy="2273400"/>
            <a:chOff x="5850000" y="3205080"/>
            <a:chExt cx="809640" cy="2273400"/>
          </a:xfrm>
        </p:grpSpPr>
        <p:grpSp>
          <p:nvGrpSpPr>
            <p:cNvPr id="152" name=""/>
            <p:cNvGrpSpPr/>
            <p:nvPr/>
          </p:nvGrpSpPr>
          <p:grpSpPr>
            <a:xfrm>
              <a:off x="5851080" y="3908520"/>
              <a:ext cx="806400" cy="1569960"/>
              <a:chOff x="5851080" y="3908520"/>
              <a:chExt cx="806400" cy="1569960"/>
            </a:xfrm>
          </p:grpSpPr>
          <p:sp>
            <p:nvSpPr>
              <p:cNvPr id="153" name="平行四边形 111"/>
              <p:cNvSpPr/>
              <p:nvPr/>
            </p:nvSpPr>
            <p:spPr>
              <a:xfrm rot="5400000">
                <a:off x="5333400" y="4465800"/>
                <a:ext cx="1530000" cy="495000"/>
              </a:xfrm>
              <a:custGeom>
                <a:avLst/>
                <a:gdLst/>
                <a:ahLst/>
                <a:rect l="l" t="t" r="r" b="b"/>
                <a:pathLst>
                  <a:path w="1530562" h="494960">
                    <a:moveTo>
                      <a:pt x="0" y="487816"/>
                    </a:moveTo>
                    <a:lnTo>
                      <a:pt x="123740" y="0"/>
                    </a:lnTo>
                    <a:lnTo>
                      <a:pt x="1530562" y="0"/>
                    </a:lnTo>
                    <a:lnTo>
                      <a:pt x="1406822" y="494960"/>
                    </a:lnTo>
                    <a:lnTo>
                      <a:pt x="0" y="487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平行四边形 80"/>
              <p:cNvSpPr/>
              <p:nvPr/>
            </p:nvSpPr>
            <p:spPr>
              <a:xfrm flipV="1" rot="5400000">
                <a:off x="5717160" y="4537080"/>
                <a:ext cx="1569240" cy="311040"/>
              </a:xfrm>
              <a:prstGeom prst="parallelogram">
                <a:avLst>
                  <a:gd name="adj" fmla="val 62013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858640" y="3497400"/>
              <a:ext cx="799200" cy="574560"/>
              <a:chOff x="5858640" y="3497400"/>
              <a:chExt cx="799200" cy="574560"/>
            </a:xfrm>
          </p:grpSpPr>
          <p:sp>
            <p:nvSpPr>
              <p:cNvPr id="156" name="平行四边形 77"/>
              <p:cNvSpPr/>
              <p:nvPr/>
            </p:nvSpPr>
            <p:spPr>
              <a:xfrm rot="5400000">
                <a:off x="5815800" y="3542040"/>
                <a:ext cx="572400" cy="487080"/>
              </a:xfrm>
              <a:prstGeom prst="parallelogram">
                <a:avLst>
                  <a:gd name="adj" fmla="val 10353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平行四边形 78"/>
              <p:cNvSpPr/>
              <p:nvPr/>
            </p:nvSpPr>
            <p:spPr>
              <a:xfrm flipV="1" rot="5400000">
                <a:off x="6216840" y="3628800"/>
                <a:ext cx="572400" cy="309240"/>
              </a:xfrm>
              <a:prstGeom prst="parallelogram">
                <a:avLst>
                  <a:gd name="adj" fmla="val 21218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58640" y="3330000"/>
              <a:ext cx="801000" cy="329760"/>
              <a:chOff x="5858640" y="3330000"/>
              <a:chExt cx="801000" cy="329760"/>
            </a:xfrm>
          </p:grpSpPr>
          <p:sp>
            <p:nvSpPr>
              <p:cNvPr id="159" name="平行四边形 117"/>
              <p:cNvSpPr/>
              <p:nvPr/>
            </p:nvSpPr>
            <p:spPr>
              <a:xfrm rot="5400000">
                <a:off x="5955840" y="3272400"/>
                <a:ext cx="289800" cy="484560"/>
              </a:xfrm>
              <a:custGeom>
                <a:avLst/>
                <a:gdLst/>
                <a:ahLst/>
                <a:rect l="l" t="t" r="r" b="b"/>
                <a:pathLst>
                  <a:path w="289926" h="484720">
                    <a:moveTo>
                      <a:pt x="0" y="484720"/>
                    </a:moveTo>
                    <a:lnTo>
                      <a:pt x="109511" y="0"/>
                    </a:lnTo>
                    <a:lnTo>
                      <a:pt x="289926" y="0"/>
                    </a:lnTo>
                    <a:lnTo>
                      <a:pt x="154222" y="484720"/>
                    </a:lnTo>
                    <a:lnTo>
                      <a:pt x="0" y="4847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平行四边形 76"/>
              <p:cNvSpPr/>
              <p:nvPr/>
            </p:nvSpPr>
            <p:spPr>
              <a:xfrm flipV="1" rot="5400000">
                <a:off x="6338160" y="3338280"/>
                <a:ext cx="329760" cy="313200"/>
              </a:xfrm>
              <a:prstGeom prst="parallelogram">
                <a:avLst>
                  <a:gd name="adj" fmla="val 13044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任意多边形 74"/>
            <p:cNvSpPr/>
            <p:nvPr/>
          </p:nvSpPr>
          <p:spPr>
            <a:xfrm>
              <a:off x="5850000" y="3205080"/>
              <a:ext cx="808560" cy="282960"/>
            </a:xfrm>
            <a:custGeom>
              <a:avLst/>
              <a:gdLst/>
              <a:ahLst/>
              <a:rect l="l" t="t" r="r" b="b"/>
              <a:pathLst>
                <a:path w="808718" h="283335">
                  <a:moveTo>
                    <a:pt x="321972" y="0"/>
                  </a:moveTo>
                  <a:lnTo>
                    <a:pt x="0" y="160986"/>
                  </a:lnTo>
                  <a:lnTo>
                    <a:pt x="495837" y="283335"/>
                  </a:lnTo>
                  <a:lnTo>
                    <a:pt x="808718" y="126407"/>
                  </a:lnTo>
                  <a:lnTo>
                    <a:pt x="3219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1"/>
          <p:cNvSpPr/>
          <p:nvPr/>
        </p:nvSpPr>
        <p:spPr>
          <a:xfrm flipH="1">
            <a:off x="5127480" y="1312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 flipH="1">
            <a:off x="5127480" y="1555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3"/>
          <p:cNvSpPr/>
          <p:nvPr/>
        </p:nvSpPr>
        <p:spPr>
          <a:xfrm>
            <a:off x="5402160" y="1158840"/>
            <a:ext cx="3170520" cy="46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 flipH="1">
            <a:off x="5127480" y="179388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平行四边形 85"/>
          <p:cNvSpPr/>
          <p:nvPr/>
        </p:nvSpPr>
        <p:spPr>
          <a:xfrm>
            <a:off x="7620120" y="1700280"/>
            <a:ext cx="839520" cy="306360"/>
          </a:xfrm>
          <a:prstGeom prst="parallelogram">
            <a:avLst>
              <a:gd name="adj" fmla="val 65361"/>
            </a:avLst>
          </a:pr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7094520" y="838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平行四边形 87"/>
          <p:cNvSpPr/>
          <p:nvPr/>
        </p:nvSpPr>
        <p:spPr>
          <a:xfrm>
            <a:off x="7620120" y="1486080"/>
            <a:ext cx="839520" cy="306360"/>
          </a:xfrm>
          <a:prstGeom prst="parallelogram">
            <a:avLst>
              <a:gd name="adj" fmla="val 65361"/>
            </a:avLst>
          </a:pr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88"/>
          <p:cNvSpPr/>
          <p:nvPr/>
        </p:nvSpPr>
        <p:spPr>
          <a:xfrm>
            <a:off x="7620120" y="1287360"/>
            <a:ext cx="839520" cy="304920"/>
          </a:xfrm>
          <a:prstGeom prst="parallelogram">
            <a:avLst>
              <a:gd name="adj" fmla="val 65670"/>
            </a:avLst>
          </a:pr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173640" y="255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手绘四选项柱状图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0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