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804-6399-4A1D-BE97-2FFDD293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9A5-6DA9-4AEE-B7F0-A9C6CE78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85A-4EE3-449D-A2E0-E9B258FE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D23-3D04-4022-AE66-FEF68B79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C6F7-1746-45B2-A41C-6C67F025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64DE-6B35-42DA-A564-8B236083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67C6-6E09-4BF1-A7E2-ED507C59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B266-3A5F-43DC-8B34-855CBE2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1263-504A-4D18-B18E-3701A45F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317B-A52E-486D-980F-8B360F22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24EB-E7A9-4FBA-8D7B-865A1E4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951-80CC-4AC1-96B8-DFC5B0D7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707A-0D36-4EFB-9937-ADBE018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56A5-1240-41F7-91C5-AE1E7D46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DEE9-35F4-4618-9FC6-AF132E3C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B566-0BDE-41A7-9FD7-59FF2B48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2ADD-AC04-4AA6-96BF-C8171035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B35-AB83-4AD0-BA62-3FCE8F02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24B-3BED-447C-BB50-60AECC91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FC5-1B81-4A96-ADDC-06CC324E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14A-23C1-49B8-99E3-8A511670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826-DB98-4661-895A-A347C8AA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726-B154-4F33-AA39-4E259E29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F98-92BE-45B1-9E66-0FA252DC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586B-0F5C-420F-AAF8-9A2F7B2A6A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6FEA-E395-4B18-B348-8590788417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38C1-7F2E-4BAE-968F-95F65CC238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E32E-0B2E-4D09-9F37-991B758A5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" descr="b_1371793378715.jpg"/>
          <p:cNvPicPr/>
          <p:nvPr/>
        </p:nvPicPr>
        <p:blipFill>
          <a:blip r:embed="rId1"/>
          <a:stretch/>
        </p:blipFill>
        <p:spPr>
          <a:xfrm>
            <a:off x="4516560" y="657360"/>
            <a:ext cx="46274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