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91C8-374B-4326-9DD4-ABC37A47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33E8-284A-4026-8E58-78AF66D9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1E9-5FDE-4247-BF0A-FEAB8717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7419-A806-47C7-ADE2-35E5D260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F611-9254-4C3A-9D5B-7FEA1B08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4D83-4B1C-4B4E-8A9B-AA574DB1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C285-ABB9-4B45-9862-D1FAF81A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FA52B-C03D-452A-8398-C300E314C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EADE-FD05-4C09-9A5C-ED4243A30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70A7-A364-4422-8070-7BB17FC40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6C8A-4E0C-45B2-85AE-7EBBC70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8D34-2F73-4CA9-9680-D5FA2622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321A-5F2E-44A5-AC5B-13BCC4CD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8928-1B7A-4EC3-85F1-80FB3552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54B9-E58E-4095-8DD2-9423142D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68CE-67E0-418C-9435-B41FDEE6D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D7BF-39CC-402C-AE55-7DB0A3F0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8D3-83EF-43C1-B7D2-0DB610507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31E1-B2F8-4ED5-8C91-F6E05767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82C8-7314-4E1F-84C7-DFFE0B0B0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102-D5DF-4EB4-A4B7-19A9B11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98A-A58D-42B6-AAF0-A18367C8C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C7D-67B6-4133-AD28-F75B0C85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6D05-8D68-4C2D-A9B4-4229875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E60-837E-47F0-B0B3-221F7314E9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AFC1-299A-4B32-9286-F22D48E68F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CBC-AA3F-48B4-A957-B9C08B371D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E72A1-7CD5-4388-A76A-F615E6099F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809720" y="4784760"/>
            <a:ext cx="5560920" cy="1420920"/>
            <a:chOff x="1809720" y="4784760"/>
            <a:chExt cx="5560920" cy="1420920"/>
          </a:xfrm>
        </p:grpSpPr>
        <p:pic>
          <p:nvPicPr>
            <p:cNvPr id="83" name="椭圆 10" descr=""/>
            <p:cNvPicPr/>
            <p:nvPr/>
          </p:nvPicPr>
          <p:blipFill>
            <a:blip r:embed="rId1"/>
            <a:stretch/>
          </p:blipFill>
          <p:spPr>
            <a:xfrm>
              <a:off x="1809720" y="4784760"/>
              <a:ext cx="55609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2706480" y="5070600"/>
              <a:ext cx="369288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等腰三角形 6"/>
          <p:cNvSpPr/>
          <p:nvPr/>
        </p:nvSpPr>
        <p:spPr>
          <a:xfrm>
            <a:off x="3662280" y="1960560"/>
            <a:ext cx="1797120" cy="1468440"/>
          </a:xfrm>
          <a:custGeom>
            <a:avLst/>
            <a:gdLst/>
            <a:ahLst/>
            <a:rect l="l" t="t" r="r" b="b"/>
            <a:pathLst>
              <a:path w="1796802" h="1469072">
                <a:moveTo>
                  <a:pt x="898401" y="0"/>
                </a:moveTo>
                <a:lnTo>
                  <a:pt x="1796802" y="1469072"/>
                </a:lnTo>
                <a:lnTo>
                  <a:pt x="1015417" y="1469072"/>
                </a:lnTo>
                <a:lnTo>
                  <a:pt x="1015417" y="1372637"/>
                </a:lnTo>
                <a:lnTo>
                  <a:pt x="1154781" y="1372637"/>
                </a:lnTo>
                <a:lnTo>
                  <a:pt x="876052" y="1125318"/>
                </a:lnTo>
                <a:lnTo>
                  <a:pt x="597323" y="1372637"/>
                </a:lnTo>
                <a:lnTo>
                  <a:pt x="736688" y="1372637"/>
                </a:lnTo>
                <a:lnTo>
                  <a:pt x="736688" y="1469072"/>
                </a:lnTo>
                <a:lnTo>
                  <a:pt x="0" y="1469072"/>
                </a:lnTo>
                <a:lnTo>
                  <a:pt x="898401" y="0"/>
                </a:lnTo>
                <a:close/>
              </a:path>
            </a:pathLst>
          </a:custGeom>
          <a:gradFill rotWithShape="0">
            <a:gsLst>
              <a:gs pos="0">
                <a:srgbClr val="fa9496"/>
              </a:gs>
              <a:gs pos="100000">
                <a:srgbClr val="be1247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"/>
          <p:cNvSpPr/>
          <p:nvPr/>
        </p:nvSpPr>
        <p:spPr>
          <a:xfrm>
            <a:off x="4656240" y="3621240"/>
            <a:ext cx="1765080" cy="1500120"/>
          </a:xfrm>
          <a:custGeom>
            <a:avLst/>
            <a:gdLst/>
            <a:ahLst/>
            <a:rect l="l" t="t" r="r" b="b"/>
            <a:pathLst>
              <a:path w="1765052" h="1500603">
                <a:moveTo>
                  <a:pt x="882526" y="0"/>
                </a:moveTo>
                <a:lnTo>
                  <a:pt x="1765052" y="1500603"/>
                </a:lnTo>
                <a:lnTo>
                  <a:pt x="0" y="1500603"/>
                </a:lnTo>
                <a:lnTo>
                  <a:pt x="375894" y="861452"/>
                </a:lnTo>
                <a:lnTo>
                  <a:pt x="464514" y="915388"/>
                </a:lnTo>
                <a:lnTo>
                  <a:pt x="392059" y="1034436"/>
                </a:lnTo>
                <a:lnTo>
                  <a:pt x="748236" y="924919"/>
                </a:lnTo>
                <a:lnTo>
                  <a:pt x="681880" y="558240"/>
                </a:lnTo>
                <a:lnTo>
                  <a:pt x="609424" y="677289"/>
                </a:lnTo>
                <a:lnTo>
                  <a:pt x="517210" y="621166"/>
                </a:lnTo>
                <a:lnTo>
                  <a:pt x="882526" y="0"/>
                </a:lnTo>
                <a:close/>
              </a:path>
            </a:pathLst>
          </a:custGeom>
          <a:gradFill rotWithShape="0">
            <a:gsLst>
              <a:gs pos="0">
                <a:srgbClr val="119707"/>
              </a:gs>
              <a:gs pos="100000">
                <a:srgbClr val="bceb6f"/>
              </a:gs>
            </a:gsLst>
            <a:lin ang="54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等腰三角形 6"/>
          <p:cNvSpPr/>
          <p:nvPr/>
        </p:nvSpPr>
        <p:spPr>
          <a:xfrm rot="10800000">
            <a:off x="3627000" y="3517920"/>
            <a:ext cx="1822680" cy="15508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006a96"/>
              </a:gs>
              <a:gs pos="100000">
                <a:srgbClr val="00b8ff"/>
              </a:gs>
            </a:gsLst>
            <a:lin ang="162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等腰三角形 11"/>
          <p:cNvSpPr/>
          <p:nvPr/>
        </p:nvSpPr>
        <p:spPr>
          <a:xfrm>
            <a:off x="2693880" y="3621240"/>
            <a:ext cx="1765440" cy="1500120"/>
          </a:xfrm>
          <a:custGeom>
            <a:avLst/>
            <a:gdLst/>
            <a:ahLst/>
            <a:rect l="l" t="t" r="r" b="b"/>
            <a:pathLst>
              <a:path w="1765052" h="1500603">
                <a:moveTo>
                  <a:pt x="882526" y="0"/>
                </a:moveTo>
                <a:lnTo>
                  <a:pt x="1236032" y="601083"/>
                </a:lnTo>
                <a:lnTo>
                  <a:pt x="1121186" y="667974"/>
                </a:lnTo>
                <a:lnTo>
                  <a:pt x="1051045" y="547547"/>
                </a:lnTo>
                <a:lnTo>
                  <a:pt x="977616" y="912876"/>
                </a:lnTo>
                <a:lnTo>
                  <a:pt x="1331611" y="1029255"/>
                </a:lnTo>
                <a:lnTo>
                  <a:pt x="1261469" y="908828"/>
                </a:lnTo>
                <a:lnTo>
                  <a:pt x="1377332" y="841344"/>
                </a:lnTo>
                <a:lnTo>
                  <a:pt x="1765052" y="1500603"/>
                </a:lnTo>
                <a:lnTo>
                  <a:pt x="0" y="1500603"/>
                </a:lnTo>
                <a:lnTo>
                  <a:pt x="882526" y="0"/>
                </a:lnTo>
                <a:close/>
              </a:path>
            </a:pathLst>
          </a:custGeom>
          <a:gradFill rotWithShape="0">
            <a:gsLst>
              <a:gs pos="0">
                <a:srgbClr val="fece02"/>
              </a:gs>
              <a:gs pos="100000">
                <a:srgbClr val="c73e01"/>
              </a:gs>
            </a:gsLst>
            <a:lin ang="10800000"/>
          </a:gradFill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extBox 8" descr=""/>
          <p:cNvPicPr/>
          <p:nvPr/>
        </p:nvPicPr>
        <p:blipFill>
          <a:blip r:embed="rId2"/>
          <a:stretch/>
        </p:blipFill>
        <p:spPr>
          <a:xfrm>
            <a:off x="4145040" y="3693960"/>
            <a:ext cx="750960" cy="768600"/>
          </a:xfrm>
          <a:prstGeom prst="rect">
            <a:avLst/>
          </a:prstGeom>
          <a:ln w="0">
            <a:noFill/>
          </a:ln>
        </p:spPr>
      </p:pic>
      <p:pic>
        <p:nvPicPr>
          <p:cNvPr id="90" name="TextBox 9" descr=""/>
          <p:cNvPicPr/>
          <p:nvPr/>
        </p:nvPicPr>
        <p:blipFill>
          <a:blip r:embed="rId3"/>
          <a:stretch/>
        </p:blipFill>
        <p:spPr>
          <a:xfrm>
            <a:off x="5211720" y="4194000"/>
            <a:ext cx="787320" cy="963720"/>
          </a:xfrm>
          <a:prstGeom prst="rect">
            <a:avLst/>
          </a:prstGeom>
          <a:ln w="0">
            <a:noFill/>
          </a:ln>
        </p:spPr>
      </p:pic>
      <p:pic>
        <p:nvPicPr>
          <p:cNvPr id="91" name="TextBox 10" descr=""/>
          <p:cNvPicPr/>
          <p:nvPr/>
        </p:nvPicPr>
        <p:blipFill>
          <a:blip r:embed="rId4"/>
          <a:stretch/>
        </p:blipFill>
        <p:spPr>
          <a:xfrm>
            <a:off x="4145040" y="2389320"/>
            <a:ext cx="787320" cy="963360"/>
          </a:xfrm>
          <a:prstGeom prst="rect">
            <a:avLst/>
          </a:prstGeom>
          <a:ln w="0">
            <a:noFill/>
          </a:ln>
        </p:spPr>
      </p:pic>
      <p:pic>
        <p:nvPicPr>
          <p:cNvPr id="92" name="TextBox 11" descr=""/>
          <p:cNvPicPr/>
          <p:nvPr/>
        </p:nvPicPr>
        <p:blipFill>
          <a:blip r:embed="rId5"/>
          <a:stretch/>
        </p:blipFill>
        <p:spPr>
          <a:xfrm>
            <a:off x="3090960" y="4194000"/>
            <a:ext cx="785880" cy="963720"/>
          </a:xfrm>
          <a:prstGeom prst="rect">
            <a:avLst/>
          </a:prstGeom>
          <a:ln w="0">
            <a:noFill/>
          </a:ln>
        </p:spPr>
      </p:pic>
      <p:sp>
        <p:nvSpPr>
          <p:cNvPr id="93" name="TextBox 11"/>
          <p:cNvSpPr/>
          <p:nvPr/>
        </p:nvSpPr>
        <p:spPr>
          <a:xfrm flipH="1">
            <a:off x="888120" y="413856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1"/>
          <p:cNvSpPr/>
          <p:nvPr/>
        </p:nvSpPr>
        <p:spPr>
          <a:xfrm flipH="1">
            <a:off x="1287360" y="450864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 flipH="1">
            <a:off x="1287360" y="4784760"/>
            <a:ext cx="125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 flipH="1">
            <a:off x="6155640" y="413856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6554160" y="4508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6554160" y="47847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1"/>
          <p:cNvSpPr/>
          <p:nvPr/>
        </p:nvSpPr>
        <p:spPr>
          <a:xfrm flipH="1">
            <a:off x="3498120" y="10224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 flipH="1">
            <a:off x="3898080" y="139068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3898080" y="166860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1"/>
          <p:cNvSpPr/>
          <p:nvPr/>
        </p:nvSpPr>
        <p:spPr>
          <a:xfrm>
            <a:off x="5667840" y="260280"/>
            <a:ext cx="24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三角形叠加扩散关系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图表</a:t>
            </a:r>
            <a:r>
              <a:rPr b="0" lang="en-US" sz="18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0:0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