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E7D-871E-4449-BC00-1B45482C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5D5-08E2-4F62-A9E1-1C7567FA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789-479A-414E-B027-AA4D6FD9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797-2B12-465F-A0EA-8D7F9C48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EAB-1DF7-4DBE-9C76-17CFA30E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552-BE18-4B45-A1DF-723361DF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B08-777A-409B-8387-A9982510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D690-BE58-42F0-ADB2-45BC4248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A82-42B7-4E46-972E-21EF905F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731-C856-4AAE-8B83-138EB525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9DE4-13FD-4FF4-B68A-98097C5E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D72-48C8-4A15-B845-5E977CBA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510F-7D56-436C-BE4C-78939FC5F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.blog.163.com/photo/0y_LSP9aodnrA5UHz1uRHg==/425027214834449676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g.blog.163.com/photo/1ab0qekcAN6okXNNK6Oz7A==/424464264881027870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.blog.163.com/photo/FsLVDdk0vTJz25T6a2pD6Q==/44557488813432821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g.blog.163.com/photo/aAxq9V6Z5nCF2rXQHD4MnA==/424464264881027873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.blog.163.com/photo/BPyF22R4vK35oepfVKnHnQ==/437975063763132476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g.blog.163.com/photo/5eFQd-dppbxPt0T_ucTeZA==/425027214834449681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.blog.163.com/photo/Tae-LetXKqsuAf0i3hQ2vQ==/424464264881027878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g.blog.163.com/photo/Wb8gGsAnTA8AknXD8b_BeA==/446419313064450679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.blog.163.com/photo/fvBCY-xsZp7IRxlJMDmevw==/2867104112774900549.jpg" TargetMode="External"/><Relationship Id="rId2" Type="http://schemas.openxmlformats.org/officeDocument/2006/relationships/hyperlink" Target="http://img.blog.163.com/photo/fvBCY-xsZp7IRxlJMDmevw==/2867104112774900549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g.blog.163.com/photo/bkQUxsOcfCWd_HUxdTzexw==/445574888134328222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.blog.163.com/photo/GxKB0if_BJcuzZufejSShw==/5713097602296347285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g.blog.163.com/photo/mNCcRiNUYrggu9u3cp1Ecg==/445574888134328224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.blog.163.com/photo/wg4SaguOao0rmqbb54S87w==/424464264881027883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g.blog.163.com/photo/HQIk7EOTZv4XRqRtGQ_Ebg==/424464264881027884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250272148344496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4562640" cy="6335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4244642648810278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14760" y="189000"/>
            <a:ext cx="46656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1.jpg"/>
          <p:cNvPicPr/>
          <p:nvPr/>
        </p:nvPicPr>
        <p:blipFill>
          <a:blip r:embed="rId1"/>
          <a:stretch/>
        </p:blipFill>
        <p:spPr>
          <a:xfrm>
            <a:off x="0" y="144360"/>
            <a:ext cx="4511520" cy="652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12.jpg"/>
          <p:cNvPicPr/>
          <p:nvPr/>
        </p:nvPicPr>
        <p:blipFill>
          <a:blip r:embed="rId2"/>
          <a:stretch/>
        </p:blipFill>
        <p:spPr>
          <a:xfrm>
            <a:off x="4572000" y="115920"/>
            <a:ext cx="4562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.jpg"/>
          <p:cNvPicPr/>
          <p:nvPr/>
        </p:nvPicPr>
        <p:blipFill>
          <a:blip r:embed="rId1"/>
          <a:stretch/>
        </p:blipFill>
        <p:spPr>
          <a:xfrm>
            <a:off x="0" y="260280"/>
            <a:ext cx="4430880" cy="640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14.jpg"/>
          <p:cNvPicPr/>
          <p:nvPr/>
        </p:nvPicPr>
        <p:blipFill>
          <a:blip r:embed="rId2"/>
          <a:stretch/>
        </p:blipFill>
        <p:spPr>
          <a:xfrm>
            <a:off x="4749840" y="260280"/>
            <a:ext cx="44305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21.jpg"/>
          <p:cNvPicPr/>
          <p:nvPr/>
        </p:nvPicPr>
        <p:blipFill>
          <a:blip r:embed="rId1"/>
          <a:stretch/>
        </p:blipFill>
        <p:spPr>
          <a:xfrm>
            <a:off x="0" y="189000"/>
            <a:ext cx="4481640" cy="648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2.jpg"/>
          <p:cNvPicPr/>
          <p:nvPr/>
        </p:nvPicPr>
        <p:blipFill>
          <a:blip r:embed="rId2"/>
          <a:stretch/>
        </p:blipFill>
        <p:spPr>
          <a:xfrm>
            <a:off x="4627440" y="189000"/>
            <a:ext cx="4481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lanbo00009"/>
          <p:cNvPicPr/>
          <p:nvPr/>
        </p:nvPicPr>
        <p:blipFill>
          <a:blip r:embed="rId1"/>
          <a:stretch/>
        </p:blipFill>
        <p:spPr>
          <a:xfrm>
            <a:off x="0" y="189000"/>
            <a:ext cx="4578480" cy="6408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lanbo00010"/>
          <p:cNvPicPr/>
          <p:nvPr/>
        </p:nvPicPr>
        <p:blipFill>
          <a:blip r:embed="rId2"/>
          <a:stretch/>
        </p:blipFill>
        <p:spPr>
          <a:xfrm>
            <a:off x="4643280" y="189000"/>
            <a:ext cx="45262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lanbo00011"/>
          <p:cNvPicPr/>
          <p:nvPr/>
        </p:nvPicPr>
        <p:blipFill>
          <a:blip r:embed="rId1"/>
          <a:stretch/>
        </p:blipFill>
        <p:spPr>
          <a:xfrm>
            <a:off x="0" y="260280"/>
            <a:ext cx="4525920" cy="633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lanbo00012"/>
          <p:cNvPicPr/>
          <p:nvPr/>
        </p:nvPicPr>
        <p:blipFill>
          <a:blip r:embed="rId2"/>
          <a:stretch/>
        </p:blipFill>
        <p:spPr>
          <a:xfrm>
            <a:off x="4643280" y="260280"/>
            <a:ext cx="45262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点击查看下一张"/>
          <p:cNvPicPr/>
          <p:nvPr/>
        </p:nvPicPr>
        <p:blipFill>
          <a:blip r:embed="rId1"/>
          <a:stretch/>
        </p:blipFill>
        <p:spPr>
          <a:xfrm>
            <a:off x="0" y="287280"/>
            <a:ext cx="4079880" cy="6166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点击查看下一张"/>
          <p:cNvPicPr/>
          <p:nvPr/>
        </p:nvPicPr>
        <p:blipFill>
          <a:blip r:embed="rId2"/>
          <a:stretch/>
        </p:blipFill>
        <p:spPr>
          <a:xfrm>
            <a:off x="4067280" y="720720"/>
            <a:ext cx="5059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4795920" cy="645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点击查看下一张"/>
          <p:cNvPicPr/>
          <p:nvPr/>
        </p:nvPicPr>
        <p:blipFill>
          <a:blip r:embed="rId2"/>
          <a:stretch/>
        </p:blipFill>
        <p:spPr>
          <a:xfrm>
            <a:off x="4813200" y="0"/>
            <a:ext cx="42973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点击查看下一张"/>
          <p:cNvPicPr/>
          <p:nvPr/>
        </p:nvPicPr>
        <p:blipFill>
          <a:blip r:embed="rId1"/>
          <a:stretch/>
        </p:blipFill>
        <p:spPr>
          <a:xfrm>
            <a:off x="0" y="260280"/>
            <a:ext cx="4343400" cy="640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点击查看下一张"/>
          <p:cNvPicPr/>
          <p:nvPr/>
        </p:nvPicPr>
        <p:blipFill>
          <a:blip r:embed="rId2"/>
          <a:stretch/>
        </p:blipFill>
        <p:spPr>
          <a:xfrm>
            <a:off x="4754520" y="260280"/>
            <a:ext cx="43894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b_large_Zb6F_24fb0003d2585c43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C46-0CE0-4EF1-AE33-15F7F9360E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4455748881343282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48160" cy="6381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4244642648810278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41760" y="0"/>
            <a:ext cx="46166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4379750637631324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4533840" cy="640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4250272148344496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6520" y="260280"/>
            <a:ext cx="45338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4244642648810278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4549680" cy="6408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44641931306445067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33920" y="260280"/>
            <a:ext cx="45514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5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28671041127749005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9000"/>
            <a:ext cx="4683240" cy="640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4455748881343282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89000"/>
            <a:ext cx="45626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7130976022963472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4670280" cy="633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4455748881343282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08440" y="260280"/>
            <a:ext cx="44719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4244642648810278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4492800" cy="633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42446426488102788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26000" y="189000"/>
            <a:ext cx="4483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ftfxiong0000008"/>
          <p:cNvPicPr/>
          <p:nvPr/>
        </p:nvPicPr>
        <p:blipFill>
          <a:blip r:embed="rId1"/>
          <a:stretch/>
        </p:blipFill>
        <p:spPr>
          <a:xfrm>
            <a:off x="0" y="260280"/>
            <a:ext cx="4514760" cy="633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ftfxiong0000009"/>
          <p:cNvPicPr/>
          <p:nvPr/>
        </p:nvPicPr>
        <p:blipFill>
          <a:blip r:embed="rId2"/>
          <a:stretch/>
        </p:blipFill>
        <p:spPr>
          <a:xfrm>
            <a:off x="4665600" y="260280"/>
            <a:ext cx="45147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1.jpg"/>
          <p:cNvPicPr/>
          <p:nvPr/>
        </p:nvPicPr>
        <p:blipFill>
          <a:blip r:embed="rId1"/>
          <a:stretch/>
        </p:blipFill>
        <p:spPr>
          <a:xfrm>
            <a:off x="0" y="260280"/>
            <a:ext cx="4454640" cy="626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2.jpg"/>
          <p:cNvPicPr/>
          <p:nvPr/>
        </p:nvPicPr>
        <p:blipFill>
          <a:blip r:embed="rId2"/>
          <a:stretch/>
        </p:blipFill>
        <p:spPr>
          <a:xfrm>
            <a:off x="4654440" y="260280"/>
            <a:ext cx="4454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02:02:49Z</dcterms:created>
  <dc:creator>Mr.Z</dc:creator>
  <dc:description/>
  <dc:language>en-US</dc:language>
  <cp:lastModifiedBy>a</cp:lastModifiedBy>
  <dcterms:modified xsi:type="dcterms:W3CDTF">2015-06-13T11:14:09Z</dcterms:modified>
  <cp:revision>6</cp:revision>
  <dc:subject/>
  <dc:title>世界三大著名平面设计师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