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61C-EC16-47A7-8C43-BDEDFD1E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86D-2FE4-495E-ABAE-942E0606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A16-0B0B-4A2B-B5E0-329CAD1F0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A38-79EB-4FD5-9E20-6DB8EE40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68B-2EFF-4EAF-BC94-D6224C76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D512-C0DC-482A-8721-3DCDCC1D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A5A-2B24-4D47-B960-4D569764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0696-3419-4AA7-96B4-DD9B5370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677C-BE30-4A1B-9984-0E6AC3F2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CD4-FA98-4FFF-835C-46BBF71E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D15-CDAC-4591-9A81-48E0BB1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D6AB-7765-4A07-AAFE-31EE3835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0D4D-E085-47D8-B9A7-E5DE02AEDB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BB9D-E0C8-4499-AABE-196EF638C6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rcRect l="0" t="0" r="0" b="8844"/>
          <a:stretch/>
        </p:blipFill>
        <p:spPr>
          <a:xfrm>
            <a:off x="0" y="0"/>
            <a:ext cx="9144000" cy="625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51400"/>
            <a:ext cx="914400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943600"/>
            <a:ext cx="76212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638680"/>
            <a:ext cx="7621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5943600"/>
            <a:ext cx="7617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5257800"/>
            <a:ext cx="60948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5410080"/>
            <a:ext cx="609480" cy="457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C4A-5509-44A0-9C5F-1A457BE68F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5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