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ichael%20Jackson%20-%20Billy%20Jean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B20-9B72-4F46-BCC6-59B2491F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950-BF12-4D7F-97A4-A6242AE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380-D009-4049-B5F8-471080B2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B74-967E-4938-9964-86A27856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71E-EDCC-47A1-A9B6-90C9391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FE9-47F3-4B8F-8356-C32430B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D6C-62B6-414C-BEF7-57D481C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E0A-5C06-403B-A3E5-52DFF4E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93A-7B9E-4CD6-8987-9B9D81D4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8C6-FC5C-4762-84CA-524A4A4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FD8-0DA3-45E0-98B2-3C70896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9BC-BEC4-4874-9A42-5B54FBD1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B70E-F2EB-418D-BAEE-4432819E21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43F-FD36-4F87-BF9E-8EE5F4DE9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ichael%20Jackson%20-%20Billy%20Jea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743997126.jpg"/>
          <p:cNvPicPr/>
          <p:nvPr/>
        </p:nvPicPr>
        <p:blipFill>
          <a:blip r:embed="rId1"/>
          <a:srcRect l="3126" t="0" r="0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0" y="2714760"/>
            <a:ext cx="52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ivaldi"/>
                <a:ea typeface="宋体"/>
              </a:rPr>
              <a:t>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50028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Vivaldi"/>
                <a:ea typeface="宋体"/>
              </a:rPr>
              <a:t>S</a:t>
            </a:r>
            <a:r>
              <a:rPr b="0" lang="nl-NL" sz="4800" spc="-1" strike="noStrike">
                <a:solidFill>
                  <a:srgbClr val="000000"/>
                </a:solidFill>
                <a:latin typeface="Vivaldi"/>
                <a:ea typeface="宋体"/>
              </a:rPr>
              <a:t>piderweb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7120" y="50007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Bradley Hand ITC"/>
                <a:ea typeface="宋体"/>
              </a:rPr>
              <a:t>PP SHOW by DO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85840" y="55008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Bradley Hand ITC"/>
                <a:ea typeface="宋体"/>
              </a:rPr>
              <a:t>Music: Michael Jackson – Billy  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500"/>
                            </p:stCondLst>
                            <p:childTnLst>
                              <p:par>
                                <p:cTn id="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FA1-DCB4-4E3F-85FE-9AEBF72F4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51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