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7CC5-BED8-4C26-8A56-6741FE0EF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83AF-3D8C-41F7-9F25-9C9D21921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0FEB-854D-4156-A66F-68227274E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48E4-EB5D-46D4-BBD9-DFBBE8885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14271-1ABE-4638-9EFE-5A9937381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47C11-4BE5-429A-A6FC-C308C0F4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8DE4D-EC7A-4133-BE93-79A596E6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467D0-5771-450D-BB6A-6762F02C3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B4D64-64D9-442F-8DFF-4EBA7A2AC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04840-011E-444A-8530-416A3FB19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557E5-5215-42F2-9B5C-C0493085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CD09-129A-4E58-8F99-B40EF289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6F465-B55C-41E1-9B15-69E6A32B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604E7-9D1B-4188-AC17-D3782916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FA278-A8E2-4886-8B6E-E1F91D8B4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44B11-61E8-413B-9B7A-9E8EA9834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2010A-FECF-4EF7-BDE4-0DA2A57C2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12A2-6349-472E-B37E-F8C522D84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76BE-D3E3-402B-B5A9-C2A1A4A2F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1405-79DD-40DA-9FF9-9C5E6E6F3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0A79-B7C8-478A-B338-420EE9F8A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9445-026C-4A79-BFF6-52FA0FBD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BF6D-B887-4C95-BAB7-E6565F9F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1C8C-62BF-4EC8-A577-C24CD1A6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70900-D7B8-49EA-A218-37E9F6B5291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5FDA9-E056-41D9-B6B1-E2184E5832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E257B-7407-4E53-8861-2E34A463322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57715-AA18-49DA-9590-2C593B8B6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http://www.rapidppt.com/" TargetMode="Externa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1689120" y="3432240"/>
            <a:ext cx="5791320" cy="2822400"/>
            <a:chOff x="1689120" y="3432240"/>
            <a:chExt cx="5791320" cy="2822400"/>
          </a:xfrm>
        </p:grpSpPr>
        <p:pic>
          <p:nvPicPr>
            <p:cNvPr id="83" name="椭圆 10" descr=""/>
            <p:cNvPicPr/>
            <p:nvPr/>
          </p:nvPicPr>
          <p:blipFill>
            <a:blip r:embed="rId1"/>
            <a:stretch/>
          </p:blipFill>
          <p:spPr>
            <a:xfrm>
              <a:off x="1689120" y="3432240"/>
              <a:ext cx="579132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2617920" y="3924360"/>
              <a:ext cx="3857400" cy="175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任意多边形 4"/>
          <p:cNvSpPr/>
          <p:nvPr/>
        </p:nvSpPr>
        <p:spPr>
          <a:xfrm>
            <a:off x="5721480" y="3676680"/>
            <a:ext cx="952200" cy="1208160"/>
          </a:xfrm>
          <a:custGeom>
            <a:avLst/>
            <a:gdLst/>
            <a:ahLst/>
            <a:rect l="l" t="t" r="r" b="b"/>
            <a:pathLst>
              <a:path w="952089" h="1208690">
                <a:moveTo>
                  <a:pt x="0" y="633002"/>
                </a:moveTo>
                <a:lnTo>
                  <a:pt x="16669" y="1208690"/>
                </a:lnTo>
                <a:lnTo>
                  <a:pt x="952089" y="336331"/>
                </a:lnTo>
                <a:lnTo>
                  <a:pt x="952089" y="0"/>
                </a:lnTo>
                <a:lnTo>
                  <a:pt x="0" y="633002"/>
                </a:lnTo>
                <a:close/>
              </a:path>
            </a:pathLst>
          </a:custGeom>
          <a:gradFill rotWithShape="0">
            <a:gsLst>
              <a:gs pos="0">
                <a:srgbClr val="fece02"/>
              </a:gs>
              <a:gs pos="100000">
                <a:srgbClr val="c73e01"/>
              </a:gs>
            </a:gsLst>
            <a:lin ang="10800000"/>
          </a:gra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任意多边形 5"/>
          <p:cNvSpPr/>
          <p:nvPr/>
        </p:nvSpPr>
        <p:spPr>
          <a:xfrm>
            <a:off x="3454560" y="4368960"/>
            <a:ext cx="1149120" cy="1568160"/>
          </a:xfrm>
          <a:custGeom>
            <a:avLst/>
            <a:gdLst/>
            <a:ahLst/>
            <a:rect l="l" t="t" r="r" b="b"/>
            <a:pathLst>
              <a:path w="1145628" h="1568011">
                <a:moveTo>
                  <a:pt x="1011" y="0"/>
                </a:moveTo>
                <a:lnTo>
                  <a:pt x="1145628" y="685142"/>
                </a:lnTo>
                <a:lnTo>
                  <a:pt x="1145628" y="1568011"/>
                </a:lnTo>
                <a:lnTo>
                  <a:pt x="0" y="580039"/>
                </a:lnTo>
                <a:lnTo>
                  <a:pt x="1011" y="0"/>
                </a:lnTo>
                <a:close/>
              </a:path>
            </a:pathLst>
          </a:custGeom>
          <a:gradFill rotWithShape="0">
            <a:gsLst>
              <a:gs pos="0">
                <a:srgbClr val="fa9496"/>
              </a:gs>
              <a:gs pos="100000">
                <a:srgbClr val="be1247"/>
              </a:gs>
            </a:gsLst>
            <a:lin ang="10800000"/>
          </a:gradFill>
          <a:ln w="3240">
            <a:solidFill>
              <a:srgbClr val="f2f2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任意多边形 6"/>
          <p:cNvSpPr/>
          <p:nvPr/>
        </p:nvSpPr>
        <p:spPr>
          <a:xfrm>
            <a:off x="4602240" y="4329000"/>
            <a:ext cx="1104840" cy="1611360"/>
          </a:xfrm>
          <a:custGeom>
            <a:avLst/>
            <a:gdLst/>
            <a:ahLst/>
            <a:rect l="l" t="t" r="r" b="b"/>
            <a:pathLst>
              <a:path w="1072056" h="1611448">
                <a:moveTo>
                  <a:pt x="0" y="725214"/>
                </a:moveTo>
                <a:cubicBezTo>
                  <a:pt x="1541" y="1019038"/>
                  <a:pt x="771" y="1317624"/>
                  <a:pt x="2312" y="1611448"/>
                </a:cubicBezTo>
                <a:lnTo>
                  <a:pt x="1072056" y="588580"/>
                </a:lnTo>
                <a:lnTo>
                  <a:pt x="1072056" y="0"/>
                </a:lnTo>
                <a:lnTo>
                  <a:pt x="0" y="725214"/>
                </a:lnTo>
                <a:close/>
              </a:path>
            </a:pathLst>
          </a:custGeom>
          <a:gradFill rotWithShape="0">
            <a:gsLst>
              <a:gs pos="0">
                <a:srgbClr val="fa9496"/>
              </a:gs>
              <a:gs pos="100000">
                <a:srgbClr val="be1247"/>
              </a:gs>
            </a:gsLst>
            <a:lin ang="10800000"/>
          </a:gradFill>
          <a:ln w="3240">
            <a:solidFill>
              <a:srgbClr val="f2f2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任意多边形 7"/>
          <p:cNvSpPr/>
          <p:nvPr/>
        </p:nvSpPr>
        <p:spPr>
          <a:xfrm>
            <a:off x="3454560" y="3730680"/>
            <a:ext cx="2252520" cy="1339920"/>
          </a:xfrm>
          <a:custGeom>
            <a:avLst/>
            <a:gdLst/>
            <a:ahLst/>
            <a:rect l="l" t="t" r="r" b="b"/>
            <a:pathLst>
              <a:path w="2753711" h="1639613">
                <a:moveTo>
                  <a:pt x="1397876" y="1639613"/>
                </a:moveTo>
                <a:lnTo>
                  <a:pt x="0" y="777765"/>
                </a:lnTo>
                <a:lnTo>
                  <a:pt x="1366345" y="0"/>
                </a:lnTo>
                <a:lnTo>
                  <a:pt x="2753711" y="735724"/>
                </a:lnTo>
                <a:lnTo>
                  <a:pt x="1397876" y="1639613"/>
                </a:lnTo>
                <a:close/>
              </a:path>
            </a:pathLst>
          </a:custGeom>
          <a:gradFill rotWithShape="0">
            <a:gsLst>
              <a:gs pos="0">
                <a:srgbClr val="be1247"/>
              </a:gs>
              <a:gs pos="100000">
                <a:srgbClr val="fa9496"/>
              </a:gs>
            </a:gsLst>
            <a:lin ang="5400000"/>
          </a:gradFill>
          <a:ln w="3240">
            <a:solidFill>
              <a:srgbClr val="f2f2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任意多边形 8"/>
          <p:cNvSpPr/>
          <p:nvPr/>
        </p:nvSpPr>
        <p:spPr>
          <a:xfrm>
            <a:off x="4602240" y="3193920"/>
            <a:ext cx="2079720" cy="1117800"/>
          </a:xfrm>
          <a:custGeom>
            <a:avLst/>
            <a:gdLst/>
            <a:ahLst/>
            <a:rect l="l" t="t" r="r" b="b"/>
            <a:pathLst>
              <a:path w="2543503" h="1366345">
                <a:moveTo>
                  <a:pt x="1366345" y="1366345"/>
                </a:moveTo>
                <a:lnTo>
                  <a:pt x="0" y="630621"/>
                </a:lnTo>
                <a:lnTo>
                  <a:pt x="1187669" y="0"/>
                </a:lnTo>
                <a:lnTo>
                  <a:pt x="2543503" y="609600"/>
                </a:lnTo>
                <a:lnTo>
                  <a:pt x="1366345" y="1366345"/>
                </a:lnTo>
                <a:close/>
              </a:path>
            </a:pathLst>
          </a:custGeom>
          <a:gradFill rotWithShape="0">
            <a:gsLst>
              <a:gs pos="0">
                <a:srgbClr val="c73e01"/>
              </a:gs>
              <a:gs pos="100000">
                <a:srgbClr val="fece02"/>
              </a:gs>
            </a:gsLst>
            <a:lin ang="5400000"/>
          </a:gra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任意多边形 9"/>
          <p:cNvSpPr/>
          <p:nvPr/>
        </p:nvSpPr>
        <p:spPr>
          <a:xfrm>
            <a:off x="2441520" y="3211560"/>
            <a:ext cx="2104920" cy="1133280"/>
          </a:xfrm>
          <a:custGeom>
            <a:avLst/>
            <a:gdLst/>
            <a:ahLst/>
            <a:rect l="l" t="t" r="r" b="b"/>
            <a:pathLst>
              <a:path w="2575034" h="1387365">
                <a:moveTo>
                  <a:pt x="1215654" y="1387365"/>
                </a:moveTo>
                <a:lnTo>
                  <a:pt x="2575034" y="609600"/>
                </a:lnTo>
                <a:lnTo>
                  <a:pt x="1387365" y="0"/>
                </a:lnTo>
                <a:lnTo>
                  <a:pt x="0" y="651641"/>
                </a:lnTo>
                <a:lnTo>
                  <a:pt x="1215654" y="1387365"/>
                </a:lnTo>
                <a:close/>
              </a:path>
            </a:pathLst>
          </a:custGeom>
          <a:gradFill rotWithShape="0">
            <a:gsLst>
              <a:gs pos="0">
                <a:srgbClr val="119707"/>
              </a:gs>
              <a:gs pos="100000">
                <a:srgbClr val="bceb6f"/>
              </a:gs>
            </a:gsLst>
            <a:lin ang="5400000"/>
          </a:gra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任意多边形 10"/>
          <p:cNvSpPr/>
          <p:nvPr/>
        </p:nvSpPr>
        <p:spPr>
          <a:xfrm>
            <a:off x="3608280" y="2744640"/>
            <a:ext cx="1932120" cy="962280"/>
          </a:xfrm>
          <a:custGeom>
            <a:avLst/>
            <a:gdLst/>
            <a:ahLst/>
            <a:rect l="l" t="t" r="r" b="b"/>
            <a:pathLst>
              <a:path w="2364828" h="1177159">
                <a:moveTo>
                  <a:pt x="1187669" y="1177159"/>
                </a:moveTo>
                <a:lnTo>
                  <a:pt x="2364828" y="536028"/>
                </a:lnTo>
                <a:lnTo>
                  <a:pt x="1177159" y="0"/>
                </a:lnTo>
                <a:lnTo>
                  <a:pt x="0" y="557049"/>
                </a:lnTo>
                <a:lnTo>
                  <a:pt x="1187669" y="1177159"/>
                </a:lnTo>
                <a:close/>
              </a:path>
            </a:pathLst>
          </a:custGeom>
          <a:gradFill rotWithShape="0">
            <a:gsLst>
              <a:gs pos="0">
                <a:srgbClr val="006a96"/>
              </a:gs>
              <a:gs pos="100000">
                <a:srgbClr val="00b8ff"/>
              </a:gs>
            </a:gsLst>
            <a:lin ang="5400000"/>
          </a:gra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任意多边形 11"/>
          <p:cNvSpPr/>
          <p:nvPr/>
        </p:nvSpPr>
        <p:spPr>
          <a:xfrm>
            <a:off x="2441520" y="3749760"/>
            <a:ext cx="995400" cy="1189080"/>
          </a:xfrm>
          <a:custGeom>
            <a:avLst/>
            <a:gdLst/>
            <a:ahLst/>
            <a:rect l="l" t="t" r="r" b="b"/>
            <a:pathLst>
              <a:path w="966952" h="1187669">
                <a:moveTo>
                  <a:pt x="962324" y="590550"/>
                </a:moveTo>
                <a:cubicBezTo>
                  <a:pt x="963867" y="789590"/>
                  <a:pt x="965409" y="988629"/>
                  <a:pt x="966952" y="1187669"/>
                </a:cubicBezTo>
                <a:lnTo>
                  <a:pt x="0" y="304800"/>
                </a:lnTo>
                <a:lnTo>
                  <a:pt x="0" y="0"/>
                </a:lnTo>
                <a:lnTo>
                  <a:pt x="962324" y="590550"/>
                </a:lnTo>
                <a:close/>
              </a:path>
            </a:pathLst>
          </a:custGeom>
          <a:gradFill rotWithShape="0">
            <a:gsLst>
              <a:gs pos="0">
                <a:srgbClr val="bceb6f"/>
              </a:gs>
              <a:gs pos="100000">
                <a:srgbClr val="119707"/>
              </a:gs>
            </a:gsLst>
            <a:lin ang="10800000"/>
          </a:gra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390760" y="3749760"/>
            <a:ext cx="4346640" cy="2063520"/>
            <a:chOff x="2390760" y="3749760"/>
            <a:chExt cx="4346640" cy="2063520"/>
          </a:xfrm>
        </p:grpSpPr>
        <p:grpSp>
          <p:nvGrpSpPr>
            <p:cNvPr id="94" name=""/>
            <p:cNvGrpSpPr/>
            <p:nvPr/>
          </p:nvGrpSpPr>
          <p:grpSpPr>
            <a:xfrm>
              <a:off x="2390760" y="3749760"/>
              <a:ext cx="4346640" cy="2003760"/>
              <a:chOff x="2390760" y="3749760"/>
              <a:chExt cx="4346640" cy="2003760"/>
            </a:xfrm>
          </p:grpSpPr>
          <p:pic>
            <p:nvPicPr>
              <p:cNvPr id="95" name="任意多边形 17" descr=""/>
              <p:cNvPicPr/>
              <p:nvPr/>
            </p:nvPicPr>
            <p:blipFill>
              <a:blip r:embed="rId2"/>
              <a:stretch/>
            </p:blipFill>
            <p:spPr>
              <a:xfrm>
                <a:off x="2390760" y="3792240"/>
                <a:ext cx="2228040" cy="1949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6" name="任意多边形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4600440" y="3749760"/>
                <a:ext cx="2136960" cy="2003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7" name=""/>
            <p:cNvGrpSpPr/>
            <p:nvPr/>
          </p:nvGrpSpPr>
          <p:grpSpPr>
            <a:xfrm>
              <a:off x="2411280" y="3754800"/>
              <a:ext cx="4321080" cy="2058480"/>
              <a:chOff x="2411280" y="3754800"/>
              <a:chExt cx="4321080" cy="2058480"/>
            </a:xfrm>
          </p:grpSpPr>
          <p:pic>
            <p:nvPicPr>
              <p:cNvPr id="98" name="任意多边形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2411280" y="3803040"/>
                <a:ext cx="2194200" cy="199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任意多边形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4599360" y="3754800"/>
                <a:ext cx="2133000" cy="2058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" name="TextBox 11"/>
          <p:cNvSpPr/>
          <p:nvPr/>
        </p:nvSpPr>
        <p:spPr>
          <a:xfrm flipH="1" rot="19374600">
            <a:off x="4861800" y="4606920"/>
            <a:ext cx="145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文本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1"/>
          <p:cNvSpPr/>
          <p:nvPr/>
        </p:nvSpPr>
        <p:spPr>
          <a:xfrm flipH="1">
            <a:off x="3843360" y="4227480"/>
            <a:ext cx="14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1"/>
          <p:cNvSpPr/>
          <p:nvPr/>
        </p:nvSpPr>
        <p:spPr>
          <a:xfrm flipH="1">
            <a:off x="2784600" y="3583080"/>
            <a:ext cx="14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1"/>
          <p:cNvSpPr/>
          <p:nvPr/>
        </p:nvSpPr>
        <p:spPr>
          <a:xfrm flipH="1">
            <a:off x="4894200" y="3583080"/>
            <a:ext cx="14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1"/>
          <p:cNvSpPr/>
          <p:nvPr/>
        </p:nvSpPr>
        <p:spPr>
          <a:xfrm flipH="1">
            <a:off x="7669080" y="6453360"/>
            <a:ext cx="145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603360" y="1344600"/>
            <a:ext cx="1241280" cy="936000"/>
            <a:chOff x="603360" y="1344600"/>
            <a:chExt cx="1241280" cy="936000"/>
          </a:xfrm>
        </p:grpSpPr>
        <p:sp>
          <p:nvSpPr>
            <p:cNvPr id="106" name="TextBox 11"/>
            <p:cNvSpPr/>
            <p:nvPr/>
          </p:nvSpPr>
          <p:spPr>
            <a:xfrm flipH="1">
              <a:off x="603360" y="1821600"/>
              <a:ext cx="1226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Box 11"/>
            <p:cNvSpPr/>
            <p:nvPr/>
          </p:nvSpPr>
          <p:spPr>
            <a:xfrm flipH="1">
              <a:off x="618480" y="1344600"/>
              <a:ext cx="1226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03360" y="2355840"/>
            <a:ext cx="1241280" cy="936360"/>
            <a:chOff x="603360" y="2355840"/>
            <a:chExt cx="1241280" cy="936360"/>
          </a:xfrm>
        </p:grpSpPr>
        <p:sp>
          <p:nvSpPr>
            <p:cNvPr id="109" name="TextBox 11"/>
            <p:cNvSpPr/>
            <p:nvPr/>
          </p:nvSpPr>
          <p:spPr>
            <a:xfrm flipH="1">
              <a:off x="603360" y="2833200"/>
              <a:ext cx="1226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Box 11"/>
            <p:cNvSpPr/>
            <p:nvPr/>
          </p:nvSpPr>
          <p:spPr>
            <a:xfrm flipH="1">
              <a:off x="618480" y="2355840"/>
              <a:ext cx="1226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7724880" y="1344600"/>
            <a:ext cx="1241280" cy="936000"/>
            <a:chOff x="7724880" y="1344600"/>
            <a:chExt cx="1241280" cy="936000"/>
          </a:xfrm>
        </p:grpSpPr>
        <p:sp>
          <p:nvSpPr>
            <p:cNvPr id="112" name="TextBox 11"/>
            <p:cNvSpPr/>
            <p:nvPr/>
          </p:nvSpPr>
          <p:spPr>
            <a:xfrm flipH="1">
              <a:off x="7724880" y="1821600"/>
              <a:ext cx="1226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Box 11"/>
            <p:cNvSpPr/>
            <p:nvPr/>
          </p:nvSpPr>
          <p:spPr>
            <a:xfrm flipH="1">
              <a:off x="7740000" y="1344600"/>
              <a:ext cx="1226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7724880" y="2363760"/>
            <a:ext cx="1241280" cy="936000"/>
            <a:chOff x="7724880" y="2363760"/>
            <a:chExt cx="1241280" cy="936000"/>
          </a:xfrm>
        </p:grpSpPr>
        <p:sp>
          <p:nvSpPr>
            <p:cNvPr id="115" name="TextBox 11"/>
            <p:cNvSpPr/>
            <p:nvPr/>
          </p:nvSpPr>
          <p:spPr>
            <a:xfrm flipH="1">
              <a:off x="7724880" y="2840760"/>
              <a:ext cx="1226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Box 11"/>
            <p:cNvSpPr/>
            <p:nvPr/>
          </p:nvSpPr>
          <p:spPr>
            <a:xfrm flipH="1">
              <a:off x="7740000" y="2363760"/>
              <a:ext cx="1226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矩形 36"/>
          <p:cNvSpPr/>
          <p:nvPr/>
        </p:nvSpPr>
        <p:spPr>
          <a:xfrm>
            <a:off x="1870200" y="1344600"/>
            <a:ext cx="46080" cy="898560"/>
          </a:xfrm>
          <a:prstGeom prst="rect">
            <a:avLst/>
          </a:prstGeom>
          <a:solidFill>
            <a:srgbClr val="005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37"/>
          <p:cNvSpPr/>
          <p:nvPr/>
        </p:nvSpPr>
        <p:spPr>
          <a:xfrm>
            <a:off x="7510320" y="1344600"/>
            <a:ext cx="46080" cy="898560"/>
          </a:xfrm>
          <a:prstGeom prst="rect">
            <a:avLst/>
          </a:prstGeom>
          <a:solidFill>
            <a:srgbClr val="c772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38"/>
          <p:cNvSpPr/>
          <p:nvPr/>
        </p:nvSpPr>
        <p:spPr>
          <a:xfrm>
            <a:off x="1870200" y="2400480"/>
            <a:ext cx="46080" cy="898200"/>
          </a:xfrm>
          <a:prstGeom prst="rect">
            <a:avLst/>
          </a:prstGeom>
          <a:solidFill>
            <a:srgbClr val="1197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39"/>
          <p:cNvSpPr/>
          <p:nvPr/>
        </p:nvSpPr>
        <p:spPr>
          <a:xfrm>
            <a:off x="7510320" y="2408400"/>
            <a:ext cx="46080" cy="898200"/>
          </a:xfrm>
          <a:prstGeom prst="rect">
            <a:avLst/>
          </a:prstGeom>
          <a:solidFill>
            <a:srgbClr val="be12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"/>
          <p:cNvSpPr/>
          <p:nvPr/>
        </p:nvSpPr>
        <p:spPr>
          <a:xfrm>
            <a:off x="5990040" y="255600"/>
            <a:ext cx="221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四元素打包并列关系</a:t>
            </a:r>
            <a:r>
              <a:rPr b="0" lang="en-US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图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任意多边形 41"/>
          <p:cNvSpPr/>
          <p:nvPr/>
        </p:nvSpPr>
        <p:spPr>
          <a:xfrm>
            <a:off x="4108320" y="1757520"/>
            <a:ext cx="368280" cy="1199880"/>
          </a:xfrm>
          <a:custGeom>
            <a:avLst/>
            <a:gdLst/>
            <a:ahLst/>
            <a:rect l="l" t="t" r="r" b="b"/>
            <a:pathLst>
              <a:path w="368135" h="1199408">
                <a:moveTo>
                  <a:pt x="368135" y="1199408"/>
                </a:moveTo>
                <a:lnTo>
                  <a:pt x="368135" y="0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006a96"/>
            </a:solidFill>
            <a:prstDash val="sysDot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任意多边形 42"/>
          <p:cNvSpPr/>
          <p:nvPr/>
        </p:nvSpPr>
        <p:spPr>
          <a:xfrm>
            <a:off x="3068640" y="2763720"/>
            <a:ext cx="368280" cy="798480"/>
          </a:xfrm>
          <a:custGeom>
            <a:avLst/>
            <a:gdLst/>
            <a:ahLst/>
            <a:rect l="l" t="t" r="r" b="b"/>
            <a:pathLst>
              <a:path w="368135" h="1199408">
                <a:moveTo>
                  <a:pt x="368135" y="1199408"/>
                </a:moveTo>
                <a:lnTo>
                  <a:pt x="368135" y="0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119707"/>
            </a:solidFill>
            <a:prstDash val="sysDot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任意多边形 43"/>
          <p:cNvSpPr/>
          <p:nvPr/>
        </p:nvSpPr>
        <p:spPr>
          <a:xfrm flipH="1">
            <a:off x="5826240" y="1820880"/>
            <a:ext cx="242640" cy="1636560"/>
          </a:xfrm>
          <a:custGeom>
            <a:avLst/>
            <a:gdLst/>
            <a:ahLst/>
            <a:rect l="l" t="t" r="r" b="b"/>
            <a:pathLst>
              <a:path w="368135" h="1199408">
                <a:moveTo>
                  <a:pt x="368135" y="1199408"/>
                </a:moveTo>
                <a:lnTo>
                  <a:pt x="368135" y="0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c73e01"/>
            </a:solidFill>
            <a:prstDash val="sysDot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任意多边形 44"/>
          <p:cNvSpPr/>
          <p:nvPr/>
        </p:nvSpPr>
        <p:spPr>
          <a:xfrm flipH="1">
            <a:off x="5031720" y="2833560"/>
            <a:ext cx="243000" cy="1290600"/>
          </a:xfrm>
          <a:custGeom>
            <a:avLst/>
            <a:gdLst/>
            <a:ahLst/>
            <a:rect l="l" t="t" r="r" b="b"/>
            <a:pathLst>
              <a:path w="368135" h="1199408">
                <a:moveTo>
                  <a:pt x="368135" y="1199408"/>
                </a:moveTo>
                <a:lnTo>
                  <a:pt x="368135" y="0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be1247"/>
            </a:solidFill>
            <a:prstDash val="sysDot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45">
            <a:hlinkClick r:id="rId6"/>
          </p:cNvPr>
          <p:cNvSpPr/>
          <p:nvPr/>
        </p:nvSpPr>
        <p:spPr>
          <a:xfrm>
            <a:off x="3773520" y="6391440"/>
            <a:ext cx="309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51400" y="324648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32:49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