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29A-3492-4242-95CD-5CD0A0AB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679-1650-412F-B0AE-2D7E616D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054-C4ED-4586-9857-11F18E68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2F7-B64F-4018-9A27-CD2644F7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2C7-88B9-46E2-924C-B413D2A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992-6045-495C-A754-1B6F2620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37B-EEC8-4DB2-AA16-5B0E089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071-FCDA-4C42-BD8F-CD7746A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CFF-2135-4DB2-90A3-DC5C47B2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B3B-4E40-4D4F-B946-C44BE00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19A-F909-4C50-BD08-7001C84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70E-5230-4D4F-A487-5B070CF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1855-400E-4869-A45F-5F622C7EA4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0BCE-4E6B-4B29-9220-FCDE147835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2276640"/>
            <a:ext cx="2590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ANKS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88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1197000"/>
            <a:ext cx="3962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cap="sq"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Thanks!</a:t>
            </a:r>
            <a:endParaRPr b="0" lang="en-US" sz="7200" spc="1" strike="noStrike">
              <a:ln cap="sq"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55640" y="907920"/>
            <a:ext cx="439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s!</a:t>
            </a:r>
            <a:endParaRPr b="0" lang="en-US" sz="1800" spc="-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364000" y="549360"/>
            <a:ext cx="2880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Thanks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9640" y="10526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00"/>
                </a:solidFill>
                <a:latin typeface="Times New Roman"/>
              </a:rPr>
              <a:t>Thanks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D66-0EE0-40EC-8A35-8D35B0CAC9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9:3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