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802-F5B9-41D2-987B-9D39F6E5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6D3-FF65-4E17-A700-795F160B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692-A603-459E-8547-2FDD41E6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D6E-A66C-4B9F-871D-9F6323F7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B2D3-0094-40ED-9CAC-2A8E2CE8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B3A0-0691-4912-9AAD-1544863E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7087-83A1-498F-B98E-D5AAFB7E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3837-5ADA-40C8-A88E-CB2B9F2E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940F-780C-4F4C-904C-35817C90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EFDC-3CD7-449A-A616-3FDC7722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2FC0-2946-4CCF-9157-583CF803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EFB-67F5-41AD-ACBD-265AED70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8525-8D76-41D1-A654-CD4890FE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F7F7-F8B6-4ED8-B7D6-B850079C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DBB3-6083-4AFC-BD4D-6E9AF7A4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3404-5138-48D7-B24F-1B823B41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D7A9-D6CF-41D6-8EE2-EDF8A368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CBB-BF8D-4713-A2C5-D405D10F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BDF-C5D4-496E-A5E2-AA6C213C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932-B677-43B4-97F6-2679302E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F79-4221-4210-876F-8B7C001F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BC7-AF55-4754-95A2-6BDB728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101-EC41-4DCB-B5C5-7C7780E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4A4-7A55-4CC7-B0DA-D9258972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7F0D-0EED-4823-AB61-588D5232F3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E72F-9D6D-4855-A6A0-E1BFE6861E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40A3-DDB6-4A98-BA14-7A5FFEF9A7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7EEA-00A4-4E48-9A56-C0FFCF702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群組 54"/>
          <p:cNvGrpSpPr/>
          <p:nvPr/>
        </p:nvGrpSpPr>
        <p:grpSpPr>
          <a:xfrm>
            <a:off x="3911760" y="2529000"/>
            <a:ext cx="1095120" cy="1430280"/>
            <a:chOff x="3911760" y="2529000"/>
            <a:chExt cx="1095120" cy="1430280"/>
          </a:xfrm>
        </p:grpSpPr>
        <p:sp>
          <p:nvSpPr>
            <p:cNvPr id="83" name="手繪多邊形 3"/>
            <p:cNvSpPr/>
            <p:nvPr/>
          </p:nvSpPr>
          <p:spPr>
            <a:xfrm flipH="1">
              <a:off x="4014720" y="2529000"/>
              <a:ext cx="992160" cy="14302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手繪多邊形 4"/>
            <p:cNvSpPr/>
            <p:nvPr/>
          </p:nvSpPr>
          <p:spPr>
            <a:xfrm flipH="1">
              <a:off x="3911760" y="2772720"/>
              <a:ext cx="240480" cy="4492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任意多边形 6"/>
          <p:cNvSpPr/>
          <p:nvPr/>
        </p:nvSpPr>
        <p:spPr>
          <a:xfrm>
            <a:off x="336600" y="4170240"/>
            <a:ext cx="2965320" cy="83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96"/>
          <p:cNvGrpSpPr/>
          <p:nvPr/>
        </p:nvGrpSpPr>
        <p:grpSpPr>
          <a:xfrm>
            <a:off x="1601640" y="3116160"/>
            <a:ext cx="2452680" cy="2441520"/>
            <a:chOff x="1601640" y="3116160"/>
            <a:chExt cx="2452680" cy="2441520"/>
          </a:xfrm>
        </p:grpSpPr>
        <p:sp>
          <p:nvSpPr>
            <p:cNvPr id="87" name="椭圆 97"/>
            <p:cNvSpPr/>
            <p:nvPr/>
          </p:nvSpPr>
          <p:spPr>
            <a:xfrm>
              <a:off x="1621800" y="3116160"/>
              <a:ext cx="2432520" cy="243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102"/>
            <p:cNvSpPr/>
            <p:nvPr/>
          </p:nvSpPr>
          <p:spPr>
            <a:xfrm>
              <a:off x="1601640" y="3125520"/>
              <a:ext cx="2432520" cy="2432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103"/>
            <p:cNvSpPr/>
            <p:nvPr/>
          </p:nvSpPr>
          <p:spPr>
            <a:xfrm>
              <a:off x="2331360" y="3204720"/>
              <a:ext cx="1013400" cy="50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椭圆 35"/>
          <p:cNvSpPr/>
          <p:nvPr/>
        </p:nvSpPr>
        <p:spPr>
          <a:xfrm>
            <a:off x="3206880" y="4130640"/>
            <a:ext cx="249120" cy="32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顶部logo"/>
          <p:cNvGrpSpPr/>
          <p:nvPr/>
        </p:nvGrpSpPr>
        <p:grpSpPr>
          <a:xfrm>
            <a:off x="0" y="181080"/>
            <a:ext cx="9144000" cy="637920"/>
            <a:chOff x="0" y="181080"/>
            <a:chExt cx="9144000" cy="637920"/>
          </a:xfrm>
        </p:grpSpPr>
        <p:sp>
          <p:nvSpPr>
            <p:cNvPr id="92" name="矩形 98"/>
            <p:cNvSpPr/>
            <p:nvPr/>
          </p:nvSpPr>
          <p:spPr>
            <a:xfrm>
              <a:off x="0" y="711360"/>
              <a:ext cx="9144000" cy="107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99"/>
            <p:cNvSpPr/>
            <p:nvPr/>
          </p:nvSpPr>
          <p:spPr>
            <a:xfrm>
              <a:off x="5767920" y="299160"/>
              <a:ext cx="179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突破递进关系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图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" descr="I:\盘古老人.png"/>
            <p:cNvPicPr/>
            <p:nvPr/>
          </p:nvPicPr>
          <p:blipFill>
            <a:blip r:embed="rId3"/>
            <a:stretch/>
          </p:blipFill>
          <p:spPr>
            <a:xfrm>
              <a:off x="1247040" y="320040"/>
              <a:ext cx="80460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" descr="I:\盘古老人印.png"/>
            <p:cNvPicPr/>
            <p:nvPr/>
          </p:nvPicPr>
          <p:blipFill>
            <a:blip r:embed="rId4"/>
            <a:stretch/>
          </p:blipFill>
          <p:spPr>
            <a:xfrm>
              <a:off x="830880" y="181080"/>
              <a:ext cx="36000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椭圆 79"/>
          <p:cNvSpPr/>
          <p:nvPr/>
        </p:nvSpPr>
        <p:spPr>
          <a:xfrm>
            <a:off x="1227240" y="5394240"/>
            <a:ext cx="3503520" cy="70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>
            <a:off x="1896480" y="39592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1858320" y="43164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 rot="21077400">
            <a:off x="3238200" y="4219200"/>
            <a:ext cx="285840" cy="70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右箭头 1"/>
          <p:cNvSpPr/>
          <p:nvPr/>
        </p:nvSpPr>
        <p:spPr>
          <a:xfrm rot="20832600">
            <a:off x="3188880" y="3833280"/>
            <a:ext cx="2129040" cy="455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32"/>
          <p:cNvSpPr/>
          <p:nvPr/>
        </p:nvSpPr>
        <p:spPr>
          <a:xfrm rot="20832600">
            <a:off x="3295800" y="4276440"/>
            <a:ext cx="1449360" cy="139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33"/>
          <p:cNvSpPr/>
          <p:nvPr/>
        </p:nvSpPr>
        <p:spPr>
          <a:xfrm rot="20832600">
            <a:off x="4481280" y="3914280"/>
            <a:ext cx="861840" cy="297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 rot="20856000">
            <a:off x="3361680" y="392724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1978920" y="47196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 flipH="1">
            <a:off x="2083680" y="36036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5516640" y="1954080"/>
            <a:ext cx="2879640" cy="3792240"/>
            <a:chOff x="5516640" y="1954080"/>
            <a:chExt cx="2879640" cy="3792240"/>
          </a:xfrm>
        </p:grpSpPr>
        <p:sp>
          <p:nvSpPr>
            <p:cNvPr id="107" name="AutoShape 4"/>
            <p:cNvSpPr/>
            <p:nvPr/>
          </p:nvSpPr>
          <p:spPr>
            <a:xfrm>
              <a:off x="5516640" y="5587200"/>
              <a:ext cx="2879640" cy="15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5"/>
            <p:cNvSpPr/>
            <p:nvPr/>
          </p:nvSpPr>
          <p:spPr>
            <a:xfrm>
              <a:off x="5516640" y="1954080"/>
              <a:ext cx="2868120" cy="3633120"/>
            </a:xfrm>
            <a:custGeom>
              <a:avLst/>
              <a:gdLst>
                <a:gd name="textAreaLeft" fmla="*/ 10800 w 2868120"/>
                <a:gd name="textAreaRight" fmla="*/ 2857320 w 2868120"/>
                <a:gd name="textAreaTop" fmla="*/ 10800 h 3633120"/>
                <a:gd name="textAreaBottom" fmla="*/ 3622320 h 3633120"/>
              </a:gdLst>
              <a:ahLst/>
              <a:rect l="textAreaLeft" t="textAreaTop" r="textAreaRight" b="textAreaBottom"/>
              <a:pathLst>
                <a:path w="21600" h="27361">
                  <a:moveTo>
                    <a:pt x="285" y="0"/>
                  </a:moveTo>
                  <a:arcTo wR="285" hR="285" stAng="16200000" swAng="-5400000"/>
                  <a:lnTo>
                    <a:pt x="0" y="27076"/>
                  </a:lnTo>
                  <a:arcTo wR="285" hR="285" stAng="10800000" swAng="-5400000"/>
                  <a:lnTo>
                    <a:pt x="21315" y="27361"/>
                  </a:lnTo>
                  <a:arcTo wR="285" hR="285" stAng="5400000" swAng="-5400000"/>
                  <a:lnTo>
                    <a:pt x="21600" y="285"/>
                  </a:lnTo>
                  <a:arcTo wR="285" hR="285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28"/>
          <p:cNvSpPr/>
          <p:nvPr/>
        </p:nvSpPr>
        <p:spPr>
          <a:xfrm>
            <a:off x="5937120" y="229716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46464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5651640" y="2833560"/>
            <a:ext cx="2395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