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1C4D-FDE8-474D-8805-090A9228D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A211-5AF1-428C-A32D-E9796063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EAC8-EE40-490A-A93F-B06D91E23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D90A-2403-403B-AB61-470282818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8076-AC0B-4365-95DA-1A70D86A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B17F-4AC5-4379-B675-306BB41A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5E90-B0A5-4847-9C05-6067328F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EBEA-E5C2-45F4-B76B-5030830A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A26C-700E-415F-BAB5-F3C5B02C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96FF-2BB8-497C-8697-5E8AF8F8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A170-1E60-4C76-8310-458EA2B4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220D-A8EA-440C-B5F1-01CE05EE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20E6-070C-4E2F-B0B9-305A3E47EE6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7F05-17CF-4815-BCE5-76A9260272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46"/>
            </a:gs>
            <a:gs pos="50000">
              <a:srgbClr val="ff6699"/>
            </a:gs>
            <a:gs pos="100000">
              <a:srgbClr val="75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030400" y="765000"/>
            <a:ext cx="4923000" cy="547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85800" y="2925720"/>
            <a:ext cx="695520" cy="6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?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411280" y="2925720"/>
            <a:ext cx="695520" cy="6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?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924360" y="2682720"/>
            <a:ext cx="503280" cy="88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?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14760" y="2682720"/>
            <a:ext cx="273240" cy="88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?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897440" y="2925720"/>
            <a:ext cx="695160" cy="6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?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724360" y="2925720"/>
            <a:ext cx="695520" cy="6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?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535800" y="2682720"/>
            <a:ext cx="272880" cy="88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?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948360" y="2925720"/>
            <a:ext cx="695520" cy="6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?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36040" y="2925720"/>
            <a:ext cx="695160" cy="90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?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174840" y="2925720"/>
            <a:ext cx="695520" cy="6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?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1560" y="2664000"/>
            <a:ext cx="825480" cy="91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?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276840" y="6019920"/>
            <a:ext cx="192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87 -0.07331 C 0.02604 -0.01364 0.03055 0.04186 0.07691 0.07563 C 0.12326 0.10939 0.25312 0.11818 0.29948 0.12928 E">
                                      <p:cBhvr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7037E-007 C -0.0132 -0.02523 -0.02466 -0.0537 -0.0283 -0.08449 C -0.03195 -0.11528 -0.02309 -0.16366 -0.02171 -0.18449 E">
                                      <p:cBhvr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1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896 -0.11309 C 0.05174 -0.07632 0.05608 -0.04348 0.06736 -0.02174 C 0.07865 1.96115000000024E-006 0.10677 0.00971 0.11702 0.01781 E">
                                      <p:cBhvr>
                                        <p:cTn id="19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019E-007 C 0.00104 -0.04718 0.00225 -0.08649 0.0283 -0.09991 C 0.05434 -0.11355 0.12986 -0.08488 0.15659 -0.08094 E">
                                      <p:cBhvr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2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7037E-007 C -0.00781 -0.0662 -0.01302 -0.13287 -0.03837 -0.18426 C -0.06371 -0.23565 -0.1283 -0.2831 -0.15191 -0.30903 E">
                                      <p:cBhvr>
                                        <p:cTn id="29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3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1.11111E-006 C -0.03906 -0.07732 -0.07794 -0.1544 -0.08992 -0.2044 C -0.1019 -0.2544 -0.0868 -0.27732 -0.07169 -0.3 E">
                                      <p:cBhvr>
                                        <p:cTn id="34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3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13506E-006 C -0.0165 -0.05966 -0.03177 -0.11956 -0.0408 -0.15818 C -0.05 -0.19704 -0.05191 -0.21762 -0.05469 -0.23311 E">
                                      <p:cBhvr>
                                        <p:cTn id="39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023 C -0.03941 -0.16042 -0.07709 -0.3206 -0.125 -0.37546 C -0.17292 -0.43032 -0.25382 -0.33866 -0.28785 -0.32894 E">
                                      <p:cBhvr>
                                        <p:cTn id="44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03815 C -0.00018 -0.05551 2.2222200000005E-006 -0.14524 -0.02743 -0.17993 C -0.05486 -0.21439 -0.1382 -0.1716 -0.16736 -0.16952 E">
                                      <p:cBhvr>
                                        <p:cTn id="49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5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3.7037E-007 C 0.01598 -0.05185 0.03229 -0.1037 0.02483 -0.14884 C 0.01736 -0.19398 -0.01406 -0.23264 -0.04531 -0.27107 E">
                                      <p:cBhvr>
                                        <p:cTn id="54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5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0.00024 C -0.00816 0.06783 -0.01528 0.13542 0.02413 0.20255 C 0.06354 0.26968 0.17639 0.37037 0.23576 0.40255 C 0.29514 0.43473 0.33784 0.41528 0.38073 0.39584 E">
                                      <p:cBhvr>
                                        <p:cTn id="59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624D-8581-40E3-ABFD-C8FE7BB50C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09:5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