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71B-13CE-41A2-82BA-1AAA1DAD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448-250F-4099-B12D-023D655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619-A70D-4D55-A376-8FF5E0F1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2B1-8689-4848-8445-D011B716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9783-A5D5-43D5-A511-F14F8B5A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7D82-8CB5-42EB-A3C5-43F099A5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CBCD-E3E9-450A-9330-9A14374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B4BE-557D-4F32-A926-327C5DC2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7067-6784-4166-8208-AA99F7B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F452-3358-4DB9-A52B-900A4C06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D3BF-580E-4475-8F99-0BC7355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AB4-4E4C-4BA5-892C-5BD20B3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AD60-5F86-43ED-A7FB-8ACB938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397F-6EBA-405E-864D-1611586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3E8F-019D-47D1-96B9-607CCE82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560C-4998-4123-A25E-0DC9ABA6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AAE8-3E16-4E85-AC81-C8EF51AF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220-3F9A-4859-AE2C-2E19A8B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1CB-54E0-49BE-90A3-401CF128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D33-2008-402C-9033-8D7CF72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36F-26A2-4AB8-88F7-9073BA34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95D-5C18-4436-8879-E988134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439-72F1-47FD-9938-C50F4D3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217-3320-482F-ABDD-45F66EB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04B6-ECFD-4C14-AC7F-78209353A0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878-0E8E-4A35-B26B-6D9E3E874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CB0-C41D-4F9D-8AF3-F943EABE78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3184-C3A9-4BB1-B14B-D4EF3C9B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9"/>
          <p:cNvGrpSpPr/>
          <p:nvPr/>
        </p:nvGrpSpPr>
        <p:grpSpPr>
          <a:xfrm>
            <a:off x="6480" y="5099040"/>
            <a:ext cx="9150120" cy="1724040"/>
            <a:chOff x="6480" y="5099040"/>
            <a:chExt cx="9150120" cy="1724040"/>
          </a:xfrm>
        </p:grpSpPr>
        <p:sp>
          <p:nvSpPr>
            <p:cNvPr id="84" name="矩形​​ 28"/>
            <p:cNvSpPr/>
            <p:nvPr/>
          </p:nvSpPr>
          <p:spPr>
            <a:xfrm>
              <a:off x="6480" y="5099760"/>
              <a:ext cx="9145080" cy="172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3"/>
            <p:cNvSpPr/>
            <p:nvPr/>
          </p:nvSpPr>
          <p:spPr>
            <a:xfrm flipH="1">
              <a:off x="2346120" y="5099040"/>
              <a:ext cx="1728360" cy="17240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12"/>
            <p:cNvSpPr/>
            <p:nvPr/>
          </p:nvSpPr>
          <p:spPr>
            <a:xfrm flipH="1">
              <a:off x="6480" y="5099040"/>
              <a:ext cx="2736000" cy="12650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​​ 17"/>
            <p:cNvSpPr/>
            <p:nvPr/>
          </p:nvSpPr>
          <p:spPr>
            <a:xfrm>
              <a:off x="4866840" y="5099760"/>
              <a:ext cx="2232360" cy="172332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​​ 20"/>
            <p:cNvSpPr/>
            <p:nvPr/>
          </p:nvSpPr>
          <p:spPr>
            <a:xfrm>
              <a:off x="6420600" y="5099760"/>
              <a:ext cx="2736000" cy="12650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​​ 15"/>
            <p:cNvSpPr/>
            <p:nvPr/>
          </p:nvSpPr>
          <p:spPr>
            <a:xfrm>
              <a:off x="6480" y="5327640"/>
              <a:ext cx="915012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​​ 21"/>
            <p:cNvSpPr/>
            <p:nvPr/>
          </p:nvSpPr>
          <p:spPr>
            <a:xfrm>
              <a:off x="6480" y="5732280"/>
              <a:ext cx="915012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​​ 24"/>
            <p:cNvSpPr/>
            <p:nvPr/>
          </p:nvSpPr>
          <p:spPr>
            <a:xfrm>
              <a:off x="6480" y="6364080"/>
              <a:ext cx="915012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2" descr="C:\Users\Administrator\Desktop\未标题-1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80" y="4281480"/>
            <a:ext cx="9137520" cy="876240"/>
          </a:xfrm>
          <a:prstGeom prst="rect">
            <a:avLst/>
          </a:prstGeom>
          <a:ln w="0">
            <a:noFill/>
          </a:ln>
        </p:spPr>
      </p:pic>
      <p:sp>
        <p:nvSpPr>
          <p:cNvPr id="93" name="五角星 13"/>
          <p:cNvSpPr/>
          <p:nvPr/>
        </p:nvSpPr>
        <p:spPr>
          <a:xfrm>
            <a:off x="2567160" y="1847880"/>
            <a:ext cx="3538440" cy="353844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14"/>
          <p:cNvSpPr/>
          <p:nvPr/>
        </p:nvSpPr>
        <p:spPr>
          <a:xfrm flipH="1">
            <a:off x="1981080" y="2495520"/>
            <a:ext cx="1090800" cy="466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6"/>
          <p:cNvSpPr/>
          <p:nvPr/>
        </p:nvSpPr>
        <p:spPr>
          <a:xfrm flipH="1">
            <a:off x="1693080" y="3686040"/>
            <a:ext cx="1089000" cy="466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42760" y="23335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555480" y="36115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6748560" y="2136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7851600" y="3306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25"/>
          <p:cNvSpPr/>
          <p:nvPr/>
        </p:nvSpPr>
        <p:spPr>
          <a:xfrm>
            <a:off x="5303880" y="2286000"/>
            <a:ext cx="1089000" cy="466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6"/>
          <p:cNvSpPr/>
          <p:nvPr/>
        </p:nvSpPr>
        <p:spPr>
          <a:xfrm>
            <a:off x="6340320" y="3397320"/>
            <a:ext cx="1089360" cy="466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7"/>
          <p:cNvSpPr/>
          <p:nvPr/>
        </p:nvSpPr>
        <p:spPr>
          <a:xfrm>
            <a:off x="6325200" y="52578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30"/>
          <p:cNvSpPr/>
          <p:nvPr/>
        </p:nvSpPr>
        <p:spPr>
          <a:xfrm flipV="1">
            <a:off x="4808520" y="4906080"/>
            <a:ext cx="1090800" cy="466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31"/>
          <p:cNvSpPr/>
          <p:nvPr/>
        </p:nvSpPr>
        <p:spPr>
          <a:xfrm>
            <a:off x="2397240" y="5373720"/>
            <a:ext cx="355428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