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67EE-8532-459B-99EC-5011DC9E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FBC-F6C0-4889-B296-475C37E7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AF4-DA70-48D6-9656-63E004960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63E3-AF6C-4567-B6E6-489D64E4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B107-86EE-4573-B9DB-85055A7E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6470-368C-400E-9CED-9FE88CD9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951AF-8B4A-4E30-8110-17AB905D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F1B3-29CA-4788-AEA0-EE5620B3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EE12F-BDBE-4666-B0BB-D5EE35A4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90384-8DAE-4C95-B8AE-F3CAD0C5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508E-4146-45D1-B51A-1000FD4A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47A5-0705-4482-9A5B-2A8CD95D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BAD6-0E43-41FB-B21A-339956F4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9086-46B5-4564-A0A9-60C6C45D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B1B7-53D6-46A0-9BA5-1AF510675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DF7DB-E96C-4E6F-9C7F-87A9F52DF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4B3A-5507-4BF0-A472-4F957387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C7CA-8748-4432-93C0-C1A7A24C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F36-94B2-4135-A188-BCC71F64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1116-1104-4BDD-A1D3-22F756B1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7FEE-605F-420F-8574-888BEA6E8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E16A-3536-4521-802F-31CB6F7D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AF50-6658-4C58-B68B-4AAFBA15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38E-42D2-444A-8336-0664C0C7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D12F-04C1-474B-BAD1-12AB1398DCB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C312-BC9D-4BD4-8896-5FAB4A57CF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6FB3-025E-4356-9EDF-9B7505B6D5E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AFC2-8473-49E3-B7CC-8C2EE332A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image63.png"/>
          <p:cNvPicPr/>
          <p:nvPr/>
        </p:nvPicPr>
        <p:blipFill>
          <a:blip r:embed="rId1"/>
          <a:stretch/>
        </p:blipFill>
        <p:spPr>
          <a:xfrm>
            <a:off x="-9360" y="744480"/>
            <a:ext cx="5022720" cy="5826240"/>
          </a:xfrm>
          <a:prstGeom prst="rect">
            <a:avLst/>
          </a:prstGeom>
          <a:ln w="0">
            <a:noFill/>
          </a:ln>
        </p:spPr>
      </p:pic>
      <p:sp>
        <p:nvSpPr>
          <p:cNvPr id="83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2:3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