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0BB-1CA2-4F75-BCA3-8E251253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F21-AFAD-4119-8FB6-8524BC2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DD1-1B0B-4219-8627-326A756B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5FB-D877-49FE-B403-FAB27B82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24D-A4C9-41A1-8DE7-9531CA84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0FA-22C9-4503-AA5F-B95A18B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A38-2F1E-4409-A3F8-6D9DB58F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F47A-A5B9-4C1F-A0B6-4AD0F77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EC17-C411-4084-B196-9D6AEEE4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0B12-8BFE-40AF-874F-7C9B48DB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02B-52EE-4607-BB0C-20286AF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69B-DFF9-481A-8DBC-865627D9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19F-FB19-4BD0-A709-5764B9A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A9DF-295D-430D-B130-7FAEFB4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782-D71D-4F08-A9E3-438CB576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FD9-229D-4731-9EAF-512AB327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319C-0295-4102-B79B-30DB0ACA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5B6-2D97-4055-A2FD-B27E21B9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CBA-7299-4E17-AA94-D91192C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A18-2F4E-466F-A35C-82E7052C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F9A-8C99-4F60-8FF3-B641E9B9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E29-7FED-4A05-86E1-C337A99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CAA-2854-4E0C-9248-8139F1A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82B-0AD3-41DF-ABC1-E1B18D5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474-0E9A-46C0-8B0E-4ADD9728B2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CF4-ED85-40D2-B71B-0D827BEE9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5A6-C3F4-4618-8995-1E18028CB4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27B-257E-41C0-AF49-AE9F0464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e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6756-11021H0232998.jpg"/>
          <p:cNvPicPr/>
          <p:nvPr/>
        </p:nvPicPr>
        <p:blipFill>
          <a:blip r:embed="rId1"/>
          <a:srcRect l="0" t="8933" r="0" b="4195"/>
          <a:stretch/>
        </p:blipFill>
        <p:spPr>
          <a:xfrm>
            <a:off x="-9360" y="298440"/>
            <a:ext cx="9192960" cy="639612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2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