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37A-6BE1-4189-A8D8-D595D22D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3CC-D725-4227-A91C-1CA63E6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A90-5BC4-495D-A03B-0DA1ED99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0F8-AFCF-4511-B584-F20DE0FE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A64C-648A-4AAE-A04F-EAC017BC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44F6-C438-42A3-B21B-2E76ED87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9DC6-2418-4AFD-8201-79C261D3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569-BBAF-496F-A2DF-4EA31DA1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24E1-A153-460B-8EA7-3B5352B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45D5-7EA7-4EA2-AEE4-D24214C7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5EC4-9A61-43A6-BFCF-1DDDBF1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980-BC4F-4DE1-B1A2-72A99886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B3B9-4F64-4F3E-B6E3-F9F20E8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6B42-3F6B-4D4F-810F-74580CBA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E7FA-84DB-4929-9825-E9E06A35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CFD1-1A5D-4923-B1B7-070F6F8A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1FE5-62E7-4FA2-9175-653909CA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18E-F3E7-477E-8AF7-E148CBC7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CC1-ADD5-4EE0-AF9B-1C211CFF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844-1AFD-451C-A50B-AFE9756C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CC8-0AD7-4BC5-92F8-D1F433C3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1B1-3FDC-4049-83BE-0E9BD05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B9D-C4F0-46B5-939E-9757D21B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059-435F-4609-A199-95596CC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C1AD-61E8-4635-85BF-463DE375B8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71DC-9E89-4FA5-884D-DF8020E80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324E-36B4-4E69-9556-73B7F0C2B5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6C31-3537-4324-AE55-B4D42E28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785960" y="4784760"/>
            <a:ext cx="5559480" cy="1420920"/>
            <a:chOff x="1785960" y="4784760"/>
            <a:chExt cx="5559480" cy="142092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785960" y="4784760"/>
              <a:ext cx="555948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678040" y="5070600"/>
              <a:ext cx="36943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38360" y="1354680"/>
            <a:ext cx="2844720" cy="3358080"/>
            <a:chOff x="2538360" y="1354680"/>
            <a:chExt cx="2844720" cy="3358080"/>
          </a:xfrm>
        </p:grpSpPr>
        <p:grpSp>
          <p:nvGrpSpPr>
            <p:cNvPr id="86" name=""/>
            <p:cNvGrpSpPr/>
            <p:nvPr/>
          </p:nvGrpSpPr>
          <p:grpSpPr>
            <a:xfrm>
              <a:off x="2538360" y="1354680"/>
              <a:ext cx="2844720" cy="3358080"/>
              <a:chOff x="2538360" y="1354680"/>
              <a:chExt cx="2844720" cy="335808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2661120" y="1738440"/>
                <a:ext cx="2230200" cy="2948760"/>
                <a:chOff x="2661120" y="1738440"/>
                <a:chExt cx="2230200" cy="2948760"/>
              </a:xfrm>
            </p:grpSpPr>
            <p:pic>
              <p:nvPicPr>
                <p:cNvPr id="88" name="空心弧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20840" y="1960200"/>
                  <a:ext cx="1035360" cy="27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7578200">
                  <a:off x="2449800" y="2563920"/>
                  <a:ext cx="2652480" cy="12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538360" y="1354680"/>
                <a:ext cx="2693880" cy="3358080"/>
                <a:chOff x="2538360" y="1354680"/>
                <a:chExt cx="2693880" cy="3358080"/>
              </a:xfrm>
            </p:grpSpPr>
            <p:pic>
              <p:nvPicPr>
                <p:cNvPr id="91" name="空心弧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62440" y="1619280"/>
                  <a:ext cx="2209320" cy="305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 rot="17578200">
                  <a:off x="2418120" y="2192400"/>
                  <a:ext cx="2934000" cy="168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343040" y="1584360"/>
                <a:ext cx="1040040" cy="545040"/>
                <a:chOff x="4343040" y="1584360"/>
                <a:chExt cx="1040040" cy="545040"/>
              </a:xfrm>
            </p:grpSpPr>
            <p:pic>
              <p:nvPicPr>
                <p:cNvPr id="94" name="平行四边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43040" y="1584360"/>
                  <a:ext cx="1040040" cy="545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4758120" y="1801080"/>
                  <a:ext cx="203040" cy="10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313880" y="2123280"/>
                <a:ext cx="1069200" cy="562680"/>
                <a:chOff x="4313880" y="2123280"/>
                <a:chExt cx="1069200" cy="562680"/>
              </a:xfrm>
            </p:grpSpPr>
            <p:pic>
              <p:nvPicPr>
                <p:cNvPr id="97" name="平行四边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13880" y="2123280"/>
                  <a:ext cx="1069200" cy="56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>
                  <a:off x="4745520" y="2350080"/>
                  <a:ext cx="200160" cy="10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TextBox 6"/>
            <p:cNvSpPr/>
            <p:nvPr/>
          </p:nvSpPr>
          <p:spPr>
            <a:xfrm>
              <a:off x="4276800" y="184644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Dotum"/>
                  <a:ea typeface="Dotum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35360" y="2172600"/>
            <a:ext cx="2847240" cy="3381480"/>
            <a:chOff x="3735360" y="2172600"/>
            <a:chExt cx="2847240" cy="3381480"/>
          </a:xfrm>
        </p:grpSpPr>
        <p:grpSp>
          <p:nvGrpSpPr>
            <p:cNvPr id="101" name=""/>
            <p:cNvGrpSpPr/>
            <p:nvPr/>
          </p:nvGrpSpPr>
          <p:grpSpPr>
            <a:xfrm>
              <a:off x="4242600" y="2280960"/>
              <a:ext cx="2183760" cy="2883600"/>
              <a:chOff x="4242600" y="2280960"/>
              <a:chExt cx="2183760" cy="2883600"/>
            </a:xfrm>
          </p:grpSpPr>
          <p:pic>
            <p:nvPicPr>
              <p:cNvPr id="102" name="空心弧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9720" y="2303280"/>
                <a:ext cx="1307880" cy="25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6778200">
                <a:off x="4038120" y="3086280"/>
                <a:ext cx="2592360" cy="12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875400" y="2172600"/>
              <a:ext cx="2707200" cy="3381480"/>
              <a:chOff x="3875400" y="2172600"/>
              <a:chExt cx="2707200" cy="3381480"/>
            </a:xfrm>
          </p:grpSpPr>
          <p:pic>
            <p:nvPicPr>
              <p:cNvPr id="105" name="空心弧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1280" y="2273400"/>
                <a:ext cx="2215080" cy="301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6778200">
                <a:off x="3750120" y="3019680"/>
                <a:ext cx="2957760" cy="16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735360" y="4779720"/>
              <a:ext cx="1042560" cy="550080"/>
              <a:chOff x="3735360" y="4779720"/>
              <a:chExt cx="1042560" cy="550080"/>
            </a:xfrm>
          </p:grpSpPr>
          <p:pic>
            <p:nvPicPr>
              <p:cNvPr id="108" name="平行四边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3735360" y="4779720"/>
                <a:ext cx="1042560" cy="55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10800000">
                <a:off x="4151160" y="5000760"/>
                <a:ext cx="2034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735360" y="4217400"/>
              <a:ext cx="1072080" cy="568080"/>
              <a:chOff x="3735360" y="4217400"/>
              <a:chExt cx="1072080" cy="568080"/>
            </a:xfrm>
          </p:grpSpPr>
          <p:pic>
            <p:nvPicPr>
              <p:cNvPr id="111" name="平行四边形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3735360" y="4217400"/>
                <a:ext cx="10720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10800000">
                <a:off x="4167000" y="4446000"/>
                <a:ext cx="20088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16"/>
            <p:cNvSpPr/>
            <p:nvPr/>
          </p:nvSpPr>
          <p:spPr>
            <a:xfrm>
              <a:off x="4371840" y="4427280"/>
              <a:ext cx="47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Dotum"/>
                  <a:ea typeface="Dotum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1"/>
          <p:cNvSpPr/>
          <p:nvPr/>
        </p:nvSpPr>
        <p:spPr>
          <a:xfrm flipH="1">
            <a:off x="3934800" y="33559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3764880" y="293544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flipH="1">
            <a:off x="3934800" y="35845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 flipH="1">
            <a:off x="545400" y="1719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 flipH="1">
            <a:off x="867600" y="133344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 flipH="1">
            <a:off x="545400" y="1946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 flipH="1">
            <a:off x="545400" y="2189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65120" y="113184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1247"/>
                </a:solidFill>
                <a:latin typeface="Dotum"/>
                <a:ea typeface="Dotum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5"/>
          <p:cNvSpPr/>
          <p:nvPr/>
        </p:nvSpPr>
        <p:spPr>
          <a:xfrm>
            <a:off x="546120" y="1635120"/>
            <a:ext cx="2297160" cy="4428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 flipH="1">
            <a:off x="1663560" y="17193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 flipH="1">
            <a:off x="1663560" y="19461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 flipH="1">
            <a:off x="1663560" y="21891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 flipH="1">
            <a:off x="6189120" y="49957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 flipH="1">
            <a:off x="6511320" y="461160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 flipH="1">
            <a:off x="6189120" y="5224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 flipH="1">
            <a:off x="6189120" y="5467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6109200" y="44100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3e01"/>
                </a:solidFill>
                <a:latin typeface="Dotum"/>
                <a:ea typeface="Dotum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4"/>
          <p:cNvSpPr/>
          <p:nvPr/>
        </p:nvSpPr>
        <p:spPr>
          <a:xfrm>
            <a:off x="6189840" y="4911840"/>
            <a:ext cx="2298600" cy="46080"/>
          </a:xfrm>
          <a:prstGeom prst="rect">
            <a:avLst/>
          </a:prstGeom>
          <a:solidFill>
            <a:srgbClr val="c73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 flipH="1">
            <a:off x="7308720" y="49957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 flipH="1">
            <a:off x="7308720" y="52243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 flipH="1">
            <a:off x="7308720" y="54673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6357240" y="255600"/>
            <a:ext cx="19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二元素循环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