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A3A-C43D-4EC2-8D3F-14B3BABD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D3F-2700-4612-B71C-6C8DA401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62F-5E6E-40F9-AB6F-39232AF5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188-91EF-4CF3-B196-F68D561F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5C3B-92BC-4FCF-A289-153EB162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3E1-F5A0-4AAC-84E6-8C2C429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1C08-D945-4B56-98B7-D55427D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E2D-3B78-40CB-A7B6-1A3771FF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8621-D466-4189-AD49-1BB8547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1A96-3419-4855-85EE-EBA95AF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434-5BEB-430F-A15E-A765DC0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260-D0A4-4D54-9839-0ACB4033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4FA1-E98B-4D8C-9A26-C22FC0E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A88-A2E1-4689-BD78-4F6E420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F57-B9AB-4B11-B0AE-8E80762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C5E-35C2-4BDB-B5F5-B32D8DB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0FBC-9854-49D8-B37B-737D8EF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901-0145-4835-9624-8B20C9B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35C-BB28-4B00-B7F1-605C9D12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D48-3C99-43CC-A081-E6810F3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10E-7E6F-485C-B89D-6A0CC3EA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ADA-5E7A-44D1-BF06-5651BBD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BA7-98F2-4E10-B100-71DE015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BAE-56BA-42AB-8346-98F7773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D6E-3409-4E2A-BD9A-54CE920EE5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BE2-F68E-4BB8-80C0-BF93A82F6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284-0289-49ED-A645-9FBEA74C9A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779-4D18-4E7D-919D-0007667C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48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印度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00160" y="1716120"/>
            <a:ext cx="2882160" cy="4580640"/>
            <a:chOff x="1100160" y="1716120"/>
            <a:chExt cx="2882160" cy="4580640"/>
          </a:xfrm>
        </p:grpSpPr>
        <p:sp>
          <p:nvSpPr>
            <p:cNvPr id="84" name="Freeform 38"/>
            <p:cNvSpPr/>
            <p:nvPr/>
          </p:nvSpPr>
          <p:spPr>
            <a:xfrm>
              <a:off x="1367640" y="233820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>
              <a:off x="1367640" y="233820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>
              <a:off x="1848240" y="248940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>
              <a:off x="1848240" y="248940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</a:path>
              </a:pathLst>
            </a:custGeom>
            <a:solidFill>
              <a:srgbClr val="e79e4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>
              <a:off x="1661400" y="197928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1661400" y="197928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2121840" y="171612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5"/>
            <p:cNvSpPr/>
            <p:nvPr/>
          </p:nvSpPr>
          <p:spPr>
            <a:xfrm>
              <a:off x="2121840" y="171612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6"/>
            <p:cNvSpPr/>
            <p:nvPr/>
          </p:nvSpPr>
          <p:spPr>
            <a:xfrm>
              <a:off x="1231200" y="286380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1231200" y="286380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1332720" y="307584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1332720" y="307584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2222640" y="363276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2222640" y="363276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2233080" y="291420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2233080" y="291420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4"/>
            <p:cNvSpPr/>
            <p:nvPr/>
          </p:nvSpPr>
          <p:spPr>
            <a:xfrm>
              <a:off x="2662560" y="299052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2662560" y="299052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6"/>
            <p:cNvSpPr/>
            <p:nvPr/>
          </p:nvSpPr>
          <p:spPr>
            <a:xfrm>
              <a:off x="1575360" y="392580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7"/>
            <p:cNvSpPr/>
            <p:nvPr/>
          </p:nvSpPr>
          <p:spPr>
            <a:xfrm>
              <a:off x="1575360" y="392580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8"/>
            <p:cNvSpPr/>
            <p:nvPr/>
          </p:nvSpPr>
          <p:spPr>
            <a:xfrm>
              <a:off x="2465280" y="418896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9"/>
            <p:cNvSpPr/>
            <p:nvPr/>
          </p:nvSpPr>
          <p:spPr>
            <a:xfrm>
              <a:off x="2465280" y="418896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0"/>
            <p:cNvSpPr/>
            <p:nvPr/>
          </p:nvSpPr>
          <p:spPr>
            <a:xfrm>
              <a:off x="3057120" y="406224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1"/>
            <p:cNvSpPr/>
            <p:nvPr/>
          </p:nvSpPr>
          <p:spPr>
            <a:xfrm>
              <a:off x="3057120" y="406224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2"/>
            <p:cNvSpPr/>
            <p:nvPr/>
          </p:nvSpPr>
          <p:spPr>
            <a:xfrm>
              <a:off x="3542760" y="432540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3"/>
            <p:cNvSpPr/>
            <p:nvPr/>
          </p:nvSpPr>
          <p:spPr>
            <a:xfrm>
              <a:off x="3542760" y="432540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4"/>
            <p:cNvSpPr/>
            <p:nvPr/>
          </p:nvSpPr>
          <p:spPr>
            <a:xfrm>
              <a:off x="3148200" y="464868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5"/>
            <p:cNvSpPr/>
            <p:nvPr/>
          </p:nvSpPr>
          <p:spPr>
            <a:xfrm>
              <a:off x="3148200" y="464868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6"/>
            <p:cNvSpPr/>
            <p:nvPr/>
          </p:nvSpPr>
          <p:spPr>
            <a:xfrm>
              <a:off x="1100160" y="457308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7"/>
            <p:cNvSpPr/>
            <p:nvPr/>
          </p:nvSpPr>
          <p:spPr>
            <a:xfrm>
              <a:off x="1100160" y="457308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8"/>
            <p:cNvSpPr/>
            <p:nvPr/>
          </p:nvSpPr>
          <p:spPr>
            <a:xfrm>
              <a:off x="1347840" y="591804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9"/>
            <p:cNvSpPr/>
            <p:nvPr/>
          </p:nvSpPr>
          <p:spPr>
            <a:xfrm>
              <a:off x="1347840" y="591804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65760" y="1600200"/>
            <a:ext cx="2882160" cy="4580640"/>
            <a:chOff x="4865760" y="1600200"/>
            <a:chExt cx="2882160" cy="4580640"/>
          </a:xfrm>
        </p:grpSpPr>
        <p:sp>
          <p:nvSpPr>
            <p:cNvPr id="117" name="Freeform 38"/>
            <p:cNvSpPr/>
            <p:nvPr/>
          </p:nvSpPr>
          <p:spPr>
            <a:xfrm>
              <a:off x="5133240" y="222228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9"/>
            <p:cNvSpPr/>
            <p:nvPr/>
          </p:nvSpPr>
          <p:spPr>
            <a:xfrm>
              <a:off x="5133240" y="222228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0"/>
            <p:cNvSpPr/>
            <p:nvPr/>
          </p:nvSpPr>
          <p:spPr>
            <a:xfrm>
              <a:off x="5613840" y="237348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5613840" y="237348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5427000" y="186336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5427000" y="186336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4"/>
            <p:cNvSpPr/>
            <p:nvPr/>
          </p:nvSpPr>
          <p:spPr>
            <a:xfrm>
              <a:off x="5887440" y="160020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>
              <a:off x="5887440" y="160020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4996800" y="274788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4996800" y="274788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5098320" y="295992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>
              <a:off x="5098320" y="295992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0"/>
            <p:cNvSpPr/>
            <p:nvPr/>
          </p:nvSpPr>
          <p:spPr>
            <a:xfrm>
              <a:off x="5988240" y="351684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5988240" y="351684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5998680" y="279828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5998680" y="279828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4"/>
            <p:cNvSpPr/>
            <p:nvPr/>
          </p:nvSpPr>
          <p:spPr>
            <a:xfrm>
              <a:off x="6428160" y="287460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5"/>
            <p:cNvSpPr/>
            <p:nvPr/>
          </p:nvSpPr>
          <p:spPr>
            <a:xfrm>
              <a:off x="6428160" y="287460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5340960" y="380988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5340960" y="380988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6230880" y="407304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9"/>
            <p:cNvSpPr/>
            <p:nvPr/>
          </p:nvSpPr>
          <p:spPr>
            <a:xfrm>
              <a:off x="6230880" y="407304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6822720" y="394632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6822720" y="394632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08360" y="420948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7308360" y="420948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6913800" y="453276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6913800" y="453276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4865760" y="445716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4865760" y="445716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5113440" y="580212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5113440" y="580212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