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7620-F454-4F7C-AC92-9DC46AF1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75AE-902F-43DC-AF02-6DE3F6CE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E159-9300-490D-B458-D92CA4150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4841-9CE6-4664-9675-989B3A3EE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4828-0285-4899-B5AF-37959C14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0349-53C5-4907-8456-BF61E926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4CEC-3BA0-46D9-9CB3-0C9EFF8A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3B4E-AB12-49D8-AB33-306999D2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E4F6-53E3-4657-8285-8757CFCA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2400-DE8E-4507-8AFB-41497686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0298-19C6-4648-9274-F714F6F5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18CB-ED95-4F4E-995F-F60FB665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E0A1-E0BB-4B72-9963-9D545E04C67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A0AE-D5FD-4D9D-94DA-D2111F4DB4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19280" y="1211400"/>
            <a:ext cx="8348400" cy="4649760"/>
            <a:chOff x="719280" y="1211400"/>
            <a:chExt cx="8348400" cy="4649760"/>
          </a:xfrm>
        </p:grpSpPr>
        <p:pic>
          <p:nvPicPr>
            <p:cNvPr id="42" name="图片 9" descr="4.jpg"/>
            <p:cNvPicPr/>
            <p:nvPr/>
          </p:nvPicPr>
          <p:blipFill>
            <a:blip r:embed="rId1"/>
            <a:stretch/>
          </p:blipFill>
          <p:spPr>
            <a:xfrm>
              <a:off x="719280" y="1211400"/>
              <a:ext cx="7848720" cy="464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图片 22" descr="卷轴祥云1.gif"/>
            <p:cNvPicPr/>
            <p:nvPr/>
          </p:nvPicPr>
          <p:blipFill>
            <a:blip r:embed="rId2"/>
            <a:stretch/>
          </p:blipFill>
          <p:spPr>
            <a:xfrm>
              <a:off x="8290080" y="1539360"/>
              <a:ext cx="777600" cy="4065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图片 17" descr="卷轴祥云1.gif"/>
          <p:cNvPicPr/>
          <p:nvPr/>
        </p:nvPicPr>
        <p:blipFill>
          <a:blip r:embed="rId3"/>
          <a:stretch/>
        </p:blipFill>
        <p:spPr>
          <a:xfrm>
            <a:off x="441360" y="1539720"/>
            <a:ext cx="777960" cy="406404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4286160" y="1539720"/>
            <a:ext cx="1292400" cy="4064040"/>
            <a:chOff x="4286160" y="1539720"/>
            <a:chExt cx="1292400" cy="4064040"/>
          </a:xfrm>
        </p:grpSpPr>
        <p:pic>
          <p:nvPicPr>
            <p:cNvPr id="46" name="图片 18" descr="卷轴祥云1.gif"/>
            <p:cNvPicPr/>
            <p:nvPr/>
          </p:nvPicPr>
          <p:blipFill>
            <a:blip r:embed="rId4"/>
            <a:stretch/>
          </p:blipFill>
          <p:spPr>
            <a:xfrm>
              <a:off x="4286160" y="1539720"/>
              <a:ext cx="777960" cy="406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图片 12" descr="卷轴祥云1.gif"/>
            <p:cNvPicPr/>
            <p:nvPr/>
          </p:nvPicPr>
          <p:blipFill>
            <a:blip r:embed="rId5"/>
            <a:stretch/>
          </p:blipFill>
          <p:spPr>
            <a:xfrm>
              <a:off x="4800600" y="1539720"/>
              <a:ext cx="777960" cy="4064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2.77778E-007 -3.33333E-006 L -0.39774 -3.33333E-006 E">
                                      <p:cBhvr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14280" y="1219320"/>
            <a:ext cx="8753400" cy="4649760"/>
            <a:chOff x="314280" y="1219320"/>
            <a:chExt cx="8753400" cy="4649760"/>
          </a:xfrm>
        </p:grpSpPr>
        <p:grpSp>
          <p:nvGrpSpPr>
            <p:cNvPr id="51" name=""/>
            <p:cNvGrpSpPr/>
            <p:nvPr/>
          </p:nvGrpSpPr>
          <p:grpSpPr>
            <a:xfrm>
              <a:off x="718920" y="1219320"/>
              <a:ext cx="8348760" cy="4649760"/>
              <a:chOff x="718920" y="1219320"/>
              <a:chExt cx="8348760" cy="4649760"/>
            </a:xfrm>
          </p:grpSpPr>
          <p:pic>
            <p:nvPicPr>
              <p:cNvPr id="52" name="图片 9" descr="4.jpg"/>
              <p:cNvPicPr/>
              <p:nvPr/>
            </p:nvPicPr>
            <p:blipFill>
              <a:blip r:embed="rId1"/>
              <a:stretch/>
            </p:blipFill>
            <p:spPr>
              <a:xfrm>
                <a:off x="718920" y="1219320"/>
                <a:ext cx="7848720" cy="464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图片 22" descr="卷轴祥云1.gif"/>
              <p:cNvPicPr/>
              <p:nvPr/>
            </p:nvPicPr>
            <p:blipFill>
              <a:blip r:embed="rId2"/>
              <a:stretch/>
            </p:blipFill>
            <p:spPr>
              <a:xfrm>
                <a:off x="8290080" y="1547280"/>
                <a:ext cx="777600" cy="4065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4" name="图片 17" descr="卷轴祥云1.gif"/>
            <p:cNvPicPr/>
            <p:nvPr/>
          </p:nvPicPr>
          <p:blipFill>
            <a:blip r:embed="rId3"/>
            <a:stretch/>
          </p:blipFill>
          <p:spPr>
            <a:xfrm>
              <a:off x="314280" y="1548000"/>
              <a:ext cx="777960" cy="4064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685800" y="1187280"/>
            <a:ext cx="8429760" cy="4697640"/>
            <a:chOff x="685800" y="1187280"/>
            <a:chExt cx="8429760" cy="4697640"/>
          </a:xfrm>
        </p:grpSpPr>
        <p:grpSp>
          <p:nvGrpSpPr>
            <p:cNvPr id="56" name=""/>
            <p:cNvGrpSpPr/>
            <p:nvPr/>
          </p:nvGrpSpPr>
          <p:grpSpPr>
            <a:xfrm>
              <a:off x="685800" y="1187280"/>
              <a:ext cx="8429760" cy="4697640"/>
              <a:chOff x="685800" y="1187280"/>
              <a:chExt cx="8429760" cy="469764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685800" y="1187280"/>
                <a:ext cx="8429760" cy="4697640"/>
                <a:chOff x="685800" y="1187280"/>
                <a:chExt cx="8429760" cy="4697640"/>
              </a:xfrm>
            </p:grpSpPr>
            <p:pic>
              <p:nvPicPr>
                <p:cNvPr id="58" name="Picture 2" descr="F:\08年课件\图片6.jpg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5800" y="1187280"/>
                  <a:ext cx="7929720" cy="469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图片 10" descr="卷轴祥云1.gif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37960" y="1539360"/>
                  <a:ext cx="777600" cy="4064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0" name=""/>
              <p:cNvGrpSpPr/>
              <p:nvPr/>
            </p:nvGrpSpPr>
            <p:grpSpPr>
              <a:xfrm>
                <a:off x="823320" y="3946320"/>
                <a:ext cx="398880" cy="1536120"/>
                <a:chOff x="823320" y="3946320"/>
                <a:chExt cx="398880" cy="1536120"/>
              </a:xfrm>
            </p:grpSpPr>
            <p:sp>
              <p:nvSpPr>
                <p:cNvPr id="61" name="Oval 35"/>
                <p:cNvSpPr/>
                <p:nvPr/>
              </p:nvSpPr>
              <p:spPr>
                <a:xfrm rot="18900000">
                  <a:off x="841320" y="5418720"/>
                  <a:ext cx="28080" cy="6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0000"/>
                      </a:srgbClr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AutoShape 37"/>
                <p:cNvSpPr/>
                <p:nvPr/>
              </p:nvSpPr>
              <p:spPr>
                <a:xfrm>
                  <a:off x="1033920" y="3946320"/>
                  <a:ext cx="188280" cy="970920"/>
                </a:xfrm>
                <a:prstGeom prst="parallelogram">
                  <a:avLst>
                    <a:gd name="adj" fmla="val 43088"/>
                  </a:avLst>
                </a:prstGeom>
                <a:gradFill rotWithShape="0">
                  <a:gsLst>
                    <a:gs pos="0">
                      <a:srgbClr val="ffffff">
                        <a:alpha val="68235"/>
                      </a:srgbClr>
                    </a:gs>
                    <a:gs pos="100000">
                      <a:srgbClr val="a7c6e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Oval 35"/>
              <p:cNvSpPr/>
              <p:nvPr/>
            </p:nvSpPr>
            <p:spPr>
              <a:xfrm rot="18900000">
                <a:off x="2859840" y="4650840"/>
                <a:ext cx="26640" cy="633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35"/>
              <p:cNvSpPr/>
              <p:nvPr/>
            </p:nvSpPr>
            <p:spPr>
              <a:xfrm rot="18900000">
                <a:off x="4788720" y="3871080"/>
                <a:ext cx="26640" cy="633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Oval 35"/>
              <p:cNvSpPr/>
              <p:nvPr/>
            </p:nvSpPr>
            <p:spPr>
              <a:xfrm rot="18900000">
                <a:off x="6733440" y="3007440"/>
                <a:ext cx="26640" cy="633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Text Box 9"/>
            <p:cNvSpPr/>
            <p:nvPr/>
          </p:nvSpPr>
          <p:spPr>
            <a:xfrm>
              <a:off x="761760" y="2666880"/>
              <a:ext cx="75441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图片 13" descr="卷轴祥云1.gif"/>
          <p:cNvPicPr/>
          <p:nvPr/>
        </p:nvPicPr>
        <p:blipFill>
          <a:blip r:embed="rId3"/>
          <a:stretch/>
        </p:blipFill>
        <p:spPr>
          <a:xfrm>
            <a:off x="365040" y="1539720"/>
            <a:ext cx="777960" cy="4064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357120" y="1539720"/>
            <a:ext cx="1335240" cy="4064040"/>
            <a:chOff x="357120" y="1539720"/>
            <a:chExt cx="1335240" cy="4064040"/>
          </a:xfrm>
        </p:grpSpPr>
        <p:pic>
          <p:nvPicPr>
            <p:cNvPr id="69" name="图片 32" descr="卷轴祥云1.gif"/>
            <p:cNvPicPr/>
            <p:nvPr/>
          </p:nvPicPr>
          <p:blipFill>
            <a:blip r:embed="rId4"/>
            <a:stretch/>
          </p:blipFill>
          <p:spPr>
            <a:xfrm>
              <a:off x="357120" y="1539720"/>
              <a:ext cx="777960" cy="406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图片 33" descr="卷轴祥云1.gif"/>
            <p:cNvPicPr/>
            <p:nvPr/>
          </p:nvPicPr>
          <p:blipFill>
            <a:blip r:embed="rId5"/>
            <a:stretch/>
          </p:blipFill>
          <p:spPr>
            <a:xfrm>
              <a:off x="914400" y="1539720"/>
              <a:ext cx="777960" cy="4064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2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5E-006 -3.33333E-006 L 0.43785 -3.33333E-006 E">
                                      <p:cBhvr>
                                        <p:cTn id="39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CA5F-AD29-4AE3-8E35-914A32E890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12:09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