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7B9-699D-480B-8EBA-6F263286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EC2-6B63-4E84-8FE8-C037185E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FA6-DBE3-48A8-B5DC-3A68073A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8CA-B3CC-413A-BD06-04E39B15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042-0652-46FD-80C4-F1C3DBC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1EF-C576-445C-A10E-2F6065AC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DD0-A6EC-424F-99F6-B987D0AB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51B-EA29-4A25-9612-7E54A2BA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079-655A-4EFC-B32A-CF3399CF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972-E55E-4F54-A4C3-68D6763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BB5-E698-4E4D-9AF9-7530C1F4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DFB-55F3-44CA-A5E9-1BDD287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61FD-131E-4039-B2BF-379C1E97ED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83DD-1554-44B8-9216-ABE5861F5F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rapidppt.com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771360" y="2291400"/>
            <a:ext cx="2443680" cy="2412360"/>
            <a:chOff x="3771360" y="2291400"/>
            <a:chExt cx="2443680" cy="2412360"/>
          </a:xfrm>
        </p:grpSpPr>
        <p:sp>
          <p:nvSpPr>
            <p:cNvPr id="42" name="椭圆 6"/>
            <p:cNvSpPr/>
            <p:nvPr/>
          </p:nvSpPr>
          <p:spPr>
            <a:xfrm rot="10800000">
              <a:off x="3911760" y="2430360"/>
              <a:ext cx="2292120" cy="2270520"/>
            </a:xfrm>
            <a:custGeom>
              <a:avLst/>
              <a:gdLst/>
              <a:ahLst/>
              <a:rect l="l" t="t" r="r" b="b"/>
              <a:pathLst>
                <a:path w="2295129" h="2275413">
                  <a:moveTo>
                    <a:pt x="1337568" y="0"/>
                  </a:moveTo>
                  <a:cubicBezTo>
                    <a:pt x="1713211" y="0"/>
                    <a:pt x="2052687" y="154850"/>
                    <a:pt x="2295129" y="404701"/>
                  </a:cubicBezTo>
                  <a:cubicBezTo>
                    <a:pt x="1827474" y="1308842"/>
                    <a:pt x="772209" y="2025485"/>
                    <a:pt x="384531" y="2275413"/>
                  </a:cubicBezTo>
                  <a:cubicBezTo>
                    <a:pt x="146596" y="2034317"/>
                    <a:pt x="0" y="1703062"/>
                    <a:pt x="0" y="1337568"/>
                  </a:cubicBezTo>
                  <a:cubicBezTo>
                    <a:pt x="0" y="598850"/>
                    <a:pt x="598850" y="0"/>
                    <a:pt x="13375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919680" y="2428920"/>
              <a:ext cx="2295360" cy="2274840"/>
              <a:chOff x="3919680" y="2428920"/>
              <a:chExt cx="2295360" cy="2274840"/>
            </a:xfrm>
          </p:grpSpPr>
          <p:pic>
            <p:nvPicPr>
              <p:cNvPr id="44" name="椭圆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9680" y="2428920"/>
                <a:ext cx="2295360" cy="22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 rot="10800000">
                <a:off x="3920400" y="2430360"/>
                <a:ext cx="2292480" cy="227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5551560" y="2805840"/>
              <a:ext cx="511200" cy="1015920"/>
              <a:chOff x="5551560" y="2805840"/>
              <a:chExt cx="511200" cy="1015920"/>
            </a:xfrm>
          </p:grpSpPr>
          <p:pic>
            <p:nvPicPr>
              <p:cNvPr id="47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551560" y="2805840"/>
                <a:ext cx="51120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 rot="5217600">
                <a:off x="5446800" y="3137400"/>
                <a:ext cx="716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椭圆 7"/>
            <p:cNvSpPr/>
            <p:nvPr/>
          </p:nvSpPr>
          <p:spPr>
            <a:xfrm rot="18967200">
              <a:off x="3546360" y="3151080"/>
              <a:ext cx="2649960" cy="418680"/>
            </a:xfrm>
            <a:prstGeom prst="ellipse">
              <a:avLst/>
            </a:prstGeom>
            <a:gradFill rotWithShape="0">
              <a:gsLst>
                <a:gs pos="0">
                  <a:srgbClr val="7d2701"/>
                </a:gs>
                <a:gs pos="100000">
                  <a:srgbClr val="fece02"/>
                </a:gs>
              </a:gsLst>
              <a:lin ang="56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1"/>
            <p:cNvSpPr/>
            <p:nvPr/>
          </p:nvSpPr>
          <p:spPr>
            <a:xfrm flipH="1">
              <a:off x="4646160" y="3822840"/>
              <a:ext cx="130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17720" y="2573280"/>
            <a:ext cx="2309760" cy="2274840"/>
            <a:chOff x="2817720" y="2573280"/>
            <a:chExt cx="2309760" cy="2274840"/>
          </a:xfrm>
        </p:grpSpPr>
        <p:sp>
          <p:nvSpPr>
            <p:cNvPr id="52" name="椭圆 6"/>
            <p:cNvSpPr/>
            <p:nvPr/>
          </p:nvSpPr>
          <p:spPr>
            <a:xfrm>
              <a:off x="2833920" y="2574000"/>
              <a:ext cx="2293560" cy="2274120"/>
            </a:xfrm>
            <a:custGeom>
              <a:avLst/>
              <a:gdLst/>
              <a:ahLst/>
              <a:rect l="l" t="t" r="r" b="b"/>
              <a:pathLst>
                <a:path w="2295129" h="2275413">
                  <a:moveTo>
                    <a:pt x="1337568" y="0"/>
                  </a:moveTo>
                  <a:cubicBezTo>
                    <a:pt x="1713211" y="0"/>
                    <a:pt x="2052687" y="154850"/>
                    <a:pt x="2295129" y="404701"/>
                  </a:cubicBezTo>
                  <a:cubicBezTo>
                    <a:pt x="1827474" y="1308842"/>
                    <a:pt x="772209" y="2025485"/>
                    <a:pt x="384531" y="2275413"/>
                  </a:cubicBezTo>
                  <a:cubicBezTo>
                    <a:pt x="146596" y="2034317"/>
                    <a:pt x="0" y="1703062"/>
                    <a:pt x="0" y="1337568"/>
                  </a:cubicBezTo>
                  <a:cubicBezTo>
                    <a:pt x="0" y="598850"/>
                    <a:pt x="598850" y="0"/>
                    <a:pt x="13375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110040" y="2828880"/>
              <a:ext cx="876960" cy="724680"/>
              <a:chOff x="3110040" y="2828880"/>
              <a:chExt cx="876960" cy="724680"/>
            </a:xfrm>
          </p:grpSpPr>
          <p:pic>
            <p:nvPicPr>
              <p:cNvPr id="54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110040" y="2828880"/>
                <a:ext cx="876960" cy="72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19429200">
                <a:off x="3187440" y="3013920"/>
                <a:ext cx="7167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7720" y="2573280"/>
              <a:ext cx="2296440" cy="2272320"/>
              <a:chOff x="2817720" y="2573280"/>
              <a:chExt cx="2296440" cy="2272320"/>
            </a:xfrm>
          </p:grpSpPr>
          <p:pic>
            <p:nvPicPr>
              <p:cNvPr id="57" name="椭圆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817720" y="2573280"/>
                <a:ext cx="2296440" cy="226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818800" y="2574000"/>
                <a:ext cx="2293560" cy="22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Box 11"/>
          <p:cNvSpPr/>
          <p:nvPr/>
        </p:nvSpPr>
        <p:spPr>
          <a:xfrm flipH="1">
            <a:off x="3337920" y="329076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4"/>
          <p:cNvSpPr/>
          <p:nvPr/>
        </p:nvSpPr>
        <p:spPr>
          <a:xfrm>
            <a:off x="5918040" y="2573280"/>
            <a:ext cx="2000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5"/>
          <p:cNvSpPr/>
          <p:nvPr/>
        </p:nvSpPr>
        <p:spPr>
          <a:xfrm>
            <a:off x="1187280" y="4745160"/>
            <a:ext cx="2000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 flipH="1">
            <a:off x="1120680" y="4290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 flipH="1">
            <a:off x="1116000" y="39276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 flipH="1">
            <a:off x="6840360" y="296856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 flipH="1">
            <a:off x="6588000" y="260496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32120" y="4395960"/>
            <a:ext cx="5297400" cy="1633320"/>
            <a:chOff x="1932120" y="4395960"/>
            <a:chExt cx="5297400" cy="1633320"/>
          </a:xfrm>
        </p:grpSpPr>
        <p:pic>
          <p:nvPicPr>
            <p:cNvPr id="67" name="椭圆 10" descr=""/>
            <p:cNvPicPr/>
            <p:nvPr/>
          </p:nvPicPr>
          <p:blipFill>
            <a:blip r:embed="rId5"/>
            <a:stretch/>
          </p:blipFill>
          <p:spPr>
            <a:xfrm>
              <a:off x="1932120" y="4395960"/>
              <a:ext cx="529740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10800000">
              <a:off x="2788920" y="4712760"/>
              <a:ext cx="35053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21"/>
          <p:cNvSpPr/>
          <p:nvPr/>
        </p:nvSpPr>
        <p:spPr>
          <a:xfrm>
            <a:off x="5895360" y="260280"/>
            <a:ext cx="12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圆球一分为二错位对比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>
            <a:hlinkClick r:id="rId6"/>
          </p:cNvPr>
          <p:cNvSpPr/>
          <p:nvPr/>
        </p:nvSpPr>
        <p:spPr>
          <a:xfrm>
            <a:off x="3708360" y="6381720"/>
            <a:ext cx="30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E77-CCBA-4CEA-B22C-DDCB6FF48E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6:0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