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E1E-23B0-4A6C-9C64-96CA0699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E0E-A7D7-4547-810B-E436AAC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CCB-812C-48C7-8821-7E87DB6D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E38-C2F8-488E-BA89-76FDD8B9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CD0-58AC-40B2-A509-AAC0E396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5A1-E1E4-49BF-840F-DEB04604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A5E-FCAB-40A9-8AE0-D05BA2D0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5DB-BDEE-44D4-A784-1A724F7E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FCC-B9A2-4671-AFE9-298D292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DDB-9DD0-44DF-9CA5-3C33618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FF1-E4A2-4297-84AD-0331458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116-4CD1-4EC4-AAC6-C759A083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CBDF-7A89-4672-903C-4180CF6A64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E557-311D-4D7B-BA33-98F528F7C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1680" y="1714680"/>
            <a:ext cx="1285560" cy="857160"/>
            <a:chOff x="571680" y="1714680"/>
            <a:chExt cx="1285560" cy="857160"/>
          </a:xfrm>
        </p:grpSpPr>
        <p:sp>
          <p:nvSpPr>
            <p:cNvPr id="42" name="圆角矩形 4"/>
            <p:cNvSpPr/>
            <p:nvPr/>
          </p:nvSpPr>
          <p:spPr>
            <a:xfrm>
              <a:off x="604440" y="177588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5"/>
            <p:cNvSpPr/>
            <p:nvPr/>
          </p:nvSpPr>
          <p:spPr>
            <a:xfrm>
              <a:off x="571680" y="171468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>
              <a:off x="604440" y="177588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71680" y="2643120"/>
            <a:ext cx="1285560" cy="857160"/>
            <a:chOff x="571680" y="2643120"/>
            <a:chExt cx="1285560" cy="857160"/>
          </a:xfrm>
        </p:grpSpPr>
        <p:sp>
          <p:nvSpPr>
            <p:cNvPr id="46" name="圆角矩形 8"/>
            <p:cNvSpPr/>
            <p:nvPr/>
          </p:nvSpPr>
          <p:spPr>
            <a:xfrm>
              <a:off x="604440" y="27043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9"/>
            <p:cNvSpPr/>
            <p:nvPr/>
          </p:nvSpPr>
          <p:spPr>
            <a:xfrm>
              <a:off x="571680" y="26431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604440" y="270432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71680" y="3571920"/>
            <a:ext cx="1285560" cy="857160"/>
            <a:chOff x="571680" y="3571920"/>
            <a:chExt cx="1285560" cy="857160"/>
          </a:xfrm>
        </p:grpSpPr>
        <p:sp>
          <p:nvSpPr>
            <p:cNvPr id="50" name="圆角矩形 12"/>
            <p:cNvSpPr/>
            <p:nvPr/>
          </p:nvSpPr>
          <p:spPr>
            <a:xfrm>
              <a:off x="604440" y="36331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3"/>
            <p:cNvSpPr/>
            <p:nvPr/>
          </p:nvSpPr>
          <p:spPr>
            <a:xfrm>
              <a:off x="571680" y="35719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14"/>
            <p:cNvSpPr/>
            <p:nvPr/>
          </p:nvSpPr>
          <p:spPr>
            <a:xfrm>
              <a:off x="604440" y="363312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71680" y="4500720"/>
            <a:ext cx="1285560" cy="857160"/>
            <a:chOff x="571680" y="4500720"/>
            <a:chExt cx="1285560" cy="857160"/>
          </a:xfrm>
        </p:grpSpPr>
        <p:sp>
          <p:nvSpPr>
            <p:cNvPr id="54" name="圆角矩形 16"/>
            <p:cNvSpPr/>
            <p:nvPr/>
          </p:nvSpPr>
          <p:spPr>
            <a:xfrm>
              <a:off x="604440" y="45619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 17"/>
            <p:cNvSpPr/>
            <p:nvPr/>
          </p:nvSpPr>
          <p:spPr>
            <a:xfrm>
              <a:off x="571680" y="45007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18"/>
            <p:cNvSpPr/>
            <p:nvPr/>
          </p:nvSpPr>
          <p:spPr>
            <a:xfrm>
              <a:off x="604440" y="456192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71680" y="5429160"/>
            <a:ext cx="1285560" cy="857520"/>
            <a:chOff x="571680" y="5429160"/>
            <a:chExt cx="1285560" cy="857520"/>
          </a:xfrm>
        </p:grpSpPr>
        <p:sp>
          <p:nvSpPr>
            <p:cNvPr id="58" name="圆角矩形 20"/>
            <p:cNvSpPr/>
            <p:nvPr/>
          </p:nvSpPr>
          <p:spPr>
            <a:xfrm>
              <a:off x="604440" y="5490360"/>
              <a:ext cx="125280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21"/>
            <p:cNvSpPr/>
            <p:nvPr/>
          </p:nvSpPr>
          <p:spPr>
            <a:xfrm>
              <a:off x="571680" y="5429160"/>
              <a:ext cx="125280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22"/>
            <p:cNvSpPr/>
            <p:nvPr/>
          </p:nvSpPr>
          <p:spPr>
            <a:xfrm>
              <a:off x="604440" y="5490360"/>
              <a:ext cx="118692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2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综合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72200" y="1714680"/>
            <a:ext cx="1285920" cy="857160"/>
            <a:chOff x="7072200" y="1714680"/>
            <a:chExt cx="1285920" cy="857160"/>
          </a:xfrm>
        </p:grpSpPr>
        <p:sp>
          <p:nvSpPr>
            <p:cNvPr id="63" name="圆角矩形 25"/>
            <p:cNvSpPr/>
            <p:nvPr/>
          </p:nvSpPr>
          <p:spPr>
            <a:xfrm>
              <a:off x="7104960" y="17758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6"/>
            <p:cNvSpPr/>
            <p:nvPr/>
          </p:nvSpPr>
          <p:spPr>
            <a:xfrm>
              <a:off x="7072200" y="17146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7104960" y="177588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072200" y="2643120"/>
            <a:ext cx="1285920" cy="857160"/>
            <a:chOff x="7072200" y="2643120"/>
            <a:chExt cx="1285920" cy="857160"/>
          </a:xfrm>
        </p:grpSpPr>
        <p:sp>
          <p:nvSpPr>
            <p:cNvPr id="67" name="圆角矩形 29"/>
            <p:cNvSpPr/>
            <p:nvPr/>
          </p:nvSpPr>
          <p:spPr>
            <a:xfrm>
              <a:off x="7104960" y="27043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30"/>
            <p:cNvSpPr/>
            <p:nvPr/>
          </p:nvSpPr>
          <p:spPr>
            <a:xfrm>
              <a:off x="7072200" y="26431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1"/>
            <p:cNvSpPr/>
            <p:nvPr/>
          </p:nvSpPr>
          <p:spPr>
            <a:xfrm>
              <a:off x="7104960" y="270432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72200" y="3571920"/>
            <a:ext cx="1285920" cy="857160"/>
            <a:chOff x="7072200" y="3571920"/>
            <a:chExt cx="1285920" cy="857160"/>
          </a:xfrm>
        </p:grpSpPr>
        <p:sp>
          <p:nvSpPr>
            <p:cNvPr id="71" name="圆角矩形 33"/>
            <p:cNvSpPr/>
            <p:nvPr/>
          </p:nvSpPr>
          <p:spPr>
            <a:xfrm>
              <a:off x="7104960" y="36331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4"/>
            <p:cNvSpPr/>
            <p:nvPr/>
          </p:nvSpPr>
          <p:spPr>
            <a:xfrm>
              <a:off x="7072200" y="35719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35"/>
            <p:cNvSpPr/>
            <p:nvPr/>
          </p:nvSpPr>
          <p:spPr>
            <a:xfrm>
              <a:off x="7104960" y="363312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072200" y="4500720"/>
            <a:ext cx="1285920" cy="857160"/>
            <a:chOff x="7072200" y="4500720"/>
            <a:chExt cx="1285920" cy="857160"/>
          </a:xfrm>
        </p:grpSpPr>
        <p:sp>
          <p:nvSpPr>
            <p:cNvPr id="75" name="圆角矩形 37"/>
            <p:cNvSpPr/>
            <p:nvPr/>
          </p:nvSpPr>
          <p:spPr>
            <a:xfrm>
              <a:off x="7104960" y="45619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8"/>
            <p:cNvSpPr/>
            <p:nvPr/>
          </p:nvSpPr>
          <p:spPr>
            <a:xfrm>
              <a:off x="7072200" y="45007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9"/>
            <p:cNvSpPr/>
            <p:nvPr/>
          </p:nvSpPr>
          <p:spPr>
            <a:xfrm>
              <a:off x="7104960" y="456192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072200" y="5429160"/>
            <a:ext cx="1285920" cy="857520"/>
            <a:chOff x="7072200" y="5429160"/>
            <a:chExt cx="1285920" cy="857520"/>
          </a:xfrm>
        </p:grpSpPr>
        <p:sp>
          <p:nvSpPr>
            <p:cNvPr id="79" name="圆角矩形 41"/>
            <p:cNvSpPr/>
            <p:nvPr/>
          </p:nvSpPr>
          <p:spPr>
            <a:xfrm>
              <a:off x="7104960" y="549036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42"/>
            <p:cNvSpPr/>
            <p:nvPr/>
          </p:nvSpPr>
          <p:spPr>
            <a:xfrm>
              <a:off x="7072200" y="542916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3"/>
            <p:cNvSpPr/>
            <p:nvPr/>
          </p:nvSpPr>
          <p:spPr>
            <a:xfrm>
              <a:off x="7104960" y="5490360"/>
              <a:ext cx="11872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241800" y="2600280"/>
            <a:ext cx="2444760" cy="2444760"/>
            <a:chOff x="3241800" y="2600280"/>
            <a:chExt cx="2444760" cy="2444760"/>
          </a:xfrm>
        </p:grpSpPr>
        <p:sp>
          <p:nvSpPr>
            <p:cNvPr id="83" name="椭圆 45"/>
            <p:cNvSpPr/>
            <p:nvPr/>
          </p:nvSpPr>
          <p:spPr>
            <a:xfrm>
              <a:off x="3241800" y="2600280"/>
              <a:ext cx="2444760" cy="24447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46"/>
            <p:cNvSpPr/>
            <p:nvPr/>
          </p:nvSpPr>
          <p:spPr>
            <a:xfrm>
              <a:off x="3285360" y="2643840"/>
              <a:ext cx="2357640" cy="235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47"/>
            <p:cNvSpPr/>
            <p:nvPr/>
          </p:nvSpPr>
          <p:spPr>
            <a:xfrm>
              <a:off x="3356640" y="2715120"/>
              <a:ext cx="2227680" cy="22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791360" y="2112480"/>
            <a:ext cx="1565280" cy="3714840"/>
            <a:chOff x="1791360" y="2112480"/>
            <a:chExt cx="1565280" cy="3714840"/>
          </a:xfrm>
        </p:grpSpPr>
        <p:cxnSp>
          <p:nvCxnSpPr>
            <p:cNvPr id="87" name="肘形连接符 49"/>
            <p:cNvCxnSpPr>
              <a:stCxn id="44" idx="3"/>
              <a:endCxn id="85" idx="2"/>
            </p:cNvCxnSpPr>
            <p:nvPr/>
          </p:nvCxnSpPr>
          <p:spPr>
            <a:xfrm>
              <a:off x="1791360" y="2112480"/>
              <a:ext cx="1565640" cy="1716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" name="肘形连接符 50"/>
            <p:cNvCxnSpPr>
              <a:stCxn id="48" idx="3"/>
              <a:endCxn id="85" idx="2"/>
            </p:cNvCxnSpPr>
            <p:nvPr/>
          </p:nvCxnSpPr>
          <p:spPr>
            <a:xfrm>
              <a:off x="1791360" y="3040920"/>
              <a:ext cx="1565640" cy="788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肘形连接符 51"/>
            <p:cNvCxnSpPr>
              <a:stCxn id="52" idx="3"/>
              <a:endCxn id="85" idx="2"/>
            </p:cNvCxnSpPr>
            <p:nvPr/>
          </p:nvCxnSpPr>
          <p:spPr>
            <a:xfrm flipV="1">
              <a:off x="1791360" y="3828960"/>
              <a:ext cx="1565640" cy="141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肘形连接符 52"/>
            <p:cNvCxnSpPr>
              <a:stCxn id="56" idx="3"/>
              <a:endCxn id="85" idx="2"/>
            </p:cNvCxnSpPr>
            <p:nvPr/>
          </p:nvCxnSpPr>
          <p:spPr>
            <a:xfrm flipV="1">
              <a:off x="1791360" y="3828960"/>
              <a:ext cx="1565640" cy="10699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肘形连接符 53"/>
            <p:cNvCxnSpPr>
              <a:stCxn id="60" idx="3"/>
              <a:endCxn id="85" idx="2"/>
            </p:cNvCxnSpPr>
            <p:nvPr/>
          </p:nvCxnSpPr>
          <p:spPr>
            <a:xfrm flipV="1">
              <a:off x="1791360" y="3828960"/>
              <a:ext cx="1565640" cy="1998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5584320" y="2112480"/>
            <a:ext cx="1520640" cy="3714840"/>
            <a:chOff x="5584320" y="2112480"/>
            <a:chExt cx="1520640" cy="3714840"/>
          </a:xfrm>
        </p:grpSpPr>
        <p:cxnSp>
          <p:nvCxnSpPr>
            <p:cNvPr id="93" name="肘形连接符 55"/>
            <p:cNvCxnSpPr>
              <a:stCxn id="65" idx="1"/>
              <a:endCxn id="85" idx="6"/>
            </p:cNvCxnSpPr>
            <p:nvPr/>
          </p:nvCxnSpPr>
          <p:spPr>
            <a:xfrm flipV="1" rot="10800000">
              <a:off x="5584320" y="2112480"/>
              <a:ext cx="1521000" cy="171684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4" name="肘形连接符 56"/>
            <p:cNvCxnSpPr>
              <a:stCxn id="69" idx="1"/>
              <a:endCxn id="85" idx="6"/>
            </p:cNvCxnSpPr>
            <p:nvPr/>
          </p:nvCxnSpPr>
          <p:spPr>
            <a:xfrm flipV="1" rot="10800000">
              <a:off x="5584320" y="3040560"/>
              <a:ext cx="1521000" cy="78840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" name="肘形连接符 57"/>
            <p:cNvCxnSpPr>
              <a:stCxn id="73" idx="1"/>
              <a:endCxn id="85" idx="6"/>
            </p:cNvCxnSpPr>
            <p:nvPr/>
          </p:nvCxnSpPr>
          <p:spPr>
            <a:xfrm rot="10800000">
              <a:off x="5584320" y="3828600"/>
              <a:ext cx="1521000" cy="14112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" name="肘形连接符 58"/>
            <p:cNvCxnSpPr>
              <a:stCxn id="77" idx="1"/>
              <a:endCxn id="85" idx="6"/>
            </p:cNvCxnSpPr>
            <p:nvPr/>
          </p:nvCxnSpPr>
          <p:spPr>
            <a:xfrm rot="10800000">
              <a:off x="5584320" y="3828600"/>
              <a:ext cx="1521000" cy="106992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7" name="肘形连接符 59"/>
            <p:cNvCxnSpPr>
              <a:stCxn id="81" idx="1"/>
              <a:endCxn id="85" idx="6"/>
            </p:cNvCxnSpPr>
            <p:nvPr/>
          </p:nvCxnSpPr>
          <p:spPr>
            <a:xfrm rot="10800000">
              <a:off x="5584320" y="3828600"/>
              <a:ext cx="1521000" cy="199872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782-6D32-4F6E-836E-061216715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3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