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3.png" ContentType="image/png"/>
  <Override PartName="/ppt/media/image50.jpeg" ContentType="image/jpeg"/>
  <Override PartName="/ppt/media/image40.jpeg" ContentType="image/jpeg"/>
  <Override PartName="/ppt/media/image44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2.png" ContentType="image/png"/>
  <Override PartName="/ppt/media/image32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4BE-6319-4C7F-A3C3-A2804C8C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D00-F772-4007-A885-B1D0C508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524-8B67-4647-8167-A58E8771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56C-0C3B-4A4A-9186-196DC911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06A3-71EC-4D92-AA27-8CE22265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3996-DE15-4F78-8467-E09C1649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FB7D-E218-45E6-B9A4-784248D7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DBD8-42AE-4371-90A9-537333C5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D46D-B1EE-4D35-8EAC-AAC1039B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0A8D-BD05-4131-ADC8-F0120ED2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C79B-39CE-4539-8F2B-8CB5F367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E1C-07B4-4243-96FA-63EFBAA9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F639-634A-4622-89A9-338C2386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4BB8-BE72-41CB-B39D-D08D6BD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9E46-1086-4C50-A400-936C6F59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5D54-7284-42B8-9213-5768BF32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3C6D-937B-4881-9186-F07665A9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5B3-2915-4D9A-BCDD-16CF9319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479-1856-4382-9913-B631073E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B9D-3492-4F6F-B423-3434BA4A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300-EF6F-40B5-AF84-DE650FA0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120-C870-4DE7-80EC-1C195FE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5AC-072E-40E4-B53F-FC50C52F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88E-8D0E-4120-82FC-B02C0E90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EB09-7080-45EA-88DC-70B75D0E21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214C-3D9E-4A07-BFD8-3C0CD1E294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53C5-5BA8-4F9D-ABDD-1DFB003D5A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5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png"/><Relationship Id="rId3" Type="http://schemas.openxmlformats.org/officeDocument/2006/relationships/image" Target="../media/image5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5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5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5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"/>
          <p:cNvPicPr/>
          <p:nvPr/>
        </p:nvPicPr>
        <p:blipFill>
          <a:blip r:embed="rId1"/>
          <a:srcRect l="0" t="15312" r="0" b="0"/>
          <a:stretch/>
        </p:blipFill>
        <p:spPr>
          <a:xfrm>
            <a:off x="0" y="1440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" descr=""/>
          <p:cNvPicPr/>
          <p:nvPr/>
        </p:nvPicPr>
        <p:blipFill>
          <a:blip r:embed="rId2"/>
          <a:srcRect l="18880" t="24458" r="18752" b="30295"/>
          <a:stretch/>
        </p:blipFill>
        <p:spPr>
          <a:xfrm>
            <a:off x="4724280" y="1384200"/>
            <a:ext cx="2502000" cy="11937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" descr=""/>
          <p:cNvPicPr/>
          <p:nvPr/>
        </p:nvPicPr>
        <p:blipFill>
          <a:blip r:embed="rId3"/>
          <a:stretch/>
        </p:blipFill>
        <p:spPr>
          <a:xfrm>
            <a:off x="7020000" y="949320"/>
            <a:ext cx="460440" cy="72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098000" y="6394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784080" y="1035000"/>
            <a:ext cx="8436240" cy="4140360"/>
            <a:chOff x="784080" y="1035000"/>
            <a:chExt cx="8436240" cy="4140360"/>
          </a:xfrm>
        </p:grpSpPr>
        <p:sp>
          <p:nvSpPr>
            <p:cNvPr id="223" name="矩形 3"/>
            <p:cNvSpPr/>
            <p:nvPr/>
          </p:nvSpPr>
          <p:spPr>
            <a:xfrm>
              <a:off x="784080" y="1035000"/>
              <a:ext cx="8436240" cy="4140360"/>
            </a:xfrm>
            <a:prstGeom prst="rect">
              <a:avLst/>
            </a:prstGeom>
            <a:noFill/>
            <a:ln cap="sq" w="7632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9"/>
            <p:cNvSpPr/>
            <p:nvPr/>
          </p:nvSpPr>
          <p:spPr>
            <a:xfrm>
              <a:off x="879120" y="1122120"/>
              <a:ext cx="8245800" cy="3965760"/>
            </a:xfrm>
            <a:prstGeom prst="rect">
              <a:avLst/>
            </a:prstGeom>
            <a:noFill/>
            <a:ln cap="sq" w="190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2"/>
            <p:cNvSpPr/>
            <p:nvPr/>
          </p:nvSpPr>
          <p:spPr>
            <a:xfrm>
              <a:off x="151272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14"/>
            <p:cNvSpPr/>
            <p:nvPr/>
          </p:nvSpPr>
          <p:spPr>
            <a:xfrm>
              <a:off x="214776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15"/>
            <p:cNvSpPr/>
            <p:nvPr/>
          </p:nvSpPr>
          <p:spPr>
            <a:xfrm>
              <a:off x="278280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16"/>
            <p:cNvSpPr/>
            <p:nvPr/>
          </p:nvSpPr>
          <p:spPr>
            <a:xfrm>
              <a:off x="341604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17"/>
            <p:cNvSpPr/>
            <p:nvPr/>
          </p:nvSpPr>
          <p:spPr>
            <a:xfrm>
              <a:off x="405108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18"/>
            <p:cNvSpPr/>
            <p:nvPr/>
          </p:nvSpPr>
          <p:spPr>
            <a:xfrm>
              <a:off x="468468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19"/>
            <p:cNvSpPr/>
            <p:nvPr/>
          </p:nvSpPr>
          <p:spPr>
            <a:xfrm>
              <a:off x="531972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20"/>
            <p:cNvSpPr/>
            <p:nvPr/>
          </p:nvSpPr>
          <p:spPr>
            <a:xfrm>
              <a:off x="595332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1"/>
            <p:cNvSpPr/>
            <p:nvPr/>
          </p:nvSpPr>
          <p:spPr>
            <a:xfrm>
              <a:off x="658836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22"/>
            <p:cNvSpPr/>
            <p:nvPr/>
          </p:nvSpPr>
          <p:spPr>
            <a:xfrm>
              <a:off x="722160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23"/>
            <p:cNvSpPr/>
            <p:nvPr/>
          </p:nvSpPr>
          <p:spPr>
            <a:xfrm>
              <a:off x="785664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24"/>
            <p:cNvSpPr/>
            <p:nvPr/>
          </p:nvSpPr>
          <p:spPr>
            <a:xfrm>
              <a:off x="8491680" y="1122120"/>
              <a:ext cx="0" cy="3965760"/>
            </a:xfrm>
            <a:prstGeom prst="line">
              <a:avLst/>
            </a:prstGeom>
            <a:ln w="64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图片 27" descr=""/>
          <p:cNvPicPr/>
          <p:nvPr/>
        </p:nvPicPr>
        <p:blipFill>
          <a:blip r:embed="rId2"/>
          <a:stretch/>
        </p:blipFill>
        <p:spPr>
          <a:xfrm>
            <a:off x="11093400" y="942840"/>
            <a:ext cx="354240" cy="55584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30"/>
          <p:cNvSpPr/>
          <p:nvPr/>
        </p:nvSpPr>
        <p:spPr>
          <a:xfrm>
            <a:off x="9394920" y="946080"/>
            <a:ext cx="54612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幽州金陵 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南北合璧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9"/>
          <p:cNvSpPr/>
          <p:nvPr/>
        </p:nvSpPr>
        <p:spPr>
          <a:xfrm flipH="1">
            <a:off x="8609040" y="1160280"/>
            <a:ext cx="44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這套模板以北京和南京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9"/>
          <p:cNvSpPr/>
          <p:nvPr/>
        </p:nvSpPr>
        <p:spPr>
          <a:xfrm flipH="1">
            <a:off x="7970040" y="1154880"/>
            <a:ext cx="443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明清皇家建築為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9"/>
          <p:cNvSpPr/>
          <p:nvPr/>
        </p:nvSpPr>
        <p:spPr>
          <a:xfrm flipH="1">
            <a:off x="2227320" y="1162080"/>
            <a:ext cx="442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案是我悲春傷秋游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 flipH="1">
            <a:off x="950040" y="1162080"/>
            <a:ext cx="44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才筆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大家不必細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9"/>
          <p:cNvSpPr/>
          <p:nvPr/>
        </p:nvSpPr>
        <p:spPr>
          <a:xfrm flipH="1">
            <a:off x="7332840" y="1163520"/>
            <a:ext cx="442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設計上用傳統方格作元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9"/>
          <p:cNvSpPr/>
          <p:nvPr/>
        </p:nvSpPr>
        <p:spPr>
          <a:xfrm flipH="1">
            <a:off x="6694560" y="1160280"/>
            <a:ext cx="442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格花紋有見於窗櫺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9"/>
          <p:cNvSpPr/>
          <p:nvPr/>
        </p:nvSpPr>
        <p:spPr>
          <a:xfrm flipH="1">
            <a:off x="6056280" y="1162080"/>
            <a:ext cx="442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此便與主題整體相協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9"/>
          <p:cNvSpPr/>
          <p:nvPr/>
        </p:nvSpPr>
        <p:spPr>
          <a:xfrm flipH="1">
            <a:off x="5417280" y="1162080"/>
            <a:ext cx="44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格較之墨蹟元素更簡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9"/>
          <p:cNvSpPr/>
          <p:nvPr/>
        </p:nvSpPr>
        <p:spPr>
          <a:xfrm flipH="1">
            <a:off x="4780080" y="1162080"/>
            <a:ext cx="442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國風模板鮮見圖表設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9"/>
          <p:cNvSpPr/>
          <p:nvPr/>
        </p:nvSpPr>
        <p:spPr>
          <a:xfrm flipH="1">
            <a:off x="4141800" y="1155240"/>
            <a:ext cx="442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這次是個嘗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9"/>
          <p:cNvSpPr/>
          <p:nvPr/>
        </p:nvSpPr>
        <p:spPr>
          <a:xfrm flipH="1">
            <a:off x="3502800" y="1162080"/>
            <a:ext cx="44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數據圖表的問題以後再嘗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 flipH="1">
            <a:off x="2865600" y="1149120"/>
            <a:ext cx="44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解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9"/>
          <p:cNvSpPr/>
          <p:nvPr/>
        </p:nvSpPr>
        <p:spPr>
          <a:xfrm flipH="1">
            <a:off x="1589040" y="1163520"/>
            <a:ext cx="442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為排版示例的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湊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45" descr=""/>
          <p:cNvPicPr/>
          <p:nvPr/>
        </p:nvPicPr>
        <p:blipFill>
          <a:blip r:embed="rId3"/>
          <a:stretch/>
        </p:blipFill>
        <p:spPr>
          <a:xfrm>
            <a:off x="9915480" y="784080"/>
            <a:ext cx="1303560" cy="164628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46" descr=""/>
          <p:cNvPicPr/>
          <p:nvPr/>
        </p:nvPicPr>
        <p:blipFill>
          <a:blip r:embed="rId4"/>
          <a:stretch/>
        </p:blipFill>
        <p:spPr>
          <a:xfrm>
            <a:off x="10204560" y="2292480"/>
            <a:ext cx="1276200" cy="111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656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" descr=""/>
          <p:cNvPicPr/>
          <p:nvPr/>
        </p:nvPicPr>
        <p:blipFill>
          <a:blip r:embed="rId2"/>
          <a:stretch/>
        </p:blipFill>
        <p:spPr>
          <a:xfrm>
            <a:off x="745812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5"/>
          <p:cNvSpPr/>
          <p:nvPr/>
        </p:nvSpPr>
        <p:spPr>
          <a:xfrm>
            <a:off x="8156520" y="4140360"/>
            <a:ext cx="357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oloman</a:t>
            </a:r>
            <a:r>
              <a:rPr b="0" lang="en-US" sz="1400" spc="-1" strike="noStrike">
                <a:solidFill>
                  <a:srgbClr val="f2f2f2"/>
                </a:solidFill>
                <a:latin typeface="Calibri"/>
                <a:ea typeface="Calibri"/>
              </a:rPr>
              <a:t>’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 Design · Enjoy the Pith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8" descr=""/>
          <p:cNvPicPr/>
          <p:nvPr/>
        </p:nvPicPr>
        <p:blipFill>
          <a:blip r:embed="rId3"/>
          <a:stretch/>
        </p:blipFill>
        <p:spPr>
          <a:xfrm>
            <a:off x="8265960" y="2362320"/>
            <a:ext cx="3356280" cy="175248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9" descr=""/>
          <p:cNvPicPr/>
          <p:nvPr/>
        </p:nvPicPr>
        <p:blipFill>
          <a:blip r:embed="rId4"/>
          <a:stretch/>
        </p:blipFill>
        <p:spPr>
          <a:xfrm>
            <a:off x="11245680" y="1920960"/>
            <a:ext cx="498600" cy="779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935120" y="4900680"/>
            <a:ext cx="381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华文新魏"/>
                <a:ea typeface="华文新魏"/>
                <a:hlinkClick r:id="rId5"/>
              </a:rPr>
              <a:t>PPT之家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3CE-6E2A-4E32-9967-64471A7FAD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3240" y="0"/>
            <a:ext cx="12185640" cy="68612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2" descr=""/>
          <p:cNvPicPr/>
          <p:nvPr/>
        </p:nvPicPr>
        <p:blipFill>
          <a:blip r:embed="rId2"/>
          <a:stretch/>
        </p:blipFill>
        <p:spPr>
          <a:xfrm>
            <a:off x="11447640" y="6143760"/>
            <a:ext cx="601560" cy="495000"/>
          </a:xfrm>
          <a:prstGeom prst="rect">
            <a:avLst/>
          </a:prstGeom>
          <a:ln w="0">
            <a:noFill/>
          </a:ln>
        </p:spPr>
      </p:pic>
      <p:sp>
        <p:nvSpPr>
          <p:cNvPr id="88" name="椭圆 11"/>
          <p:cNvSpPr/>
          <p:nvPr/>
        </p:nvSpPr>
        <p:spPr>
          <a:xfrm rot="20418000">
            <a:off x="2357280" y="1574280"/>
            <a:ext cx="432000" cy="43200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2"/>
          <p:cNvSpPr/>
          <p:nvPr/>
        </p:nvSpPr>
        <p:spPr>
          <a:xfrm rot="712800">
            <a:off x="3817440" y="1472760"/>
            <a:ext cx="432000" cy="43200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3"/>
          <p:cNvSpPr/>
          <p:nvPr/>
        </p:nvSpPr>
        <p:spPr>
          <a:xfrm rot="20608800">
            <a:off x="4884840" y="1933200"/>
            <a:ext cx="431640" cy="4334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4"/>
          <p:cNvSpPr/>
          <p:nvPr/>
        </p:nvSpPr>
        <p:spPr>
          <a:xfrm rot="495000">
            <a:off x="5817960" y="2668320"/>
            <a:ext cx="431640" cy="4316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5"/>
          <p:cNvSpPr/>
          <p:nvPr/>
        </p:nvSpPr>
        <p:spPr>
          <a:xfrm rot="20573400">
            <a:off x="6097680" y="3730680"/>
            <a:ext cx="433440" cy="4334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6"/>
          <p:cNvSpPr/>
          <p:nvPr/>
        </p:nvSpPr>
        <p:spPr>
          <a:xfrm>
            <a:off x="7678800" y="3921120"/>
            <a:ext cx="431640" cy="4316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7"/>
          <p:cNvSpPr/>
          <p:nvPr/>
        </p:nvSpPr>
        <p:spPr>
          <a:xfrm rot="665400">
            <a:off x="8140680" y="2759040"/>
            <a:ext cx="432000" cy="43200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8"/>
          <p:cNvSpPr/>
          <p:nvPr/>
        </p:nvSpPr>
        <p:spPr>
          <a:xfrm flipV="1">
            <a:off x="2776680" y="1644120"/>
            <a:ext cx="1046160" cy="730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9"/>
          <p:cNvSpPr/>
          <p:nvPr/>
        </p:nvSpPr>
        <p:spPr>
          <a:xfrm>
            <a:off x="4246560" y="1733400"/>
            <a:ext cx="665280" cy="3128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20"/>
          <p:cNvSpPr/>
          <p:nvPr/>
        </p:nvSpPr>
        <p:spPr>
          <a:xfrm>
            <a:off x="5291280" y="2252520"/>
            <a:ext cx="614160" cy="4590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21"/>
          <p:cNvSpPr/>
          <p:nvPr/>
        </p:nvSpPr>
        <p:spPr>
          <a:xfrm>
            <a:off x="6164280" y="3057480"/>
            <a:ext cx="87120" cy="6825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22"/>
          <p:cNvSpPr/>
          <p:nvPr/>
        </p:nvSpPr>
        <p:spPr>
          <a:xfrm>
            <a:off x="6505560" y="4048200"/>
            <a:ext cx="1173240" cy="889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23"/>
          <p:cNvSpPr/>
          <p:nvPr/>
        </p:nvSpPr>
        <p:spPr>
          <a:xfrm flipV="1">
            <a:off x="8047080" y="3186000"/>
            <a:ext cx="268200" cy="7984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 rot="3300000">
            <a:off x="2391480" y="1528560"/>
            <a:ext cx="4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rot="19500000">
            <a:off x="3853080" y="14270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 rot="19500000">
            <a:off x="4932360" y="186192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 rot="19500000">
            <a:off x="5850360" y="258444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 flipH="1" rot="19419600">
            <a:off x="6138720" y="369576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7726320" y="38498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 rot="19801800">
            <a:off x="8177760" y="268596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3" descr=""/>
          <p:cNvPicPr/>
          <p:nvPr/>
        </p:nvPicPr>
        <p:blipFill>
          <a:blip r:embed="rId3"/>
          <a:stretch/>
        </p:blipFill>
        <p:spPr>
          <a:xfrm>
            <a:off x="9347040" y="1544760"/>
            <a:ext cx="452520" cy="7077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2522520" y="1830960"/>
            <a:ext cx="1150200" cy="1290960"/>
            <a:chOff x="2522520" y="1830960"/>
            <a:chExt cx="1150200" cy="1290960"/>
          </a:xfrm>
        </p:grpSpPr>
        <p:pic>
          <p:nvPicPr>
            <p:cNvPr id="110" name="图片 5" descr=""/>
            <p:cNvPicPr/>
            <p:nvPr/>
          </p:nvPicPr>
          <p:blipFill>
            <a:blip r:embed="rId4"/>
            <a:stretch/>
          </p:blipFill>
          <p:spPr>
            <a:xfrm rot="3678000">
              <a:off x="2701440" y="1875240"/>
              <a:ext cx="529920" cy="7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6" descr=""/>
            <p:cNvPicPr/>
            <p:nvPr/>
          </p:nvPicPr>
          <p:blipFill>
            <a:blip r:embed="rId5"/>
            <a:stretch/>
          </p:blipFill>
          <p:spPr>
            <a:xfrm rot="3678000">
              <a:off x="2936160" y="2338560"/>
              <a:ext cx="56700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4127760" y="770040"/>
            <a:ext cx="1170360" cy="1009080"/>
            <a:chOff x="4127760" y="770040"/>
            <a:chExt cx="1170360" cy="1009080"/>
          </a:xfrm>
        </p:grpSpPr>
        <p:pic>
          <p:nvPicPr>
            <p:cNvPr id="113" name="图片 8" descr=""/>
            <p:cNvPicPr/>
            <p:nvPr/>
          </p:nvPicPr>
          <p:blipFill>
            <a:blip r:embed="rId6"/>
            <a:stretch/>
          </p:blipFill>
          <p:spPr>
            <a:xfrm rot="19657200">
              <a:off x="4234320" y="1117800"/>
              <a:ext cx="54720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9" descr=""/>
            <p:cNvPicPr/>
            <p:nvPr/>
          </p:nvPicPr>
          <p:blipFill>
            <a:blip r:embed="rId7"/>
            <a:stretch/>
          </p:blipFill>
          <p:spPr>
            <a:xfrm rot="19420800">
              <a:off x="4672440" y="860400"/>
              <a:ext cx="498960" cy="59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5192280" y="1030320"/>
            <a:ext cx="1380600" cy="1173240"/>
            <a:chOff x="5192280" y="1030320"/>
            <a:chExt cx="1380600" cy="1173240"/>
          </a:xfrm>
        </p:grpSpPr>
        <p:pic>
          <p:nvPicPr>
            <p:cNvPr id="116" name="图片 37" descr=""/>
            <p:cNvPicPr/>
            <p:nvPr/>
          </p:nvPicPr>
          <p:blipFill>
            <a:blip r:embed="rId8"/>
            <a:stretch/>
          </p:blipFill>
          <p:spPr>
            <a:xfrm rot="19700400">
              <a:off x="5298120" y="1510560"/>
              <a:ext cx="6073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38" descr=""/>
            <p:cNvPicPr/>
            <p:nvPr/>
          </p:nvPicPr>
          <p:blipFill>
            <a:blip r:embed="rId9"/>
            <a:stretch/>
          </p:blipFill>
          <p:spPr>
            <a:xfrm rot="19700400">
              <a:off x="5825880" y="1164240"/>
              <a:ext cx="658800" cy="52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6060240" y="1889640"/>
            <a:ext cx="1251720" cy="1067400"/>
            <a:chOff x="6060240" y="1889640"/>
            <a:chExt cx="1251720" cy="1067400"/>
          </a:xfrm>
        </p:grpSpPr>
        <p:pic>
          <p:nvPicPr>
            <p:cNvPr id="119" name="图片 40" descr=""/>
            <p:cNvPicPr/>
            <p:nvPr/>
          </p:nvPicPr>
          <p:blipFill>
            <a:blip r:embed="rId10"/>
            <a:stretch/>
          </p:blipFill>
          <p:spPr>
            <a:xfrm rot="19348800">
              <a:off x="6201000" y="2259360"/>
              <a:ext cx="46332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41" descr=""/>
            <p:cNvPicPr/>
            <p:nvPr/>
          </p:nvPicPr>
          <p:blipFill>
            <a:blip r:embed="rId11"/>
            <a:stretch/>
          </p:blipFill>
          <p:spPr>
            <a:xfrm rot="19596000">
              <a:off x="6616080" y="2006280"/>
              <a:ext cx="591120" cy="55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6326280" y="2989080"/>
            <a:ext cx="1126080" cy="966960"/>
            <a:chOff x="6326280" y="2989080"/>
            <a:chExt cx="1126080" cy="966960"/>
          </a:xfrm>
        </p:grpSpPr>
        <p:pic>
          <p:nvPicPr>
            <p:cNvPr id="122" name="图片 43" descr=""/>
            <p:cNvPicPr/>
            <p:nvPr/>
          </p:nvPicPr>
          <p:blipFill>
            <a:blip r:embed="rId12"/>
            <a:stretch/>
          </p:blipFill>
          <p:spPr>
            <a:xfrm rot="19419600">
              <a:off x="6435360" y="3308760"/>
              <a:ext cx="52956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图片 44" descr=""/>
            <p:cNvPicPr/>
            <p:nvPr/>
          </p:nvPicPr>
          <p:blipFill>
            <a:blip r:embed="rId13"/>
            <a:stretch/>
          </p:blipFill>
          <p:spPr>
            <a:xfrm rot="19419600">
              <a:off x="6911640" y="3078000"/>
              <a:ext cx="449280" cy="45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8149680" y="3765600"/>
            <a:ext cx="951480" cy="676800"/>
            <a:chOff x="8149680" y="3765600"/>
            <a:chExt cx="951480" cy="676800"/>
          </a:xfrm>
        </p:grpSpPr>
        <p:pic>
          <p:nvPicPr>
            <p:cNvPr id="125" name="图片 46" descr=""/>
            <p:cNvPicPr/>
            <p:nvPr/>
          </p:nvPicPr>
          <p:blipFill>
            <a:blip r:embed="rId14"/>
            <a:stretch/>
          </p:blipFill>
          <p:spPr>
            <a:xfrm rot="21359400">
              <a:off x="8170920" y="3796200"/>
              <a:ext cx="497520" cy="6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图片 47" descr=""/>
            <p:cNvPicPr/>
            <p:nvPr/>
          </p:nvPicPr>
          <p:blipFill>
            <a:blip r:embed="rId15"/>
            <a:stretch/>
          </p:blipFill>
          <p:spPr>
            <a:xfrm>
              <a:off x="8715960" y="3765600"/>
              <a:ext cx="385200" cy="64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8393760" y="1951200"/>
            <a:ext cx="1182960" cy="996120"/>
            <a:chOff x="8393760" y="1951200"/>
            <a:chExt cx="1182960" cy="996120"/>
          </a:xfrm>
        </p:grpSpPr>
        <p:pic>
          <p:nvPicPr>
            <p:cNvPr id="128" name="图片 49" descr=""/>
            <p:cNvPicPr/>
            <p:nvPr/>
          </p:nvPicPr>
          <p:blipFill>
            <a:blip r:embed="rId16"/>
            <a:stretch/>
          </p:blipFill>
          <p:spPr>
            <a:xfrm rot="19939200">
              <a:off x="8500320" y="2303280"/>
              <a:ext cx="4525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50" descr=""/>
            <p:cNvPicPr/>
            <p:nvPr/>
          </p:nvPicPr>
          <p:blipFill>
            <a:blip r:embed="rId17"/>
            <a:stretch/>
          </p:blipFill>
          <p:spPr>
            <a:xfrm rot="19939200">
              <a:off x="8869680" y="2063880"/>
              <a:ext cx="617400" cy="53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287280" y="102960"/>
            <a:ext cx="1152720" cy="750960"/>
            <a:chOff x="287280" y="102960"/>
            <a:chExt cx="1152720" cy="750960"/>
          </a:xfrm>
        </p:grpSpPr>
        <p:pic>
          <p:nvPicPr>
            <p:cNvPr id="131" name="图片 2" descr=""/>
            <p:cNvPicPr/>
            <p:nvPr/>
          </p:nvPicPr>
          <p:blipFill>
            <a:blip r:embed="rId18"/>
            <a:stretch/>
          </p:blipFill>
          <p:spPr>
            <a:xfrm rot="21374400">
              <a:off x="712800" y="124920"/>
              <a:ext cx="704880" cy="7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图片 53" descr=""/>
            <p:cNvPicPr/>
            <p:nvPr/>
          </p:nvPicPr>
          <p:blipFill>
            <a:blip r:embed="rId19"/>
            <a:stretch/>
          </p:blipFill>
          <p:spPr>
            <a:xfrm>
              <a:off x="287280" y="138960"/>
              <a:ext cx="468360" cy="714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1440" y="-3240"/>
            <a:ext cx="12187440" cy="68677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6" descr=""/>
          <p:cNvPicPr/>
          <p:nvPr/>
        </p:nvPicPr>
        <p:blipFill>
          <a:blip r:embed="rId2"/>
          <a:stretch/>
        </p:blipFill>
        <p:spPr>
          <a:xfrm>
            <a:off x="11307600" y="304920"/>
            <a:ext cx="462240" cy="72216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4"/>
          <p:cNvSpPr/>
          <p:nvPr/>
        </p:nvSpPr>
        <p:spPr>
          <a:xfrm>
            <a:off x="379440" y="5420880"/>
            <a:ext cx="109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5"/>
          <p:cNvSpPr/>
          <p:nvPr/>
        </p:nvSpPr>
        <p:spPr>
          <a:xfrm flipH="1">
            <a:off x="888840" y="5649840"/>
            <a:ext cx="897120" cy="10508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组合 15" descr=""/>
          <p:cNvPicPr/>
          <p:nvPr/>
        </p:nvPicPr>
        <p:blipFill>
          <a:blip r:embed="rId3"/>
          <a:stretch/>
        </p:blipFill>
        <p:spPr>
          <a:xfrm>
            <a:off x="1395360" y="6053040"/>
            <a:ext cx="1013040" cy="70164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16"/>
          <p:cNvSpPr/>
          <p:nvPr/>
        </p:nvSpPr>
        <p:spPr>
          <a:xfrm>
            <a:off x="9995040" y="632772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過度頁示例</a:t>
            </a: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5400" y="6219720"/>
            <a:ext cx="7040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3" descr=""/>
          <p:cNvPicPr/>
          <p:nvPr/>
        </p:nvPicPr>
        <p:blipFill>
          <a:blip r:embed="rId1"/>
          <a:stretch/>
        </p:blipFill>
        <p:spPr>
          <a:xfrm>
            <a:off x="3240" y="0"/>
            <a:ext cx="12185640" cy="6861240"/>
          </a:xfrm>
          <a:prstGeom prst="rect">
            <a:avLst/>
          </a:prstGeom>
          <a:ln w="0">
            <a:noFill/>
          </a:ln>
        </p:spPr>
      </p:pic>
      <p:sp>
        <p:nvSpPr>
          <p:cNvPr id="141" name="任意多边形 27"/>
          <p:cNvSpPr/>
          <p:nvPr/>
        </p:nvSpPr>
        <p:spPr>
          <a:xfrm flipH="1" rot="5400000">
            <a:off x="8350920" y="911520"/>
            <a:ext cx="801720" cy="799920"/>
          </a:xfrm>
          <a:custGeom>
            <a:avLst/>
            <a:gdLst/>
            <a:ahLst/>
            <a:rect l="l" t="t" r="r" b="b"/>
            <a:pathLst>
              <a:path w="5157302" h="5143500">
                <a:moveTo>
                  <a:pt x="4611949" y="545353"/>
                </a:moveTo>
                <a:lnTo>
                  <a:pt x="4918681" y="545353"/>
                </a:lnTo>
                <a:lnTo>
                  <a:pt x="4918681" y="231640"/>
                </a:lnTo>
                <a:lnTo>
                  <a:pt x="4611949" y="231640"/>
                </a:lnTo>
                <a:lnTo>
                  <a:pt x="4611949" y="545353"/>
                </a:lnTo>
                <a:close/>
                <a:moveTo>
                  <a:pt x="4611949" y="1607615"/>
                </a:moveTo>
                <a:lnTo>
                  <a:pt x="4918681" y="1607615"/>
                </a:lnTo>
                <a:lnTo>
                  <a:pt x="4918681" y="1293902"/>
                </a:lnTo>
                <a:lnTo>
                  <a:pt x="4611949" y="1293902"/>
                </a:lnTo>
                <a:lnTo>
                  <a:pt x="4611949" y="1607615"/>
                </a:lnTo>
                <a:close/>
                <a:moveTo>
                  <a:pt x="4076470" y="1070599"/>
                </a:moveTo>
                <a:lnTo>
                  <a:pt x="4383203" y="1070599"/>
                </a:lnTo>
                <a:lnTo>
                  <a:pt x="4383203" y="756886"/>
                </a:lnTo>
                <a:lnTo>
                  <a:pt x="4076470" y="756886"/>
                </a:lnTo>
                <a:lnTo>
                  <a:pt x="4076470" y="1070599"/>
                </a:lnTo>
                <a:close/>
                <a:moveTo>
                  <a:pt x="3545397" y="540403"/>
                </a:moveTo>
                <a:lnTo>
                  <a:pt x="3852129" y="540403"/>
                </a:lnTo>
                <a:lnTo>
                  <a:pt x="3852129" y="226690"/>
                </a:lnTo>
                <a:lnTo>
                  <a:pt x="3545397" y="226690"/>
                </a:lnTo>
                <a:lnTo>
                  <a:pt x="3545397" y="540403"/>
                </a:lnTo>
                <a:close/>
                <a:moveTo>
                  <a:pt x="0" y="227400"/>
                </a:moveTo>
                <a:lnTo>
                  <a:pt x="0" y="0"/>
                </a:lnTo>
                <a:lnTo>
                  <a:pt x="3288732" y="0"/>
                </a:lnTo>
                <a:lnTo>
                  <a:pt x="4086621" y="0"/>
                </a:lnTo>
                <a:lnTo>
                  <a:pt x="4086621" y="545353"/>
                </a:lnTo>
                <a:lnTo>
                  <a:pt x="4352633" y="545353"/>
                </a:lnTo>
                <a:lnTo>
                  <a:pt x="4352633" y="0"/>
                </a:lnTo>
                <a:lnTo>
                  <a:pt x="5157302" y="0"/>
                </a:lnTo>
                <a:lnTo>
                  <a:pt x="5157302" y="780737"/>
                </a:lnTo>
                <a:lnTo>
                  <a:pt x="4611950" y="780737"/>
                </a:lnTo>
                <a:lnTo>
                  <a:pt x="4611950" y="1046750"/>
                </a:lnTo>
                <a:lnTo>
                  <a:pt x="5157302" y="1046750"/>
                </a:lnTo>
                <a:lnTo>
                  <a:pt x="5157302" y="1854768"/>
                </a:lnTo>
                <a:lnTo>
                  <a:pt x="5157302" y="5143500"/>
                </a:lnTo>
                <a:lnTo>
                  <a:pt x="4929902" y="5143500"/>
                </a:lnTo>
                <a:lnTo>
                  <a:pt x="4929902" y="1854768"/>
                </a:lnTo>
                <a:lnTo>
                  <a:pt x="4330131" y="1854768"/>
                </a:lnTo>
                <a:lnTo>
                  <a:pt x="4330131" y="1309179"/>
                </a:lnTo>
                <a:lnTo>
                  <a:pt x="3815230" y="1309179"/>
                </a:lnTo>
                <a:lnTo>
                  <a:pt x="3815230" y="797688"/>
                </a:lnTo>
                <a:lnTo>
                  <a:pt x="3288732" y="797688"/>
                </a:lnTo>
                <a:lnTo>
                  <a:pt x="3288732" y="227400"/>
                </a:lnTo>
                <a:lnTo>
                  <a:pt x="0" y="227400"/>
                </a:lnTo>
                <a:close/>
              </a:path>
            </a:pathLst>
          </a:custGeom>
          <a:solidFill>
            <a:srgbClr val="c2d4e5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2" descr=""/>
          <p:cNvPicPr/>
          <p:nvPr/>
        </p:nvPicPr>
        <p:blipFill>
          <a:blip r:embed="rId2"/>
          <a:stretch/>
        </p:blipFill>
        <p:spPr>
          <a:xfrm>
            <a:off x="10855440" y="880920"/>
            <a:ext cx="353880" cy="554040"/>
          </a:xfrm>
          <a:prstGeom prst="rect">
            <a:avLst/>
          </a:prstGeom>
          <a:ln w="0">
            <a:noFill/>
          </a:ln>
        </p:spPr>
      </p:pic>
      <p:sp>
        <p:nvSpPr>
          <p:cNvPr id="143" name="任意多边形 36"/>
          <p:cNvSpPr/>
          <p:nvPr/>
        </p:nvSpPr>
        <p:spPr>
          <a:xfrm flipH="1" rot="16200000">
            <a:off x="1317240" y="4109040"/>
            <a:ext cx="801720" cy="800280"/>
          </a:xfrm>
          <a:custGeom>
            <a:avLst/>
            <a:gdLst/>
            <a:ahLst/>
            <a:rect l="l" t="t" r="r" b="b"/>
            <a:pathLst>
              <a:path w="5157302" h="5143500">
                <a:moveTo>
                  <a:pt x="4611949" y="545353"/>
                </a:moveTo>
                <a:lnTo>
                  <a:pt x="4918681" y="545353"/>
                </a:lnTo>
                <a:lnTo>
                  <a:pt x="4918681" y="231640"/>
                </a:lnTo>
                <a:lnTo>
                  <a:pt x="4611949" y="231640"/>
                </a:lnTo>
                <a:lnTo>
                  <a:pt x="4611949" y="545353"/>
                </a:lnTo>
                <a:close/>
                <a:moveTo>
                  <a:pt x="4611949" y="1607615"/>
                </a:moveTo>
                <a:lnTo>
                  <a:pt x="4918681" y="1607615"/>
                </a:lnTo>
                <a:lnTo>
                  <a:pt x="4918681" y="1293902"/>
                </a:lnTo>
                <a:lnTo>
                  <a:pt x="4611949" y="1293902"/>
                </a:lnTo>
                <a:lnTo>
                  <a:pt x="4611949" y="1607615"/>
                </a:lnTo>
                <a:close/>
                <a:moveTo>
                  <a:pt x="4076470" y="1070599"/>
                </a:moveTo>
                <a:lnTo>
                  <a:pt x="4383203" y="1070599"/>
                </a:lnTo>
                <a:lnTo>
                  <a:pt x="4383203" y="756886"/>
                </a:lnTo>
                <a:lnTo>
                  <a:pt x="4076470" y="756886"/>
                </a:lnTo>
                <a:lnTo>
                  <a:pt x="4076470" y="1070599"/>
                </a:lnTo>
                <a:close/>
                <a:moveTo>
                  <a:pt x="3545397" y="540403"/>
                </a:moveTo>
                <a:lnTo>
                  <a:pt x="3852129" y="540403"/>
                </a:lnTo>
                <a:lnTo>
                  <a:pt x="3852129" y="226690"/>
                </a:lnTo>
                <a:lnTo>
                  <a:pt x="3545397" y="226690"/>
                </a:lnTo>
                <a:lnTo>
                  <a:pt x="3545397" y="540403"/>
                </a:lnTo>
                <a:close/>
                <a:moveTo>
                  <a:pt x="0" y="227400"/>
                </a:moveTo>
                <a:lnTo>
                  <a:pt x="0" y="0"/>
                </a:lnTo>
                <a:lnTo>
                  <a:pt x="3288732" y="0"/>
                </a:lnTo>
                <a:lnTo>
                  <a:pt x="4086621" y="0"/>
                </a:lnTo>
                <a:lnTo>
                  <a:pt x="4086621" y="545353"/>
                </a:lnTo>
                <a:lnTo>
                  <a:pt x="4352633" y="545353"/>
                </a:lnTo>
                <a:lnTo>
                  <a:pt x="4352633" y="0"/>
                </a:lnTo>
                <a:lnTo>
                  <a:pt x="5157302" y="0"/>
                </a:lnTo>
                <a:lnTo>
                  <a:pt x="5157302" y="780737"/>
                </a:lnTo>
                <a:lnTo>
                  <a:pt x="4611950" y="780737"/>
                </a:lnTo>
                <a:lnTo>
                  <a:pt x="4611950" y="1046750"/>
                </a:lnTo>
                <a:lnTo>
                  <a:pt x="5157302" y="1046750"/>
                </a:lnTo>
                <a:lnTo>
                  <a:pt x="5157302" y="1854768"/>
                </a:lnTo>
                <a:lnTo>
                  <a:pt x="5157302" y="5143500"/>
                </a:lnTo>
                <a:lnTo>
                  <a:pt x="4929902" y="5143500"/>
                </a:lnTo>
                <a:lnTo>
                  <a:pt x="4929902" y="1854768"/>
                </a:lnTo>
                <a:lnTo>
                  <a:pt x="4330131" y="1854768"/>
                </a:lnTo>
                <a:lnTo>
                  <a:pt x="4330131" y="1309179"/>
                </a:lnTo>
                <a:lnTo>
                  <a:pt x="3815230" y="1309179"/>
                </a:lnTo>
                <a:lnTo>
                  <a:pt x="3815230" y="797688"/>
                </a:lnTo>
                <a:lnTo>
                  <a:pt x="3288732" y="797688"/>
                </a:lnTo>
                <a:lnTo>
                  <a:pt x="3288732" y="227400"/>
                </a:lnTo>
                <a:lnTo>
                  <a:pt x="0" y="227400"/>
                </a:lnTo>
                <a:close/>
              </a:path>
            </a:pathLst>
          </a:custGeom>
          <a:solidFill>
            <a:srgbClr val="c2d4e5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9227520" y="628560"/>
            <a:ext cx="6069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閱景興感 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吊古懷今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0"/>
          <p:cNvSpPr/>
          <p:nvPr/>
        </p:nvSpPr>
        <p:spPr>
          <a:xfrm>
            <a:off x="1620720" y="1102320"/>
            <a:ext cx="69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見高牆黃瓦，簷牙高啄，興也勃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3941640" y="4103640"/>
            <a:ext cx="50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嗟夫！興亡一歎，成敗轉頭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2724120" y="2603520"/>
            <a:ext cx="59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覽殘垣斷壁，勝地不常，廢也倏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7" descr=""/>
          <p:cNvPicPr/>
          <p:nvPr/>
        </p:nvPicPr>
        <p:blipFill>
          <a:blip r:embed="rId3"/>
          <a:stretch/>
        </p:blipFill>
        <p:spPr>
          <a:xfrm>
            <a:off x="9756720" y="692280"/>
            <a:ext cx="1176480" cy="16016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9" descr=""/>
          <p:cNvPicPr/>
          <p:nvPr/>
        </p:nvPicPr>
        <p:blipFill>
          <a:blip r:embed="rId4"/>
          <a:stretch/>
        </p:blipFill>
        <p:spPr>
          <a:xfrm>
            <a:off x="10142640" y="2050920"/>
            <a:ext cx="129996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4" descr=""/>
          <p:cNvPicPr/>
          <p:nvPr/>
        </p:nvPicPr>
        <p:blipFill>
          <a:blip r:embed="rId1"/>
          <a:stretch/>
        </p:blipFill>
        <p:spPr>
          <a:xfrm>
            <a:off x="-3240" y="-6480"/>
            <a:ext cx="12198240" cy="687384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3486240" y="1278000"/>
            <a:ext cx="3101760" cy="4236840"/>
            <a:chOff x="3486240" y="1278000"/>
            <a:chExt cx="3101760" cy="4236840"/>
          </a:xfrm>
        </p:grpSpPr>
        <p:grpSp>
          <p:nvGrpSpPr>
            <p:cNvPr id="152" name=""/>
            <p:cNvGrpSpPr/>
            <p:nvPr/>
          </p:nvGrpSpPr>
          <p:grpSpPr>
            <a:xfrm>
              <a:off x="3486240" y="1278000"/>
              <a:ext cx="617040" cy="4236840"/>
              <a:chOff x="3486240" y="1278000"/>
              <a:chExt cx="617040" cy="4236840"/>
            </a:xfrm>
          </p:grpSpPr>
          <p:sp>
            <p:nvSpPr>
              <p:cNvPr id="153" name="直接连接符 26"/>
              <p:cNvSpPr/>
              <p:nvPr/>
            </p:nvSpPr>
            <p:spPr>
              <a:xfrm>
                <a:off x="3486240" y="1278000"/>
                <a:ext cx="0" cy="4236840"/>
              </a:xfrm>
              <a:prstGeom prst="line">
                <a:avLst/>
              </a:prstGeom>
              <a:ln w="1440">
                <a:solidFill>
                  <a:srgbClr val="c2d4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接连接符 27"/>
              <p:cNvSpPr/>
              <p:nvPr/>
            </p:nvSpPr>
            <p:spPr>
              <a:xfrm>
                <a:off x="4103280" y="1278000"/>
                <a:ext cx="0" cy="4236840"/>
              </a:xfrm>
              <a:prstGeom prst="line">
                <a:avLst/>
              </a:prstGeom>
              <a:ln w="1440">
                <a:solidFill>
                  <a:srgbClr val="c2d4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314240" y="1278000"/>
              <a:ext cx="617040" cy="4236840"/>
              <a:chOff x="4314240" y="1278000"/>
              <a:chExt cx="617040" cy="4236840"/>
            </a:xfrm>
          </p:grpSpPr>
          <p:sp>
            <p:nvSpPr>
              <p:cNvPr id="156" name="直接连接符 29"/>
              <p:cNvSpPr/>
              <p:nvPr/>
            </p:nvSpPr>
            <p:spPr>
              <a:xfrm>
                <a:off x="4314240" y="1278000"/>
                <a:ext cx="0" cy="4236840"/>
              </a:xfrm>
              <a:prstGeom prst="line">
                <a:avLst/>
              </a:prstGeom>
              <a:ln w="1440">
                <a:solidFill>
                  <a:srgbClr val="c2d4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30"/>
              <p:cNvSpPr/>
              <p:nvPr/>
            </p:nvSpPr>
            <p:spPr>
              <a:xfrm>
                <a:off x="4931280" y="1278000"/>
                <a:ext cx="0" cy="4236840"/>
              </a:xfrm>
              <a:prstGeom prst="line">
                <a:avLst/>
              </a:prstGeom>
              <a:ln w="1440">
                <a:solidFill>
                  <a:srgbClr val="c2d4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142600" y="1278000"/>
              <a:ext cx="617040" cy="4236840"/>
              <a:chOff x="5142600" y="1278000"/>
              <a:chExt cx="617040" cy="4236840"/>
            </a:xfrm>
          </p:grpSpPr>
          <p:sp>
            <p:nvSpPr>
              <p:cNvPr id="159" name="直接连接符 32"/>
              <p:cNvSpPr/>
              <p:nvPr/>
            </p:nvSpPr>
            <p:spPr>
              <a:xfrm>
                <a:off x="5142600" y="1278000"/>
                <a:ext cx="0" cy="4236840"/>
              </a:xfrm>
              <a:prstGeom prst="line">
                <a:avLst/>
              </a:prstGeom>
              <a:ln w="1440">
                <a:solidFill>
                  <a:srgbClr val="c2d4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33"/>
              <p:cNvSpPr/>
              <p:nvPr/>
            </p:nvSpPr>
            <p:spPr>
              <a:xfrm>
                <a:off x="5759640" y="1278000"/>
                <a:ext cx="0" cy="4236840"/>
              </a:xfrm>
              <a:prstGeom prst="line">
                <a:avLst/>
              </a:prstGeom>
              <a:ln w="1440">
                <a:solidFill>
                  <a:srgbClr val="c2d4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970960" y="1278000"/>
              <a:ext cx="617040" cy="4236840"/>
              <a:chOff x="5970960" y="1278000"/>
              <a:chExt cx="617040" cy="4236840"/>
            </a:xfrm>
          </p:grpSpPr>
          <p:sp>
            <p:nvSpPr>
              <p:cNvPr id="162" name="直接连接符 35"/>
              <p:cNvSpPr/>
              <p:nvPr/>
            </p:nvSpPr>
            <p:spPr>
              <a:xfrm>
                <a:off x="5970960" y="1278000"/>
                <a:ext cx="0" cy="4236840"/>
              </a:xfrm>
              <a:prstGeom prst="line">
                <a:avLst/>
              </a:prstGeom>
              <a:ln w="1440">
                <a:solidFill>
                  <a:srgbClr val="c2d4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接连接符 36"/>
              <p:cNvSpPr/>
              <p:nvPr/>
            </p:nvSpPr>
            <p:spPr>
              <a:xfrm>
                <a:off x="6588000" y="1278000"/>
                <a:ext cx="0" cy="4236840"/>
              </a:xfrm>
              <a:prstGeom prst="line">
                <a:avLst/>
              </a:prstGeom>
              <a:ln w="1440">
                <a:solidFill>
                  <a:srgbClr val="c2d4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文本框 43"/>
          <p:cNvSpPr/>
          <p:nvPr/>
        </p:nvSpPr>
        <p:spPr>
          <a:xfrm>
            <a:off x="6051960" y="1706400"/>
            <a:ext cx="45468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窮且益堅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墜青雲之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4"/>
          <p:cNvSpPr/>
          <p:nvPr/>
        </p:nvSpPr>
        <p:spPr>
          <a:xfrm>
            <a:off x="5223240" y="1706400"/>
            <a:ext cx="45468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楊意不逢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撫淩雲而自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5"/>
          <p:cNvSpPr/>
          <p:nvPr/>
        </p:nvSpPr>
        <p:spPr>
          <a:xfrm>
            <a:off x="4394520" y="1706400"/>
            <a:ext cx="45468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见微知著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觀暮雲通天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46"/>
          <p:cNvSpPr/>
          <p:nvPr/>
        </p:nvSpPr>
        <p:spPr>
          <a:xfrm>
            <a:off x="3567600" y="1706400"/>
            <a:ext cx="45468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去留無意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漫觀雲卷雲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55" descr=""/>
          <p:cNvPicPr/>
          <p:nvPr/>
        </p:nvPicPr>
        <p:blipFill>
          <a:blip r:embed="rId2"/>
          <a:stretch/>
        </p:blipFill>
        <p:spPr>
          <a:xfrm>
            <a:off x="8364600" y="1252440"/>
            <a:ext cx="353880" cy="55404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58"/>
          <p:cNvSpPr/>
          <p:nvPr/>
        </p:nvSpPr>
        <p:spPr>
          <a:xfrm>
            <a:off x="6750000" y="1200600"/>
            <a:ext cx="5461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坐看雲起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行見雨施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3" descr=""/>
          <p:cNvPicPr/>
          <p:nvPr/>
        </p:nvPicPr>
        <p:blipFill>
          <a:blip r:embed="rId3"/>
          <a:stretch/>
        </p:blipFill>
        <p:spPr>
          <a:xfrm>
            <a:off x="2673360" y="5019840"/>
            <a:ext cx="601560" cy="495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38" descr=""/>
          <p:cNvPicPr/>
          <p:nvPr/>
        </p:nvPicPr>
        <p:blipFill>
          <a:blip r:embed="rId4"/>
          <a:stretch/>
        </p:blipFill>
        <p:spPr>
          <a:xfrm>
            <a:off x="7243920" y="1214280"/>
            <a:ext cx="1365120" cy="139068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39" descr=""/>
          <p:cNvPicPr/>
          <p:nvPr/>
        </p:nvPicPr>
        <p:blipFill>
          <a:blip r:embed="rId5"/>
          <a:stretch/>
        </p:blipFill>
        <p:spPr>
          <a:xfrm rot="21402000">
            <a:off x="7683120" y="2655360"/>
            <a:ext cx="1189080" cy="1406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098000" y="6394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4" descr=""/>
          <p:cNvPicPr/>
          <p:nvPr/>
        </p:nvPicPr>
        <p:blipFill>
          <a:blip r:embed="rId1"/>
          <a:stretch/>
        </p:blipFill>
        <p:spPr>
          <a:xfrm>
            <a:off x="3240" y="-3240"/>
            <a:ext cx="12187080" cy="6861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44" descr=""/>
          <p:cNvPicPr/>
          <p:nvPr/>
        </p:nvPicPr>
        <p:blipFill>
          <a:blip r:embed="rId2"/>
          <a:stretch/>
        </p:blipFill>
        <p:spPr>
          <a:xfrm>
            <a:off x="10856880" y="1392120"/>
            <a:ext cx="353880" cy="55404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47"/>
          <p:cNvSpPr/>
          <p:nvPr/>
        </p:nvSpPr>
        <p:spPr>
          <a:xfrm>
            <a:off x="9252000" y="1319040"/>
            <a:ext cx="5461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靜聽松濤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風移影動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77760" y="1444680"/>
            <a:ext cx="8089920" cy="4140000"/>
            <a:chOff x="977760" y="1444680"/>
            <a:chExt cx="8089920" cy="4140000"/>
          </a:xfrm>
        </p:grpSpPr>
        <p:sp>
          <p:nvSpPr>
            <p:cNvPr id="178" name="矩形 51"/>
            <p:cNvSpPr/>
            <p:nvPr/>
          </p:nvSpPr>
          <p:spPr>
            <a:xfrm>
              <a:off x="977760" y="1444680"/>
              <a:ext cx="8089920" cy="4140000"/>
            </a:xfrm>
            <a:prstGeom prst="rect">
              <a:avLst/>
            </a:prstGeom>
            <a:noFill/>
            <a:ln cap="sq" w="19080">
              <a:solidFill>
                <a:srgbClr val="c2d4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020960" y="5086800"/>
              <a:ext cx="448200" cy="472320"/>
              <a:chOff x="1020960" y="5086800"/>
              <a:chExt cx="448200" cy="472320"/>
            </a:xfrm>
          </p:grpSpPr>
          <p:sp>
            <p:nvSpPr>
              <p:cNvPr id="180" name="任意多边形 56"/>
              <p:cNvSpPr/>
              <p:nvPr/>
            </p:nvSpPr>
            <p:spPr>
              <a:xfrm flipV="1">
                <a:off x="1163520" y="5408640"/>
                <a:ext cx="305640" cy="150480"/>
              </a:xfrm>
              <a:custGeom>
                <a:avLst/>
                <a:gdLst/>
                <a:ahLst/>
                <a:rect l="l" t="t" r="r" b="b"/>
                <a:pathLst>
                  <a:path w="6349429" h="3112898">
                    <a:moveTo>
                      <a:pt x="0" y="0"/>
                    </a:moveTo>
                    <a:lnTo>
                      <a:pt x="3463413" y="0"/>
                    </a:lnTo>
                    <a:lnTo>
                      <a:pt x="3465558" y="2492281"/>
                    </a:lnTo>
                    <a:lnTo>
                      <a:pt x="5180058" y="2492281"/>
                    </a:lnTo>
                    <a:lnTo>
                      <a:pt x="5784896" y="2492281"/>
                    </a:lnTo>
                    <a:lnTo>
                      <a:pt x="5784896" y="1849344"/>
                    </a:lnTo>
                    <a:lnTo>
                      <a:pt x="5784896" y="1230572"/>
                    </a:lnTo>
                    <a:lnTo>
                      <a:pt x="5784896" y="1049243"/>
                    </a:lnTo>
                    <a:lnTo>
                      <a:pt x="5784896" y="601569"/>
                    </a:lnTo>
                    <a:lnTo>
                      <a:pt x="4612919" y="601569"/>
                    </a:lnTo>
                    <a:lnTo>
                      <a:pt x="4612919" y="1230572"/>
                    </a:lnTo>
                    <a:lnTo>
                      <a:pt x="5180058" y="1230572"/>
                    </a:lnTo>
                    <a:lnTo>
                      <a:pt x="5180058" y="1849344"/>
                    </a:lnTo>
                    <a:lnTo>
                      <a:pt x="4033637" y="1849344"/>
                    </a:lnTo>
                    <a:lnTo>
                      <a:pt x="4033637" y="0"/>
                    </a:lnTo>
                    <a:lnTo>
                      <a:pt x="6349429" y="0"/>
                    </a:lnTo>
                    <a:lnTo>
                      <a:pt x="6349429" y="3112898"/>
                    </a:lnTo>
                    <a:lnTo>
                      <a:pt x="2892448" y="3112898"/>
                    </a:lnTo>
                    <a:lnTo>
                      <a:pt x="2890303" y="1073679"/>
                    </a:lnTo>
                    <a:lnTo>
                      <a:pt x="2890303" y="620617"/>
                    </a:lnTo>
                    <a:lnTo>
                      <a:pt x="1175803" y="620617"/>
                    </a:lnTo>
                    <a:lnTo>
                      <a:pt x="570965" y="620617"/>
                    </a:lnTo>
                    <a:lnTo>
                      <a:pt x="570965" y="1263554"/>
                    </a:lnTo>
                    <a:lnTo>
                      <a:pt x="570965" y="1882326"/>
                    </a:lnTo>
                    <a:lnTo>
                      <a:pt x="570965" y="2063655"/>
                    </a:lnTo>
                    <a:lnTo>
                      <a:pt x="570965" y="2511329"/>
                    </a:lnTo>
                    <a:lnTo>
                      <a:pt x="1742942" y="2511329"/>
                    </a:lnTo>
                    <a:lnTo>
                      <a:pt x="1742942" y="1882326"/>
                    </a:lnTo>
                    <a:lnTo>
                      <a:pt x="1175803" y="1882326"/>
                    </a:lnTo>
                    <a:lnTo>
                      <a:pt x="1175803" y="1263554"/>
                    </a:lnTo>
                    <a:lnTo>
                      <a:pt x="2322224" y="1263554"/>
                    </a:lnTo>
                    <a:lnTo>
                      <a:pt x="2322224" y="3112898"/>
                    </a:lnTo>
                    <a:lnTo>
                      <a:pt x="0" y="311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d4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任意多边形 57"/>
              <p:cNvSpPr/>
              <p:nvPr/>
            </p:nvSpPr>
            <p:spPr>
              <a:xfrm flipV="1" rot="16200000">
                <a:off x="943200" y="5164560"/>
                <a:ext cx="306000" cy="150480"/>
              </a:xfrm>
              <a:custGeom>
                <a:avLst/>
                <a:gdLst/>
                <a:ahLst/>
                <a:rect l="l" t="t" r="r" b="b"/>
                <a:pathLst>
                  <a:path w="6349429" h="3112898">
                    <a:moveTo>
                      <a:pt x="0" y="0"/>
                    </a:moveTo>
                    <a:lnTo>
                      <a:pt x="3463413" y="0"/>
                    </a:lnTo>
                    <a:lnTo>
                      <a:pt x="3465558" y="2492281"/>
                    </a:lnTo>
                    <a:lnTo>
                      <a:pt x="5180058" y="2492281"/>
                    </a:lnTo>
                    <a:lnTo>
                      <a:pt x="5784896" y="2492281"/>
                    </a:lnTo>
                    <a:lnTo>
                      <a:pt x="5784896" y="1849344"/>
                    </a:lnTo>
                    <a:lnTo>
                      <a:pt x="5784896" y="1230572"/>
                    </a:lnTo>
                    <a:lnTo>
                      <a:pt x="5784896" y="1049243"/>
                    </a:lnTo>
                    <a:lnTo>
                      <a:pt x="5784896" y="601569"/>
                    </a:lnTo>
                    <a:lnTo>
                      <a:pt x="4612919" y="601569"/>
                    </a:lnTo>
                    <a:lnTo>
                      <a:pt x="4612919" y="1230572"/>
                    </a:lnTo>
                    <a:lnTo>
                      <a:pt x="5180058" y="1230572"/>
                    </a:lnTo>
                    <a:lnTo>
                      <a:pt x="5180058" y="1849344"/>
                    </a:lnTo>
                    <a:lnTo>
                      <a:pt x="4033637" y="1849344"/>
                    </a:lnTo>
                    <a:lnTo>
                      <a:pt x="4033637" y="0"/>
                    </a:lnTo>
                    <a:lnTo>
                      <a:pt x="6349429" y="0"/>
                    </a:lnTo>
                    <a:lnTo>
                      <a:pt x="6349429" y="3112898"/>
                    </a:lnTo>
                    <a:lnTo>
                      <a:pt x="2892448" y="3112898"/>
                    </a:lnTo>
                    <a:lnTo>
                      <a:pt x="2890303" y="1073679"/>
                    </a:lnTo>
                    <a:lnTo>
                      <a:pt x="2890303" y="620617"/>
                    </a:lnTo>
                    <a:lnTo>
                      <a:pt x="1175803" y="620617"/>
                    </a:lnTo>
                    <a:lnTo>
                      <a:pt x="570965" y="620617"/>
                    </a:lnTo>
                    <a:lnTo>
                      <a:pt x="570965" y="1263554"/>
                    </a:lnTo>
                    <a:lnTo>
                      <a:pt x="570965" y="1882326"/>
                    </a:lnTo>
                    <a:lnTo>
                      <a:pt x="570965" y="2063655"/>
                    </a:lnTo>
                    <a:lnTo>
                      <a:pt x="570965" y="2511329"/>
                    </a:lnTo>
                    <a:lnTo>
                      <a:pt x="1742942" y="2511329"/>
                    </a:lnTo>
                    <a:lnTo>
                      <a:pt x="1742942" y="1882326"/>
                    </a:lnTo>
                    <a:lnTo>
                      <a:pt x="1175803" y="1882326"/>
                    </a:lnTo>
                    <a:lnTo>
                      <a:pt x="1175803" y="1263554"/>
                    </a:lnTo>
                    <a:lnTo>
                      <a:pt x="2322224" y="1263554"/>
                    </a:lnTo>
                    <a:lnTo>
                      <a:pt x="2322224" y="3112898"/>
                    </a:lnTo>
                    <a:lnTo>
                      <a:pt x="0" y="311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d4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564040" y="1482840"/>
              <a:ext cx="467640" cy="482040"/>
              <a:chOff x="8564040" y="1482840"/>
              <a:chExt cx="467640" cy="482040"/>
            </a:xfrm>
          </p:grpSpPr>
          <p:sp>
            <p:nvSpPr>
              <p:cNvPr id="183" name="任意多边形 54"/>
              <p:cNvSpPr/>
              <p:nvPr/>
            </p:nvSpPr>
            <p:spPr>
              <a:xfrm flipV="1" rot="10800000">
                <a:off x="8564040" y="1482840"/>
                <a:ext cx="306720" cy="150480"/>
              </a:xfrm>
              <a:custGeom>
                <a:avLst/>
                <a:gdLst/>
                <a:ahLst/>
                <a:rect l="l" t="t" r="r" b="b"/>
                <a:pathLst>
                  <a:path w="6349429" h="3112898">
                    <a:moveTo>
                      <a:pt x="0" y="0"/>
                    </a:moveTo>
                    <a:lnTo>
                      <a:pt x="3463413" y="0"/>
                    </a:lnTo>
                    <a:lnTo>
                      <a:pt x="3465558" y="2492281"/>
                    </a:lnTo>
                    <a:lnTo>
                      <a:pt x="5180058" y="2492281"/>
                    </a:lnTo>
                    <a:lnTo>
                      <a:pt x="5784896" y="2492281"/>
                    </a:lnTo>
                    <a:lnTo>
                      <a:pt x="5784896" y="1849344"/>
                    </a:lnTo>
                    <a:lnTo>
                      <a:pt x="5784896" y="1230572"/>
                    </a:lnTo>
                    <a:lnTo>
                      <a:pt x="5784896" y="1049243"/>
                    </a:lnTo>
                    <a:lnTo>
                      <a:pt x="5784896" y="601569"/>
                    </a:lnTo>
                    <a:lnTo>
                      <a:pt x="4612919" y="601569"/>
                    </a:lnTo>
                    <a:lnTo>
                      <a:pt x="4612919" y="1230572"/>
                    </a:lnTo>
                    <a:lnTo>
                      <a:pt x="5180058" y="1230572"/>
                    </a:lnTo>
                    <a:lnTo>
                      <a:pt x="5180058" y="1849344"/>
                    </a:lnTo>
                    <a:lnTo>
                      <a:pt x="4033637" y="1849344"/>
                    </a:lnTo>
                    <a:lnTo>
                      <a:pt x="4033637" y="0"/>
                    </a:lnTo>
                    <a:lnTo>
                      <a:pt x="6349429" y="0"/>
                    </a:lnTo>
                    <a:lnTo>
                      <a:pt x="6349429" y="3112898"/>
                    </a:lnTo>
                    <a:lnTo>
                      <a:pt x="2892448" y="3112898"/>
                    </a:lnTo>
                    <a:lnTo>
                      <a:pt x="2890303" y="1073679"/>
                    </a:lnTo>
                    <a:lnTo>
                      <a:pt x="2890303" y="620617"/>
                    </a:lnTo>
                    <a:lnTo>
                      <a:pt x="1175803" y="620617"/>
                    </a:lnTo>
                    <a:lnTo>
                      <a:pt x="570965" y="620617"/>
                    </a:lnTo>
                    <a:lnTo>
                      <a:pt x="570965" y="1263554"/>
                    </a:lnTo>
                    <a:lnTo>
                      <a:pt x="570965" y="1882326"/>
                    </a:lnTo>
                    <a:lnTo>
                      <a:pt x="570965" y="2063655"/>
                    </a:lnTo>
                    <a:lnTo>
                      <a:pt x="570965" y="2511329"/>
                    </a:lnTo>
                    <a:lnTo>
                      <a:pt x="1742942" y="2511329"/>
                    </a:lnTo>
                    <a:lnTo>
                      <a:pt x="1742942" y="1882326"/>
                    </a:lnTo>
                    <a:lnTo>
                      <a:pt x="1175803" y="1882326"/>
                    </a:lnTo>
                    <a:lnTo>
                      <a:pt x="1175803" y="1263554"/>
                    </a:lnTo>
                    <a:lnTo>
                      <a:pt x="2322224" y="1263554"/>
                    </a:lnTo>
                    <a:lnTo>
                      <a:pt x="2322224" y="3112898"/>
                    </a:lnTo>
                    <a:lnTo>
                      <a:pt x="0" y="311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d4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任意多边形 55"/>
              <p:cNvSpPr/>
              <p:nvPr/>
            </p:nvSpPr>
            <p:spPr>
              <a:xfrm flipV="1" rot="5400000">
                <a:off x="8803080" y="1736280"/>
                <a:ext cx="306000" cy="150840"/>
              </a:xfrm>
              <a:custGeom>
                <a:avLst/>
                <a:gdLst/>
                <a:ahLst/>
                <a:rect l="l" t="t" r="r" b="b"/>
                <a:pathLst>
                  <a:path w="6349429" h="3112898">
                    <a:moveTo>
                      <a:pt x="0" y="0"/>
                    </a:moveTo>
                    <a:lnTo>
                      <a:pt x="3463413" y="0"/>
                    </a:lnTo>
                    <a:lnTo>
                      <a:pt x="3465558" y="2492281"/>
                    </a:lnTo>
                    <a:lnTo>
                      <a:pt x="5180058" y="2492281"/>
                    </a:lnTo>
                    <a:lnTo>
                      <a:pt x="5784896" y="2492281"/>
                    </a:lnTo>
                    <a:lnTo>
                      <a:pt x="5784896" y="1849344"/>
                    </a:lnTo>
                    <a:lnTo>
                      <a:pt x="5784896" y="1230572"/>
                    </a:lnTo>
                    <a:lnTo>
                      <a:pt x="5784896" y="1049243"/>
                    </a:lnTo>
                    <a:lnTo>
                      <a:pt x="5784896" y="601569"/>
                    </a:lnTo>
                    <a:lnTo>
                      <a:pt x="4612919" y="601569"/>
                    </a:lnTo>
                    <a:lnTo>
                      <a:pt x="4612919" y="1230572"/>
                    </a:lnTo>
                    <a:lnTo>
                      <a:pt x="5180058" y="1230572"/>
                    </a:lnTo>
                    <a:lnTo>
                      <a:pt x="5180058" y="1849344"/>
                    </a:lnTo>
                    <a:lnTo>
                      <a:pt x="4033637" y="1849344"/>
                    </a:lnTo>
                    <a:lnTo>
                      <a:pt x="4033637" y="0"/>
                    </a:lnTo>
                    <a:lnTo>
                      <a:pt x="6349429" y="0"/>
                    </a:lnTo>
                    <a:lnTo>
                      <a:pt x="6349429" y="3112898"/>
                    </a:lnTo>
                    <a:lnTo>
                      <a:pt x="2892448" y="3112898"/>
                    </a:lnTo>
                    <a:lnTo>
                      <a:pt x="2890303" y="1073679"/>
                    </a:lnTo>
                    <a:lnTo>
                      <a:pt x="2890303" y="620617"/>
                    </a:lnTo>
                    <a:lnTo>
                      <a:pt x="1175803" y="620617"/>
                    </a:lnTo>
                    <a:lnTo>
                      <a:pt x="570965" y="620617"/>
                    </a:lnTo>
                    <a:lnTo>
                      <a:pt x="570965" y="1263554"/>
                    </a:lnTo>
                    <a:lnTo>
                      <a:pt x="570965" y="1882326"/>
                    </a:lnTo>
                    <a:lnTo>
                      <a:pt x="570965" y="2063655"/>
                    </a:lnTo>
                    <a:lnTo>
                      <a:pt x="570965" y="2511329"/>
                    </a:lnTo>
                    <a:lnTo>
                      <a:pt x="1742942" y="2511329"/>
                    </a:lnTo>
                    <a:lnTo>
                      <a:pt x="1742942" y="1882326"/>
                    </a:lnTo>
                    <a:lnTo>
                      <a:pt x="1175803" y="1882326"/>
                    </a:lnTo>
                    <a:lnTo>
                      <a:pt x="1175803" y="1263554"/>
                    </a:lnTo>
                    <a:lnTo>
                      <a:pt x="2322224" y="1263554"/>
                    </a:lnTo>
                    <a:lnTo>
                      <a:pt x="2322224" y="3112898"/>
                    </a:lnTo>
                    <a:lnTo>
                      <a:pt x="0" y="311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d4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文本框 58"/>
          <p:cNvSpPr/>
          <p:nvPr/>
        </p:nvSpPr>
        <p:spPr>
          <a:xfrm>
            <a:off x="1427040" y="2770200"/>
            <a:ext cx="56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朝一日同風起，青雲直上九萬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4"/>
          <p:cNvSpPr/>
          <p:nvPr/>
        </p:nvSpPr>
        <p:spPr>
          <a:xfrm>
            <a:off x="1919160" y="37353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夫九萬里，則風斯在下矣，而後乃今培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21" descr=""/>
          <p:cNvPicPr/>
          <p:nvPr/>
        </p:nvPicPr>
        <p:blipFill>
          <a:blip r:embed="rId3"/>
          <a:stretch/>
        </p:blipFill>
        <p:spPr>
          <a:xfrm rot="198000">
            <a:off x="9788040" y="1392120"/>
            <a:ext cx="1285920" cy="12193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22" descr=""/>
          <p:cNvPicPr/>
          <p:nvPr/>
        </p:nvPicPr>
        <p:blipFill>
          <a:blip r:embed="rId4"/>
          <a:stretch/>
        </p:blipFill>
        <p:spPr>
          <a:xfrm>
            <a:off x="10212480" y="2427120"/>
            <a:ext cx="1363680" cy="107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12185640" cy="6861240"/>
          </a:xfrm>
          <a:prstGeom prst="rect">
            <a:avLst/>
          </a:prstGeom>
          <a:ln w="0">
            <a:noFill/>
          </a:ln>
        </p:spPr>
      </p:pic>
      <p:sp>
        <p:nvSpPr>
          <p:cNvPr id="190" name="任意多边形 159"/>
          <p:cNvSpPr/>
          <p:nvPr/>
        </p:nvSpPr>
        <p:spPr>
          <a:xfrm flipH="1" rot="16200000">
            <a:off x="6883200" y="2857320"/>
            <a:ext cx="4380120" cy="154080"/>
          </a:xfrm>
          <a:custGeom>
            <a:avLst/>
            <a:gdLst/>
            <a:ahLst/>
            <a:rect l="l" t="t" r="r" b="b"/>
            <a:pathLst>
              <a:path w="4380522" h="153058">
                <a:moveTo>
                  <a:pt x="0" y="0"/>
                </a:moveTo>
                <a:lnTo>
                  <a:pt x="0" y="21691"/>
                </a:lnTo>
                <a:lnTo>
                  <a:pt x="94062" y="21691"/>
                </a:lnTo>
                <a:lnTo>
                  <a:pt x="100018" y="21691"/>
                </a:lnTo>
                <a:lnTo>
                  <a:pt x="109454" y="21691"/>
                </a:lnTo>
                <a:lnTo>
                  <a:pt x="109454" y="113982"/>
                </a:lnTo>
                <a:lnTo>
                  <a:pt x="109454" y="121009"/>
                </a:lnTo>
                <a:lnTo>
                  <a:pt x="109454" y="129019"/>
                </a:lnTo>
                <a:lnTo>
                  <a:pt x="38393" y="129019"/>
                </a:lnTo>
                <a:lnTo>
                  <a:pt x="30962" y="129019"/>
                </a:lnTo>
                <a:lnTo>
                  <a:pt x="21350" y="129019"/>
                </a:lnTo>
                <a:lnTo>
                  <a:pt x="21350" y="74471"/>
                </a:lnTo>
                <a:lnTo>
                  <a:pt x="21350" y="70343"/>
                </a:lnTo>
                <a:lnTo>
                  <a:pt x="21350" y="59374"/>
                </a:lnTo>
                <a:lnTo>
                  <a:pt x="57205" y="59374"/>
                </a:lnTo>
                <a:lnTo>
                  <a:pt x="63023" y="59374"/>
                </a:lnTo>
                <a:lnTo>
                  <a:pt x="72301" y="59374"/>
                </a:lnTo>
                <a:lnTo>
                  <a:pt x="72301" y="92870"/>
                </a:lnTo>
                <a:lnTo>
                  <a:pt x="57205" y="92870"/>
                </a:lnTo>
                <a:lnTo>
                  <a:pt x="57205" y="74471"/>
                </a:lnTo>
                <a:lnTo>
                  <a:pt x="38393" y="74471"/>
                </a:lnTo>
                <a:lnTo>
                  <a:pt x="38393" y="113982"/>
                </a:lnTo>
                <a:lnTo>
                  <a:pt x="94062" y="113982"/>
                </a:lnTo>
                <a:lnTo>
                  <a:pt x="94062" y="37361"/>
                </a:lnTo>
                <a:lnTo>
                  <a:pt x="356" y="37361"/>
                </a:lnTo>
                <a:lnTo>
                  <a:pt x="356" y="151498"/>
                </a:lnTo>
                <a:lnTo>
                  <a:pt x="129451" y="151498"/>
                </a:lnTo>
                <a:lnTo>
                  <a:pt x="129700" y="151498"/>
                </a:lnTo>
                <a:lnTo>
                  <a:pt x="276487" y="151498"/>
                </a:lnTo>
                <a:lnTo>
                  <a:pt x="276487" y="22131"/>
                </a:lnTo>
                <a:lnTo>
                  <a:pt x="387024" y="22131"/>
                </a:lnTo>
                <a:lnTo>
                  <a:pt x="392979" y="22131"/>
                </a:lnTo>
                <a:lnTo>
                  <a:pt x="402415" y="22131"/>
                </a:lnTo>
                <a:lnTo>
                  <a:pt x="402415" y="114421"/>
                </a:lnTo>
                <a:lnTo>
                  <a:pt x="402415" y="121449"/>
                </a:lnTo>
                <a:lnTo>
                  <a:pt x="402415" y="129459"/>
                </a:lnTo>
                <a:lnTo>
                  <a:pt x="331354" y="129459"/>
                </a:lnTo>
                <a:lnTo>
                  <a:pt x="323924" y="129459"/>
                </a:lnTo>
                <a:lnTo>
                  <a:pt x="314312" y="129459"/>
                </a:lnTo>
                <a:lnTo>
                  <a:pt x="314312" y="74910"/>
                </a:lnTo>
                <a:lnTo>
                  <a:pt x="314312" y="70782"/>
                </a:lnTo>
                <a:lnTo>
                  <a:pt x="314312" y="59814"/>
                </a:lnTo>
                <a:lnTo>
                  <a:pt x="350166" y="59814"/>
                </a:lnTo>
                <a:lnTo>
                  <a:pt x="355985" y="59814"/>
                </a:lnTo>
                <a:lnTo>
                  <a:pt x="365263" y="59814"/>
                </a:lnTo>
                <a:lnTo>
                  <a:pt x="365263" y="93309"/>
                </a:lnTo>
                <a:lnTo>
                  <a:pt x="350166" y="93309"/>
                </a:lnTo>
                <a:lnTo>
                  <a:pt x="350166" y="74910"/>
                </a:lnTo>
                <a:lnTo>
                  <a:pt x="331354" y="74910"/>
                </a:lnTo>
                <a:lnTo>
                  <a:pt x="331354" y="114421"/>
                </a:lnTo>
                <a:lnTo>
                  <a:pt x="387024" y="114421"/>
                </a:lnTo>
                <a:lnTo>
                  <a:pt x="387024" y="37801"/>
                </a:lnTo>
                <a:lnTo>
                  <a:pt x="293318" y="37801"/>
                </a:lnTo>
                <a:lnTo>
                  <a:pt x="293318" y="151938"/>
                </a:lnTo>
                <a:lnTo>
                  <a:pt x="422413" y="151938"/>
                </a:lnTo>
                <a:lnTo>
                  <a:pt x="422662" y="151938"/>
                </a:lnTo>
                <a:lnTo>
                  <a:pt x="569448" y="151938"/>
                </a:lnTo>
                <a:lnTo>
                  <a:pt x="569448" y="22131"/>
                </a:lnTo>
                <a:lnTo>
                  <a:pt x="680846" y="22131"/>
                </a:lnTo>
                <a:lnTo>
                  <a:pt x="686801" y="22131"/>
                </a:lnTo>
                <a:lnTo>
                  <a:pt x="696237" y="22131"/>
                </a:lnTo>
                <a:lnTo>
                  <a:pt x="696237" y="114421"/>
                </a:lnTo>
                <a:lnTo>
                  <a:pt x="696237" y="121449"/>
                </a:lnTo>
                <a:lnTo>
                  <a:pt x="696237" y="129459"/>
                </a:lnTo>
                <a:lnTo>
                  <a:pt x="625176" y="129459"/>
                </a:lnTo>
                <a:lnTo>
                  <a:pt x="617746" y="129459"/>
                </a:lnTo>
                <a:lnTo>
                  <a:pt x="608133" y="129459"/>
                </a:lnTo>
                <a:lnTo>
                  <a:pt x="608133" y="74910"/>
                </a:lnTo>
                <a:lnTo>
                  <a:pt x="608133" y="70782"/>
                </a:lnTo>
                <a:lnTo>
                  <a:pt x="608133" y="59814"/>
                </a:lnTo>
                <a:lnTo>
                  <a:pt x="643988" y="59814"/>
                </a:lnTo>
                <a:lnTo>
                  <a:pt x="649807" y="59814"/>
                </a:lnTo>
                <a:lnTo>
                  <a:pt x="659085" y="59814"/>
                </a:lnTo>
                <a:lnTo>
                  <a:pt x="659085" y="93309"/>
                </a:lnTo>
                <a:lnTo>
                  <a:pt x="643988" y="93309"/>
                </a:lnTo>
                <a:lnTo>
                  <a:pt x="643988" y="74910"/>
                </a:lnTo>
                <a:lnTo>
                  <a:pt x="625176" y="74910"/>
                </a:lnTo>
                <a:lnTo>
                  <a:pt x="625176" y="114421"/>
                </a:lnTo>
                <a:lnTo>
                  <a:pt x="680846" y="114421"/>
                </a:lnTo>
                <a:lnTo>
                  <a:pt x="680846" y="37801"/>
                </a:lnTo>
                <a:lnTo>
                  <a:pt x="587140" y="37801"/>
                </a:lnTo>
                <a:lnTo>
                  <a:pt x="587140" y="151938"/>
                </a:lnTo>
                <a:lnTo>
                  <a:pt x="716235" y="151938"/>
                </a:lnTo>
                <a:lnTo>
                  <a:pt x="716484" y="151938"/>
                </a:lnTo>
                <a:lnTo>
                  <a:pt x="863270" y="151938"/>
                </a:lnTo>
                <a:lnTo>
                  <a:pt x="863270" y="22691"/>
                </a:lnTo>
                <a:lnTo>
                  <a:pt x="973805" y="22691"/>
                </a:lnTo>
                <a:lnTo>
                  <a:pt x="979761" y="22691"/>
                </a:lnTo>
                <a:lnTo>
                  <a:pt x="989197" y="22691"/>
                </a:lnTo>
                <a:lnTo>
                  <a:pt x="989197" y="114981"/>
                </a:lnTo>
                <a:lnTo>
                  <a:pt x="989197" y="122009"/>
                </a:lnTo>
                <a:lnTo>
                  <a:pt x="989197" y="130019"/>
                </a:lnTo>
                <a:lnTo>
                  <a:pt x="918136" y="130019"/>
                </a:lnTo>
                <a:lnTo>
                  <a:pt x="910706" y="130019"/>
                </a:lnTo>
                <a:lnTo>
                  <a:pt x="901094" y="130019"/>
                </a:lnTo>
                <a:lnTo>
                  <a:pt x="901094" y="75470"/>
                </a:lnTo>
                <a:lnTo>
                  <a:pt x="901094" y="71342"/>
                </a:lnTo>
                <a:lnTo>
                  <a:pt x="901094" y="60374"/>
                </a:lnTo>
                <a:lnTo>
                  <a:pt x="936948" y="60374"/>
                </a:lnTo>
                <a:lnTo>
                  <a:pt x="942767" y="60374"/>
                </a:lnTo>
                <a:lnTo>
                  <a:pt x="952045" y="60374"/>
                </a:lnTo>
                <a:lnTo>
                  <a:pt x="952045" y="93869"/>
                </a:lnTo>
                <a:lnTo>
                  <a:pt x="936948" y="93869"/>
                </a:lnTo>
                <a:lnTo>
                  <a:pt x="936948" y="75470"/>
                </a:lnTo>
                <a:lnTo>
                  <a:pt x="918136" y="75470"/>
                </a:lnTo>
                <a:lnTo>
                  <a:pt x="918136" y="114981"/>
                </a:lnTo>
                <a:lnTo>
                  <a:pt x="973805" y="114981"/>
                </a:lnTo>
                <a:lnTo>
                  <a:pt x="973805" y="38361"/>
                </a:lnTo>
                <a:lnTo>
                  <a:pt x="880099" y="38361"/>
                </a:lnTo>
                <a:lnTo>
                  <a:pt x="880099" y="152498"/>
                </a:lnTo>
                <a:lnTo>
                  <a:pt x="1009195" y="152498"/>
                </a:lnTo>
                <a:lnTo>
                  <a:pt x="1009444" y="152498"/>
                </a:lnTo>
                <a:lnTo>
                  <a:pt x="1156230" y="152498"/>
                </a:lnTo>
                <a:lnTo>
                  <a:pt x="1156230" y="22415"/>
                </a:lnTo>
                <a:lnTo>
                  <a:pt x="1266767" y="22415"/>
                </a:lnTo>
                <a:lnTo>
                  <a:pt x="1272723" y="22415"/>
                </a:lnTo>
                <a:lnTo>
                  <a:pt x="1282159" y="22415"/>
                </a:lnTo>
                <a:lnTo>
                  <a:pt x="1282159" y="114705"/>
                </a:lnTo>
                <a:lnTo>
                  <a:pt x="1282159" y="121733"/>
                </a:lnTo>
                <a:lnTo>
                  <a:pt x="1282159" y="129743"/>
                </a:lnTo>
                <a:lnTo>
                  <a:pt x="1211098" y="129743"/>
                </a:lnTo>
                <a:lnTo>
                  <a:pt x="1203668" y="129743"/>
                </a:lnTo>
                <a:lnTo>
                  <a:pt x="1194055" y="129743"/>
                </a:lnTo>
                <a:lnTo>
                  <a:pt x="1194055" y="75194"/>
                </a:lnTo>
                <a:lnTo>
                  <a:pt x="1194055" y="71066"/>
                </a:lnTo>
                <a:lnTo>
                  <a:pt x="1194055" y="60098"/>
                </a:lnTo>
                <a:lnTo>
                  <a:pt x="1229910" y="60098"/>
                </a:lnTo>
                <a:lnTo>
                  <a:pt x="1235729" y="60098"/>
                </a:lnTo>
                <a:lnTo>
                  <a:pt x="1245007" y="60098"/>
                </a:lnTo>
                <a:lnTo>
                  <a:pt x="1245007" y="93593"/>
                </a:lnTo>
                <a:lnTo>
                  <a:pt x="1229910" y="93593"/>
                </a:lnTo>
                <a:lnTo>
                  <a:pt x="1229910" y="75194"/>
                </a:lnTo>
                <a:lnTo>
                  <a:pt x="1211098" y="75194"/>
                </a:lnTo>
                <a:lnTo>
                  <a:pt x="1211098" y="114705"/>
                </a:lnTo>
                <a:lnTo>
                  <a:pt x="1266767" y="114705"/>
                </a:lnTo>
                <a:lnTo>
                  <a:pt x="1266767" y="38085"/>
                </a:lnTo>
                <a:lnTo>
                  <a:pt x="1173062" y="38085"/>
                </a:lnTo>
                <a:lnTo>
                  <a:pt x="1173062" y="152222"/>
                </a:lnTo>
                <a:lnTo>
                  <a:pt x="1302157" y="152222"/>
                </a:lnTo>
                <a:lnTo>
                  <a:pt x="1302406" y="152222"/>
                </a:lnTo>
                <a:lnTo>
                  <a:pt x="1449192" y="152222"/>
                </a:lnTo>
                <a:lnTo>
                  <a:pt x="1449192" y="22415"/>
                </a:lnTo>
                <a:lnTo>
                  <a:pt x="1559727" y="22415"/>
                </a:lnTo>
                <a:lnTo>
                  <a:pt x="1565683" y="22415"/>
                </a:lnTo>
                <a:lnTo>
                  <a:pt x="1575119" y="22415"/>
                </a:lnTo>
                <a:lnTo>
                  <a:pt x="1575119" y="114705"/>
                </a:lnTo>
                <a:lnTo>
                  <a:pt x="1575119" y="121733"/>
                </a:lnTo>
                <a:lnTo>
                  <a:pt x="1575119" y="129743"/>
                </a:lnTo>
                <a:lnTo>
                  <a:pt x="1504058" y="129743"/>
                </a:lnTo>
                <a:lnTo>
                  <a:pt x="1496628" y="129743"/>
                </a:lnTo>
                <a:lnTo>
                  <a:pt x="1487015" y="129743"/>
                </a:lnTo>
                <a:lnTo>
                  <a:pt x="1487015" y="75194"/>
                </a:lnTo>
                <a:lnTo>
                  <a:pt x="1487015" y="71066"/>
                </a:lnTo>
                <a:lnTo>
                  <a:pt x="1487015" y="60098"/>
                </a:lnTo>
                <a:lnTo>
                  <a:pt x="1522870" y="60098"/>
                </a:lnTo>
                <a:lnTo>
                  <a:pt x="1528689" y="60098"/>
                </a:lnTo>
                <a:lnTo>
                  <a:pt x="1537967" y="60098"/>
                </a:lnTo>
                <a:lnTo>
                  <a:pt x="1537967" y="93593"/>
                </a:lnTo>
                <a:lnTo>
                  <a:pt x="1522870" y="93593"/>
                </a:lnTo>
                <a:lnTo>
                  <a:pt x="1522870" y="75194"/>
                </a:lnTo>
                <a:lnTo>
                  <a:pt x="1504058" y="75194"/>
                </a:lnTo>
                <a:lnTo>
                  <a:pt x="1504058" y="114705"/>
                </a:lnTo>
                <a:lnTo>
                  <a:pt x="1559727" y="114705"/>
                </a:lnTo>
                <a:lnTo>
                  <a:pt x="1559727" y="38085"/>
                </a:lnTo>
                <a:lnTo>
                  <a:pt x="1466021" y="38085"/>
                </a:lnTo>
                <a:lnTo>
                  <a:pt x="1466021" y="152222"/>
                </a:lnTo>
                <a:lnTo>
                  <a:pt x="1595117" y="152222"/>
                </a:lnTo>
                <a:lnTo>
                  <a:pt x="1595366" y="152222"/>
                </a:lnTo>
                <a:lnTo>
                  <a:pt x="1742152" y="152222"/>
                </a:lnTo>
                <a:lnTo>
                  <a:pt x="1742152" y="22415"/>
                </a:lnTo>
                <a:lnTo>
                  <a:pt x="1853549" y="22415"/>
                </a:lnTo>
                <a:lnTo>
                  <a:pt x="1859505" y="22415"/>
                </a:lnTo>
                <a:lnTo>
                  <a:pt x="1868941" y="22415"/>
                </a:lnTo>
                <a:lnTo>
                  <a:pt x="1868941" y="114705"/>
                </a:lnTo>
                <a:lnTo>
                  <a:pt x="1868941" y="121733"/>
                </a:lnTo>
                <a:lnTo>
                  <a:pt x="1868941" y="129743"/>
                </a:lnTo>
                <a:lnTo>
                  <a:pt x="1797880" y="129743"/>
                </a:lnTo>
                <a:lnTo>
                  <a:pt x="1790450" y="129743"/>
                </a:lnTo>
                <a:lnTo>
                  <a:pt x="1780837" y="129743"/>
                </a:lnTo>
                <a:lnTo>
                  <a:pt x="1780837" y="75194"/>
                </a:lnTo>
                <a:lnTo>
                  <a:pt x="1780837" y="71066"/>
                </a:lnTo>
                <a:lnTo>
                  <a:pt x="1780837" y="60098"/>
                </a:lnTo>
                <a:lnTo>
                  <a:pt x="1816692" y="60098"/>
                </a:lnTo>
                <a:lnTo>
                  <a:pt x="1822511" y="60098"/>
                </a:lnTo>
                <a:lnTo>
                  <a:pt x="1831789" y="60098"/>
                </a:lnTo>
                <a:lnTo>
                  <a:pt x="1831789" y="93593"/>
                </a:lnTo>
                <a:lnTo>
                  <a:pt x="1816692" y="93593"/>
                </a:lnTo>
                <a:lnTo>
                  <a:pt x="1816692" y="75194"/>
                </a:lnTo>
                <a:lnTo>
                  <a:pt x="1797880" y="75194"/>
                </a:lnTo>
                <a:lnTo>
                  <a:pt x="1797880" y="114705"/>
                </a:lnTo>
                <a:lnTo>
                  <a:pt x="1853549" y="114705"/>
                </a:lnTo>
                <a:lnTo>
                  <a:pt x="1853549" y="38085"/>
                </a:lnTo>
                <a:lnTo>
                  <a:pt x="1759843" y="38085"/>
                </a:lnTo>
                <a:lnTo>
                  <a:pt x="1759843" y="152222"/>
                </a:lnTo>
                <a:lnTo>
                  <a:pt x="1888939" y="152222"/>
                </a:lnTo>
                <a:lnTo>
                  <a:pt x="1889188" y="152222"/>
                </a:lnTo>
                <a:lnTo>
                  <a:pt x="2035974" y="152222"/>
                </a:lnTo>
                <a:lnTo>
                  <a:pt x="2035974" y="22975"/>
                </a:lnTo>
                <a:lnTo>
                  <a:pt x="2146510" y="22975"/>
                </a:lnTo>
                <a:lnTo>
                  <a:pt x="2152466" y="22975"/>
                </a:lnTo>
                <a:lnTo>
                  <a:pt x="2161902" y="22975"/>
                </a:lnTo>
                <a:lnTo>
                  <a:pt x="2161902" y="115265"/>
                </a:lnTo>
                <a:lnTo>
                  <a:pt x="2161902" y="122293"/>
                </a:lnTo>
                <a:lnTo>
                  <a:pt x="2161902" y="130303"/>
                </a:lnTo>
                <a:lnTo>
                  <a:pt x="2090841" y="130303"/>
                </a:lnTo>
                <a:lnTo>
                  <a:pt x="2083411" y="130303"/>
                </a:lnTo>
                <a:lnTo>
                  <a:pt x="2073798" y="130303"/>
                </a:lnTo>
                <a:lnTo>
                  <a:pt x="2073798" y="75754"/>
                </a:lnTo>
                <a:lnTo>
                  <a:pt x="2073798" y="71626"/>
                </a:lnTo>
                <a:lnTo>
                  <a:pt x="2073798" y="60658"/>
                </a:lnTo>
                <a:lnTo>
                  <a:pt x="2109653" y="60658"/>
                </a:lnTo>
                <a:lnTo>
                  <a:pt x="2115472" y="60658"/>
                </a:lnTo>
                <a:lnTo>
                  <a:pt x="2124750" y="60658"/>
                </a:lnTo>
                <a:lnTo>
                  <a:pt x="2124750" y="94153"/>
                </a:lnTo>
                <a:lnTo>
                  <a:pt x="2109653" y="94153"/>
                </a:lnTo>
                <a:lnTo>
                  <a:pt x="2109653" y="75754"/>
                </a:lnTo>
                <a:lnTo>
                  <a:pt x="2090841" y="75754"/>
                </a:lnTo>
                <a:lnTo>
                  <a:pt x="2090841" y="115265"/>
                </a:lnTo>
                <a:lnTo>
                  <a:pt x="2146510" y="115265"/>
                </a:lnTo>
                <a:lnTo>
                  <a:pt x="2146510" y="38645"/>
                </a:lnTo>
                <a:lnTo>
                  <a:pt x="2052804" y="38645"/>
                </a:lnTo>
                <a:lnTo>
                  <a:pt x="2052804" y="152782"/>
                </a:lnTo>
                <a:lnTo>
                  <a:pt x="2181900" y="152782"/>
                </a:lnTo>
                <a:lnTo>
                  <a:pt x="2182149" y="152782"/>
                </a:lnTo>
                <a:lnTo>
                  <a:pt x="2328935" y="152782"/>
                </a:lnTo>
                <a:lnTo>
                  <a:pt x="2328935" y="22691"/>
                </a:lnTo>
                <a:lnTo>
                  <a:pt x="2439471" y="22691"/>
                </a:lnTo>
                <a:lnTo>
                  <a:pt x="2445427" y="22691"/>
                </a:lnTo>
                <a:lnTo>
                  <a:pt x="2454863" y="22691"/>
                </a:lnTo>
                <a:lnTo>
                  <a:pt x="2454863" y="114981"/>
                </a:lnTo>
                <a:lnTo>
                  <a:pt x="2454863" y="122009"/>
                </a:lnTo>
                <a:lnTo>
                  <a:pt x="2454863" y="130019"/>
                </a:lnTo>
                <a:lnTo>
                  <a:pt x="2383802" y="130019"/>
                </a:lnTo>
                <a:lnTo>
                  <a:pt x="2376372" y="130019"/>
                </a:lnTo>
                <a:lnTo>
                  <a:pt x="2366759" y="130019"/>
                </a:lnTo>
                <a:lnTo>
                  <a:pt x="2366759" y="75470"/>
                </a:lnTo>
                <a:lnTo>
                  <a:pt x="2366759" y="71342"/>
                </a:lnTo>
                <a:lnTo>
                  <a:pt x="2366759" y="60374"/>
                </a:lnTo>
                <a:lnTo>
                  <a:pt x="2402614" y="60374"/>
                </a:lnTo>
                <a:lnTo>
                  <a:pt x="2408433" y="60374"/>
                </a:lnTo>
                <a:lnTo>
                  <a:pt x="2417711" y="60374"/>
                </a:lnTo>
                <a:lnTo>
                  <a:pt x="2417711" y="93869"/>
                </a:lnTo>
                <a:lnTo>
                  <a:pt x="2402614" y="93869"/>
                </a:lnTo>
                <a:lnTo>
                  <a:pt x="2402614" y="75470"/>
                </a:lnTo>
                <a:lnTo>
                  <a:pt x="2383802" y="75470"/>
                </a:lnTo>
                <a:lnTo>
                  <a:pt x="2383802" y="114981"/>
                </a:lnTo>
                <a:lnTo>
                  <a:pt x="2439471" y="114981"/>
                </a:lnTo>
                <a:lnTo>
                  <a:pt x="2439471" y="38361"/>
                </a:lnTo>
                <a:lnTo>
                  <a:pt x="2345765" y="38361"/>
                </a:lnTo>
                <a:lnTo>
                  <a:pt x="2345765" y="152498"/>
                </a:lnTo>
                <a:lnTo>
                  <a:pt x="2474861" y="152498"/>
                </a:lnTo>
                <a:lnTo>
                  <a:pt x="2475110" y="152498"/>
                </a:lnTo>
                <a:lnTo>
                  <a:pt x="2621896" y="152498"/>
                </a:lnTo>
                <a:lnTo>
                  <a:pt x="2621896" y="22691"/>
                </a:lnTo>
                <a:lnTo>
                  <a:pt x="2732432" y="22691"/>
                </a:lnTo>
                <a:lnTo>
                  <a:pt x="2738388" y="22691"/>
                </a:lnTo>
                <a:lnTo>
                  <a:pt x="2747824" y="22691"/>
                </a:lnTo>
                <a:lnTo>
                  <a:pt x="2747824" y="114981"/>
                </a:lnTo>
                <a:lnTo>
                  <a:pt x="2747824" y="122009"/>
                </a:lnTo>
                <a:lnTo>
                  <a:pt x="2747824" y="130019"/>
                </a:lnTo>
                <a:lnTo>
                  <a:pt x="2676763" y="130019"/>
                </a:lnTo>
                <a:lnTo>
                  <a:pt x="2669333" y="130019"/>
                </a:lnTo>
                <a:lnTo>
                  <a:pt x="2659720" y="130019"/>
                </a:lnTo>
                <a:lnTo>
                  <a:pt x="2659720" y="75470"/>
                </a:lnTo>
                <a:lnTo>
                  <a:pt x="2659720" y="71342"/>
                </a:lnTo>
                <a:lnTo>
                  <a:pt x="2659720" y="60374"/>
                </a:lnTo>
                <a:lnTo>
                  <a:pt x="2695575" y="60374"/>
                </a:lnTo>
                <a:lnTo>
                  <a:pt x="2701394" y="60374"/>
                </a:lnTo>
                <a:lnTo>
                  <a:pt x="2710672" y="60374"/>
                </a:lnTo>
                <a:lnTo>
                  <a:pt x="2710672" y="93869"/>
                </a:lnTo>
                <a:lnTo>
                  <a:pt x="2695575" y="93869"/>
                </a:lnTo>
                <a:lnTo>
                  <a:pt x="2695575" y="75470"/>
                </a:lnTo>
                <a:lnTo>
                  <a:pt x="2676763" y="75470"/>
                </a:lnTo>
                <a:lnTo>
                  <a:pt x="2676763" y="114981"/>
                </a:lnTo>
                <a:lnTo>
                  <a:pt x="2732432" y="114981"/>
                </a:lnTo>
                <a:lnTo>
                  <a:pt x="2732432" y="38361"/>
                </a:lnTo>
                <a:lnTo>
                  <a:pt x="2638726" y="38361"/>
                </a:lnTo>
                <a:lnTo>
                  <a:pt x="2638726" y="152498"/>
                </a:lnTo>
                <a:lnTo>
                  <a:pt x="2767822" y="152498"/>
                </a:lnTo>
                <a:lnTo>
                  <a:pt x="2768071" y="152498"/>
                </a:lnTo>
                <a:lnTo>
                  <a:pt x="2914857" y="152498"/>
                </a:lnTo>
                <a:lnTo>
                  <a:pt x="2914857" y="22691"/>
                </a:lnTo>
                <a:lnTo>
                  <a:pt x="3026254" y="22691"/>
                </a:lnTo>
                <a:lnTo>
                  <a:pt x="3032210" y="22691"/>
                </a:lnTo>
                <a:lnTo>
                  <a:pt x="3041646" y="22691"/>
                </a:lnTo>
                <a:lnTo>
                  <a:pt x="3041646" y="114981"/>
                </a:lnTo>
                <a:lnTo>
                  <a:pt x="3041646" y="122009"/>
                </a:lnTo>
                <a:lnTo>
                  <a:pt x="3041646" y="130019"/>
                </a:lnTo>
                <a:lnTo>
                  <a:pt x="2970585" y="130019"/>
                </a:lnTo>
                <a:lnTo>
                  <a:pt x="2963155" y="130019"/>
                </a:lnTo>
                <a:lnTo>
                  <a:pt x="2953542" y="130019"/>
                </a:lnTo>
                <a:lnTo>
                  <a:pt x="2953542" y="75470"/>
                </a:lnTo>
                <a:lnTo>
                  <a:pt x="2953542" y="71342"/>
                </a:lnTo>
                <a:lnTo>
                  <a:pt x="2953542" y="60374"/>
                </a:lnTo>
                <a:lnTo>
                  <a:pt x="2989397" y="60374"/>
                </a:lnTo>
                <a:lnTo>
                  <a:pt x="2995216" y="60374"/>
                </a:lnTo>
                <a:lnTo>
                  <a:pt x="3004494" y="60374"/>
                </a:lnTo>
                <a:lnTo>
                  <a:pt x="3004494" y="93869"/>
                </a:lnTo>
                <a:lnTo>
                  <a:pt x="2989397" y="93869"/>
                </a:lnTo>
                <a:lnTo>
                  <a:pt x="2989397" y="75470"/>
                </a:lnTo>
                <a:lnTo>
                  <a:pt x="2970585" y="75470"/>
                </a:lnTo>
                <a:lnTo>
                  <a:pt x="2970585" y="114981"/>
                </a:lnTo>
                <a:lnTo>
                  <a:pt x="3026254" y="114981"/>
                </a:lnTo>
                <a:lnTo>
                  <a:pt x="3026254" y="38361"/>
                </a:lnTo>
                <a:lnTo>
                  <a:pt x="2932548" y="38361"/>
                </a:lnTo>
                <a:lnTo>
                  <a:pt x="2932548" y="152498"/>
                </a:lnTo>
                <a:lnTo>
                  <a:pt x="3061644" y="152498"/>
                </a:lnTo>
                <a:lnTo>
                  <a:pt x="3061893" y="152498"/>
                </a:lnTo>
                <a:lnTo>
                  <a:pt x="3208679" y="152498"/>
                </a:lnTo>
                <a:lnTo>
                  <a:pt x="3208679" y="23251"/>
                </a:lnTo>
                <a:lnTo>
                  <a:pt x="3319214" y="23251"/>
                </a:lnTo>
                <a:lnTo>
                  <a:pt x="3325170" y="23251"/>
                </a:lnTo>
                <a:lnTo>
                  <a:pt x="3334606" y="23251"/>
                </a:lnTo>
                <a:lnTo>
                  <a:pt x="3334606" y="115541"/>
                </a:lnTo>
                <a:lnTo>
                  <a:pt x="3334606" y="122569"/>
                </a:lnTo>
                <a:lnTo>
                  <a:pt x="3334606" y="130579"/>
                </a:lnTo>
                <a:lnTo>
                  <a:pt x="3263545" y="130579"/>
                </a:lnTo>
                <a:lnTo>
                  <a:pt x="3256115" y="130579"/>
                </a:lnTo>
                <a:lnTo>
                  <a:pt x="3246502" y="130579"/>
                </a:lnTo>
                <a:lnTo>
                  <a:pt x="3246502" y="76030"/>
                </a:lnTo>
                <a:lnTo>
                  <a:pt x="3246502" y="71902"/>
                </a:lnTo>
                <a:lnTo>
                  <a:pt x="3246502" y="60934"/>
                </a:lnTo>
                <a:lnTo>
                  <a:pt x="3282357" y="60934"/>
                </a:lnTo>
                <a:lnTo>
                  <a:pt x="3288176" y="60934"/>
                </a:lnTo>
                <a:lnTo>
                  <a:pt x="3297454" y="60934"/>
                </a:lnTo>
                <a:lnTo>
                  <a:pt x="3297454" y="94429"/>
                </a:lnTo>
                <a:lnTo>
                  <a:pt x="3282357" y="94429"/>
                </a:lnTo>
                <a:lnTo>
                  <a:pt x="3282357" y="76030"/>
                </a:lnTo>
                <a:lnTo>
                  <a:pt x="3263545" y="76030"/>
                </a:lnTo>
                <a:lnTo>
                  <a:pt x="3263545" y="115541"/>
                </a:lnTo>
                <a:lnTo>
                  <a:pt x="3319214" y="115541"/>
                </a:lnTo>
                <a:lnTo>
                  <a:pt x="3319214" y="38921"/>
                </a:lnTo>
                <a:lnTo>
                  <a:pt x="3225508" y="38921"/>
                </a:lnTo>
                <a:lnTo>
                  <a:pt x="3225508" y="153058"/>
                </a:lnTo>
                <a:lnTo>
                  <a:pt x="3354604" y="153058"/>
                </a:lnTo>
                <a:lnTo>
                  <a:pt x="3354853" y="153058"/>
                </a:lnTo>
                <a:lnTo>
                  <a:pt x="3501639" y="153058"/>
                </a:lnTo>
                <a:lnTo>
                  <a:pt x="3501639" y="22131"/>
                </a:lnTo>
                <a:lnTo>
                  <a:pt x="3611315" y="22131"/>
                </a:lnTo>
                <a:lnTo>
                  <a:pt x="3617271" y="22131"/>
                </a:lnTo>
                <a:lnTo>
                  <a:pt x="3626707" y="22131"/>
                </a:lnTo>
                <a:lnTo>
                  <a:pt x="3626707" y="114421"/>
                </a:lnTo>
                <a:lnTo>
                  <a:pt x="3626707" y="121449"/>
                </a:lnTo>
                <a:lnTo>
                  <a:pt x="3626707" y="129459"/>
                </a:lnTo>
                <a:lnTo>
                  <a:pt x="3555646" y="129459"/>
                </a:lnTo>
                <a:lnTo>
                  <a:pt x="3548216" y="129459"/>
                </a:lnTo>
                <a:lnTo>
                  <a:pt x="3538603" y="129459"/>
                </a:lnTo>
                <a:lnTo>
                  <a:pt x="3538603" y="74910"/>
                </a:lnTo>
                <a:lnTo>
                  <a:pt x="3538603" y="70782"/>
                </a:lnTo>
                <a:lnTo>
                  <a:pt x="3538603" y="59814"/>
                </a:lnTo>
                <a:lnTo>
                  <a:pt x="3574458" y="59814"/>
                </a:lnTo>
                <a:lnTo>
                  <a:pt x="3580277" y="59814"/>
                </a:lnTo>
                <a:lnTo>
                  <a:pt x="3589555" y="59814"/>
                </a:lnTo>
                <a:lnTo>
                  <a:pt x="3589555" y="93309"/>
                </a:lnTo>
                <a:lnTo>
                  <a:pt x="3574458" y="93309"/>
                </a:lnTo>
                <a:lnTo>
                  <a:pt x="3574458" y="74910"/>
                </a:lnTo>
                <a:lnTo>
                  <a:pt x="3555646" y="74910"/>
                </a:lnTo>
                <a:lnTo>
                  <a:pt x="3555646" y="114421"/>
                </a:lnTo>
                <a:lnTo>
                  <a:pt x="3611315" y="114421"/>
                </a:lnTo>
                <a:lnTo>
                  <a:pt x="3611315" y="37801"/>
                </a:lnTo>
                <a:lnTo>
                  <a:pt x="3517610" y="37801"/>
                </a:lnTo>
                <a:lnTo>
                  <a:pt x="3517610" y="151938"/>
                </a:lnTo>
                <a:lnTo>
                  <a:pt x="3646705" y="151938"/>
                </a:lnTo>
                <a:lnTo>
                  <a:pt x="3646954" y="151938"/>
                </a:lnTo>
                <a:lnTo>
                  <a:pt x="3793740" y="151938"/>
                </a:lnTo>
                <a:lnTo>
                  <a:pt x="3793740" y="22131"/>
                </a:lnTo>
                <a:lnTo>
                  <a:pt x="3904276" y="22131"/>
                </a:lnTo>
                <a:lnTo>
                  <a:pt x="3910232" y="22131"/>
                </a:lnTo>
                <a:lnTo>
                  <a:pt x="3919668" y="22131"/>
                </a:lnTo>
                <a:lnTo>
                  <a:pt x="3919668" y="114421"/>
                </a:lnTo>
                <a:lnTo>
                  <a:pt x="3919668" y="121449"/>
                </a:lnTo>
                <a:lnTo>
                  <a:pt x="3919668" y="129459"/>
                </a:lnTo>
                <a:lnTo>
                  <a:pt x="3848607" y="129459"/>
                </a:lnTo>
                <a:lnTo>
                  <a:pt x="3841177" y="129459"/>
                </a:lnTo>
                <a:lnTo>
                  <a:pt x="3831564" y="129459"/>
                </a:lnTo>
                <a:lnTo>
                  <a:pt x="3831564" y="74910"/>
                </a:lnTo>
                <a:lnTo>
                  <a:pt x="3831564" y="70782"/>
                </a:lnTo>
                <a:lnTo>
                  <a:pt x="3831564" y="59814"/>
                </a:lnTo>
                <a:lnTo>
                  <a:pt x="3867419" y="59814"/>
                </a:lnTo>
                <a:lnTo>
                  <a:pt x="3873238" y="59814"/>
                </a:lnTo>
                <a:lnTo>
                  <a:pt x="3882516" y="59814"/>
                </a:lnTo>
                <a:lnTo>
                  <a:pt x="3882516" y="93309"/>
                </a:lnTo>
                <a:lnTo>
                  <a:pt x="3867419" y="93309"/>
                </a:lnTo>
                <a:lnTo>
                  <a:pt x="3867419" y="74910"/>
                </a:lnTo>
                <a:lnTo>
                  <a:pt x="3848607" y="74910"/>
                </a:lnTo>
                <a:lnTo>
                  <a:pt x="3848607" y="114421"/>
                </a:lnTo>
                <a:lnTo>
                  <a:pt x="3904276" y="114421"/>
                </a:lnTo>
                <a:lnTo>
                  <a:pt x="3904276" y="37801"/>
                </a:lnTo>
                <a:lnTo>
                  <a:pt x="3810571" y="37801"/>
                </a:lnTo>
                <a:lnTo>
                  <a:pt x="3810571" y="151938"/>
                </a:lnTo>
                <a:lnTo>
                  <a:pt x="3939666" y="151938"/>
                </a:lnTo>
                <a:lnTo>
                  <a:pt x="3939915" y="151938"/>
                </a:lnTo>
                <a:lnTo>
                  <a:pt x="4086701" y="151938"/>
                </a:lnTo>
                <a:lnTo>
                  <a:pt x="4086701" y="22131"/>
                </a:lnTo>
                <a:lnTo>
                  <a:pt x="4198097" y="22131"/>
                </a:lnTo>
                <a:lnTo>
                  <a:pt x="4204053" y="22131"/>
                </a:lnTo>
                <a:lnTo>
                  <a:pt x="4213489" y="22131"/>
                </a:lnTo>
                <a:lnTo>
                  <a:pt x="4213489" y="114421"/>
                </a:lnTo>
                <a:lnTo>
                  <a:pt x="4213489" y="121449"/>
                </a:lnTo>
                <a:lnTo>
                  <a:pt x="4213489" y="129459"/>
                </a:lnTo>
                <a:lnTo>
                  <a:pt x="4142428" y="129459"/>
                </a:lnTo>
                <a:lnTo>
                  <a:pt x="4134998" y="129459"/>
                </a:lnTo>
                <a:lnTo>
                  <a:pt x="4125385" y="129459"/>
                </a:lnTo>
                <a:lnTo>
                  <a:pt x="4125385" y="74910"/>
                </a:lnTo>
                <a:lnTo>
                  <a:pt x="4125385" y="70782"/>
                </a:lnTo>
                <a:lnTo>
                  <a:pt x="4125385" y="59814"/>
                </a:lnTo>
                <a:lnTo>
                  <a:pt x="4161240" y="59814"/>
                </a:lnTo>
                <a:lnTo>
                  <a:pt x="4167059" y="59814"/>
                </a:lnTo>
                <a:lnTo>
                  <a:pt x="4176337" y="59814"/>
                </a:lnTo>
                <a:lnTo>
                  <a:pt x="4176337" y="93309"/>
                </a:lnTo>
                <a:lnTo>
                  <a:pt x="4161240" y="93309"/>
                </a:lnTo>
                <a:lnTo>
                  <a:pt x="4161240" y="74910"/>
                </a:lnTo>
                <a:lnTo>
                  <a:pt x="4142428" y="74910"/>
                </a:lnTo>
                <a:lnTo>
                  <a:pt x="4142428" y="114421"/>
                </a:lnTo>
                <a:lnTo>
                  <a:pt x="4198097" y="114421"/>
                </a:lnTo>
                <a:lnTo>
                  <a:pt x="4198097" y="37801"/>
                </a:lnTo>
                <a:lnTo>
                  <a:pt x="4104392" y="37801"/>
                </a:lnTo>
                <a:lnTo>
                  <a:pt x="4104392" y="151938"/>
                </a:lnTo>
                <a:lnTo>
                  <a:pt x="4233487" y="151938"/>
                </a:lnTo>
                <a:lnTo>
                  <a:pt x="4233736" y="151938"/>
                </a:lnTo>
                <a:lnTo>
                  <a:pt x="4380522" y="151938"/>
                </a:lnTo>
                <a:lnTo>
                  <a:pt x="4380522" y="440"/>
                </a:lnTo>
                <a:lnTo>
                  <a:pt x="4251178" y="440"/>
                </a:lnTo>
                <a:lnTo>
                  <a:pt x="4251178" y="114577"/>
                </a:lnTo>
                <a:lnTo>
                  <a:pt x="4344884" y="114577"/>
                </a:lnTo>
                <a:lnTo>
                  <a:pt x="4344884" y="37957"/>
                </a:lnTo>
                <a:lnTo>
                  <a:pt x="4289215" y="37957"/>
                </a:lnTo>
                <a:lnTo>
                  <a:pt x="4289215" y="77468"/>
                </a:lnTo>
                <a:lnTo>
                  <a:pt x="4308027" y="77468"/>
                </a:lnTo>
                <a:lnTo>
                  <a:pt x="4308027" y="59069"/>
                </a:lnTo>
                <a:lnTo>
                  <a:pt x="4323123" y="59069"/>
                </a:lnTo>
                <a:lnTo>
                  <a:pt x="4323123" y="92564"/>
                </a:lnTo>
                <a:lnTo>
                  <a:pt x="4313845" y="92564"/>
                </a:lnTo>
                <a:lnTo>
                  <a:pt x="4308027" y="92564"/>
                </a:lnTo>
                <a:lnTo>
                  <a:pt x="4272172" y="92564"/>
                </a:lnTo>
                <a:lnTo>
                  <a:pt x="4272172" y="81596"/>
                </a:lnTo>
                <a:lnTo>
                  <a:pt x="4272172" y="77468"/>
                </a:lnTo>
                <a:lnTo>
                  <a:pt x="4272172" y="22919"/>
                </a:lnTo>
                <a:lnTo>
                  <a:pt x="4281784" y="22919"/>
                </a:lnTo>
                <a:lnTo>
                  <a:pt x="4289215" y="22919"/>
                </a:lnTo>
                <a:lnTo>
                  <a:pt x="4360275" y="22919"/>
                </a:lnTo>
                <a:lnTo>
                  <a:pt x="4360275" y="30929"/>
                </a:lnTo>
                <a:lnTo>
                  <a:pt x="4360275" y="37957"/>
                </a:lnTo>
                <a:lnTo>
                  <a:pt x="4360275" y="130248"/>
                </a:lnTo>
                <a:lnTo>
                  <a:pt x="4350840" y="130248"/>
                </a:lnTo>
                <a:lnTo>
                  <a:pt x="4344884" y="130248"/>
                </a:lnTo>
                <a:lnTo>
                  <a:pt x="4233736" y="130248"/>
                </a:lnTo>
                <a:lnTo>
                  <a:pt x="4233736" y="440"/>
                </a:lnTo>
                <a:lnTo>
                  <a:pt x="4086701" y="440"/>
                </a:lnTo>
                <a:lnTo>
                  <a:pt x="4086700" y="440"/>
                </a:lnTo>
                <a:lnTo>
                  <a:pt x="3957357" y="440"/>
                </a:lnTo>
                <a:lnTo>
                  <a:pt x="3957357" y="114577"/>
                </a:lnTo>
                <a:lnTo>
                  <a:pt x="4051063" y="114577"/>
                </a:lnTo>
                <a:lnTo>
                  <a:pt x="4051063" y="37957"/>
                </a:lnTo>
                <a:lnTo>
                  <a:pt x="3995394" y="37957"/>
                </a:lnTo>
                <a:lnTo>
                  <a:pt x="3995394" y="77468"/>
                </a:lnTo>
                <a:lnTo>
                  <a:pt x="4014206" y="77468"/>
                </a:lnTo>
                <a:lnTo>
                  <a:pt x="4014206" y="59069"/>
                </a:lnTo>
                <a:lnTo>
                  <a:pt x="4029302" y="59069"/>
                </a:lnTo>
                <a:lnTo>
                  <a:pt x="4029302" y="92564"/>
                </a:lnTo>
                <a:lnTo>
                  <a:pt x="4020024" y="92564"/>
                </a:lnTo>
                <a:lnTo>
                  <a:pt x="4014206" y="92564"/>
                </a:lnTo>
                <a:lnTo>
                  <a:pt x="3978351" y="92564"/>
                </a:lnTo>
                <a:lnTo>
                  <a:pt x="3978351" y="81596"/>
                </a:lnTo>
                <a:lnTo>
                  <a:pt x="3978351" y="77468"/>
                </a:lnTo>
                <a:lnTo>
                  <a:pt x="3978351" y="22919"/>
                </a:lnTo>
                <a:lnTo>
                  <a:pt x="3987963" y="22919"/>
                </a:lnTo>
                <a:lnTo>
                  <a:pt x="3995394" y="22919"/>
                </a:lnTo>
                <a:lnTo>
                  <a:pt x="4066454" y="22919"/>
                </a:lnTo>
                <a:lnTo>
                  <a:pt x="4066454" y="30929"/>
                </a:lnTo>
                <a:lnTo>
                  <a:pt x="4066454" y="37957"/>
                </a:lnTo>
                <a:lnTo>
                  <a:pt x="4066454" y="130248"/>
                </a:lnTo>
                <a:lnTo>
                  <a:pt x="4057019" y="130248"/>
                </a:lnTo>
                <a:lnTo>
                  <a:pt x="4051063" y="130248"/>
                </a:lnTo>
                <a:lnTo>
                  <a:pt x="3939915" y="130248"/>
                </a:lnTo>
                <a:lnTo>
                  <a:pt x="3939915" y="440"/>
                </a:lnTo>
                <a:lnTo>
                  <a:pt x="3793740" y="440"/>
                </a:lnTo>
                <a:lnTo>
                  <a:pt x="3792879" y="440"/>
                </a:lnTo>
                <a:lnTo>
                  <a:pt x="3664396" y="440"/>
                </a:lnTo>
                <a:lnTo>
                  <a:pt x="3664396" y="114577"/>
                </a:lnTo>
                <a:lnTo>
                  <a:pt x="3758102" y="114577"/>
                </a:lnTo>
                <a:lnTo>
                  <a:pt x="3758102" y="37957"/>
                </a:lnTo>
                <a:lnTo>
                  <a:pt x="3702433" y="37957"/>
                </a:lnTo>
                <a:lnTo>
                  <a:pt x="3702433" y="77468"/>
                </a:lnTo>
                <a:lnTo>
                  <a:pt x="3721245" y="77468"/>
                </a:lnTo>
                <a:lnTo>
                  <a:pt x="3721245" y="59069"/>
                </a:lnTo>
                <a:lnTo>
                  <a:pt x="3736341" y="59069"/>
                </a:lnTo>
                <a:lnTo>
                  <a:pt x="3736341" y="92564"/>
                </a:lnTo>
                <a:lnTo>
                  <a:pt x="3727063" y="92564"/>
                </a:lnTo>
                <a:lnTo>
                  <a:pt x="3721245" y="92564"/>
                </a:lnTo>
                <a:lnTo>
                  <a:pt x="3685390" y="92564"/>
                </a:lnTo>
                <a:lnTo>
                  <a:pt x="3685390" y="81596"/>
                </a:lnTo>
                <a:lnTo>
                  <a:pt x="3685390" y="77468"/>
                </a:lnTo>
                <a:lnTo>
                  <a:pt x="3685390" y="22919"/>
                </a:lnTo>
                <a:lnTo>
                  <a:pt x="3695002" y="22919"/>
                </a:lnTo>
                <a:lnTo>
                  <a:pt x="3702433" y="22919"/>
                </a:lnTo>
                <a:lnTo>
                  <a:pt x="3773493" y="22919"/>
                </a:lnTo>
                <a:lnTo>
                  <a:pt x="3773493" y="30929"/>
                </a:lnTo>
                <a:lnTo>
                  <a:pt x="3773493" y="37957"/>
                </a:lnTo>
                <a:lnTo>
                  <a:pt x="3773493" y="130248"/>
                </a:lnTo>
                <a:lnTo>
                  <a:pt x="3764058" y="130248"/>
                </a:lnTo>
                <a:lnTo>
                  <a:pt x="3758102" y="130248"/>
                </a:lnTo>
                <a:lnTo>
                  <a:pt x="3646954" y="130248"/>
                </a:lnTo>
                <a:lnTo>
                  <a:pt x="3646954" y="440"/>
                </a:lnTo>
                <a:lnTo>
                  <a:pt x="3499918" y="440"/>
                </a:lnTo>
                <a:lnTo>
                  <a:pt x="3499918" y="1560"/>
                </a:lnTo>
                <a:lnTo>
                  <a:pt x="3372295" y="1560"/>
                </a:lnTo>
                <a:lnTo>
                  <a:pt x="3372295" y="115697"/>
                </a:lnTo>
                <a:lnTo>
                  <a:pt x="3466001" y="115697"/>
                </a:lnTo>
                <a:lnTo>
                  <a:pt x="3466001" y="39077"/>
                </a:lnTo>
                <a:lnTo>
                  <a:pt x="3410332" y="39077"/>
                </a:lnTo>
                <a:lnTo>
                  <a:pt x="3410332" y="78588"/>
                </a:lnTo>
                <a:lnTo>
                  <a:pt x="3429144" y="78588"/>
                </a:lnTo>
                <a:lnTo>
                  <a:pt x="3429144" y="60189"/>
                </a:lnTo>
                <a:lnTo>
                  <a:pt x="3444240" y="60189"/>
                </a:lnTo>
                <a:lnTo>
                  <a:pt x="3444240" y="93684"/>
                </a:lnTo>
                <a:lnTo>
                  <a:pt x="3434962" y="93684"/>
                </a:lnTo>
                <a:lnTo>
                  <a:pt x="3429144" y="93684"/>
                </a:lnTo>
                <a:lnTo>
                  <a:pt x="3393289" y="93684"/>
                </a:lnTo>
                <a:lnTo>
                  <a:pt x="3393289" y="82716"/>
                </a:lnTo>
                <a:lnTo>
                  <a:pt x="3393289" y="78588"/>
                </a:lnTo>
                <a:lnTo>
                  <a:pt x="3393289" y="24039"/>
                </a:lnTo>
                <a:lnTo>
                  <a:pt x="3402901" y="24039"/>
                </a:lnTo>
                <a:lnTo>
                  <a:pt x="3410332" y="24039"/>
                </a:lnTo>
                <a:lnTo>
                  <a:pt x="3481392" y="24039"/>
                </a:lnTo>
                <a:lnTo>
                  <a:pt x="3481392" y="32049"/>
                </a:lnTo>
                <a:lnTo>
                  <a:pt x="3481392" y="39077"/>
                </a:lnTo>
                <a:lnTo>
                  <a:pt x="3481392" y="131368"/>
                </a:lnTo>
                <a:lnTo>
                  <a:pt x="3471957" y="131368"/>
                </a:lnTo>
                <a:lnTo>
                  <a:pt x="3466001" y="131368"/>
                </a:lnTo>
                <a:lnTo>
                  <a:pt x="3354853" y="131368"/>
                </a:lnTo>
                <a:lnTo>
                  <a:pt x="3354853" y="1560"/>
                </a:lnTo>
                <a:lnTo>
                  <a:pt x="3208679" y="1560"/>
                </a:lnTo>
                <a:lnTo>
                  <a:pt x="3208679" y="1000"/>
                </a:lnTo>
                <a:lnTo>
                  <a:pt x="3079335" y="1000"/>
                </a:lnTo>
                <a:lnTo>
                  <a:pt x="3079335" y="115137"/>
                </a:lnTo>
                <a:lnTo>
                  <a:pt x="3173041" y="115137"/>
                </a:lnTo>
                <a:lnTo>
                  <a:pt x="3173041" y="38517"/>
                </a:lnTo>
                <a:lnTo>
                  <a:pt x="3117371" y="38517"/>
                </a:lnTo>
                <a:lnTo>
                  <a:pt x="3117371" y="78028"/>
                </a:lnTo>
                <a:lnTo>
                  <a:pt x="3136183" y="78028"/>
                </a:lnTo>
                <a:lnTo>
                  <a:pt x="3136183" y="59629"/>
                </a:lnTo>
                <a:lnTo>
                  <a:pt x="3151280" y="59629"/>
                </a:lnTo>
                <a:lnTo>
                  <a:pt x="3151280" y="93124"/>
                </a:lnTo>
                <a:lnTo>
                  <a:pt x="3142002" y="93124"/>
                </a:lnTo>
                <a:lnTo>
                  <a:pt x="3136183" y="93124"/>
                </a:lnTo>
                <a:lnTo>
                  <a:pt x="3100329" y="93124"/>
                </a:lnTo>
                <a:lnTo>
                  <a:pt x="3100329" y="82156"/>
                </a:lnTo>
                <a:lnTo>
                  <a:pt x="3100329" y="78028"/>
                </a:lnTo>
                <a:lnTo>
                  <a:pt x="3100329" y="23479"/>
                </a:lnTo>
                <a:lnTo>
                  <a:pt x="3109941" y="23479"/>
                </a:lnTo>
                <a:lnTo>
                  <a:pt x="3117371" y="23479"/>
                </a:lnTo>
                <a:lnTo>
                  <a:pt x="3188432" y="23479"/>
                </a:lnTo>
                <a:lnTo>
                  <a:pt x="3188432" y="31489"/>
                </a:lnTo>
                <a:lnTo>
                  <a:pt x="3188432" y="38517"/>
                </a:lnTo>
                <a:lnTo>
                  <a:pt x="3188432" y="130808"/>
                </a:lnTo>
                <a:lnTo>
                  <a:pt x="3178997" y="130808"/>
                </a:lnTo>
                <a:lnTo>
                  <a:pt x="3173041" y="130808"/>
                </a:lnTo>
                <a:lnTo>
                  <a:pt x="3061893" y="130808"/>
                </a:lnTo>
                <a:lnTo>
                  <a:pt x="3061893" y="1000"/>
                </a:lnTo>
                <a:lnTo>
                  <a:pt x="2914857" y="1000"/>
                </a:lnTo>
                <a:lnTo>
                  <a:pt x="2785513" y="1000"/>
                </a:lnTo>
                <a:lnTo>
                  <a:pt x="2785513" y="115137"/>
                </a:lnTo>
                <a:lnTo>
                  <a:pt x="2879219" y="115137"/>
                </a:lnTo>
                <a:lnTo>
                  <a:pt x="2879219" y="38517"/>
                </a:lnTo>
                <a:lnTo>
                  <a:pt x="2823549" y="38517"/>
                </a:lnTo>
                <a:lnTo>
                  <a:pt x="2823549" y="78028"/>
                </a:lnTo>
                <a:lnTo>
                  <a:pt x="2842361" y="78028"/>
                </a:lnTo>
                <a:lnTo>
                  <a:pt x="2842361" y="59629"/>
                </a:lnTo>
                <a:lnTo>
                  <a:pt x="2857458" y="59629"/>
                </a:lnTo>
                <a:lnTo>
                  <a:pt x="2857458" y="93124"/>
                </a:lnTo>
                <a:lnTo>
                  <a:pt x="2848180" y="93124"/>
                </a:lnTo>
                <a:lnTo>
                  <a:pt x="2842361" y="93124"/>
                </a:lnTo>
                <a:lnTo>
                  <a:pt x="2806507" y="93124"/>
                </a:lnTo>
                <a:lnTo>
                  <a:pt x="2806507" y="82156"/>
                </a:lnTo>
                <a:lnTo>
                  <a:pt x="2806507" y="78028"/>
                </a:lnTo>
                <a:lnTo>
                  <a:pt x="2806507" y="23479"/>
                </a:lnTo>
                <a:lnTo>
                  <a:pt x="2816119" y="23479"/>
                </a:lnTo>
                <a:lnTo>
                  <a:pt x="2823549" y="23479"/>
                </a:lnTo>
                <a:lnTo>
                  <a:pt x="2894610" y="23479"/>
                </a:lnTo>
                <a:lnTo>
                  <a:pt x="2894610" y="31489"/>
                </a:lnTo>
                <a:lnTo>
                  <a:pt x="2894610" y="38517"/>
                </a:lnTo>
                <a:lnTo>
                  <a:pt x="2894610" y="130808"/>
                </a:lnTo>
                <a:lnTo>
                  <a:pt x="2885175" y="130808"/>
                </a:lnTo>
                <a:lnTo>
                  <a:pt x="2879219" y="130808"/>
                </a:lnTo>
                <a:lnTo>
                  <a:pt x="2768071" y="130808"/>
                </a:lnTo>
                <a:lnTo>
                  <a:pt x="2768071" y="1000"/>
                </a:lnTo>
                <a:lnTo>
                  <a:pt x="2621896" y="1000"/>
                </a:lnTo>
                <a:lnTo>
                  <a:pt x="2621035" y="1000"/>
                </a:lnTo>
                <a:lnTo>
                  <a:pt x="2492552" y="1000"/>
                </a:lnTo>
                <a:lnTo>
                  <a:pt x="2492552" y="115137"/>
                </a:lnTo>
                <a:lnTo>
                  <a:pt x="2586258" y="115137"/>
                </a:lnTo>
                <a:lnTo>
                  <a:pt x="2586258" y="38517"/>
                </a:lnTo>
                <a:lnTo>
                  <a:pt x="2530588" y="38517"/>
                </a:lnTo>
                <a:lnTo>
                  <a:pt x="2530588" y="78028"/>
                </a:lnTo>
                <a:lnTo>
                  <a:pt x="2549400" y="78028"/>
                </a:lnTo>
                <a:lnTo>
                  <a:pt x="2549400" y="59629"/>
                </a:lnTo>
                <a:lnTo>
                  <a:pt x="2564497" y="59629"/>
                </a:lnTo>
                <a:lnTo>
                  <a:pt x="2564497" y="93124"/>
                </a:lnTo>
                <a:lnTo>
                  <a:pt x="2555219" y="93124"/>
                </a:lnTo>
                <a:lnTo>
                  <a:pt x="2549400" y="93124"/>
                </a:lnTo>
                <a:lnTo>
                  <a:pt x="2513546" y="93124"/>
                </a:lnTo>
                <a:lnTo>
                  <a:pt x="2513546" y="82156"/>
                </a:lnTo>
                <a:lnTo>
                  <a:pt x="2513546" y="78028"/>
                </a:lnTo>
                <a:lnTo>
                  <a:pt x="2513546" y="23479"/>
                </a:lnTo>
                <a:lnTo>
                  <a:pt x="2523158" y="23479"/>
                </a:lnTo>
                <a:lnTo>
                  <a:pt x="2530588" y="23479"/>
                </a:lnTo>
                <a:lnTo>
                  <a:pt x="2601649" y="23479"/>
                </a:lnTo>
                <a:lnTo>
                  <a:pt x="2601649" y="31489"/>
                </a:lnTo>
                <a:lnTo>
                  <a:pt x="2601649" y="38517"/>
                </a:lnTo>
                <a:lnTo>
                  <a:pt x="2601649" y="130808"/>
                </a:lnTo>
                <a:lnTo>
                  <a:pt x="2592214" y="130808"/>
                </a:lnTo>
                <a:lnTo>
                  <a:pt x="2586258" y="130808"/>
                </a:lnTo>
                <a:lnTo>
                  <a:pt x="2475110" y="130808"/>
                </a:lnTo>
                <a:lnTo>
                  <a:pt x="2475110" y="1000"/>
                </a:lnTo>
                <a:lnTo>
                  <a:pt x="2328074" y="1000"/>
                </a:lnTo>
                <a:lnTo>
                  <a:pt x="2328074" y="1284"/>
                </a:lnTo>
                <a:lnTo>
                  <a:pt x="2199591" y="1284"/>
                </a:lnTo>
                <a:lnTo>
                  <a:pt x="2199591" y="115421"/>
                </a:lnTo>
                <a:lnTo>
                  <a:pt x="2293297" y="115421"/>
                </a:lnTo>
                <a:lnTo>
                  <a:pt x="2293297" y="38801"/>
                </a:lnTo>
                <a:lnTo>
                  <a:pt x="2237627" y="38801"/>
                </a:lnTo>
                <a:lnTo>
                  <a:pt x="2237627" y="78312"/>
                </a:lnTo>
                <a:lnTo>
                  <a:pt x="2256439" y="78312"/>
                </a:lnTo>
                <a:lnTo>
                  <a:pt x="2256439" y="59913"/>
                </a:lnTo>
                <a:lnTo>
                  <a:pt x="2271536" y="59913"/>
                </a:lnTo>
                <a:lnTo>
                  <a:pt x="2271536" y="93408"/>
                </a:lnTo>
                <a:lnTo>
                  <a:pt x="2262258" y="93408"/>
                </a:lnTo>
                <a:lnTo>
                  <a:pt x="2256439" y="93408"/>
                </a:lnTo>
                <a:lnTo>
                  <a:pt x="2220585" y="93408"/>
                </a:lnTo>
                <a:lnTo>
                  <a:pt x="2220585" y="82440"/>
                </a:lnTo>
                <a:lnTo>
                  <a:pt x="2220585" y="78312"/>
                </a:lnTo>
                <a:lnTo>
                  <a:pt x="2220585" y="23763"/>
                </a:lnTo>
                <a:lnTo>
                  <a:pt x="2230197" y="23763"/>
                </a:lnTo>
                <a:lnTo>
                  <a:pt x="2237627" y="23763"/>
                </a:lnTo>
                <a:lnTo>
                  <a:pt x="2308688" y="23763"/>
                </a:lnTo>
                <a:lnTo>
                  <a:pt x="2308688" y="31773"/>
                </a:lnTo>
                <a:lnTo>
                  <a:pt x="2308688" y="38801"/>
                </a:lnTo>
                <a:lnTo>
                  <a:pt x="2308688" y="131092"/>
                </a:lnTo>
                <a:lnTo>
                  <a:pt x="2299253" y="131092"/>
                </a:lnTo>
                <a:lnTo>
                  <a:pt x="2293297" y="131092"/>
                </a:lnTo>
                <a:lnTo>
                  <a:pt x="2182149" y="131092"/>
                </a:lnTo>
                <a:lnTo>
                  <a:pt x="2182149" y="1284"/>
                </a:lnTo>
                <a:lnTo>
                  <a:pt x="2035974" y="1284"/>
                </a:lnTo>
                <a:lnTo>
                  <a:pt x="2035974" y="724"/>
                </a:lnTo>
                <a:lnTo>
                  <a:pt x="1906630" y="724"/>
                </a:lnTo>
                <a:lnTo>
                  <a:pt x="1906630" y="114861"/>
                </a:lnTo>
                <a:lnTo>
                  <a:pt x="2000336" y="114861"/>
                </a:lnTo>
                <a:lnTo>
                  <a:pt x="2000336" y="38241"/>
                </a:lnTo>
                <a:lnTo>
                  <a:pt x="1944666" y="38241"/>
                </a:lnTo>
                <a:lnTo>
                  <a:pt x="1944666" y="77752"/>
                </a:lnTo>
                <a:lnTo>
                  <a:pt x="1963478" y="77752"/>
                </a:lnTo>
                <a:lnTo>
                  <a:pt x="1963478" y="59353"/>
                </a:lnTo>
                <a:lnTo>
                  <a:pt x="1978575" y="59353"/>
                </a:lnTo>
                <a:lnTo>
                  <a:pt x="1978575" y="92848"/>
                </a:lnTo>
                <a:lnTo>
                  <a:pt x="1969297" y="92848"/>
                </a:lnTo>
                <a:lnTo>
                  <a:pt x="1963478" y="92848"/>
                </a:lnTo>
                <a:lnTo>
                  <a:pt x="1927624" y="92848"/>
                </a:lnTo>
                <a:lnTo>
                  <a:pt x="1927624" y="81880"/>
                </a:lnTo>
                <a:lnTo>
                  <a:pt x="1927624" y="77752"/>
                </a:lnTo>
                <a:lnTo>
                  <a:pt x="1927624" y="23203"/>
                </a:lnTo>
                <a:lnTo>
                  <a:pt x="1937236" y="23203"/>
                </a:lnTo>
                <a:lnTo>
                  <a:pt x="1944666" y="23203"/>
                </a:lnTo>
                <a:lnTo>
                  <a:pt x="2015727" y="23203"/>
                </a:lnTo>
                <a:lnTo>
                  <a:pt x="2015727" y="31213"/>
                </a:lnTo>
                <a:lnTo>
                  <a:pt x="2015727" y="38241"/>
                </a:lnTo>
                <a:lnTo>
                  <a:pt x="2015727" y="130532"/>
                </a:lnTo>
                <a:lnTo>
                  <a:pt x="2006292" y="130532"/>
                </a:lnTo>
                <a:lnTo>
                  <a:pt x="2000336" y="130532"/>
                </a:lnTo>
                <a:lnTo>
                  <a:pt x="1889188" y="130532"/>
                </a:lnTo>
                <a:lnTo>
                  <a:pt x="1889188" y="724"/>
                </a:lnTo>
                <a:lnTo>
                  <a:pt x="1742152" y="724"/>
                </a:lnTo>
                <a:lnTo>
                  <a:pt x="1612808" y="724"/>
                </a:lnTo>
                <a:lnTo>
                  <a:pt x="1612808" y="114861"/>
                </a:lnTo>
                <a:lnTo>
                  <a:pt x="1706514" y="114861"/>
                </a:lnTo>
                <a:lnTo>
                  <a:pt x="1706514" y="38241"/>
                </a:lnTo>
                <a:lnTo>
                  <a:pt x="1650844" y="38241"/>
                </a:lnTo>
                <a:lnTo>
                  <a:pt x="1650844" y="77752"/>
                </a:lnTo>
                <a:lnTo>
                  <a:pt x="1669656" y="77752"/>
                </a:lnTo>
                <a:lnTo>
                  <a:pt x="1669656" y="59353"/>
                </a:lnTo>
                <a:lnTo>
                  <a:pt x="1684753" y="59353"/>
                </a:lnTo>
                <a:lnTo>
                  <a:pt x="1684753" y="92848"/>
                </a:lnTo>
                <a:lnTo>
                  <a:pt x="1675475" y="92848"/>
                </a:lnTo>
                <a:lnTo>
                  <a:pt x="1669656" y="92848"/>
                </a:lnTo>
                <a:lnTo>
                  <a:pt x="1633802" y="92848"/>
                </a:lnTo>
                <a:lnTo>
                  <a:pt x="1633802" y="81880"/>
                </a:lnTo>
                <a:lnTo>
                  <a:pt x="1633802" y="77752"/>
                </a:lnTo>
                <a:lnTo>
                  <a:pt x="1633802" y="23203"/>
                </a:lnTo>
                <a:lnTo>
                  <a:pt x="1643414" y="23203"/>
                </a:lnTo>
                <a:lnTo>
                  <a:pt x="1650844" y="23203"/>
                </a:lnTo>
                <a:lnTo>
                  <a:pt x="1721905" y="23203"/>
                </a:lnTo>
                <a:lnTo>
                  <a:pt x="1721905" y="31213"/>
                </a:lnTo>
                <a:lnTo>
                  <a:pt x="1721905" y="38241"/>
                </a:lnTo>
                <a:lnTo>
                  <a:pt x="1721905" y="130532"/>
                </a:lnTo>
                <a:lnTo>
                  <a:pt x="1712470" y="130532"/>
                </a:lnTo>
                <a:lnTo>
                  <a:pt x="1706514" y="130532"/>
                </a:lnTo>
                <a:lnTo>
                  <a:pt x="1595366" y="130532"/>
                </a:lnTo>
                <a:lnTo>
                  <a:pt x="1595366" y="724"/>
                </a:lnTo>
                <a:lnTo>
                  <a:pt x="1449192" y="724"/>
                </a:lnTo>
                <a:lnTo>
                  <a:pt x="1448330" y="724"/>
                </a:lnTo>
                <a:lnTo>
                  <a:pt x="1319848" y="724"/>
                </a:lnTo>
                <a:lnTo>
                  <a:pt x="1319848" y="114861"/>
                </a:lnTo>
                <a:lnTo>
                  <a:pt x="1413554" y="114861"/>
                </a:lnTo>
                <a:lnTo>
                  <a:pt x="1413554" y="38241"/>
                </a:lnTo>
                <a:lnTo>
                  <a:pt x="1357884" y="38241"/>
                </a:lnTo>
                <a:lnTo>
                  <a:pt x="1357884" y="77752"/>
                </a:lnTo>
                <a:lnTo>
                  <a:pt x="1376696" y="77752"/>
                </a:lnTo>
                <a:lnTo>
                  <a:pt x="1376696" y="59353"/>
                </a:lnTo>
                <a:lnTo>
                  <a:pt x="1391793" y="59353"/>
                </a:lnTo>
                <a:lnTo>
                  <a:pt x="1391793" y="92848"/>
                </a:lnTo>
                <a:lnTo>
                  <a:pt x="1382515" y="92848"/>
                </a:lnTo>
                <a:lnTo>
                  <a:pt x="1376696" y="92848"/>
                </a:lnTo>
                <a:lnTo>
                  <a:pt x="1340842" y="92848"/>
                </a:lnTo>
                <a:lnTo>
                  <a:pt x="1340842" y="81880"/>
                </a:lnTo>
                <a:lnTo>
                  <a:pt x="1340842" y="77752"/>
                </a:lnTo>
                <a:lnTo>
                  <a:pt x="1340842" y="23203"/>
                </a:lnTo>
                <a:lnTo>
                  <a:pt x="1350454" y="23203"/>
                </a:lnTo>
                <a:lnTo>
                  <a:pt x="1357884" y="23203"/>
                </a:lnTo>
                <a:lnTo>
                  <a:pt x="1428945" y="23203"/>
                </a:lnTo>
                <a:lnTo>
                  <a:pt x="1428945" y="31213"/>
                </a:lnTo>
                <a:lnTo>
                  <a:pt x="1428945" y="38241"/>
                </a:lnTo>
                <a:lnTo>
                  <a:pt x="1428945" y="130532"/>
                </a:lnTo>
                <a:lnTo>
                  <a:pt x="1419510" y="130532"/>
                </a:lnTo>
                <a:lnTo>
                  <a:pt x="1413554" y="130532"/>
                </a:lnTo>
                <a:lnTo>
                  <a:pt x="1302406" y="130532"/>
                </a:lnTo>
                <a:lnTo>
                  <a:pt x="1302406" y="724"/>
                </a:lnTo>
                <a:lnTo>
                  <a:pt x="1155370" y="724"/>
                </a:lnTo>
                <a:lnTo>
                  <a:pt x="1155370" y="1000"/>
                </a:lnTo>
                <a:lnTo>
                  <a:pt x="1026886" y="1000"/>
                </a:lnTo>
                <a:lnTo>
                  <a:pt x="1026886" y="115137"/>
                </a:lnTo>
                <a:lnTo>
                  <a:pt x="1120592" y="115137"/>
                </a:lnTo>
                <a:lnTo>
                  <a:pt x="1120592" y="38517"/>
                </a:lnTo>
                <a:lnTo>
                  <a:pt x="1064923" y="38517"/>
                </a:lnTo>
                <a:lnTo>
                  <a:pt x="1064923" y="78028"/>
                </a:lnTo>
                <a:lnTo>
                  <a:pt x="1083734" y="78028"/>
                </a:lnTo>
                <a:lnTo>
                  <a:pt x="1083734" y="59629"/>
                </a:lnTo>
                <a:lnTo>
                  <a:pt x="1098831" y="59629"/>
                </a:lnTo>
                <a:lnTo>
                  <a:pt x="1098831" y="93124"/>
                </a:lnTo>
                <a:lnTo>
                  <a:pt x="1089553" y="93124"/>
                </a:lnTo>
                <a:lnTo>
                  <a:pt x="1083734" y="93124"/>
                </a:lnTo>
                <a:lnTo>
                  <a:pt x="1047880" y="93124"/>
                </a:lnTo>
                <a:lnTo>
                  <a:pt x="1047880" y="82156"/>
                </a:lnTo>
                <a:lnTo>
                  <a:pt x="1047880" y="78028"/>
                </a:lnTo>
                <a:lnTo>
                  <a:pt x="1047880" y="23479"/>
                </a:lnTo>
                <a:lnTo>
                  <a:pt x="1057492" y="23479"/>
                </a:lnTo>
                <a:lnTo>
                  <a:pt x="1064923" y="23479"/>
                </a:lnTo>
                <a:lnTo>
                  <a:pt x="1135983" y="23479"/>
                </a:lnTo>
                <a:lnTo>
                  <a:pt x="1135983" y="31489"/>
                </a:lnTo>
                <a:lnTo>
                  <a:pt x="1135983" y="38517"/>
                </a:lnTo>
                <a:lnTo>
                  <a:pt x="1135983" y="130808"/>
                </a:lnTo>
                <a:lnTo>
                  <a:pt x="1126548" y="130808"/>
                </a:lnTo>
                <a:lnTo>
                  <a:pt x="1120592" y="130808"/>
                </a:lnTo>
                <a:lnTo>
                  <a:pt x="1009444" y="130808"/>
                </a:lnTo>
                <a:lnTo>
                  <a:pt x="1009444" y="1000"/>
                </a:lnTo>
                <a:lnTo>
                  <a:pt x="863270" y="1000"/>
                </a:lnTo>
                <a:lnTo>
                  <a:pt x="863270" y="440"/>
                </a:lnTo>
                <a:lnTo>
                  <a:pt x="733926" y="440"/>
                </a:lnTo>
                <a:lnTo>
                  <a:pt x="733926" y="114577"/>
                </a:lnTo>
                <a:lnTo>
                  <a:pt x="827632" y="114577"/>
                </a:lnTo>
                <a:lnTo>
                  <a:pt x="827632" y="37957"/>
                </a:lnTo>
                <a:lnTo>
                  <a:pt x="771963" y="37957"/>
                </a:lnTo>
                <a:lnTo>
                  <a:pt x="771963" y="77468"/>
                </a:lnTo>
                <a:lnTo>
                  <a:pt x="790775" y="77468"/>
                </a:lnTo>
                <a:lnTo>
                  <a:pt x="790775" y="59069"/>
                </a:lnTo>
                <a:lnTo>
                  <a:pt x="805871" y="59069"/>
                </a:lnTo>
                <a:lnTo>
                  <a:pt x="805871" y="92564"/>
                </a:lnTo>
                <a:lnTo>
                  <a:pt x="796593" y="92564"/>
                </a:lnTo>
                <a:lnTo>
                  <a:pt x="790775" y="92564"/>
                </a:lnTo>
                <a:lnTo>
                  <a:pt x="754920" y="92564"/>
                </a:lnTo>
                <a:lnTo>
                  <a:pt x="754920" y="81596"/>
                </a:lnTo>
                <a:lnTo>
                  <a:pt x="754920" y="77468"/>
                </a:lnTo>
                <a:lnTo>
                  <a:pt x="754920" y="22919"/>
                </a:lnTo>
                <a:lnTo>
                  <a:pt x="764532" y="22919"/>
                </a:lnTo>
                <a:lnTo>
                  <a:pt x="771963" y="22919"/>
                </a:lnTo>
                <a:lnTo>
                  <a:pt x="843024" y="22919"/>
                </a:lnTo>
                <a:lnTo>
                  <a:pt x="843024" y="30929"/>
                </a:lnTo>
                <a:lnTo>
                  <a:pt x="843024" y="37957"/>
                </a:lnTo>
                <a:lnTo>
                  <a:pt x="843024" y="130248"/>
                </a:lnTo>
                <a:lnTo>
                  <a:pt x="833588" y="130248"/>
                </a:lnTo>
                <a:lnTo>
                  <a:pt x="827632" y="130248"/>
                </a:lnTo>
                <a:lnTo>
                  <a:pt x="716484" y="130248"/>
                </a:lnTo>
                <a:lnTo>
                  <a:pt x="716484" y="440"/>
                </a:lnTo>
                <a:lnTo>
                  <a:pt x="569448" y="440"/>
                </a:lnTo>
                <a:lnTo>
                  <a:pt x="440104" y="440"/>
                </a:lnTo>
                <a:lnTo>
                  <a:pt x="440104" y="114577"/>
                </a:lnTo>
                <a:lnTo>
                  <a:pt x="533810" y="114577"/>
                </a:lnTo>
                <a:lnTo>
                  <a:pt x="533810" y="37957"/>
                </a:lnTo>
                <a:lnTo>
                  <a:pt x="478141" y="37957"/>
                </a:lnTo>
                <a:lnTo>
                  <a:pt x="478141" y="77468"/>
                </a:lnTo>
                <a:lnTo>
                  <a:pt x="496953" y="77468"/>
                </a:lnTo>
                <a:lnTo>
                  <a:pt x="496953" y="59069"/>
                </a:lnTo>
                <a:lnTo>
                  <a:pt x="512050" y="59069"/>
                </a:lnTo>
                <a:lnTo>
                  <a:pt x="512050" y="92564"/>
                </a:lnTo>
                <a:lnTo>
                  <a:pt x="502771" y="92564"/>
                </a:lnTo>
                <a:lnTo>
                  <a:pt x="496953" y="92564"/>
                </a:lnTo>
                <a:lnTo>
                  <a:pt x="461098" y="92564"/>
                </a:lnTo>
                <a:lnTo>
                  <a:pt x="461098" y="81596"/>
                </a:lnTo>
                <a:lnTo>
                  <a:pt x="461098" y="77468"/>
                </a:lnTo>
                <a:lnTo>
                  <a:pt x="461098" y="22919"/>
                </a:lnTo>
                <a:lnTo>
                  <a:pt x="470710" y="22919"/>
                </a:lnTo>
                <a:lnTo>
                  <a:pt x="478141" y="22919"/>
                </a:lnTo>
                <a:lnTo>
                  <a:pt x="549202" y="22919"/>
                </a:lnTo>
                <a:lnTo>
                  <a:pt x="549202" y="30929"/>
                </a:lnTo>
                <a:lnTo>
                  <a:pt x="549202" y="37957"/>
                </a:lnTo>
                <a:lnTo>
                  <a:pt x="549202" y="130248"/>
                </a:lnTo>
                <a:lnTo>
                  <a:pt x="539766" y="130248"/>
                </a:lnTo>
                <a:lnTo>
                  <a:pt x="533810" y="130248"/>
                </a:lnTo>
                <a:lnTo>
                  <a:pt x="422662" y="130248"/>
                </a:lnTo>
                <a:lnTo>
                  <a:pt x="422662" y="440"/>
                </a:lnTo>
                <a:lnTo>
                  <a:pt x="276487" y="440"/>
                </a:lnTo>
                <a:lnTo>
                  <a:pt x="276487" y="0"/>
                </a:lnTo>
                <a:lnTo>
                  <a:pt x="147143" y="0"/>
                </a:lnTo>
                <a:lnTo>
                  <a:pt x="147143" y="114138"/>
                </a:lnTo>
                <a:lnTo>
                  <a:pt x="240848" y="114138"/>
                </a:lnTo>
                <a:lnTo>
                  <a:pt x="240848" y="37518"/>
                </a:lnTo>
                <a:lnTo>
                  <a:pt x="185179" y="37518"/>
                </a:lnTo>
                <a:lnTo>
                  <a:pt x="185179" y="77029"/>
                </a:lnTo>
                <a:lnTo>
                  <a:pt x="203991" y="77029"/>
                </a:lnTo>
                <a:lnTo>
                  <a:pt x="203991" y="58630"/>
                </a:lnTo>
                <a:lnTo>
                  <a:pt x="219087" y="58630"/>
                </a:lnTo>
                <a:lnTo>
                  <a:pt x="219087" y="92125"/>
                </a:lnTo>
                <a:lnTo>
                  <a:pt x="209809" y="92125"/>
                </a:lnTo>
                <a:lnTo>
                  <a:pt x="203991" y="92125"/>
                </a:lnTo>
                <a:lnTo>
                  <a:pt x="168136" y="92125"/>
                </a:lnTo>
                <a:lnTo>
                  <a:pt x="168136" y="81157"/>
                </a:lnTo>
                <a:lnTo>
                  <a:pt x="168136" y="77029"/>
                </a:lnTo>
                <a:lnTo>
                  <a:pt x="168136" y="22480"/>
                </a:lnTo>
                <a:lnTo>
                  <a:pt x="177749" y="22480"/>
                </a:lnTo>
                <a:lnTo>
                  <a:pt x="185179" y="22480"/>
                </a:lnTo>
                <a:lnTo>
                  <a:pt x="256240" y="22480"/>
                </a:lnTo>
                <a:lnTo>
                  <a:pt x="256240" y="30490"/>
                </a:lnTo>
                <a:lnTo>
                  <a:pt x="256240" y="37518"/>
                </a:lnTo>
                <a:lnTo>
                  <a:pt x="256240" y="129808"/>
                </a:lnTo>
                <a:lnTo>
                  <a:pt x="246804" y="129808"/>
                </a:lnTo>
                <a:lnTo>
                  <a:pt x="240848" y="129808"/>
                </a:lnTo>
                <a:lnTo>
                  <a:pt x="129700" y="129808"/>
                </a:lnTo>
                <a:lnTo>
                  <a:pt x="129700" y="0"/>
                </a:lnTo>
                <a:lnTo>
                  <a:pt x="0" y="0"/>
                </a:lnTo>
                <a:close/>
              </a:path>
            </a:pathLst>
          </a:custGeom>
          <a:solidFill>
            <a:srgbClr val="5b9bd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160"/>
          <p:cNvSpPr/>
          <p:nvPr/>
        </p:nvSpPr>
        <p:spPr>
          <a:xfrm flipH="1" rot="16200000">
            <a:off x="-860040" y="2857320"/>
            <a:ext cx="4378320" cy="152640"/>
          </a:xfrm>
          <a:custGeom>
            <a:avLst/>
            <a:gdLst/>
            <a:ahLst/>
            <a:rect l="l" t="t" r="r" b="b"/>
            <a:pathLst>
              <a:path w="4380522" h="153058">
                <a:moveTo>
                  <a:pt x="0" y="0"/>
                </a:moveTo>
                <a:lnTo>
                  <a:pt x="0" y="21691"/>
                </a:lnTo>
                <a:lnTo>
                  <a:pt x="94062" y="21691"/>
                </a:lnTo>
                <a:lnTo>
                  <a:pt x="100018" y="21691"/>
                </a:lnTo>
                <a:lnTo>
                  <a:pt x="109454" y="21691"/>
                </a:lnTo>
                <a:lnTo>
                  <a:pt x="109454" y="113982"/>
                </a:lnTo>
                <a:lnTo>
                  <a:pt x="109454" y="121009"/>
                </a:lnTo>
                <a:lnTo>
                  <a:pt x="109454" y="129019"/>
                </a:lnTo>
                <a:lnTo>
                  <a:pt x="38393" y="129019"/>
                </a:lnTo>
                <a:lnTo>
                  <a:pt x="30962" y="129019"/>
                </a:lnTo>
                <a:lnTo>
                  <a:pt x="21350" y="129019"/>
                </a:lnTo>
                <a:lnTo>
                  <a:pt x="21350" y="74471"/>
                </a:lnTo>
                <a:lnTo>
                  <a:pt x="21350" y="70343"/>
                </a:lnTo>
                <a:lnTo>
                  <a:pt x="21350" y="59374"/>
                </a:lnTo>
                <a:lnTo>
                  <a:pt x="57205" y="59374"/>
                </a:lnTo>
                <a:lnTo>
                  <a:pt x="63023" y="59374"/>
                </a:lnTo>
                <a:lnTo>
                  <a:pt x="72301" y="59374"/>
                </a:lnTo>
                <a:lnTo>
                  <a:pt x="72301" y="92870"/>
                </a:lnTo>
                <a:lnTo>
                  <a:pt x="57205" y="92870"/>
                </a:lnTo>
                <a:lnTo>
                  <a:pt x="57205" y="74471"/>
                </a:lnTo>
                <a:lnTo>
                  <a:pt x="38393" y="74471"/>
                </a:lnTo>
                <a:lnTo>
                  <a:pt x="38393" y="113982"/>
                </a:lnTo>
                <a:lnTo>
                  <a:pt x="94062" y="113982"/>
                </a:lnTo>
                <a:lnTo>
                  <a:pt x="94062" y="37361"/>
                </a:lnTo>
                <a:lnTo>
                  <a:pt x="356" y="37361"/>
                </a:lnTo>
                <a:lnTo>
                  <a:pt x="356" y="151499"/>
                </a:lnTo>
                <a:lnTo>
                  <a:pt x="129451" y="151499"/>
                </a:lnTo>
                <a:lnTo>
                  <a:pt x="129700" y="151499"/>
                </a:lnTo>
                <a:lnTo>
                  <a:pt x="276487" y="151499"/>
                </a:lnTo>
                <a:lnTo>
                  <a:pt x="276487" y="22131"/>
                </a:lnTo>
                <a:lnTo>
                  <a:pt x="387024" y="22131"/>
                </a:lnTo>
                <a:lnTo>
                  <a:pt x="392980" y="22131"/>
                </a:lnTo>
                <a:lnTo>
                  <a:pt x="402415" y="22131"/>
                </a:lnTo>
                <a:lnTo>
                  <a:pt x="402415" y="114421"/>
                </a:lnTo>
                <a:lnTo>
                  <a:pt x="402415" y="121449"/>
                </a:lnTo>
                <a:lnTo>
                  <a:pt x="402415" y="129459"/>
                </a:lnTo>
                <a:lnTo>
                  <a:pt x="331354" y="129459"/>
                </a:lnTo>
                <a:lnTo>
                  <a:pt x="323924" y="129459"/>
                </a:lnTo>
                <a:lnTo>
                  <a:pt x="314312" y="129459"/>
                </a:lnTo>
                <a:lnTo>
                  <a:pt x="314312" y="74910"/>
                </a:lnTo>
                <a:lnTo>
                  <a:pt x="314312" y="70782"/>
                </a:lnTo>
                <a:lnTo>
                  <a:pt x="314312" y="59814"/>
                </a:lnTo>
                <a:lnTo>
                  <a:pt x="350166" y="59814"/>
                </a:lnTo>
                <a:lnTo>
                  <a:pt x="355985" y="59814"/>
                </a:lnTo>
                <a:lnTo>
                  <a:pt x="365263" y="59814"/>
                </a:lnTo>
                <a:lnTo>
                  <a:pt x="365263" y="93309"/>
                </a:lnTo>
                <a:lnTo>
                  <a:pt x="350166" y="93309"/>
                </a:lnTo>
                <a:lnTo>
                  <a:pt x="350166" y="74910"/>
                </a:lnTo>
                <a:lnTo>
                  <a:pt x="331354" y="74910"/>
                </a:lnTo>
                <a:lnTo>
                  <a:pt x="331354" y="114421"/>
                </a:lnTo>
                <a:lnTo>
                  <a:pt x="387024" y="114421"/>
                </a:lnTo>
                <a:lnTo>
                  <a:pt x="387024" y="37801"/>
                </a:lnTo>
                <a:lnTo>
                  <a:pt x="293318" y="37801"/>
                </a:lnTo>
                <a:lnTo>
                  <a:pt x="293318" y="151938"/>
                </a:lnTo>
                <a:lnTo>
                  <a:pt x="422412" y="151938"/>
                </a:lnTo>
                <a:lnTo>
                  <a:pt x="422662" y="151938"/>
                </a:lnTo>
                <a:lnTo>
                  <a:pt x="569448" y="151938"/>
                </a:lnTo>
                <a:lnTo>
                  <a:pt x="569448" y="22131"/>
                </a:lnTo>
                <a:lnTo>
                  <a:pt x="680845" y="22131"/>
                </a:lnTo>
                <a:lnTo>
                  <a:pt x="686801" y="22131"/>
                </a:lnTo>
                <a:lnTo>
                  <a:pt x="696237" y="22131"/>
                </a:lnTo>
                <a:lnTo>
                  <a:pt x="696237" y="114421"/>
                </a:lnTo>
                <a:lnTo>
                  <a:pt x="696237" y="121449"/>
                </a:lnTo>
                <a:lnTo>
                  <a:pt x="696237" y="129459"/>
                </a:lnTo>
                <a:lnTo>
                  <a:pt x="625176" y="129459"/>
                </a:lnTo>
                <a:lnTo>
                  <a:pt x="617746" y="129459"/>
                </a:lnTo>
                <a:lnTo>
                  <a:pt x="608134" y="129459"/>
                </a:lnTo>
                <a:lnTo>
                  <a:pt x="608134" y="74910"/>
                </a:lnTo>
                <a:lnTo>
                  <a:pt x="608134" y="70782"/>
                </a:lnTo>
                <a:lnTo>
                  <a:pt x="608134" y="59814"/>
                </a:lnTo>
                <a:lnTo>
                  <a:pt x="643988" y="59814"/>
                </a:lnTo>
                <a:lnTo>
                  <a:pt x="649807" y="59814"/>
                </a:lnTo>
                <a:lnTo>
                  <a:pt x="659085" y="59814"/>
                </a:lnTo>
                <a:lnTo>
                  <a:pt x="659085" y="93309"/>
                </a:lnTo>
                <a:lnTo>
                  <a:pt x="643988" y="93309"/>
                </a:lnTo>
                <a:lnTo>
                  <a:pt x="643988" y="74910"/>
                </a:lnTo>
                <a:lnTo>
                  <a:pt x="625176" y="74910"/>
                </a:lnTo>
                <a:lnTo>
                  <a:pt x="625176" y="114421"/>
                </a:lnTo>
                <a:lnTo>
                  <a:pt x="680845" y="114421"/>
                </a:lnTo>
                <a:lnTo>
                  <a:pt x="680845" y="37801"/>
                </a:lnTo>
                <a:lnTo>
                  <a:pt x="587140" y="37801"/>
                </a:lnTo>
                <a:lnTo>
                  <a:pt x="587140" y="151938"/>
                </a:lnTo>
                <a:lnTo>
                  <a:pt x="716235" y="151938"/>
                </a:lnTo>
                <a:lnTo>
                  <a:pt x="716484" y="151938"/>
                </a:lnTo>
                <a:lnTo>
                  <a:pt x="863270" y="151938"/>
                </a:lnTo>
                <a:lnTo>
                  <a:pt x="863270" y="22691"/>
                </a:lnTo>
                <a:lnTo>
                  <a:pt x="973806" y="22691"/>
                </a:lnTo>
                <a:lnTo>
                  <a:pt x="979761" y="22691"/>
                </a:lnTo>
                <a:lnTo>
                  <a:pt x="989197" y="22691"/>
                </a:lnTo>
                <a:lnTo>
                  <a:pt x="989197" y="114981"/>
                </a:lnTo>
                <a:lnTo>
                  <a:pt x="989197" y="122009"/>
                </a:lnTo>
                <a:lnTo>
                  <a:pt x="989197" y="130019"/>
                </a:lnTo>
                <a:lnTo>
                  <a:pt x="918136" y="130019"/>
                </a:lnTo>
                <a:lnTo>
                  <a:pt x="910706" y="130019"/>
                </a:lnTo>
                <a:lnTo>
                  <a:pt x="901094" y="130019"/>
                </a:lnTo>
                <a:lnTo>
                  <a:pt x="901094" y="75470"/>
                </a:lnTo>
                <a:lnTo>
                  <a:pt x="901094" y="71342"/>
                </a:lnTo>
                <a:lnTo>
                  <a:pt x="901094" y="60374"/>
                </a:lnTo>
                <a:lnTo>
                  <a:pt x="936948" y="60374"/>
                </a:lnTo>
                <a:lnTo>
                  <a:pt x="942767" y="60374"/>
                </a:lnTo>
                <a:lnTo>
                  <a:pt x="952045" y="60374"/>
                </a:lnTo>
                <a:lnTo>
                  <a:pt x="952045" y="93869"/>
                </a:lnTo>
                <a:lnTo>
                  <a:pt x="936948" y="93869"/>
                </a:lnTo>
                <a:lnTo>
                  <a:pt x="936948" y="75470"/>
                </a:lnTo>
                <a:lnTo>
                  <a:pt x="918136" y="75470"/>
                </a:lnTo>
                <a:lnTo>
                  <a:pt x="918136" y="114981"/>
                </a:lnTo>
                <a:lnTo>
                  <a:pt x="973806" y="114981"/>
                </a:lnTo>
                <a:lnTo>
                  <a:pt x="973806" y="38361"/>
                </a:lnTo>
                <a:lnTo>
                  <a:pt x="880100" y="38361"/>
                </a:lnTo>
                <a:lnTo>
                  <a:pt x="880100" y="152498"/>
                </a:lnTo>
                <a:lnTo>
                  <a:pt x="1009195" y="152498"/>
                </a:lnTo>
                <a:lnTo>
                  <a:pt x="1009444" y="152498"/>
                </a:lnTo>
                <a:lnTo>
                  <a:pt x="1156230" y="152498"/>
                </a:lnTo>
                <a:lnTo>
                  <a:pt x="1156230" y="22415"/>
                </a:lnTo>
                <a:lnTo>
                  <a:pt x="1266767" y="22415"/>
                </a:lnTo>
                <a:lnTo>
                  <a:pt x="1272723" y="22415"/>
                </a:lnTo>
                <a:lnTo>
                  <a:pt x="1282159" y="22415"/>
                </a:lnTo>
                <a:lnTo>
                  <a:pt x="1282159" y="114705"/>
                </a:lnTo>
                <a:lnTo>
                  <a:pt x="1282159" y="121733"/>
                </a:lnTo>
                <a:lnTo>
                  <a:pt x="1282159" y="129743"/>
                </a:lnTo>
                <a:lnTo>
                  <a:pt x="1211098" y="129743"/>
                </a:lnTo>
                <a:lnTo>
                  <a:pt x="1203668" y="129743"/>
                </a:lnTo>
                <a:lnTo>
                  <a:pt x="1194055" y="129743"/>
                </a:lnTo>
                <a:lnTo>
                  <a:pt x="1194055" y="75194"/>
                </a:lnTo>
                <a:lnTo>
                  <a:pt x="1194055" y="71066"/>
                </a:lnTo>
                <a:lnTo>
                  <a:pt x="1194055" y="60098"/>
                </a:lnTo>
                <a:lnTo>
                  <a:pt x="1229910" y="60098"/>
                </a:lnTo>
                <a:lnTo>
                  <a:pt x="1235729" y="60098"/>
                </a:lnTo>
                <a:lnTo>
                  <a:pt x="1245007" y="60098"/>
                </a:lnTo>
                <a:lnTo>
                  <a:pt x="1245007" y="93593"/>
                </a:lnTo>
                <a:lnTo>
                  <a:pt x="1229910" y="93593"/>
                </a:lnTo>
                <a:lnTo>
                  <a:pt x="1229910" y="75194"/>
                </a:lnTo>
                <a:lnTo>
                  <a:pt x="1211098" y="75194"/>
                </a:lnTo>
                <a:lnTo>
                  <a:pt x="1211098" y="114705"/>
                </a:lnTo>
                <a:lnTo>
                  <a:pt x="1266767" y="114705"/>
                </a:lnTo>
                <a:lnTo>
                  <a:pt x="1266767" y="38085"/>
                </a:lnTo>
                <a:lnTo>
                  <a:pt x="1173062" y="38085"/>
                </a:lnTo>
                <a:lnTo>
                  <a:pt x="1173062" y="152222"/>
                </a:lnTo>
                <a:lnTo>
                  <a:pt x="1302157" y="152222"/>
                </a:lnTo>
                <a:lnTo>
                  <a:pt x="1302406" y="152222"/>
                </a:lnTo>
                <a:lnTo>
                  <a:pt x="1449192" y="152222"/>
                </a:lnTo>
                <a:lnTo>
                  <a:pt x="1449192" y="22415"/>
                </a:lnTo>
                <a:lnTo>
                  <a:pt x="1559727" y="22415"/>
                </a:lnTo>
                <a:lnTo>
                  <a:pt x="1565683" y="22415"/>
                </a:lnTo>
                <a:lnTo>
                  <a:pt x="1575119" y="22415"/>
                </a:lnTo>
                <a:lnTo>
                  <a:pt x="1575119" y="114705"/>
                </a:lnTo>
                <a:lnTo>
                  <a:pt x="1575119" y="121733"/>
                </a:lnTo>
                <a:lnTo>
                  <a:pt x="1575119" y="129743"/>
                </a:lnTo>
                <a:lnTo>
                  <a:pt x="1504058" y="129743"/>
                </a:lnTo>
                <a:lnTo>
                  <a:pt x="1496628" y="129743"/>
                </a:lnTo>
                <a:lnTo>
                  <a:pt x="1487015" y="129743"/>
                </a:lnTo>
                <a:lnTo>
                  <a:pt x="1487015" y="75194"/>
                </a:lnTo>
                <a:lnTo>
                  <a:pt x="1487015" y="71066"/>
                </a:lnTo>
                <a:lnTo>
                  <a:pt x="1487015" y="60098"/>
                </a:lnTo>
                <a:lnTo>
                  <a:pt x="1522870" y="60098"/>
                </a:lnTo>
                <a:lnTo>
                  <a:pt x="1528689" y="60098"/>
                </a:lnTo>
                <a:lnTo>
                  <a:pt x="1537967" y="60098"/>
                </a:lnTo>
                <a:lnTo>
                  <a:pt x="1537967" y="93593"/>
                </a:lnTo>
                <a:lnTo>
                  <a:pt x="1522870" y="93593"/>
                </a:lnTo>
                <a:lnTo>
                  <a:pt x="1522870" y="75194"/>
                </a:lnTo>
                <a:lnTo>
                  <a:pt x="1504058" y="75194"/>
                </a:lnTo>
                <a:lnTo>
                  <a:pt x="1504058" y="114705"/>
                </a:lnTo>
                <a:lnTo>
                  <a:pt x="1559727" y="114705"/>
                </a:lnTo>
                <a:lnTo>
                  <a:pt x="1559727" y="38085"/>
                </a:lnTo>
                <a:lnTo>
                  <a:pt x="1466021" y="38085"/>
                </a:lnTo>
                <a:lnTo>
                  <a:pt x="1466021" y="152222"/>
                </a:lnTo>
                <a:lnTo>
                  <a:pt x="1595117" y="152222"/>
                </a:lnTo>
                <a:lnTo>
                  <a:pt x="1595366" y="152222"/>
                </a:lnTo>
                <a:lnTo>
                  <a:pt x="1742152" y="152222"/>
                </a:lnTo>
                <a:lnTo>
                  <a:pt x="1742152" y="22415"/>
                </a:lnTo>
                <a:lnTo>
                  <a:pt x="1853549" y="22415"/>
                </a:lnTo>
                <a:lnTo>
                  <a:pt x="1859505" y="22415"/>
                </a:lnTo>
                <a:lnTo>
                  <a:pt x="1868941" y="22415"/>
                </a:lnTo>
                <a:lnTo>
                  <a:pt x="1868941" y="114705"/>
                </a:lnTo>
                <a:lnTo>
                  <a:pt x="1868941" y="121733"/>
                </a:lnTo>
                <a:lnTo>
                  <a:pt x="1868941" y="129743"/>
                </a:lnTo>
                <a:lnTo>
                  <a:pt x="1797880" y="129743"/>
                </a:lnTo>
                <a:lnTo>
                  <a:pt x="1790450" y="129743"/>
                </a:lnTo>
                <a:lnTo>
                  <a:pt x="1780837" y="129743"/>
                </a:lnTo>
                <a:lnTo>
                  <a:pt x="1780837" y="75194"/>
                </a:lnTo>
                <a:lnTo>
                  <a:pt x="1780837" y="71066"/>
                </a:lnTo>
                <a:lnTo>
                  <a:pt x="1780837" y="60098"/>
                </a:lnTo>
                <a:lnTo>
                  <a:pt x="1816692" y="60098"/>
                </a:lnTo>
                <a:lnTo>
                  <a:pt x="1822511" y="60098"/>
                </a:lnTo>
                <a:lnTo>
                  <a:pt x="1831789" y="60098"/>
                </a:lnTo>
                <a:lnTo>
                  <a:pt x="1831789" y="93593"/>
                </a:lnTo>
                <a:lnTo>
                  <a:pt x="1816692" y="93593"/>
                </a:lnTo>
                <a:lnTo>
                  <a:pt x="1816692" y="75194"/>
                </a:lnTo>
                <a:lnTo>
                  <a:pt x="1797880" y="75194"/>
                </a:lnTo>
                <a:lnTo>
                  <a:pt x="1797880" y="114705"/>
                </a:lnTo>
                <a:lnTo>
                  <a:pt x="1853549" y="114705"/>
                </a:lnTo>
                <a:lnTo>
                  <a:pt x="1853549" y="38085"/>
                </a:lnTo>
                <a:lnTo>
                  <a:pt x="1759843" y="38085"/>
                </a:lnTo>
                <a:lnTo>
                  <a:pt x="1759843" y="152222"/>
                </a:lnTo>
                <a:lnTo>
                  <a:pt x="1888939" y="152222"/>
                </a:lnTo>
                <a:lnTo>
                  <a:pt x="1889188" y="152222"/>
                </a:lnTo>
                <a:lnTo>
                  <a:pt x="2035974" y="152222"/>
                </a:lnTo>
                <a:lnTo>
                  <a:pt x="2035974" y="22975"/>
                </a:lnTo>
                <a:lnTo>
                  <a:pt x="2146510" y="22975"/>
                </a:lnTo>
                <a:lnTo>
                  <a:pt x="2152466" y="22975"/>
                </a:lnTo>
                <a:lnTo>
                  <a:pt x="2161902" y="22975"/>
                </a:lnTo>
                <a:lnTo>
                  <a:pt x="2161902" y="115265"/>
                </a:lnTo>
                <a:lnTo>
                  <a:pt x="2161902" y="122293"/>
                </a:lnTo>
                <a:lnTo>
                  <a:pt x="2161902" y="130303"/>
                </a:lnTo>
                <a:lnTo>
                  <a:pt x="2090841" y="130303"/>
                </a:lnTo>
                <a:lnTo>
                  <a:pt x="2083411" y="130303"/>
                </a:lnTo>
                <a:lnTo>
                  <a:pt x="2073798" y="130303"/>
                </a:lnTo>
                <a:lnTo>
                  <a:pt x="2073798" y="75754"/>
                </a:lnTo>
                <a:lnTo>
                  <a:pt x="2073798" y="71626"/>
                </a:lnTo>
                <a:lnTo>
                  <a:pt x="2073798" y="60658"/>
                </a:lnTo>
                <a:lnTo>
                  <a:pt x="2109653" y="60658"/>
                </a:lnTo>
                <a:lnTo>
                  <a:pt x="2115472" y="60658"/>
                </a:lnTo>
                <a:lnTo>
                  <a:pt x="2124750" y="60658"/>
                </a:lnTo>
                <a:lnTo>
                  <a:pt x="2124750" y="94153"/>
                </a:lnTo>
                <a:lnTo>
                  <a:pt x="2109653" y="94153"/>
                </a:lnTo>
                <a:lnTo>
                  <a:pt x="2109653" y="75754"/>
                </a:lnTo>
                <a:lnTo>
                  <a:pt x="2090841" y="75754"/>
                </a:lnTo>
                <a:lnTo>
                  <a:pt x="2090841" y="115265"/>
                </a:lnTo>
                <a:lnTo>
                  <a:pt x="2146510" y="115265"/>
                </a:lnTo>
                <a:lnTo>
                  <a:pt x="2146510" y="38645"/>
                </a:lnTo>
                <a:lnTo>
                  <a:pt x="2052804" y="38645"/>
                </a:lnTo>
                <a:lnTo>
                  <a:pt x="2052804" y="152782"/>
                </a:lnTo>
                <a:lnTo>
                  <a:pt x="2181900" y="152782"/>
                </a:lnTo>
                <a:lnTo>
                  <a:pt x="2182149" y="152782"/>
                </a:lnTo>
                <a:lnTo>
                  <a:pt x="2328935" y="152782"/>
                </a:lnTo>
                <a:lnTo>
                  <a:pt x="2328935" y="22691"/>
                </a:lnTo>
                <a:lnTo>
                  <a:pt x="2439471" y="22691"/>
                </a:lnTo>
                <a:lnTo>
                  <a:pt x="2445427" y="22691"/>
                </a:lnTo>
                <a:lnTo>
                  <a:pt x="2454863" y="22691"/>
                </a:lnTo>
                <a:lnTo>
                  <a:pt x="2454863" y="114981"/>
                </a:lnTo>
                <a:lnTo>
                  <a:pt x="2454863" y="122009"/>
                </a:lnTo>
                <a:lnTo>
                  <a:pt x="2454863" y="130019"/>
                </a:lnTo>
                <a:lnTo>
                  <a:pt x="2383802" y="130019"/>
                </a:lnTo>
                <a:lnTo>
                  <a:pt x="2376372" y="130019"/>
                </a:lnTo>
                <a:lnTo>
                  <a:pt x="2366759" y="130019"/>
                </a:lnTo>
                <a:lnTo>
                  <a:pt x="2366759" y="75470"/>
                </a:lnTo>
                <a:lnTo>
                  <a:pt x="2366759" y="71342"/>
                </a:lnTo>
                <a:lnTo>
                  <a:pt x="2366759" y="60374"/>
                </a:lnTo>
                <a:lnTo>
                  <a:pt x="2402614" y="60374"/>
                </a:lnTo>
                <a:lnTo>
                  <a:pt x="2408433" y="60374"/>
                </a:lnTo>
                <a:lnTo>
                  <a:pt x="2417711" y="60374"/>
                </a:lnTo>
                <a:lnTo>
                  <a:pt x="2417711" y="93869"/>
                </a:lnTo>
                <a:lnTo>
                  <a:pt x="2402614" y="93869"/>
                </a:lnTo>
                <a:lnTo>
                  <a:pt x="2402614" y="75470"/>
                </a:lnTo>
                <a:lnTo>
                  <a:pt x="2383802" y="75470"/>
                </a:lnTo>
                <a:lnTo>
                  <a:pt x="2383802" y="114981"/>
                </a:lnTo>
                <a:lnTo>
                  <a:pt x="2439471" y="114981"/>
                </a:lnTo>
                <a:lnTo>
                  <a:pt x="2439471" y="38361"/>
                </a:lnTo>
                <a:lnTo>
                  <a:pt x="2345765" y="38361"/>
                </a:lnTo>
                <a:lnTo>
                  <a:pt x="2345765" y="152498"/>
                </a:lnTo>
                <a:lnTo>
                  <a:pt x="2474861" y="152498"/>
                </a:lnTo>
                <a:lnTo>
                  <a:pt x="2475110" y="152498"/>
                </a:lnTo>
                <a:lnTo>
                  <a:pt x="2621896" y="152498"/>
                </a:lnTo>
                <a:lnTo>
                  <a:pt x="2621896" y="22691"/>
                </a:lnTo>
                <a:lnTo>
                  <a:pt x="2732432" y="22691"/>
                </a:lnTo>
                <a:lnTo>
                  <a:pt x="2738388" y="22691"/>
                </a:lnTo>
                <a:lnTo>
                  <a:pt x="2747824" y="22691"/>
                </a:lnTo>
                <a:lnTo>
                  <a:pt x="2747824" y="114981"/>
                </a:lnTo>
                <a:lnTo>
                  <a:pt x="2747824" y="122009"/>
                </a:lnTo>
                <a:lnTo>
                  <a:pt x="2747824" y="130019"/>
                </a:lnTo>
                <a:lnTo>
                  <a:pt x="2676763" y="130019"/>
                </a:lnTo>
                <a:lnTo>
                  <a:pt x="2669333" y="130019"/>
                </a:lnTo>
                <a:lnTo>
                  <a:pt x="2659720" y="130019"/>
                </a:lnTo>
                <a:lnTo>
                  <a:pt x="2659720" y="75470"/>
                </a:lnTo>
                <a:lnTo>
                  <a:pt x="2659720" y="71342"/>
                </a:lnTo>
                <a:lnTo>
                  <a:pt x="2659720" y="60374"/>
                </a:lnTo>
                <a:lnTo>
                  <a:pt x="2695575" y="60374"/>
                </a:lnTo>
                <a:lnTo>
                  <a:pt x="2701394" y="60374"/>
                </a:lnTo>
                <a:lnTo>
                  <a:pt x="2710672" y="60374"/>
                </a:lnTo>
                <a:lnTo>
                  <a:pt x="2710672" y="93869"/>
                </a:lnTo>
                <a:lnTo>
                  <a:pt x="2695575" y="93869"/>
                </a:lnTo>
                <a:lnTo>
                  <a:pt x="2695575" y="75470"/>
                </a:lnTo>
                <a:lnTo>
                  <a:pt x="2676763" y="75470"/>
                </a:lnTo>
                <a:lnTo>
                  <a:pt x="2676763" y="114981"/>
                </a:lnTo>
                <a:lnTo>
                  <a:pt x="2732432" y="114981"/>
                </a:lnTo>
                <a:lnTo>
                  <a:pt x="2732432" y="38361"/>
                </a:lnTo>
                <a:lnTo>
                  <a:pt x="2638726" y="38361"/>
                </a:lnTo>
                <a:lnTo>
                  <a:pt x="2638726" y="152498"/>
                </a:lnTo>
                <a:lnTo>
                  <a:pt x="2767822" y="152498"/>
                </a:lnTo>
                <a:lnTo>
                  <a:pt x="2768071" y="152498"/>
                </a:lnTo>
                <a:lnTo>
                  <a:pt x="2914857" y="152498"/>
                </a:lnTo>
                <a:lnTo>
                  <a:pt x="2914857" y="22691"/>
                </a:lnTo>
                <a:lnTo>
                  <a:pt x="3026254" y="22691"/>
                </a:lnTo>
                <a:lnTo>
                  <a:pt x="3032210" y="22691"/>
                </a:lnTo>
                <a:lnTo>
                  <a:pt x="3041646" y="22691"/>
                </a:lnTo>
                <a:lnTo>
                  <a:pt x="3041646" y="114981"/>
                </a:lnTo>
                <a:lnTo>
                  <a:pt x="3041646" y="122009"/>
                </a:lnTo>
                <a:lnTo>
                  <a:pt x="3041646" y="130019"/>
                </a:lnTo>
                <a:lnTo>
                  <a:pt x="2970585" y="130019"/>
                </a:lnTo>
                <a:lnTo>
                  <a:pt x="2963155" y="130019"/>
                </a:lnTo>
                <a:lnTo>
                  <a:pt x="2953542" y="130019"/>
                </a:lnTo>
                <a:lnTo>
                  <a:pt x="2953542" y="75470"/>
                </a:lnTo>
                <a:lnTo>
                  <a:pt x="2953542" y="71342"/>
                </a:lnTo>
                <a:lnTo>
                  <a:pt x="2953542" y="60374"/>
                </a:lnTo>
                <a:lnTo>
                  <a:pt x="2989397" y="60374"/>
                </a:lnTo>
                <a:lnTo>
                  <a:pt x="2995216" y="60374"/>
                </a:lnTo>
                <a:lnTo>
                  <a:pt x="3004494" y="60374"/>
                </a:lnTo>
                <a:lnTo>
                  <a:pt x="3004494" y="93869"/>
                </a:lnTo>
                <a:lnTo>
                  <a:pt x="2989397" y="93869"/>
                </a:lnTo>
                <a:lnTo>
                  <a:pt x="2989397" y="75470"/>
                </a:lnTo>
                <a:lnTo>
                  <a:pt x="2970585" y="75470"/>
                </a:lnTo>
                <a:lnTo>
                  <a:pt x="2970585" y="114981"/>
                </a:lnTo>
                <a:lnTo>
                  <a:pt x="3026254" y="114981"/>
                </a:lnTo>
                <a:lnTo>
                  <a:pt x="3026254" y="38361"/>
                </a:lnTo>
                <a:lnTo>
                  <a:pt x="2932548" y="38361"/>
                </a:lnTo>
                <a:lnTo>
                  <a:pt x="2932548" y="152498"/>
                </a:lnTo>
                <a:lnTo>
                  <a:pt x="3061644" y="152498"/>
                </a:lnTo>
                <a:lnTo>
                  <a:pt x="3061893" y="152498"/>
                </a:lnTo>
                <a:lnTo>
                  <a:pt x="3208679" y="152498"/>
                </a:lnTo>
                <a:lnTo>
                  <a:pt x="3208679" y="23251"/>
                </a:lnTo>
                <a:lnTo>
                  <a:pt x="3319214" y="23251"/>
                </a:lnTo>
                <a:lnTo>
                  <a:pt x="3325170" y="23251"/>
                </a:lnTo>
                <a:lnTo>
                  <a:pt x="3334606" y="23251"/>
                </a:lnTo>
                <a:lnTo>
                  <a:pt x="3334606" y="115541"/>
                </a:lnTo>
                <a:lnTo>
                  <a:pt x="3334606" y="122569"/>
                </a:lnTo>
                <a:lnTo>
                  <a:pt x="3334606" y="130579"/>
                </a:lnTo>
                <a:lnTo>
                  <a:pt x="3263545" y="130579"/>
                </a:lnTo>
                <a:lnTo>
                  <a:pt x="3256115" y="130579"/>
                </a:lnTo>
                <a:lnTo>
                  <a:pt x="3246502" y="130579"/>
                </a:lnTo>
                <a:lnTo>
                  <a:pt x="3246502" y="76030"/>
                </a:lnTo>
                <a:lnTo>
                  <a:pt x="3246502" y="71902"/>
                </a:lnTo>
                <a:lnTo>
                  <a:pt x="3246502" y="60934"/>
                </a:lnTo>
                <a:lnTo>
                  <a:pt x="3282357" y="60934"/>
                </a:lnTo>
                <a:lnTo>
                  <a:pt x="3288176" y="60934"/>
                </a:lnTo>
                <a:lnTo>
                  <a:pt x="3297454" y="60934"/>
                </a:lnTo>
                <a:lnTo>
                  <a:pt x="3297454" y="94429"/>
                </a:lnTo>
                <a:lnTo>
                  <a:pt x="3282357" y="94429"/>
                </a:lnTo>
                <a:lnTo>
                  <a:pt x="3282357" y="76030"/>
                </a:lnTo>
                <a:lnTo>
                  <a:pt x="3263545" y="76030"/>
                </a:lnTo>
                <a:lnTo>
                  <a:pt x="3263545" y="115541"/>
                </a:lnTo>
                <a:lnTo>
                  <a:pt x="3319214" y="115541"/>
                </a:lnTo>
                <a:lnTo>
                  <a:pt x="3319214" y="38921"/>
                </a:lnTo>
                <a:lnTo>
                  <a:pt x="3225508" y="38921"/>
                </a:lnTo>
                <a:lnTo>
                  <a:pt x="3225508" y="153058"/>
                </a:lnTo>
                <a:lnTo>
                  <a:pt x="3354604" y="153058"/>
                </a:lnTo>
                <a:lnTo>
                  <a:pt x="3354853" y="153058"/>
                </a:lnTo>
                <a:lnTo>
                  <a:pt x="3501639" y="153058"/>
                </a:lnTo>
                <a:lnTo>
                  <a:pt x="3501639" y="22131"/>
                </a:lnTo>
                <a:lnTo>
                  <a:pt x="3611315" y="22131"/>
                </a:lnTo>
                <a:lnTo>
                  <a:pt x="3617271" y="22131"/>
                </a:lnTo>
                <a:lnTo>
                  <a:pt x="3626707" y="22131"/>
                </a:lnTo>
                <a:lnTo>
                  <a:pt x="3626707" y="114421"/>
                </a:lnTo>
                <a:lnTo>
                  <a:pt x="3626707" y="121449"/>
                </a:lnTo>
                <a:lnTo>
                  <a:pt x="3626707" y="129459"/>
                </a:lnTo>
                <a:lnTo>
                  <a:pt x="3555646" y="129459"/>
                </a:lnTo>
                <a:lnTo>
                  <a:pt x="3548216" y="129459"/>
                </a:lnTo>
                <a:lnTo>
                  <a:pt x="3538603" y="129459"/>
                </a:lnTo>
                <a:lnTo>
                  <a:pt x="3538603" y="74910"/>
                </a:lnTo>
                <a:lnTo>
                  <a:pt x="3538603" y="70782"/>
                </a:lnTo>
                <a:lnTo>
                  <a:pt x="3538603" y="59814"/>
                </a:lnTo>
                <a:lnTo>
                  <a:pt x="3574458" y="59814"/>
                </a:lnTo>
                <a:lnTo>
                  <a:pt x="3580277" y="59814"/>
                </a:lnTo>
                <a:lnTo>
                  <a:pt x="3589555" y="59814"/>
                </a:lnTo>
                <a:lnTo>
                  <a:pt x="3589555" y="93309"/>
                </a:lnTo>
                <a:lnTo>
                  <a:pt x="3574458" y="93309"/>
                </a:lnTo>
                <a:lnTo>
                  <a:pt x="3574458" y="74910"/>
                </a:lnTo>
                <a:lnTo>
                  <a:pt x="3555646" y="74910"/>
                </a:lnTo>
                <a:lnTo>
                  <a:pt x="3555646" y="114421"/>
                </a:lnTo>
                <a:lnTo>
                  <a:pt x="3611315" y="114421"/>
                </a:lnTo>
                <a:lnTo>
                  <a:pt x="3611315" y="37801"/>
                </a:lnTo>
                <a:lnTo>
                  <a:pt x="3517610" y="37801"/>
                </a:lnTo>
                <a:lnTo>
                  <a:pt x="3517610" y="151938"/>
                </a:lnTo>
                <a:lnTo>
                  <a:pt x="3646705" y="151938"/>
                </a:lnTo>
                <a:lnTo>
                  <a:pt x="3646954" y="151938"/>
                </a:lnTo>
                <a:lnTo>
                  <a:pt x="3793740" y="151938"/>
                </a:lnTo>
                <a:lnTo>
                  <a:pt x="3793740" y="22131"/>
                </a:lnTo>
                <a:lnTo>
                  <a:pt x="3904276" y="22131"/>
                </a:lnTo>
                <a:lnTo>
                  <a:pt x="3910232" y="22131"/>
                </a:lnTo>
                <a:lnTo>
                  <a:pt x="3919668" y="22131"/>
                </a:lnTo>
                <a:lnTo>
                  <a:pt x="3919668" y="114421"/>
                </a:lnTo>
                <a:lnTo>
                  <a:pt x="3919668" y="121449"/>
                </a:lnTo>
                <a:lnTo>
                  <a:pt x="3919668" y="129459"/>
                </a:lnTo>
                <a:lnTo>
                  <a:pt x="3848607" y="129459"/>
                </a:lnTo>
                <a:lnTo>
                  <a:pt x="3841177" y="129459"/>
                </a:lnTo>
                <a:lnTo>
                  <a:pt x="3831564" y="129459"/>
                </a:lnTo>
                <a:lnTo>
                  <a:pt x="3831564" y="74910"/>
                </a:lnTo>
                <a:lnTo>
                  <a:pt x="3831564" y="70782"/>
                </a:lnTo>
                <a:lnTo>
                  <a:pt x="3831564" y="59814"/>
                </a:lnTo>
                <a:lnTo>
                  <a:pt x="3867419" y="59814"/>
                </a:lnTo>
                <a:lnTo>
                  <a:pt x="3873238" y="59814"/>
                </a:lnTo>
                <a:lnTo>
                  <a:pt x="3882516" y="59814"/>
                </a:lnTo>
                <a:lnTo>
                  <a:pt x="3882516" y="93309"/>
                </a:lnTo>
                <a:lnTo>
                  <a:pt x="3867419" y="93309"/>
                </a:lnTo>
                <a:lnTo>
                  <a:pt x="3867419" y="74910"/>
                </a:lnTo>
                <a:lnTo>
                  <a:pt x="3848607" y="74910"/>
                </a:lnTo>
                <a:lnTo>
                  <a:pt x="3848607" y="114421"/>
                </a:lnTo>
                <a:lnTo>
                  <a:pt x="3904276" y="114421"/>
                </a:lnTo>
                <a:lnTo>
                  <a:pt x="3904276" y="37801"/>
                </a:lnTo>
                <a:lnTo>
                  <a:pt x="3810571" y="37801"/>
                </a:lnTo>
                <a:lnTo>
                  <a:pt x="3810571" y="151938"/>
                </a:lnTo>
                <a:lnTo>
                  <a:pt x="3939666" y="151938"/>
                </a:lnTo>
                <a:lnTo>
                  <a:pt x="3939915" y="151938"/>
                </a:lnTo>
                <a:lnTo>
                  <a:pt x="4086701" y="151938"/>
                </a:lnTo>
                <a:lnTo>
                  <a:pt x="4086701" y="22131"/>
                </a:lnTo>
                <a:lnTo>
                  <a:pt x="4198097" y="22131"/>
                </a:lnTo>
                <a:lnTo>
                  <a:pt x="4204053" y="22131"/>
                </a:lnTo>
                <a:lnTo>
                  <a:pt x="4213489" y="22131"/>
                </a:lnTo>
                <a:lnTo>
                  <a:pt x="4213489" y="114421"/>
                </a:lnTo>
                <a:lnTo>
                  <a:pt x="4213489" y="121449"/>
                </a:lnTo>
                <a:lnTo>
                  <a:pt x="4213489" y="129459"/>
                </a:lnTo>
                <a:lnTo>
                  <a:pt x="4142428" y="129459"/>
                </a:lnTo>
                <a:lnTo>
                  <a:pt x="4134998" y="129459"/>
                </a:lnTo>
                <a:lnTo>
                  <a:pt x="4125385" y="129459"/>
                </a:lnTo>
                <a:lnTo>
                  <a:pt x="4125385" y="74910"/>
                </a:lnTo>
                <a:lnTo>
                  <a:pt x="4125385" y="70782"/>
                </a:lnTo>
                <a:lnTo>
                  <a:pt x="4125385" y="59814"/>
                </a:lnTo>
                <a:lnTo>
                  <a:pt x="4161240" y="59814"/>
                </a:lnTo>
                <a:lnTo>
                  <a:pt x="4167059" y="59814"/>
                </a:lnTo>
                <a:lnTo>
                  <a:pt x="4176337" y="59814"/>
                </a:lnTo>
                <a:lnTo>
                  <a:pt x="4176337" y="93309"/>
                </a:lnTo>
                <a:lnTo>
                  <a:pt x="4161240" y="93309"/>
                </a:lnTo>
                <a:lnTo>
                  <a:pt x="4161240" y="74910"/>
                </a:lnTo>
                <a:lnTo>
                  <a:pt x="4142428" y="74910"/>
                </a:lnTo>
                <a:lnTo>
                  <a:pt x="4142428" y="114421"/>
                </a:lnTo>
                <a:lnTo>
                  <a:pt x="4198097" y="114421"/>
                </a:lnTo>
                <a:lnTo>
                  <a:pt x="4198097" y="37801"/>
                </a:lnTo>
                <a:lnTo>
                  <a:pt x="4104392" y="37801"/>
                </a:lnTo>
                <a:lnTo>
                  <a:pt x="4104392" y="151938"/>
                </a:lnTo>
                <a:lnTo>
                  <a:pt x="4233487" y="151938"/>
                </a:lnTo>
                <a:lnTo>
                  <a:pt x="4233736" y="151938"/>
                </a:lnTo>
                <a:lnTo>
                  <a:pt x="4380522" y="151938"/>
                </a:lnTo>
                <a:lnTo>
                  <a:pt x="4380522" y="440"/>
                </a:lnTo>
                <a:lnTo>
                  <a:pt x="4251178" y="440"/>
                </a:lnTo>
                <a:lnTo>
                  <a:pt x="4251178" y="114577"/>
                </a:lnTo>
                <a:lnTo>
                  <a:pt x="4344884" y="114577"/>
                </a:lnTo>
                <a:lnTo>
                  <a:pt x="4344884" y="37957"/>
                </a:lnTo>
                <a:lnTo>
                  <a:pt x="4289215" y="37957"/>
                </a:lnTo>
                <a:lnTo>
                  <a:pt x="4289215" y="77468"/>
                </a:lnTo>
                <a:lnTo>
                  <a:pt x="4308027" y="77468"/>
                </a:lnTo>
                <a:lnTo>
                  <a:pt x="4308027" y="59069"/>
                </a:lnTo>
                <a:lnTo>
                  <a:pt x="4323123" y="59069"/>
                </a:lnTo>
                <a:lnTo>
                  <a:pt x="4323123" y="92565"/>
                </a:lnTo>
                <a:lnTo>
                  <a:pt x="4313845" y="92565"/>
                </a:lnTo>
                <a:lnTo>
                  <a:pt x="4308027" y="92565"/>
                </a:lnTo>
                <a:lnTo>
                  <a:pt x="4272172" y="92565"/>
                </a:lnTo>
                <a:lnTo>
                  <a:pt x="4272172" y="81596"/>
                </a:lnTo>
                <a:lnTo>
                  <a:pt x="4272172" y="77468"/>
                </a:lnTo>
                <a:lnTo>
                  <a:pt x="4272172" y="22919"/>
                </a:lnTo>
                <a:lnTo>
                  <a:pt x="4281784" y="22919"/>
                </a:lnTo>
                <a:lnTo>
                  <a:pt x="4289215" y="22919"/>
                </a:lnTo>
                <a:lnTo>
                  <a:pt x="4360275" y="22919"/>
                </a:lnTo>
                <a:lnTo>
                  <a:pt x="4360275" y="30929"/>
                </a:lnTo>
                <a:lnTo>
                  <a:pt x="4360275" y="37957"/>
                </a:lnTo>
                <a:lnTo>
                  <a:pt x="4360275" y="130248"/>
                </a:lnTo>
                <a:lnTo>
                  <a:pt x="4350840" y="130248"/>
                </a:lnTo>
                <a:lnTo>
                  <a:pt x="4344884" y="130248"/>
                </a:lnTo>
                <a:lnTo>
                  <a:pt x="4233736" y="130248"/>
                </a:lnTo>
                <a:lnTo>
                  <a:pt x="4233736" y="440"/>
                </a:lnTo>
                <a:lnTo>
                  <a:pt x="4086701" y="440"/>
                </a:lnTo>
                <a:lnTo>
                  <a:pt x="4086700" y="440"/>
                </a:lnTo>
                <a:lnTo>
                  <a:pt x="3957357" y="440"/>
                </a:lnTo>
                <a:lnTo>
                  <a:pt x="3957357" y="114577"/>
                </a:lnTo>
                <a:lnTo>
                  <a:pt x="4051063" y="114577"/>
                </a:lnTo>
                <a:lnTo>
                  <a:pt x="4051063" y="37957"/>
                </a:lnTo>
                <a:lnTo>
                  <a:pt x="3995394" y="37957"/>
                </a:lnTo>
                <a:lnTo>
                  <a:pt x="3995394" y="77468"/>
                </a:lnTo>
                <a:lnTo>
                  <a:pt x="4014206" y="77468"/>
                </a:lnTo>
                <a:lnTo>
                  <a:pt x="4014206" y="59069"/>
                </a:lnTo>
                <a:lnTo>
                  <a:pt x="4029302" y="59069"/>
                </a:lnTo>
                <a:lnTo>
                  <a:pt x="4029302" y="92565"/>
                </a:lnTo>
                <a:lnTo>
                  <a:pt x="4020024" y="92565"/>
                </a:lnTo>
                <a:lnTo>
                  <a:pt x="4014206" y="92565"/>
                </a:lnTo>
                <a:lnTo>
                  <a:pt x="3978351" y="92565"/>
                </a:lnTo>
                <a:lnTo>
                  <a:pt x="3978351" y="81596"/>
                </a:lnTo>
                <a:lnTo>
                  <a:pt x="3978351" y="77468"/>
                </a:lnTo>
                <a:lnTo>
                  <a:pt x="3978351" y="22919"/>
                </a:lnTo>
                <a:lnTo>
                  <a:pt x="3987963" y="22919"/>
                </a:lnTo>
                <a:lnTo>
                  <a:pt x="3995394" y="22919"/>
                </a:lnTo>
                <a:lnTo>
                  <a:pt x="4066454" y="22919"/>
                </a:lnTo>
                <a:lnTo>
                  <a:pt x="4066454" y="30929"/>
                </a:lnTo>
                <a:lnTo>
                  <a:pt x="4066454" y="37957"/>
                </a:lnTo>
                <a:lnTo>
                  <a:pt x="4066454" y="130248"/>
                </a:lnTo>
                <a:lnTo>
                  <a:pt x="4057019" y="130248"/>
                </a:lnTo>
                <a:lnTo>
                  <a:pt x="4051063" y="130248"/>
                </a:lnTo>
                <a:lnTo>
                  <a:pt x="3939915" y="130248"/>
                </a:lnTo>
                <a:lnTo>
                  <a:pt x="3939915" y="440"/>
                </a:lnTo>
                <a:lnTo>
                  <a:pt x="3793740" y="440"/>
                </a:lnTo>
                <a:lnTo>
                  <a:pt x="3792879" y="440"/>
                </a:lnTo>
                <a:lnTo>
                  <a:pt x="3664396" y="440"/>
                </a:lnTo>
                <a:lnTo>
                  <a:pt x="3664396" y="114577"/>
                </a:lnTo>
                <a:lnTo>
                  <a:pt x="3758102" y="114577"/>
                </a:lnTo>
                <a:lnTo>
                  <a:pt x="3758102" y="37957"/>
                </a:lnTo>
                <a:lnTo>
                  <a:pt x="3702433" y="37957"/>
                </a:lnTo>
                <a:lnTo>
                  <a:pt x="3702433" y="77468"/>
                </a:lnTo>
                <a:lnTo>
                  <a:pt x="3721245" y="77468"/>
                </a:lnTo>
                <a:lnTo>
                  <a:pt x="3721245" y="59069"/>
                </a:lnTo>
                <a:lnTo>
                  <a:pt x="3736341" y="59069"/>
                </a:lnTo>
                <a:lnTo>
                  <a:pt x="3736341" y="92565"/>
                </a:lnTo>
                <a:lnTo>
                  <a:pt x="3727063" y="92565"/>
                </a:lnTo>
                <a:lnTo>
                  <a:pt x="3721245" y="92565"/>
                </a:lnTo>
                <a:lnTo>
                  <a:pt x="3685390" y="92565"/>
                </a:lnTo>
                <a:lnTo>
                  <a:pt x="3685390" y="81596"/>
                </a:lnTo>
                <a:lnTo>
                  <a:pt x="3685390" y="77468"/>
                </a:lnTo>
                <a:lnTo>
                  <a:pt x="3685390" y="22919"/>
                </a:lnTo>
                <a:lnTo>
                  <a:pt x="3695002" y="22919"/>
                </a:lnTo>
                <a:lnTo>
                  <a:pt x="3702433" y="22919"/>
                </a:lnTo>
                <a:lnTo>
                  <a:pt x="3773493" y="22919"/>
                </a:lnTo>
                <a:lnTo>
                  <a:pt x="3773493" y="30929"/>
                </a:lnTo>
                <a:lnTo>
                  <a:pt x="3773493" y="37957"/>
                </a:lnTo>
                <a:lnTo>
                  <a:pt x="3773493" y="130248"/>
                </a:lnTo>
                <a:lnTo>
                  <a:pt x="3764058" y="130248"/>
                </a:lnTo>
                <a:lnTo>
                  <a:pt x="3758102" y="130248"/>
                </a:lnTo>
                <a:lnTo>
                  <a:pt x="3646954" y="130248"/>
                </a:lnTo>
                <a:lnTo>
                  <a:pt x="3646954" y="440"/>
                </a:lnTo>
                <a:lnTo>
                  <a:pt x="3499918" y="440"/>
                </a:lnTo>
                <a:lnTo>
                  <a:pt x="3499918" y="1560"/>
                </a:lnTo>
                <a:lnTo>
                  <a:pt x="3372295" y="1560"/>
                </a:lnTo>
                <a:lnTo>
                  <a:pt x="3372295" y="115697"/>
                </a:lnTo>
                <a:lnTo>
                  <a:pt x="3466001" y="115697"/>
                </a:lnTo>
                <a:lnTo>
                  <a:pt x="3466001" y="39077"/>
                </a:lnTo>
                <a:lnTo>
                  <a:pt x="3410332" y="39077"/>
                </a:lnTo>
                <a:lnTo>
                  <a:pt x="3410332" y="78588"/>
                </a:lnTo>
                <a:lnTo>
                  <a:pt x="3429144" y="78588"/>
                </a:lnTo>
                <a:lnTo>
                  <a:pt x="3429144" y="60189"/>
                </a:lnTo>
                <a:lnTo>
                  <a:pt x="3444240" y="60189"/>
                </a:lnTo>
                <a:lnTo>
                  <a:pt x="3444240" y="93685"/>
                </a:lnTo>
                <a:lnTo>
                  <a:pt x="3434962" y="93685"/>
                </a:lnTo>
                <a:lnTo>
                  <a:pt x="3429144" y="93685"/>
                </a:lnTo>
                <a:lnTo>
                  <a:pt x="3393289" y="93685"/>
                </a:lnTo>
                <a:lnTo>
                  <a:pt x="3393289" y="82716"/>
                </a:lnTo>
                <a:lnTo>
                  <a:pt x="3393289" y="78588"/>
                </a:lnTo>
                <a:lnTo>
                  <a:pt x="3393289" y="24039"/>
                </a:lnTo>
                <a:lnTo>
                  <a:pt x="3402901" y="24039"/>
                </a:lnTo>
                <a:lnTo>
                  <a:pt x="3410332" y="24039"/>
                </a:lnTo>
                <a:lnTo>
                  <a:pt x="3481392" y="24039"/>
                </a:lnTo>
                <a:lnTo>
                  <a:pt x="3481392" y="32049"/>
                </a:lnTo>
                <a:lnTo>
                  <a:pt x="3481392" y="39077"/>
                </a:lnTo>
                <a:lnTo>
                  <a:pt x="3481392" y="131368"/>
                </a:lnTo>
                <a:lnTo>
                  <a:pt x="3471957" y="131368"/>
                </a:lnTo>
                <a:lnTo>
                  <a:pt x="3466001" y="131368"/>
                </a:lnTo>
                <a:lnTo>
                  <a:pt x="3354853" y="131368"/>
                </a:lnTo>
                <a:lnTo>
                  <a:pt x="3354853" y="1560"/>
                </a:lnTo>
                <a:lnTo>
                  <a:pt x="3208679" y="1560"/>
                </a:lnTo>
                <a:lnTo>
                  <a:pt x="3208679" y="1000"/>
                </a:lnTo>
                <a:lnTo>
                  <a:pt x="3079335" y="1000"/>
                </a:lnTo>
                <a:lnTo>
                  <a:pt x="3079335" y="115137"/>
                </a:lnTo>
                <a:lnTo>
                  <a:pt x="3173041" y="115137"/>
                </a:lnTo>
                <a:lnTo>
                  <a:pt x="3173041" y="38517"/>
                </a:lnTo>
                <a:lnTo>
                  <a:pt x="3117371" y="38517"/>
                </a:lnTo>
                <a:lnTo>
                  <a:pt x="3117371" y="78028"/>
                </a:lnTo>
                <a:lnTo>
                  <a:pt x="3136183" y="78028"/>
                </a:lnTo>
                <a:lnTo>
                  <a:pt x="3136183" y="59629"/>
                </a:lnTo>
                <a:lnTo>
                  <a:pt x="3151280" y="59629"/>
                </a:lnTo>
                <a:lnTo>
                  <a:pt x="3151280" y="93125"/>
                </a:lnTo>
                <a:lnTo>
                  <a:pt x="3142002" y="93125"/>
                </a:lnTo>
                <a:lnTo>
                  <a:pt x="3136183" y="93125"/>
                </a:lnTo>
                <a:lnTo>
                  <a:pt x="3100329" y="93125"/>
                </a:lnTo>
                <a:lnTo>
                  <a:pt x="3100329" y="82156"/>
                </a:lnTo>
                <a:lnTo>
                  <a:pt x="3100329" y="78028"/>
                </a:lnTo>
                <a:lnTo>
                  <a:pt x="3100329" y="23479"/>
                </a:lnTo>
                <a:lnTo>
                  <a:pt x="3109941" y="23479"/>
                </a:lnTo>
                <a:lnTo>
                  <a:pt x="3117371" y="23479"/>
                </a:lnTo>
                <a:lnTo>
                  <a:pt x="3188432" y="23479"/>
                </a:lnTo>
                <a:lnTo>
                  <a:pt x="3188432" y="31489"/>
                </a:lnTo>
                <a:lnTo>
                  <a:pt x="3188432" y="38517"/>
                </a:lnTo>
                <a:lnTo>
                  <a:pt x="3188432" y="130808"/>
                </a:lnTo>
                <a:lnTo>
                  <a:pt x="3178997" y="130808"/>
                </a:lnTo>
                <a:lnTo>
                  <a:pt x="3173041" y="130808"/>
                </a:lnTo>
                <a:lnTo>
                  <a:pt x="3061893" y="130808"/>
                </a:lnTo>
                <a:lnTo>
                  <a:pt x="3061893" y="1000"/>
                </a:lnTo>
                <a:lnTo>
                  <a:pt x="2914857" y="1000"/>
                </a:lnTo>
                <a:lnTo>
                  <a:pt x="2785513" y="1000"/>
                </a:lnTo>
                <a:lnTo>
                  <a:pt x="2785513" y="115137"/>
                </a:lnTo>
                <a:lnTo>
                  <a:pt x="2879219" y="115137"/>
                </a:lnTo>
                <a:lnTo>
                  <a:pt x="2879219" y="38517"/>
                </a:lnTo>
                <a:lnTo>
                  <a:pt x="2823549" y="38517"/>
                </a:lnTo>
                <a:lnTo>
                  <a:pt x="2823549" y="78028"/>
                </a:lnTo>
                <a:lnTo>
                  <a:pt x="2842361" y="78028"/>
                </a:lnTo>
                <a:lnTo>
                  <a:pt x="2842361" y="59629"/>
                </a:lnTo>
                <a:lnTo>
                  <a:pt x="2857458" y="59629"/>
                </a:lnTo>
                <a:lnTo>
                  <a:pt x="2857458" y="93125"/>
                </a:lnTo>
                <a:lnTo>
                  <a:pt x="2848180" y="93125"/>
                </a:lnTo>
                <a:lnTo>
                  <a:pt x="2842361" y="93125"/>
                </a:lnTo>
                <a:lnTo>
                  <a:pt x="2806507" y="93125"/>
                </a:lnTo>
                <a:lnTo>
                  <a:pt x="2806507" y="82156"/>
                </a:lnTo>
                <a:lnTo>
                  <a:pt x="2806507" y="78028"/>
                </a:lnTo>
                <a:lnTo>
                  <a:pt x="2806507" y="23479"/>
                </a:lnTo>
                <a:lnTo>
                  <a:pt x="2816119" y="23479"/>
                </a:lnTo>
                <a:lnTo>
                  <a:pt x="2823549" y="23479"/>
                </a:lnTo>
                <a:lnTo>
                  <a:pt x="2894610" y="23479"/>
                </a:lnTo>
                <a:lnTo>
                  <a:pt x="2894610" y="31489"/>
                </a:lnTo>
                <a:lnTo>
                  <a:pt x="2894610" y="38517"/>
                </a:lnTo>
                <a:lnTo>
                  <a:pt x="2894610" y="130808"/>
                </a:lnTo>
                <a:lnTo>
                  <a:pt x="2885175" y="130808"/>
                </a:lnTo>
                <a:lnTo>
                  <a:pt x="2879219" y="130808"/>
                </a:lnTo>
                <a:lnTo>
                  <a:pt x="2768071" y="130808"/>
                </a:lnTo>
                <a:lnTo>
                  <a:pt x="2768071" y="1000"/>
                </a:lnTo>
                <a:lnTo>
                  <a:pt x="2621896" y="1000"/>
                </a:lnTo>
                <a:lnTo>
                  <a:pt x="2621035" y="1000"/>
                </a:lnTo>
                <a:lnTo>
                  <a:pt x="2492552" y="1000"/>
                </a:lnTo>
                <a:lnTo>
                  <a:pt x="2492552" y="115137"/>
                </a:lnTo>
                <a:lnTo>
                  <a:pt x="2586258" y="115137"/>
                </a:lnTo>
                <a:lnTo>
                  <a:pt x="2586258" y="38517"/>
                </a:lnTo>
                <a:lnTo>
                  <a:pt x="2530588" y="38517"/>
                </a:lnTo>
                <a:lnTo>
                  <a:pt x="2530588" y="78028"/>
                </a:lnTo>
                <a:lnTo>
                  <a:pt x="2549400" y="78028"/>
                </a:lnTo>
                <a:lnTo>
                  <a:pt x="2549400" y="59629"/>
                </a:lnTo>
                <a:lnTo>
                  <a:pt x="2564497" y="59629"/>
                </a:lnTo>
                <a:lnTo>
                  <a:pt x="2564497" y="93125"/>
                </a:lnTo>
                <a:lnTo>
                  <a:pt x="2555219" y="93125"/>
                </a:lnTo>
                <a:lnTo>
                  <a:pt x="2549400" y="93125"/>
                </a:lnTo>
                <a:lnTo>
                  <a:pt x="2513546" y="93125"/>
                </a:lnTo>
                <a:lnTo>
                  <a:pt x="2513546" y="82156"/>
                </a:lnTo>
                <a:lnTo>
                  <a:pt x="2513546" y="78028"/>
                </a:lnTo>
                <a:lnTo>
                  <a:pt x="2513546" y="23479"/>
                </a:lnTo>
                <a:lnTo>
                  <a:pt x="2523158" y="23479"/>
                </a:lnTo>
                <a:lnTo>
                  <a:pt x="2530588" y="23479"/>
                </a:lnTo>
                <a:lnTo>
                  <a:pt x="2601649" y="23479"/>
                </a:lnTo>
                <a:lnTo>
                  <a:pt x="2601649" y="31489"/>
                </a:lnTo>
                <a:lnTo>
                  <a:pt x="2601649" y="38517"/>
                </a:lnTo>
                <a:lnTo>
                  <a:pt x="2601649" y="130808"/>
                </a:lnTo>
                <a:lnTo>
                  <a:pt x="2592214" y="130808"/>
                </a:lnTo>
                <a:lnTo>
                  <a:pt x="2586258" y="130808"/>
                </a:lnTo>
                <a:lnTo>
                  <a:pt x="2475110" y="130808"/>
                </a:lnTo>
                <a:lnTo>
                  <a:pt x="2475110" y="1000"/>
                </a:lnTo>
                <a:lnTo>
                  <a:pt x="2328074" y="1000"/>
                </a:lnTo>
                <a:lnTo>
                  <a:pt x="2328074" y="1284"/>
                </a:lnTo>
                <a:lnTo>
                  <a:pt x="2199591" y="1284"/>
                </a:lnTo>
                <a:lnTo>
                  <a:pt x="2199591" y="115421"/>
                </a:lnTo>
                <a:lnTo>
                  <a:pt x="2293297" y="115421"/>
                </a:lnTo>
                <a:lnTo>
                  <a:pt x="2293297" y="38801"/>
                </a:lnTo>
                <a:lnTo>
                  <a:pt x="2237627" y="38801"/>
                </a:lnTo>
                <a:lnTo>
                  <a:pt x="2237627" y="78312"/>
                </a:lnTo>
                <a:lnTo>
                  <a:pt x="2256439" y="78312"/>
                </a:lnTo>
                <a:lnTo>
                  <a:pt x="2256439" y="59913"/>
                </a:lnTo>
                <a:lnTo>
                  <a:pt x="2271536" y="59913"/>
                </a:lnTo>
                <a:lnTo>
                  <a:pt x="2271536" y="93409"/>
                </a:lnTo>
                <a:lnTo>
                  <a:pt x="2262258" y="93409"/>
                </a:lnTo>
                <a:lnTo>
                  <a:pt x="2256439" y="93409"/>
                </a:lnTo>
                <a:lnTo>
                  <a:pt x="2220585" y="93409"/>
                </a:lnTo>
                <a:lnTo>
                  <a:pt x="2220585" y="82440"/>
                </a:lnTo>
                <a:lnTo>
                  <a:pt x="2220585" y="78312"/>
                </a:lnTo>
                <a:lnTo>
                  <a:pt x="2220585" y="23763"/>
                </a:lnTo>
                <a:lnTo>
                  <a:pt x="2230197" y="23763"/>
                </a:lnTo>
                <a:lnTo>
                  <a:pt x="2237627" y="23763"/>
                </a:lnTo>
                <a:lnTo>
                  <a:pt x="2308688" y="23763"/>
                </a:lnTo>
                <a:lnTo>
                  <a:pt x="2308688" y="31773"/>
                </a:lnTo>
                <a:lnTo>
                  <a:pt x="2308688" y="38801"/>
                </a:lnTo>
                <a:lnTo>
                  <a:pt x="2308688" y="131092"/>
                </a:lnTo>
                <a:lnTo>
                  <a:pt x="2299253" y="131092"/>
                </a:lnTo>
                <a:lnTo>
                  <a:pt x="2293297" y="131092"/>
                </a:lnTo>
                <a:lnTo>
                  <a:pt x="2182149" y="131092"/>
                </a:lnTo>
                <a:lnTo>
                  <a:pt x="2182149" y="1284"/>
                </a:lnTo>
                <a:lnTo>
                  <a:pt x="2035974" y="1284"/>
                </a:lnTo>
                <a:lnTo>
                  <a:pt x="2035974" y="724"/>
                </a:lnTo>
                <a:lnTo>
                  <a:pt x="1906630" y="724"/>
                </a:lnTo>
                <a:lnTo>
                  <a:pt x="1906630" y="114861"/>
                </a:lnTo>
                <a:lnTo>
                  <a:pt x="2000336" y="114861"/>
                </a:lnTo>
                <a:lnTo>
                  <a:pt x="2000336" y="38241"/>
                </a:lnTo>
                <a:lnTo>
                  <a:pt x="1944666" y="38241"/>
                </a:lnTo>
                <a:lnTo>
                  <a:pt x="1944666" y="77752"/>
                </a:lnTo>
                <a:lnTo>
                  <a:pt x="1963478" y="77752"/>
                </a:lnTo>
                <a:lnTo>
                  <a:pt x="1963478" y="59353"/>
                </a:lnTo>
                <a:lnTo>
                  <a:pt x="1978575" y="59353"/>
                </a:lnTo>
                <a:lnTo>
                  <a:pt x="1978575" y="92849"/>
                </a:lnTo>
                <a:lnTo>
                  <a:pt x="1969297" y="92849"/>
                </a:lnTo>
                <a:lnTo>
                  <a:pt x="1963478" y="92849"/>
                </a:lnTo>
                <a:lnTo>
                  <a:pt x="1927624" y="92849"/>
                </a:lnTo>
                <a:lnTo>
                  <a:pt x="1927624" y="81880"/>
                </a:lnTo>
                <a:lnTo>
                  <a:pt x="1927624" y="77752"/>
                </a:lnTo>
                <a:lnTo>
                  <a:pt x="1927624" y="23203"/>
                </a:lnTo>
                <a:lnTo>
                  <a:pt x="1937236" y="23203"/>
                </a:lnTo>
                <a:lnTo>
                  <a:pt x="1944666" y="23203"/>
                </a:lnTo>
                <a:lnTo>
                  <a:pt x="2015727" y="23203"/>
                </a:lnTo>
                <a:lnTo>
                  <a:pt x="2015727" y="31213"/>
                </a:lnTo>
                <a:lnTo>
                  <a:pt x="2015727" y="38241"/>
                </a:lnTo>
                <a:lnTo>
                  <a:pt x="2015727" y="130532"/>
                </a:lnTo>
                <a:lnTo>
                  <a:pt x="2006292" y="130532"/>
                </a:lnTo>
                <a:lnTo>
                  <a:pt x="2000336" y="130532"/>
                </a:lnTo>
                <a:lnTo>
                  <a:pt x="1889188" y="130532"/>
                </a:lnTo>
                <a:lnTo>
                  <a:pt x="1889188" y="724"/>
                </a:lnTo>
                <a:lnTo>
                  <a:pt x="1742152" y="724"/>
                </a:lnTo>
                <a:lnTo>
                  <a:pt x="1612808" y="724"/>
                </a:lnTo>
                <a:lnTo>
                  <a:pt x="1612808" y="114861"/>
                </a:lnTo>
                <a:lnTo>
                  <a:pt x="1706514" y="114861"/>
                </a:lnTo>
                <a:lnTo>
                  <a:pt x="1706514" y="38241"/>
                </a:lnTo>
                <a:lnTo>
                  <a:pt x="1650844" y="38241"/>
                </a:lnTo>
                <a:lnTo>
                  <a:pt x="1650844" y="77752"/>
                </a:lnTo>
                <a:lnTo>
                  <a:pt x="1669656" y="77752"/>
                </a:lnTo>
                <a:lnTo>
                  <a:pt x="1669656" y="59353"/>
                </a:lnTo>
                <a:lnTo>
                  <a:pt x="1684753" y="59353"/>
                </a:lnTo>
                <a:lnTo>
                  <a:pt x="1684753" y="92849"/>
                </a:lnTo>
                <a:lnTo>
                  <a:pt x="1675475" y="92849"/>
                </a:lnTo>
                <a:lnTo>
                  <a:pt x="1669656" y="92849"/>
                </a:lnTo>
                <a:lnTo>
                  <a:pt x="1633802" y="92849"/>
                </a:lnTo>
                <a:lnTo>
                  <a:pt x="1633802" y="81880"/>
                </a:lnTo>
                <a:lnTo>
                  <a:pt x="1633802" y="77752"/>
                </a:lnTo>
                <a:lnTo>
                  <a:pt x="1633802" y="23203"/>
                </a:lnTo>
                <a:lnTo>
                  <a:pt x="1643414" y="23203"/>
                </a:lnTo>
                <a:lnTo>
                  <a:pt x="1650844" y="23203"/>
                </a:lnTo>
                <a:lnTo>
                  <a:pt x="1721905" y="23203"/>
                </a:lnTo>
                <a:lnTo>
                  <a:pt x="1721905" y="31213"/>
                </a:lnTo>
                <a:lnTo>
                  <a:pt x="1721905" y="38241"/>
                </a:lnTo>
                <a:lnTo>
                  <a:pt x="1721905" y="130532"/>
                </a:lnTo>
                <a:lnTo>
                  <a:pt x="1712470" y="130532"/>
                </a:lnTo>
                <a:lnTo>
                  <a:pt x="1706514" y="130532"/>
                </a:lnTo>
                <a:lnTo>
                  <a:pt x="1595366" y="130532"/>
                </a:lnTo>
                <a:lnTo>
                  <a:pt x="1595366" y="724"/>
                </a:lnTo>
                <a:lnTo>
                  <a:pt x="1449192" y="724"/>
                </a:lnTo>
                <a:lnTo>
                  <a:pt x="1448330" y="724"/>
                </a:lnTo>
                <a:lnTo>
                  <a:pt x="1319848" y="724"/>
                </a:lnTo>
                <a:lnTo>
                  <a:pt x="1319848" y="114861"/>
                </a:lnTo>
                <a:lnTo>
                  <a:pt x="1413554" y="114861"/>
                </a:lnTo>
                <a:lnTo>
                  <a:pt x="1413554" y="38241"/>
                </a:lnTo>
                <a:lnTo>
                  <a:pt x="1357884" y="38241"/>
                </a:lnTo>
                <a:lnTo>
                  <a:pt x="1357884" y="77752"/>
                </a:lnTo>
                <a:lnTo>
                  <a:pt x="1376696" y="77752"/>
                </a:lnTo>
                <a:lnTo>
                  <a:pt x="1376696" y="59353"/>
                </a:lnTo>
                <a:lnTo>
                  <a:pt x="1391793" y="59353"/>
                </a:lnTo>
                <a:lnTo>
                  <a:pt x="1391793" y="92849"/>
                </a:lnTo>
                <a:lnTo>
                  <a:pt x="1382515" y="92849"/>
                </a:lnTo>
                <a:lnTo>
                  <a:pt x="1376696" y="92849"/>
                </a:lnTo>
                <a:lnTo>
                  <a:pt x="1340842" y="92849"/>
                </a:lnTo>
                <a:lnTo>
                  <a:pt x="1340842" y="81880"/>
                </a:lnTo>
                <a:lnTo>
                  <a:pt x="1340842" y="77752"/>
                </a:lnTo>
                <a:lnTo>
                  <a:pt x="1340842" y="23203"/>
                </a:lnTo>
                <a:lnTo>
                  <a:pt x="1350454" y="23203"/>
                </a:lnTo>
                <a:lnTo>
                  <a:pt x="1357884" y="23203"/>
                </a:lnTo>
                <a:lnTo>
                  <a:pt x="1428945" y="23203"/>
                </a:lnTo>
                <a:lnTo>
                  <a:pt x="1428945" y="31213"/>
                </a:lnTo>
                <a:lnTo>
                  <a:pt x="1428945" y="38241"/>
                </a:lnTo>
                <a:lnTo>
                  <a:pt x="1428945" y="130532"/>
                </a:lnTo>
                <a:lnTo>
                  <a:pt x="1419510" y="130532"/>
                </a:lnTo>
                <a:lnTo>
                  <a:pt x="1413554" y="130532"/>
                </a:lnTo>
                <a:lnTo>
                  <a:pt x="1302406" y="130532"/>
                </a:lnTo>
                <a:lnTo>
                  <a:pt x="1302406" y="724"/>
                </a:lnTo>
                <a:lnTo>
                  <a:pt x="1155370" y="724"/>
                </a:lnTo>
                <a:lnTo>
                  <a:pt x="1155370" y="1000"/>
                </a:lnTo>
                <a:lnTo>
                  <a:pt x="1026886" y="1000"/>
                </a:lnTo>
                <a:lnTo>
                  <a:pt x="1026886" y="115137"/>
                </a:lnTo>
                <a:lnTo>
                  <a:pt x="1120592" y="115137"/>
                </a:lnTo>
                <a:lnTo>
                  <a:pt x="1120592" y="38517"/>
                </a:lnTo>
                <a:lnTo>
                  <a:pt x="1064923" y="38517"/>
                </a:lnTo>
                <a:lnTo>
                  <a:pt x="1064923" y="78028"/>
                </a:lnTo>
                <a:lnTo>
                  <a:pt x="1083735" y="78028"/>
                </a:lnTo>
                <a:lnTo>
                  <a:pt x="1083735" y="59629"/>
                </a:lnTo>
                <a:lnTo>
                  <a:pt x="1098831" y="59629"/>
                </a:lnTo>
                <a:lnTo>
                  <a:pt x="1098831" y="93125"/>
                </a:lnTo>
                <a:lnTo>
                  <a:pt x="1089553" y="93125"/>
                </a:lnTo>
                <a:lnTo>
                  <a:pt x="1083735" y="93125"/>
                </a:lnTo>
                <a:lnTo>
                  <a:pt x="1047880" y="93125"/>
                </a:lnTo>
                <a:lnTo>
                  <a:pt x="1047880" y="82156"/>
                </a:lnTo>
                <a:lnTo>
                  <a:pt x="1047880" y="78028"/>
                </a:lnTo>
                <a:lnTo>
                  <a:pt x="1047880" y="23479"/>
                </a:lnTo>
                <a:lnTo>
                  <a:pt x="1057492" y="23479"/>
                </a:lnTo>
                <a:lnTo>
                  <a:pt x="1064923" y="23479"/>
                </a:lnTo>
                <a:lnTo>
                  <a:pt x="1135983" y="23479"/>
                </a:lnTo>
                <a:lnTo>
                  <a:pt x="1135983" y="31489"/>
                </a:lnTo>
                <a:lnTo>
                  <a:pt x="1135983" y="38517"/>
                </a:lnTo>
                <a:lnTo>
                  <a:pt x="1135983" y="130808"/>
                </a:lnTo>
                <a:lnTo>
                  <a:pt x="1126548" y="130808"/>
                </a:lnTo>
                <a:lnTo>
                  <a:pt x="1120592" y="130808"/>
                </a:lnTo>
                <a:lnTo>
                  <a:pt x="1009444" y="130808"/>
                </a:lnTo>
                <a:lnTo>
                  <a:pt x="1009444" y="1000"/>
                </a:lnTo>
                <a:lnTo>
                  <a:pt x="863270" y="1000"/>
                </a:lnTo>
                <a:lnTo>
                  <a:pt x="863270" y="440"/>
                </a:lnTo>
                <a:lnTo>
                  <a:pt x="733926" y="440"/>
                </a:lnTo>
                <a:lnTo>
                  <a:pt x="733926" y="114577"/>
                </a:lnTo>
                <a:lnTo>
                  <a:pt x="827632" y="114577"/>
                </a:lnTo>
                <a:lnTo>
                  <a:pt x="827632" y="37957"/>
                </a:lnTo>
                <a:lnTo>
                  <a:pt x="771963" y="37957"/>
                </a:lnTo>
                <a:lnTo>
                  <a:pt x="771963" y="77468"/>
                </a:lnTo>
                <a:lnTo>
                  <a:pt x="790775" y="77468"/>
                </a:lnTo>
                <a:lnTo>
                  <a:pt x="790775" y="59069"/>
                </a:lnTo>
                <a:lnTo>
                  <a:pt x="805871" y="59069"/>
                </a:lnTo>
                <a:lnTo>
                  <a:pt x="805871" y="92565"/>
                </a:lnTo>
                <a:lnTo>
                  <a:pt x="796593" y="92565"/>
                </a:lnTo>
                <a:lnTo>
                  <a:pt x="790775" y="92565"/>
                </a:lnTo>
                <a:lnTo>
                  <a:pt x="754920" y="92565"/>
                </a:lnTo>
                <a:lnTo>
                  <a:pt x="754920" y="81596"/>
                </a:lnTo>
                <a:lnTo>
                  <a:pt x="754920" y="77468"/>
                </a:lnTo>
                <a:lnTo>
                  <a:pt x="754920" y="22919"/>
                </a:lnTo>
                <a:lnTo>
                  <a:pt x="764533" y="22919"/>
                </a:lnTo>
                <a:lnTo>
                  <a:pt x="771963" y="22919"/>
                </a:lnTo>
                <a:lnTo>
                  <a:pt x="843024" y="22919"/>
                </a:lnTo>
                <a:lnTo>
                  <a:pt x="843024" y="30929"/>
                </a:lnTo>
                <a:lnTo>
                  <a:pt x="843024" y="37957"/>
                </a:lnTo>
                <a:lnTo>
                  <a:pt x="843024" y="130248"/>
                </a:lnTo>
                <a:lnTo>
                  <a:pt x="833588" y="130248"/>
                </a:lnTo>
                <a:lnTo>
                  <a:pt x="827632" y="130248"/>
                </a:lnTo>
                <a:lnTo>
                  <a:pt x="716484" y="130248"/>
                </a:lnTo>
                <a:lnTo>
                  <a:pt x="716484" y="440"/>
                </a:lnTo>
                <a:lnTo>
                  <a:pt x="569448" y="440"/>
                </a:lnTo>
                <a:lnTo>
                  <a:pt x="440104" y="440"/>
                </a:lnTo>
                <a:lnTo>
                  <a:pt x="440104" y="114577"/>
                </a:lnTo>
                <a:lnTo>
                  <a:pt x="533810" y="114577"/>
                </a:lnTo>
                <a:lnTo>
                  <a:pt x="533810" y="37957"/>
                </a:lnTo>
                <a:lnTo>
                  <a:pt x="478141" y="37957"/>
                </a:lnTo>
                <a:lnTo>
                  <a:pt x="478141" y="77468"/>
                </a:lnTo>
                <a:lnTo>
                  <a:pt x="496953" y="77468"/>
                </a:lnTo>
                <a:lnTo>
                  <a:pt x="496953" y="59069"/>
                </a:lnTo>
                <a:lnTo>
                  <a:pt x="512049" y="59069"/>
                </a:lnTo>
                <a:lnTo>
                  <a:pt x="512049" y="92565"/>
                </a:lnTo>
                <a:lnTo>
                  <a:pt x="502771" y="92565"/>
                </a:lnTo>
                <a:lnTo>
                  <a:pt x="496953" y="92565"/>
                </a:lnTo>
                <a:lnTo>
                  <a:pt x="461098" y="92565"/>
                </a:lnTo>
                <a:lnTo>
                  <a:pt x="461098" y="81596"/>
                </a:lnTo>
                <a:lnTo>
                  <a:pt x="461098" y="77468"/>
                </a:lnTo>
                <a:lnTo>
                  <a:pt x="461098" y="22919"/>
                </a:lnTo>
                <a:lnTo>
                  <a:pt x="470711" y="22919"/>
                </a:lnTo>
                <a:lnTo>
                  <a:pt x="478141" y="22919"/>
                </a:lnTo>
                <a:lnTo>
                  <a:pt x="549201" y="22919"/>
                </a:lnTo>
                <a:lnTo>
                  <a:pt x="549201" y="30929"/>
                </a:lnTo>
                <a:lnTo>
                  <a:pt x="549201" y="37957"/>
                </a:lnTo>
                <a:lnTo>
                  <a:pt x="549201" y="130248"/>
                </a:lnTo>
                <a:lnTo>
                  <a:pt x="539766" y="130248"/>
                </a:lnTo>
                <a:lnTo>
                  <a:pt x="533810" y="130248"/>
                </a:lnTo>
                <a:lnTo>
                  <a:pt x="422662" y="130248"/>
                </a:lnTo>
                <a:lnTo>
                  <a:pt x="422662" y="440"/>
                </a:lnTo>
                <a:lnTo>
                  <a:pt x="276487" y="440"/>
                </a:lnTo>
                <a:lnTo>
                  <a:pt x="276487" y="0"/>
                </a:lnTo>
                <a:lnTo>
                  <a:pt x="147143" y="0"/>
                </a:lnTo>
                <a:lnTo>
                  <a:pt x="147143" y="114138"/>
                </a:lnTo>
                <a:lnTo>
                  <a:pt x="240848" y="114138"/>
                </a:lnTo>
                <a:lnTo>
                  <a:pt x="240848" y="37518"/>
                </a:lnTo>
                <a:lnTo>
                  <a:pt x="185179" y="37518"/>
                </a:lnTo>
                <a:lnTo>
                  <a:pt x="185179" y="77029"/>
                </a:lnTo>
                <a:lnTo>
                  <a:pt x="203991" y="77029"/>
                </a:lnTo>
                <a:lnTo>
                  <a:pt x="203991" y="58630"/>
                </a:lnTo>
                <a:lnTo>
                  <a:pt x="219088" y="58630"/>
                </a:lnTo>
                <a:lnTo>
                  <a:pt x="219088" y="92126"/>
                </a:lnTo>
                <a:lnTo>
                  <a:pt x="209809" y="92126"/>
                </a:lnTo>
                <a:lnTo>
                  <a:pt x="203991" y="92126"/>
                </a:lnTo>
                <a:lnTo>
                  <a:pt x="168136" y="92126"/>
                </a:lnTo>
                <a:lnTo>
                  <a:pt x="168136" y="81157"/>
                </a:lnTo>
                <a:lnTo>
                  <a:pt x="168136" y="77029"/>
                </a:lnTo>
                <a:lnTo>
                  <a:pt x="168136" y="22480"/>
                </a:lnTo>
                <a:lnTo>
                  <a:pt x="177749" y="22480"/>
                </a:lnTo>
                <a:lnTo>
                  <a:pt x="185179" y="22480"/>
                </a:lnTo>
                <a:lnTo>
                  <a:pt x="256240" y="22480"/>
                </a:lnTo>
                <a:lnTo>
                  <a:pt x="256240" y="30490"/>
                </a:lnTo>
                <a:lnTo>
                  <a:pt x="256240" y="37518"/>
                </a:lnTo>
                <a:lnTo>
                  <a:pt x="256240" y="129808"/>
                </a:lnTo>
                <a:lnTo>
                  <a:pt x="246804" y="129808"/>
                </a:lnTo>
                <a:lnTo>
                  <a:pt x="240848" y="129808"/>
                </a:lnTo>
                <a:lnTo>
                  <a:pt x="129700" y="129808"/>
                </a:lnTo>
                <a:lnTo>
                  <a:pt x="129700" y="0"/>
                </a:lnTo>
                <a:lnTo>
                  <a:pt x="0" y="0"/>
                </a:lnTo>
                <a:close/>
              </a:path>
            </a:pathLst>
          </a:custGeom>
          <a:solidFill>
            <a:srgbClr val="5b9bd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29" descr=""/>
          <p:cNvPicPr/>
          <p:nvPr/>
        </p:nvPicPr>
        <p:blipFill>
          <a:blip r:embed="rId2"/>
          <a:stretch/>
        </p:blipFill>
        <p:spPr>
          <a:xfrm>
            <a:off x="10966320" y="706320"/>
            <a:ext cx="354240" cy="55584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19"/>
          <p:cNvSpPr/>
          <p:nvPr/>
        </p:nvSpPr>
        <p:spPr>
          <a:xfrm>
            <a:off x="9294840" y="655200"/>
            <a:ext cx="5461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白雲蒼狗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世事如棋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9"/>
          <p:cNvSpPr/>
          <p:nvPr/>
        </p:nvSpPr>
        <p:spPr>
          <a:xfrm>
            <a:off x="2668680" y="635040"/>
            <a:ext cx="492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十年眾生牛馬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六十載諸佛龍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9"/>
          <p:cNvSpPr/>
          <p:nvPr/>
        </p:nvSpPr>
        <p:spPr>
          <a:xfrm>
            <a:off x="4884840" y="789120"/>
            <a:ext cx="492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千古江山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風流總被雨打风吹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9"/>
          <p:cNvSpPr/>
          <p:nvPr/>
        </p:nvSpPr>
        <p:spPr>
          <a:xfrm flipH="1">
            <a:off x="7098480" y="635040"/>
            <a:ext cx="443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閑雲潭影日悠悠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物換星移幾度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15" descr=""/>
          <p:cNvPicPr/>
          <p:nvPr/>
        </p:nvPicPr>
        <p:blipFill>
          <a:blip r:embed="rId3"/>
          <a:stretch/>
        </p:blipFill>
        <p:spPr>
          <a:xfrm rot="21352800">
            <a:off x="9807480" y="723960"/>
            <a:ext cx="1143000" cy="15271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6" descr=""/>
          <p:cNvPicPr/>
          <p:nvPr/>
        </p:nvPicPr>
        <p:blipFill>
          <a:blip r:embed="rId4"/>
          <a:stretch/>
        </p:blipFill>
        <p:spPr>
          <a:xfrm>
            <a:off x="10206000" y="2182680"/>
            <a:ext cx="1182600" cy="1246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26" descr=""/>
          <p:cNvPicPr/>
          <p:nvPr/>
        </p:nvPicPr>
        <p:blipFill>
          <a:blip r:embed="rId2"/>
          <a:stretch/>
        </p:blipFill>
        <p:spPr>
          <a:xfrm>
            <a:off x="10298160" y="1206360"/>
            <a:ext cx="353880" cy="55584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34"/>
          <p:cNvSpPr/>
          <p:nvPr/>
        </p:nvSpPr>
        <p:spPr>
          <a:xfrm>
            <a:off x="8775720" y="1229040"/>
            <a:ext cx="54612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江河濤濤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青山嫵媚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38"/>
          <p:cNvSpPr/>
          <p:nvPr/>
        </p:nvSpPr>
        <p:spPr>
          <a:xfrm>
            <a:off x="971640" y="5567400"/>
            <a:ext cx="7670880" cy="237960"/>
          </a:xfrm>
          <a:custGeom>
            <a:avLst/>
            <a:gdLst/>
            <a:ahLst/>
            <a:rect l="l" t="t" r="r" b="b"/>
            <a:pathLst>
              <a:path w="7670129" h="236901">
                <a:moveTo>
                  <a:pt x="69004" y="148380"/>
                </a:moveTo>
                <a:lnTo>
                  <a:pt x="69004" y="162123"/>
                </a:lnTo>
                <a:lnTo>
                  <a:pt x="69004" y="165907"/>
                </a:lnTo>
                <a:lnTo>
                  <a:pt x="69004" y="207713"/>
                </a:lnTo>
                <a:lnTo>
                  <a:pt x="84679" y="207713"/>
                </a:lnTo>
                <a:lnTo>
                  <a:pt x="87385" y="207713"/>
                </a:lnTo>
                <a:lnTo>
                  <a:pt x="129674" y="207713"/>
                </a:lnTo>
                <a:lnTo>
                  <a:pt x="129674" y="190614"/>
                </a:lnTo>
                <a:lnTo>
                  <a:pt x="87385" y="190614"/>
                </a:lnTo>
                <a:lnTo>
                  <a:pt x="87385" y="165907"/>
                </a:lnTo>
                <a:lnTo>
                  <a:pt x="106623" y="165907"/>
                </a:lnTo>
                <a:lnTo>
                  <a:pt x="106623" y="148380"/>
                </a:lnTo>
                <a:lnTo>
                  <a:pt x="69004" y="148380"/>
                </a:lnTo>
                <a:close/>
                <a:moveTo>
                  <a:pt x="361773" y="148379"/>
                </a:moveTo>
                <a:lnTo>
                  <a:pt x="361773" y="162122"/>
                </a:lnTo>
                <a:lnTo>
                  <a:pt x="361773" y="165906"/>
                </a:lnTo>
                <a:lnTo>
                  <a:pt x="361773" y="207712"/>
                </a:lnTo>
                <a:lnTo>
                  <a:pt x="377447" y="207712"/>
                </a:lnTo>
                <a:lnTo>
                  <a:pt x="380155" y="207712"/>
                </a:lnTo>
                <a:lnTo>
                  <a:pt x="423018" y="207712"/>
                </a:lnTo>
                <a:lnTo>
                  <a:pt x="423018" y="190613"/>
                </a:lnTo>
                <a:lnTo>
                  <a:pt x="380155" y="190613"/>
                </a:lnTo>
                <a:lnTo>
                  <a:pt x="380155" y="165906"/>
                </a:lnTo>
                <a:lnTo>
                  <a:pt x="399392" y="165906"/>
                </a:lnTo>
                <a:lnTo>
                  <a:pt x="399392" y="148379"/>
                </a:lnTo>
                <a:lnTo>
                  <a:pt x="361773" y="148379"/>
                </a:lnTo>
                <a:close/>
                <a:moveTo>
                  <a:pt x="215388" y="148379"/>
                </a:moveTo>
                <a:lnTo>
                  <a:pt x="215388" y="162122"/>
                </a:lnTo>
                <a:lnTo>
                  <a:pt x="215388" y="165906"/>
                </a:lnTo>
                <a:lnTo>
                  <a:pt x="215388" y="207712"/>
                </a:lnTo>
                <a:lnTo>
                  <a:pt x="231062" y="207712"/>
                </a:lnTo>
                <a:lnTo>
                  <a:pt x="233770" y="207712"/>
                </a:lnTo>
                <a:lnTo>
                  <a:pt x="276634" y="207712"/>
                </a:lnTo>
                <a:lnTo>
                  <a:pt x="276634" y="190613"/>
                </a:lnTo>
                <a:lnTo>
                  <a:pt x="233770" y="190613"/>
                </a:lnTo>
                <a:lnTo>
                  <a:pt x="233770" y="165906"/>
                </a:lnTo>
                <a:lnTo>
                  <a:pt x="253007" y="165906"/>
                </a:lnTo>
                <a:lnTo>
                  <a:pt x="253007" y="148379"/>
                </a:lnTo>
                <a:lnTo>
                  <a:pt x="215388" y="148379"/>
                </a:lnTo>
                <a:close/>
                <a:moveTo>
                  <a:pt x="508157" y="148378"/>
                </a:moveTo>
                <a:lnTo>
                  <a:pt x="508157" y="162121"/>
                </a:lnTo>
                <a:lnTo>
                  <a:pt x="508157" y="165905"/>
                </a:lnTo>
                <a:lnTo>
                  <a:pt x="508157" y="207711"/>
                </a:lnTo>
                <a:lnTo>
                  <a:pt x="523832" y="207711"/>
                </a:lnTo>
                <a:lnTo>
                  <a:pt x="526539" y="207711"/>
                </a:lnTo>
                <a:lnTo>
                  <a:pt x="569401" y="207711"/>
                </a:lnTo>
                <a:lnTo>
                  <a:pt x="569401" y="190612"/>
                </a:lnTo>
                <a:lnTo>
                  <a:pt x="526539" y="190612"/>
                </a:lnTo>
                <a:lnTo>
                  <a:pt x="526539" y="165905"/>
                </a:lnTo>
                <a:lnTo>
                  <a:pt x="545777" y="165905"/>
                </a:lnTo>
                <a:lnTo>
                  <a:pt x="545777" y="148378"/>
                </a:lnTo>
                <a:lnTo>
                  <a:pt x="508157" y="148378"/>
                </a:lnTo>
                <a:close/>
                <a:moveTo>
                  <a:pt x="800926" y="148377"/>
                </a:moveTo>
                <a:lnTo>
                  <a:pt x="800926" y="162120"/>
                </a:lnTo>
                <a:lnTo>
                  <a:pt x="800926" y="165904"/>
                </a:lnTo>
                <a:lnTo>
                  <a:pt x="800926" y="207710"/>
                </a:lnTo>
                <a:lnTo>
                  <a:pt x="816601" y="207710"/>
                </a:lnTo>
                <a:lnTo>
                  <a:pt x="819309" y="207710"/>
                </a:lnTo>
                <a:lnTo>
                  <a:pt x="862171" y="207710"/>
                </a:lnTo>
                <a:lnTo>
                  <a:pt x="862171" y="190611"/>
                </a:lnTo>
                <a:lnTo>
                  <a:pt x="819309" y="190611"/>
                </a:lnTo>
                <a:lnTo>
                  <a:pt x="819309" y="165904"/>
                </a:lnTo>
                <a:lnTo>
                  <a:pt x="838545" y="165904"/>
                </a:lnTo>
                <a:lnTo>
                  <a:pt x="838545" y="148377"/>
                </a:lnTo>
                <a:lnTo>
                  <a:pt x="800926" y="148377"/>
                </a:lnTo>
                <a:close/>
                <a:moveTo>
                  <a:pt x="654541" y="148377"/>
                </a:moveTo>
                <a:lnTo>
                  <a:pt x="654541" y="162120"/>
                </a:lnTo>
                <a:lnTo>
                  <a:pt x="654541" y="165904"/>
                </a:lnTo>
                <a:lnTo>
                  <a:pt x="654541" y="207710"/>
                </a:lnTo>
                <a:lnTo>
                  <a:pt x="670216" y="207710"/>
                </a:lnTo>
                <a:lnTo>
                  <a:pt x="672923" y="207710"/>
                </a:lnTo>
                <a:lnTo>
                  <a:pt x="715787" y="207710"/>
                </a:lnTo>
                <a:lnTo>
                  <a:pt x="715787" y="190611"/>
                </a:lnTo>
                <a:lnTo>
                  <a:pt x="672923" y="190611"/>
                </a:lnTo>
                <a:lnTo>
                  <a:pt x="672923" y="165904"/>
                </a:lnTo>
                <a:lnTo>
                  <a:pt x="692160" y="165904"/>
                </a:lnTo>
                <a:lnTo>
                  <a:pt x="692160" y="148377"/>
                </a:lnTo>
                <a:lnTo>
                  <a:pt x="654541" y="148377"/>
                </a:lnTo>
                <a:close/>
                <a:moveTo>
                  <a:pt x="1093696" y="148376"/>
                </a:moveTo>
                <a:lnTo>
                  <a:pt x="1093696" y="162119"/>
                </a:lnTo>
                <a:lnTo>
                  <a:pt x="1093696" y="165903"/>
                </a:lnTo>
                <a:lnTo>
                  <a:pt x="1093696" y="207709"/>
                </a:lnTo>
                <a:lnTo>
                  <a:pt x="1109371" y="207709"/>
                </a:lnTo>
                <a:lnTo>
                  <a:pt x="1112079" y="207709"/>
                </a:lnTo>
                <a:lnTo>
                  <a:pt x="1154942" y="207709"/>
                </a:lnTo>
                <a:lnTo>
                  <a:pt x="1154942" y="190610"/>
                </a:lnTo>
                <a:lnTo>
                  <a:pt x="1112079" y="190610"/>
                </a:lnTo>
                <a:lnTo>
                  <a:pt x="1112079" y="165903"/>
                </a:lnTo>
                <a:lnTo>
                  <a:pt x="1131316" y="165903"/>
                </a:lnTo>
                <a:lnTo>
                  <a:pt x="1131316" y="148376"/>
                </a:lnTo>
                <a:lnTo>
                  <a:pt x="1093696" y="148376"/>
                </a:lnTo>
                <a:close/>
                <a:moveTo>
                  <a:pt x="947311" y="148376"/>
                </a:moveTo>
                <a:lnTo>
                  <a:pt x="947311" y="162119"/>
                </a:lnTo>
                <a:lnTo>
                  <a:pt x="947311" y="165903"/>
                </a:lnTo>
                <a:lnTo>
                  <a:pt x="947311" y="207709"/>
                </a:lnTo>
                <a:lnTo>
                  <a:pt x="962986" y="207709"/>
                </a:lnTo>
                <a:lnTo>
                  <a:pt x="965693" y="207709"/>
                </a:lnTo>
                <a:lnTo>
                  <a:pt x="1008557" y="207709"/>
                </a:lnTo>
                <a:lnTo>
                  <a:pt x="1008557" y="190610"/>
                </a:lnTo>
                <a:lnTo>
                  <a:pt x="965693" y="190610"/>
                </a:lnTo>
                <a:lnTo>
                  <a:pt x="965693" y="165903"/>
                </a:lnTo>
                <a:lnTo>
                  <a:pt x="984931" y="165903"/>
                </a:lnTo>
                <a:lnTo>
                  <a:pt x="984931" y="148376"/>
                </a:lnTo>
                <a:lnTo>
                  <a:pt x="947311" y="148376"/>
                </a:lnTo>
                <a:close/>
                <a:moveTo>
                  <a:pt x="1240081" y="148375"/>
                </a:moveTo>
                <a:lnTo>
                  <a:pt x="1240081" y="162118"/>
                </a:lnTo>
                <a:lnTo>
                  <a:pt x="1240081" y="165902"/>
                </a:lnTo>
                <a:lnTo>
                  <a:pt x="1240081" y="207708"/>
                </a:lnTo>
                <a:lnTo>
                  <a:pt x="1255756" y="207708"/>
                </a:lnTo>
                <a:lnTo>
                  <a:pt x="1258464" y="207708"/>
                </a:lnTo>
                <a:lnTo>
                  <a:pt x="1301326" y="207708"/>
                </a:lnTo>
                <a:lnTo>
                  <a:pt x="1301326" y="190609"/>
                </a:lnTo>
                <a:lnTo>
                  <a:pt x="1258464" y="190609"/>
                </a:lnTo>
                <a:lnTo>
                  <a:pt x="1258464" y="165902"/>
                </a:lnTo>
                <a:lnTo>
                  <a:pt x="1277701" y="165902"/>
                </a:lnTo>
                <a:lnTo>
                  <a:pt x="1277701" y="148375"/>
                </a:lnTo>
                <a:lnTo>
                  <a:pt x="1240081" y="148375"/>
                </a:lnTo>
                <a:close/>
                <a:moveTo>
                  <a:pt x="1532851" y="148374"/>
                </a:moveTo>
                <a:lnTo>
                  <a:pt x="1532851" y="162117"/>
                </a:lnTo>
                <a:lnTo>
                  <a:pt x="1532851" y="165901"/>
                </a:lnTo>
                <a:lnTo>
                  <a:pt x="1532851" y="207707"/>
                </a:lnTo>
                <a:lnTo>
                  <a:pt x="1548526" y="207707"/>
                </a:lnTo>
                <a:lnTo>
                  <a:pt x="1551233" y="207707"/>
                </a:lnTo>
                <a:lnTo>
                  <a:pt x="1594096" y="207707"/>
                </a:lnTo>
                <a:lnTo>
                  <a:pt x="1594096" y="190608"/>
                </a:lnTo>
                <a:lnTo>
                  <a:pt x="1551233" y="190608"/>
                </a:lnTo>
                <a:lnTo>
                  <a:pt x="1551233" y="165901"/>
                </a:lnTo>
                <a:lnTo>
                  <a:pt x="1570471" y="165901"/>
                </a:lnTo>
                <a:lnTo>
                  <a:pt x="1570471" y="148374"/>
                </a:lnTo>
                <a:lnTo>
                  <a:pt x="1532851" y="148374"/>
                </a:lnTo>
                <a:close/>
                <a:moveTo>
                  <a:pt x="1386467" y="148374"/>
                </a:moveTo>
                <a:lnTo>
                  <a:pt x="1386467" y="162117"/>
                </a:lnTo>
                <a:lnTo>
                  <a:pt x="1386467" y="165901"/>
                </a:lnTo>
                <a:lnTo>
                  <a:pt x="1386467" y="207707"/>
                </a:lnTo>
                <a:lnTo>
                  <a:pt x="1402141" y="207707"/>
                </a:lnTo>
                <a:lnTo>
                  <a:pt x="1404849" y="207707"/>
                </a:lnTo>
                <a:lnTo>
                  <a:pt x="1447711" y="207707"/>
                </a:lnTo>
                <a:lnTo>
                  <a:pt x="1447711" y="190608"/>
                </a:lnTo>
                <a:lnTo>
                  <a:pt x="1404849" y="190608"/>
                </a:lnTo>
                <a:lnTo>
                  <a:pt x="1404849" y="165901"/>
                </a:lnTo>
                <a:lnTo>
                  <a:pt x="1424086" y="165901"/>
                </a:lnTo>
                <a:lnTo>
                  <a:pt x="1424086" y="148374"/>
                </a:lnTo>
                <a:lnTo>
                  <a:pt x="1386467" y="148374"/>
                </a:lnTo>
                <a:close/>
                <a:moveTo>
                  <a:pt x="1679236" y="148373"/>
                </a:moveTo>
                <a:lnTo>
                  <a:pt x="1679236" y="162116"/>
                </a:lnTo>
                <a:lnTo>
                  <a:pt x="1679236" y="165900"/>
                </a:lnTo>
                <a:lnTo>
                  <a:pt x="1679236" y="207706"/>
                </a:lnTo>
                <a:lnTo>
                  <a:pt x="1694911" y="207706"/>
                </a:lnTo>
                <a:lnTo>
                  <a:pt x="1697618" y="207706"/>
                </a:lnTo>
                <a:lnTo>
                  <a:pt x="1740482" y="207706"/>
                </a:lnTo>
                <a:lnTo>
                  <a:pt x="1740482" y="190607"/>
                </a:lnTo>
                <a:lnTo>
                  <a:pt x="1697618" y="190607"/>
                </a:lnTo>
                <a:lnTo>
                  <a:pt x="1697618" y="165900"/>
                </a:lnTo>
                <a:lnTo>
                  <a:pt x="1716855" y="165900"/>
                </a:lnTo>
                <a:lnTo>
                  <a:pt x="1716855" y="148373"/>
                </a:lnTo>
                <a:lnTo>
                  <a:pt x="1679236" y="148373"/>
                </a:lnTo>
                <a:close/>
                <a:moveTo>
                  <a:pt x="1972006" y="148372"/>
                </a:moveTo>
                <a:lnTo>
                  <a:pt x="1972006" y="162115"/>
                </a:lnTo>
                <a:lnTo>
                  <a:pt x="1972006" y="165899"/>
                </a:lnTo>
                <a:lnTo>
                  <a:pt x="1972006" y="207705"/>
                </a:lnTo>
                <a:lnTo>
                  <a:pt x="1987681" y="207705"/>
                </a:lnTo>
                <a:lnTo>
                  <a:pt x="1990389" y="207705"/>
                </a:lnTo>
                <a:lnTo>
                  <a:pt x="2033252" y="207705"/>
                </a:lnTo>
                <a:lnTo>
                  <a:pt x="2033252" y="190606"/>
                </a:lnTo>
                <a:lnTo>
                  <a:pt x="1990389" y="190606"/>
                </a:lnTo>
                <a:lnTo>
                  <a:pt x="1990389" y="165899"/>
                </a:lnTo>
                <a:lnTo>
                  <a:pt x="2009626" y="165899"/>
                </a:lnTo>
                <a:lnTo>
                  <a:pt x="2009626" y="148372"/>
                </a:lnTo>
                <a:lnTo>
                  <a:pt x="1972006" y="148372"/>
                </a:lnTo>
                <a:close/>
                <a:moveTo>
                  <a:pt x="1825622" y="148372"/>
                </a:moveTo>
                <a:lnTo>
                  <a:pt x="1825622" y="162115"/>
                </a:lnTo>
                <a:lnTo>
                  <a:pt x="1825622" y="165899"/>
                </a:lnTo>
                <a:lnTo>
                  <a:pt x="1825622" y="207705"/>
                </a:lnTo>
                <a:lnTo>
                  <a:pt x="1841295" y="207705"/>
                </a:lnTo>
                <a:lnTo>
                  <a:pt x="1844003" y="207705"/>
                </a:lnTo>
                <a:lnTo>
                  <a:pt x="1886866" y="207705"/>
                </a:lnTo>
                <a:lnTo>
                  <a:pt x="1886866" y="190606"/>
                </a:lnTo>
                <a:lnTo>
                  <a:pt x="1844003" y="190606"/>
                </a:lnTo>
                <a:lnTo>
                  <a:pt x="1844003" y="165899"/>
                </a:lnTo>
                <a:lnTo>
                  <a:pt x="1863241" y="165899"/>
                </a:lnTo>
                <a:lnTo>
                  <a:pt x="1863241" y="148372"/>
                </a:lnTo>
                <a:lnTo>
                  <a:pt x="1825622" y="148372"/>
                </a:lnTo>
                <a:close/>
                <a:moveTo>
                  <a:pt x="2264777" y="148371"/>
                </a:moveTo>
                <a:lnTo>
                  <a:pt x="2264777" y="162114"/>
                </a:lnTo>
                <a:lnTo>
                  <a:pt x="2264777" y="165898"/>
                </a:lnTo>
                <a:lnTo>
                  <a:pt x="2264777" y="207704"/>
                </a:lnTo>
                <a:lnTo>
                  <a:pt x="2280451" y="207704"/>
                </a:lnTo>
                <a:lnTo>
                  <a:pt x="2283158" y="207704"/>
                </a:lnTo>
                <a:lnTo>
                  <a:pt x="2326021" y="207704"/>
                </a:lnTo>
                <a:lnTo>
                  <a:pt x="2326021" y="190605"/>
                </a:lnTo>
                <a:lnTo>
                  <a:pt x="2283158" y="190605"/>
                </a:lnTo>
                <a:lnTo>
                  <a:pt x="2283158" y="165898"/>
                </a:lnTo>
                <a:lnTo>
                  <a:pt x="2302396" y="165898"/>
                </a:lnTo>
                <a:lnTo>
                  <a:pt x="2302396" y="148371"/>
                </a:lnTo>
                <a:lnTo>
                  <a:pt x="2264777" y="148371"/>
                </a:lnTo>
                <a:close/>
                <a:moveTo>
                  <a:pt x="2118391" y="148371"/>
                </a:moveTo>
                <a:lnTo>
                  <a:pt x="2118391" y="162114"/>
                </a:lnTo>
                <a:lnTo>
                  <a:pt x="2118391" y="165898"/>
                </a:lnTo>
                <a:lnTo>
                  <a:pt x="2118391" y="207704"/>
                </a:lnTo>
                <a:lnTo>
                  <a:pt x="2134066" y="207704"/>
                </a:lnTo>
                <a:lnTo>
                  <a:pt x="2136773" y="207704"/>
                </a:lnTo>
                <a:lnTo>
                  <a:pt x="2179637" y="207704"/>
                </a:lnTo>
                <a:lnTo>
                  <a:pt x="2179637" y="190605"/>
                </a:lnTo>
                <a:lnTo>
                  <a:pt x="2136773" y="190605"/>
                </a:lnTo>
                <a:lnTo>
                  <a:pt x="2136773" y="165898"/>
                </a:lnTo>
                <a:lnTo>
                  <a:pt x="2156010" y="165898"/>
                </a:lnTo>
                <a:lnTo>
                  <a:pt x="2156010" y="148371"/>
                </a:lnTo>
                <a:lnTo>
                  <a:pt x="2118391" y="148371"/>
                </a:lnTo>
                <a:close/>
                <a:moveTo>
                  <a:pt x="2411161" y="148370"/>
                </a:moveTo>
                <a:lnTo>
                  <a:pt x="2411161" y="162113"/>
                </a:lnTo>
                <a:lnTo>
                  <a:pt x="2411161" y="165897"/>
                </a:lnTo>
                <a:lnTo>
                  <a:pt x="2411161" y="207703"/>
                </a:lnTo>
                <a:lnTo>
                  <a:pt x="2426835" y="207703"/>
                </a:lnTo>
                <a:lnTo>
                  <a:pt x="2429542" y="207703"/>
                </a:lnTo>
                <a:lnTo>
                  <a:pt x="2472407" y="207703"/>
                </a:lnTo>
                <a:lnTo>
                  <a:pt x="2472407" y="190604"/>
                </a:lnTo>
                <a:lnTo>
                  <a:pt x="2429542" y="190604"/>
                </a:lnTo>
                <a:lnTo>
                  <a:pt x="2429542" y="165897"/>
                </a:lnTo>
                <a:lnTo>
                  <a:pt x="2448780" y="165897"/>
                </a:lnTo>
                <a:lnTo>
                  <a:pt x="2448780" y="148370"/>
                </a:lnTo>
                <a:lnTo>
                  <a:pt x="2411161" y="148370"/>
                </a:lnTo>
                <a:close/>
                <a:moveTo>
                  <a:pt x="2557546" y="148369"/>
                </a:moveTo>
                <a:lnTo>
                  <a:pt x="2557546" y="162112"/>
                </a:lnTo>
                <a:lnTo>
                  <a:pt x="2557546" y="165896"/>
                </a:lnTo>
                <a:lnTo>
                  <a:pt x="2557546" y="207702"/>
                </a:lnTo>
                <a:lnTo>
                  <a:pt x="2573220" y="207702"/>
                </a:lnTo>
                <a:lnTo>
                  <a:pt x="2575927" y="207702"/>
                </a:lnTo>
                <a:lnTo>
                  <a:pt x="2618789" y="207702"/>
                </a:lnTo>
                <a:lnTo>
                  <a:pt x="2618789" y="190603"/>
                </a:lnTo>
                <a:lnTo>
                  <a:pt x="2575927" y="190603"/>
                </a:lnTo>
                <a:lnTo>
                  <a:pt x="2575927" y="165896"/>
                </a:lnTo>
                <a:lnTo>
                  <a:pt x="2595164" y="165896"/>
                </a:lnTo>
                <a:lnTo>
                  <a:pt x="2595164" y="148369"/>
                </a:lnTo>
                <a:lnTo>
                  <a:pt x="2557546" y="148369"/>
                </a:lnTo>
                <a:close/>
                <a:moveTo>
                  <a:pt x="2996700" y="148368"/>
                </a:moveTo>
                <a:lnTo>
                  <a:pt x="2996700" y="162111"/>
                </a:lnTo>
                <a:lnTo>
                  <a:pt x="2996700" y="165895"/>
                </a:lnTo>
                <a:lnTo>
                  <a:pt x="2996700" y="207701"/>
                </a:lnTo>
                <a:lnTo>
                  <a:pt x="3012375" y="207701"/>
                </a:lnTo>
                <a:lnTo>
                  <a:pt x="3015082" y="207701"/>
                </a:lnTo>
                <a:lnTo>
                  <a:pt x="3057944" y="207701"/>
                </a:lnTo>
                <a:lnTo>
                  <a:pt x="3057944" y="190602"/>
                </a:lnTo>
                <a:lnTo>
                  <a:pt x="3015082" y="190602"/>
                </a:lnTo>
                <a:lnTo>
                  <a:pt x="3015082" y="165895"/>
                </a:lnTo>
                <a:lnTo>
                  <a:pt x="3034319" y="165895"/>
                </a:lnTo>
                <a:lnTo>
                  <a:pt x="3034319" y="148368"/>
                </a:lnTo>
                <a:lnTo>
                  <a:pt x="2996700" y="148368"/>
                </a:lnTo>
                <a:close/>
                <a:moveTo>
                  <a:pt x="2850314" y="148368"/>
                </a:moveTo>
                <a:lnTo>
                  <a:pt x="2850314" y="162111"/>
                </a:lnTo>
                <a:lnTo>
                  <a:pt x="2850314" y="165895"/>
                </a:lnTo>
                <a:lnTo>
                  <a:pt x="2850314" y="207701"/>
                </a:lnTo>
                <a:lnTo>
                  <a:pt x="2865989" y="207701"/>
                </a:lnTo>
                <a:lnTo>
                  <a:pt x="2868696" y="207701"/>
                </a:lnTo>
                <a:lnTo>
                  <a:pt x="2911560" y="207701"/>
                </a:lnTo>
                <a:lnTo>
                  <a:pt x="2911560" y="190602"/>
                </a:lnTo>
                <a:lnTo>
                  <a:pt x="2868696" y="190602"/>
                </a:lnTo>
                <a:lnTo>
                  <a:pt x="2868696" y="165895"/>
                </a:lnTo>
                <a:lnTo>
                  <a:pt x="2887933" y="165895"/>
                </a:lnTo>
                <a:lnTo>
                  <a:pt x="2887933" y="148368"/>
                </a:lnTo>
                <a:lnTo>
                  <a:pt x="2850314" y="148368"/>
                </a:lnTo>
                <a:close/>
                <a:moveTo>
                  <a:pt x="2703930" y="148368"/>
                </a:moveTo>
                <a:lnTo>
                  <a:pt x="2703930" y="162111"/>
                </a:lnTo>
                <a:lnTo>
                  <a:pt x="2703930" y="165895"/>
                </a:lnTo>
                <a:lnTo>
                  <a:pt x="2703930" y="207701"/>
                </a:lnTo>
                <a:lnTo>
                  <a:pt x="2719605" y="207701"/>
                </a:lnTo>
                <a:lnTo>
                  <a:pt x="2722312" y="207701"/>
                </a:lnTo>
                <a:lnTo>
                  <a:pt x="2765175" y="207701"/>
                </a:lnTo>
                <a:lnTo>
                  <a:pt x="2765175" y="190602"/>
                </a:lnTo>
                <a:lnTo>
                  <a:pt x="2722312" y="190602"/>
                </a:lnTo>
                <a:lnTo>
                  <a:pt x="2722312" y="165895"/>
                </a:lnTo>
                <a:lnTo>
                  <a:pt x="2741549" y="165895"/>
                </a:lnTo>
                <a:lnTo>
                  <a:pt x="2741549" y="148368"/>
                </a:lnTo>
                <a:lnTo>
                  <a:pt x="2703930" y="148368"/>
                </a:lnTo>
                <a:close/>
                <a:moveTo>
                  <a:pt x="3143085" y="148367"/>
                </a:moveTo>
                <a:lnTo>
                  <a:pt x="3143085" y="162110"/>
                </a:lnTo>
                <a:lnTo>
                  <a:pt x="3143085" y="165894"/>
                </a:lnTo>
                <a:lnTo>
                  <a:pt x="3143085" y="207700"/>
                </a:lnTo>
                <a:lnTo>
                  <a:pt x="3158760" y="207700"/>
                </a:lnTo>
                <a:lnTo>
                  <a:pt x="3161467" y="207700"/>
                </a:lnTo>
                <a:lnTo>
                  <a:pt x="3204330" y="207700"/>
                </a:lnTo>
                <a:lnTo>
                  <a:pt x="3204330" y="190601"/>
                </a:lnTo>
                <a:lnTo>
                  <a:pt x="3161467" y="190601"/>
                </a:lnTo>
                <a:lnTo>
                  <a:pt x="3161467" y="165894"/>
                </a:lnTo>
                <a:lnTo>
                  <a:pt x="3180704" y="165894"/>
                </a:lnTo>
                <a:lnTo>
                  <a:pt x="3180704" y="148367"/>
                </a:lnTo>
                <a:lnTo>
                  <a:pt x="3143085" y="148367"/>
                </a:lnTo>
                <a:close/>
                <a:moveTo>
                  <a:pt x="3289469" y="148366"/>
                </a:moveTo>
                <a:lnTo>
                  <a:pt x="3289469" y="162109"/>
                </a:lnTo>
                <a:lnTo>
                  <a:pt x="3289469" y="165893"/>
                </a:lnTo>
                <a:lnTo>
                  <a:pt x="3289469" y="207699"/>
                </a:lnTo>
                <a:lnTo>
                  <a:pt x="3305144" y="207699"/>
                </a:lnTo>
                <a:lnTo>
                  <a:pt x="3307851" y="207699"/>
                </a:lnTo>
                <a:lnTo>
                  <a:pt x="3350715" y="207699"/>
                </a:lnTo>
                <a:lnTo>
                  <a:pt x="3350715" y="190600"/>
                </a:lnTo>
                <a:lnTo>
                  <a:pt x="3307851" y="190600"/>
                </a:lnTo>
                <a:lnTo>
                  <a:pt x="3307851" y="165893"/>
                </a:lnTo>
                <a:lnTo>
                  <a:pt x="3327088" y="165893"/>
                </a:lnTo>
                <a:lnTo>
                  <a:pt x="3327088" y="148366"/>
                </a:lnTo>
                <a:lnTo>
                  <a:pt x="3289469" y="148366"/>
                </a:lnTo>
                <a:close/>
                <a:moveTo>
                  <a:pt x="3728624" y="148365"/>
                </a:moveTo>
                <a:lnTo>
                  <a:pt x="3728624" y="162108"/>
                </a:lnTo>
                <a:lnTo>
                  <a:pt x="3728624" y="165892"/>
                </a:lnTo>
                <a:lnTo>
                  <a:pt x="3728624" y="207698"/>
                </a:lnTo>
                <a:lnTo>
                  <a:pt x="3744299" y="207698"/>
                </a:lnTo>
                <a:lnTo>
                  <a:pt x="3747006" y="207698"/>
                </a:lnTo>
                <a:lnTo>
                  <a:pt x="3789870" y="207698"/>
                </a:lnTo>
                <a:lnTo>
                  <a:pt x="3789870" y="190599"/>
                </a:lnTo>
                <a:lnTo>
                  <a:pt x="3747006" y="190599"/>
                </a:lnTo>
                <a:lnTo>
                  <a:pt x="3747006" y="165892"/>
                </a:lnTo>
                <a:lnTo>
                  <a:pt x="3766243" y="165892"/>
                </a:lnTo>
                <a:lnTo>
                  <a:pt x="3766243" y="148365"/>
                </a:lnTo>
                <a:lnTo>
                  <a:pt x="3728624" y="148365"/>
                </a:lnTo>
                <a:close/>
                <a:moveTo>
                  <a:pt x="3582240" y="148365"/>
                </a:moveTo>
                <a:lnTo>
                  <a:pt x="3582240" y="162108"/>
                </a:lnTo>
                <a:lnTo>
                  <a:pt x="3582240" y="165892"/>
                </a:lnTo>
                <a:lnTo>
                  <a:pt x="3582240" y="207698"/>
                </a:lnTo>
                <a:lnTo>
                  <a:pt x="3597915" y="207698"/>
                </a:lnTo>
                <a:lnTo>
                  <a:pt x="3600622" y="207698"/>
                </a:lnTo>
                <a:lnTo>
                  <a:pt x="3643485" y="207698"/>
                </a:lnTo>
                <a:lnTo>
                  <a:pt x="3643485" y="190599"/>
                </a:lnTo>
                <a:lnTo>
                  <a:pt x="3600622" y="190599"/>
                </a:lnTo>
                <a:lnTo>
                  <a:pt x="3600622" y="165892"/>
                </a:lnTo>
                <a:lnTo>
                  <a:pt x="3619859" y="165892"/>
                </a:lnTo>
                <a:lnTo>
                  <a:pt x="3619859" y="148365"/>
                </a:lnTo>
                <a:lnTo>
                  <a:pt x="3582240" y="148365"/>
                </a:lnTo>
                <a:close/>
                <a:moveTo>
                  <a:pt x="3435855" y="148365"/>
                </a:moveTo>
                <a:lnTo>
                  <a:pt x="3435855" y="162108"/>
                </a:lnTo>
                <a:lnTo>
                  <a:pt x="3435855" y="165892"/>
                </a:lnTo>
                <a:lnTo>
                  <a:pt x="3435855" y="207698"/>
                </a:lnTo>
                <a:lnTo>
                  <a:pt x="3451530" y="207698"/>
                </a:lnTo>
                <a:lnTo>
                  <a:pt x="3454237" y="207698"/>
                </a:lnTo>
                <a:lnTo>
                  <a:pt x="3497099" y="207698"/>
                </a:lnTo>
                <a:lnTo>
                  <a:pt x="3497099" y="190599"/>
                </a:lnTo>
                <a:lnTo>
                  <a:pt x="3454237" y="190599"/>
                </a:lnTo>
                <a:lnTo>
                  <a:pt x="3454237" y="165892"/>
                </a:lnTo>
                <a:lnTo>
                  <a:pt x="3473474" y="165892"/>
                </a:lnTo>
                <a:lnTo>
                  <a:pt x="3473474" y="148365"/>
                </a:lnTo>
                <a:lnTo>
                  <a:pt x="3435855" y="148365"/>
                </a:lnTo>
                <a:close/>
                <a:moveTo>
                  <a:pt x="3875009" y="148364"/>
                </a:moveTo>
                <a:lnTo>
                  <a:pt x="3875009" y="162107"/>
                </a:lnTo>
                <a:lnTo>
                  <a:pt x="3875009" y="165891"/>
                </a:lnTo>
                <a:lnTo>
                  <a:pt x="3875009" y="207697"/>
                </a:lnTo>
                <a:lnTo>
                  <a:pt x="3890684" y="207697"/>
                </a:lnTo>
                <a:lnTo>
                  <a:pt x="3893391" y="207697"/>
                </a:lnTo>
                <a:lnTo>
                  <a:pt x="3936254" y="207697"/>
                </a:lnTo>
                <a:lnTo>
                  <a:pt x="3936254" y="190598"/>
                </a:lnTo>
                <a:lnTo>
                  <a:pt x="3893391" y="190598"/>
                </a:lnTo>
                <a:lnTo>
                  <a:pt x="3893391" y="165891"/>
                </a:lnTo>
                <a:lnTo>
                  <a:pt x="3912628" y="165891"/>
                </a:lnTo>
                <a:lnTo>
                  <a:pt x="3912628" y="148364"/>
                </a:lnTo>
                <a:lnTo>
                  <a:pt x="3875009" y="148364"/>
                </a:lnTo>
                <a:close/>
                <a:moveTo>
                  <a:pt x="5941612" y="0"/>
                </a:moveTo>
                <a:lnTo>
                  <a:pt x="6070497" y="0"/>
                </a:lnTo>
                <a:lnTo>
                  <a:pt x="6070497" y="212068"/>
                </a:lnTo>
                <a:lnTo>
                  <a:pt x="6082071" y="212068"/>
                </a:lnTo>
                <a:lnTo>
                  <a:pt x="6082071" y="194969"/>
                </a:lnTo>
                <a:lnTo>
                  <a:pt x="6082071" y="4382"/>
                </a:lnTo>
                <a:lnTo>
                  <a:pt x="6120302" y="4382"/>
                </a:lnTo>
                <a:lnTo>
                  <a:pt x="6210956" y="4382"/>
                </a:lnTo>
                <a:lnTo>
                  <a:pt x="6210956" y="212068"/>
                </a:lnTo>
                <a:lnTo>
                  <a:pt x="6224041" y="212068"/>
                </a:lnTo>
                <a:lnTo>
                  <a:pt x="6224041" y="194969"/>
                </a:lnTo>
                <a:lnTo>
                  <a:pt x="6224041" y="4382"/>
                </a:lnTo>
                <a:lnTo>
                  <a:pt x="6262272" y="4382"/>
                </a:lnTo>
                <a:lnTo>
                  <a:pt x="6352926" y="4382"/>
                </a:lnTo>
                <a:lnTo>
                  <a:pt x="6352926" y="212068"/>
                </a:lnTo>
                <a:lnTo>
                  <a:pt x="6366011" y="212068"/>
                </a:lnTo>
                <a:lnTo>
                  <a:pt x="6366011" y="194969"/>
                </a:lnTo>
                <a:lnTo>
                  <a:pt x="6366011" y="4382"/>
                </a:lnTo>
                <a:lnTo>
                  <a:pt x="6404242" y="4382"/>
                </a:lnTo>
                <a:lnTo>
                  <a:pt x="6494896" y="4382"/>
                </a:lnTo>
                <a:lnTo>
                  <a:pt x="6494896" y="212068"/>
                </a:lnTo>
                <a:lnTo>
                  <a:pt x="6507981" y="212068"/>
                </a:lnTo>
                <a:lnTo>
                  <a:pt x="6507981" y="194969"/>
                </a:lnTo>
                <a:lnTo>
                  <a:pt x="6507981" y="4382"/>
                </a:lnTo>
                <a:lnTo>
                  <a:pt x="6546212" y="4382"/>
                </a:lnTo>
                <a:lnTo>
                  <a:pt x="6636866" y="4382"/>
                </a:lnTo>
                <a:lnTo>
                  <a:pt x="6636866" y="212068"/>
                </a:lnTo>
                <a:lnTo>
                  <a:pt x="6649951" y="212068"/>
                </a:lnTo>
                <a:lnTo>
                  <a:pt x="6649951" y="194969"/>
                </a:lnTo>
                <a:lnTo>
                  <a:pt x="6649951" y="4382"/>
                </a:lnTo>
                <a:lnTo>
                  <a:pt x="6688182" y="4382"/>
                </a:lnTo>
                <a:lnTo>
                  <a:pt x="6778836" y="4382"/>
                </a:lnTo>
                <a:lnTo>
                  <a:pt x="6778836" y="212068"/>
                </a:lnTo>
                <a:lnTo>
                  <a:pt x="6791920" y="212068"/>
                </a:lnTo>
                <a:lnTo>
                  <a:pt x="6791920" y="194969"/>
                </a:lnTo>
                <a:lnTo>
                  <a:pt x="6791920" y="4382"/>
                </a:lnTo>
                <a:lnTo>
                  <a:pt x="6830152" y="4382"/>
                </a:lnTo>
                <a:lnTo>
                  <a:pt x="6920806" y="4382"/>
                </a:lnTo>
                <a:lnTo>
                  <a:pt x="6920806" y="212068"/>
                </a:lnTo>
                <a:lnTo>
                  <a:pt x="6933890" y="212068"/>
                </a:lnTo>
                <a:lnTo>
                  <a:pt x="6933890" y="194969"/>
                </a:lnTo>
                <a:lnTo>
                  <a:pt x="6933890" y="4382"/>
                </a:lnTo>
                <a:lnTo>
                  <a:pt x="6972122" y="4382"/>
                </a:lnTo>
                <a:lnTo>
                  <a:pt x="7062776" y="4382"/>
                </a:lnTo>
                <a:lnTo>
                  <a:pt x="7062776" y="212068"/>
                </a:lnTo>
                <a:lnTo>
                  <a:pt x="7075860" y="212068"/>
                </a:lnTo>
                <a:lnTo>
                  <a:pt x="7075860" y="194969"/>
                </a:lnTo>
                <a:lnTo>
                  <a:pt x="7075860" y="4382"/>
                </a:lnTo>
                <a:lnTo>
                  <a:pt x="7114092" y="4382"/>
                </a:lnTo>
                <a:lnTo>
                  <a:pt x="7204746" y="4382"/>
                </a:lnTo>
                <a:lnTo>
                  <a:pt x="7204746" y="212068"/>
                </a:lnTo>
                <a:lnTo>
                  <a:pt x="7217830" y="212068"/>
                </a:lnTo>
                <a:lnTo>
                  <a:pt x="7217830" y="194969"/>
                </a:lnTo>
                <a:lnTo>
                  <a:pt x="7217830" y="4382"/>
                </a:lnTo>
                <a:lnTo>
                  <a:pt x="7256062" y="4382"/>
                </a:lnTo>
                <a:lnTo>
                  <a:pt x="7346716" y="4382"/>
                </a:lnTo>
                <a:lnTo>
                  <a:pt x="7346716" y="212068"/>
                </a:lnTo>
                <a:lnTo>
                  <a:pt x="7359800" y="212068"/>
                </a:lnTo>
                <a:lnTo>
                  <a:pt x="7359800" y="194969"/>
                </a:lnTo>
                <a:lnTo>
                  <a:pt x="7359800" y="4382"/>
                </a:lnTo>
                <a:lnTo>
                  <a:pt x="7398032" y="4382"/>
                </a:lnTo>
                <a:lnTo>
                  <a:pt x="7488686" y="4382"/>
                </a:lnTo>
                <a:lnTo>
                  <a:pt x="7488686" y="212068"/>
                </a:lnTo>
                <a:lnTo>
                  <a:pt x="7501770" y="212068"/>
                </a:lnTo>
                <a:lnTo>
                  <a:pt x="7501770" y="194969"/>
                </a:lnTo>
                <a:lnTo>
                  <a:pt x="7501770" y="4382"/>
                </a:lnTo>
                <a:lnTo>
                  <a:pt x="7630656" y="4382"/>
                </a:lnTo>
                <a:lnTo>
                  <a:pt x="7630656" y="212494"/>
                </a:lnTo>
                <a:lnTo>
                  <a:pt x="7644470" y="212494"/>
                </a:lnTo>
                <a:lnTo>
                  <a:pt x="7644470" y="195394"/>
                </a:lnTo>
                <a:lnTo>
                  <a:pt x="7644470" y="4807"/>
                </a:lnTo>
                <a:lnTo>
                  <a:pt x="7670129" y="4807"/>
                </a:lnTo>
                <a:lnTo>
                  <a:pt x="7670129" y="29216"/>
                </a:lnTo>
                <a:lnTo>
                  <a:pt x="7669341" y="29216"/>
                </a:lnTo>
                <a:lnTo>
                  <a:pt x="7669341" y="46315"/>
                </a:lnTo>
                <a:lnTo>
                  <a:pt x="7669341" y="236901"/>
                </a:lnTo>
                <a:lnTo>
                  <a:pt x="7540732" y="236901"/>
                </a:lnTo>
                <a:lnTo>
                  <a:pt x="7540732" y="129990"/>
                </a:lnTo>
                <a:lnTo>
                  <a:pt x="7627326" y="129990"/>
                </a:lnTo>
                <a:lnTo>
                  <a:pt x="7627326" y="195394"/>
                </a:lnTo>
                <a:lnTo>
                  <a:pt x="7583831" y="195394"/>
                </a:lnTo>
                <a:lnTo>
                  <a:pt x="7583831" y="170687"/>
                </a:lnTo>
                <a:lnTo>
                  <a:pt x="7603068" y="170687"/>
                </a:lnTo>
                <a:lnTo>
                  <a:pt x="7603068" y="153160"/>
                </a:lnTo>
                <a:lnTo>
                  <a:pt x="7565449" y="153160"/>
                </a:lnTo>
                <a:lnTo>
                  <a:pt x="7565449" y="166904"/>
                </a:lnTo>
                <a:lnTo>
                  <a:pt x="7565449" y="170687"/>
                </a:lnTo>
                <a:lnTo>
                  <a:pt x="7565449" y="212494"/>
                </a:lnTo>
                <a:lnTo>
                  <a:pt x="7581124" y="212494"/>
                </a:lnTo>
                <a:lnTo>
                  <a:pt x="7583831" y="212494"/>
                </a:lnTo>
                <a:lnTo>
                  <a:pt x="7627326" y="212494"/>
                </a:lnTo>
                <a:lnTo>
                  <a:pt x="7630379" y="212494"/>
                </a:lnTo>
                <a:lnTo>
                  <a:pt x="7630379" y="111294"/>
                </a:lnTo>
                <a:lnTo>
                  <a:pt x="7543785" y="111294"/>
                </a:lnTo>
                <a:lnTo>
                  <a:pt x="7543785" y="45890"/>
                </a:lnTo>
                <a:lnTo>
                  <a:pt x="7587280" y="45890"/>
                </a:lnTo>
                <a:lnTo>
                  <a:pt x="7587280" y="70596"/>
                </a:lnTo>
                <a:lnTo>
                  <a:pt x="7568043" y="70596"/>
                </a:lnTo>
                <a:lnTo>
                  <a:pt x="7568043" y="88124"/>
                </a:lnTo>
                <a:lnTo>
                  <a:pt x="7605662" y="88124"/>
                </a:lnTo>
                <a:lnTo>
                  <a:pt x="7605662" y="74380"/>
                </a:lnTo>
                <a:lnTo>
                  <a:pt x="7605662" y="70596"/>
                </a:lnTo>
                <a:lnTo>
                  <a:pt x="7605662" y="28790"/>
                </a:lnTo>
                <a:lnTo>
                  <a:pt x="7589988" y="28790"/>
                </a:lnTo>
                <a:lnTo>
                  <a:pt x="7587280" y="28790"/>
                </a:lnTo>
                <a:lnTo>
                  <a:pt x="7543785" y="28790"/>
                </a:lnTo>
                <a:lnTo>
                  <a:pt x="7526641" y="28790"/>
                </a:lnTo>
                <a:lnTo>
                  <a:pt x="7526641" y="45890"/>
                </a:lnTo>
                <a:lnTo>
                  <a:pt x="7526641" y="236476"/>
                </a:lnTo>
                <a:lnTo>
                  <a:pt x="7488686" y="236476"/>
                </a:lnTo>
                <a:lnTo>
                  <a:pt x="7488409" y="236476"/>
                </a:lnTo>
                <a:lnTo>
                  <a:pt x="7398032" y="236476"/>
                </a:lnTo>
                <a:lnTo>
                  <a:pt x="7398032" y="129565"/>
                </a:lnTo>
                <a:lnTo>
                  <a:pt x="7484626" y="129565"/>
                </a:lnTo>
                <a:lnTo>
                  <a:pt x="7484626" y="194969"/>
                </a:lnTo>
                <a:lnTo>
                  <a:pt x="7441131" y="194969"/>
                </a:lnTo>
                <a:lnTo>
                  <a:pt x="7441131" y="170262"/>
                </a:lnTo>
                <a:lnTo>
                  <a:pt x="7460368" y="170262"/>
                </a:lnTo>
                <a:lnTo>
                  <a:pt x="7460368" y="152735"/>
                </a:lnTo>
                <a:lnTo>
                  <a:pt x="7422749" y="152735"/>
                </a:lnTo>
                <a:lnTo>
                  <a:pt x="7422749" y="166478"/>
                </a:lnTo>
                <a:lnTo>
                  <a:pt x="7422749" y="170262"/>
                </a:lnTo>
                <a:lnTo>
                  <a:pt x="7422749" y="212068"/>
                </a:lnTo>
                <a:lnTo>
                  <a:pt x="7438423" y="212068"/>
                </a:lnTo>
                <a:lnTo>
                  <a:pt x="7441131" y="212068"/>
                </a:lnTo>
                <a:lnTo>
                  <a:pt x="7484626" y="212068"/>
                </a:lnTo>
                <a:lnTo>
                  <a:pt x="7488409" y="212068"/>
                </a:lnTo>
                <a:lnTo>
                  <a:pt x="7488409" y="111294"/>
                </a:lnTo>
                <a:lnTo>
                  <a:pt x="7401815" y="111294"/>
                </a:lnTo>
                <a:lnTo>
                  <a:pt x="7401815" y="45890"/>
                </a:lnTo>
                <a:lnTo>
                  <a:pt x="7445310" y="45890"/>
                </a:lnTo>
                <a:lnTo>
                  <a:pt x="7445310" y="70596"/>
                </a:lnTo>
                <a:lnTo>
                  <a:pt x="7426073" y="70596"/>
                </a:lnTo>
                <a:lnTo>
                  <a:pt x="7426073" y="88124"/>
                </a:lnTo>
                <a:lnTo>
                  <a:pt x="7463692" y="88124"/>
                </a:lnTo>
                <a:lnTo>
                  <a:pt x="7463692" y="74380"/>
                </a:lnTo>
                <a:lnTo>
                  <a:pt x="7463692" y="70596"/>
                </a:lnTo>
                <a:lnTo>
                  <a:pt x="7463692" y="28790"/>
                </a:lnTo>
                <a:lnTo>
                  <a:pt x="7448018" y="28790"/>
                </a:lnTo>
                <a:lnTo>
                  <a:pt x="7445310" y="28790"/>
                </a:lnTo>
                <a:lnTo>
                  <a:pt x="7401815" y="28790"/>
                </a:lnTo>
                <a:lnTo>
                  <a:pt x="7398032" y="28790"/>
                </a:lnTo>
                <a:lnTo>
                  <a:pt x="7384671" y="28790"/>
                </a:lnTo>
                <a:lnTo>
                  <a:pt x="7384671" y="45890"/>
                </a:lnTo>
                <a:lnTo>
                  <a:pt x="7384671" y="236476"/>
                </a:lnTo>
                <a:lnTo>
                  <a:pt x="7346716" y="236476"/>
                </a:lnTo>
                <a:lnTo>
                  <a:pt x="7346439" y="236476"/>
                </a:lnTo>
                <a:lnTo>
                  <a:pt x="7256062" y="236476"/>
                </a:lnTo>
                <a:lnTo>
                  <a:pt x="7256062" y="129565"/>
                </a:lnTo>
                <a:lnTo>
                  <a:pt x="7342656" y="129565"/>
                </a:lnTo>
                <a:lnTo>
                  <a:pt x="7342656" y="194969"/>
                </a:lnTo>
                <a:lnTo>
                  <a:pt x="7299161" y="194969"/>
                </a:lnTo>
                <a:lnTo>
                  <a:pt x="7299161" y="170262"/>
                </a:lnTo>
                <a:lnTo>
                  <a:pt x="7318398" y="170262"/>
                </a:lnTo>
                <a:lnTo>
                  <a:pt x="7318398" y="152735"/>
                </a:lnTo>
                <a:lnTo>
                  <a:pt x="7280779" y="152735"/>
                </a:lnTo>
                <a:lnTo>
                  <a:pt x="7280779" y="166478"/>
                </a:lnTo>
                <a:lnTo>
                  <a:pt x="7280779" y="170262"/>
                </a:lnTo>
                <a:lnTo>
                  <a:pt x="7280779" y="212068"/>
                </a:lnTo>
                <a:lnTo>
                  <a:pt x="7296453" y="212068"/>
                </a:lnTo>
                <a:lnTo>
                  <a:pt x="7299161" y="212068"/>
                </a:lnTo>
                <a:lnTo>
                  <a:pt x="7342656" y="212068"/>
                </a:lnTo>
                <a:lnTo>
                  <a:pt x="7346439" y="212068"/>
                </a:lnTo>
                <a:lnTo>
                  <a:pt x="7346439" y="111294"/>
                </a:lnTo>
                <a:lnTo>
                  <a:pt x="7259845" y="111294"/>
                </a:lnTo>
                <a:lnTo>
                  <a:pt x="7259845" y="45890"/>
                </a:lnTo>
                <a:lnTo>
                  <a:pt x="7303340" y="45890"/>
                </a:lnTo>
                <a:lnTo>
                  <a:pt x="7303340" y="70596"/>
                </a:lnTo>
                <a:lnTo>
                  <a:pt x="7284103" y="70596"/>
                </a:lnTo>
                <a:lnTo>
                  <a:pt x="7284103" y="88124"/>
                </a:lnTo>
                <a:lnTo>
                  <a:pt x="7321722" y="88124"/>
                </a:lnTo>
                <a:lnTo>
                  <a:pt x="7321722" y="74380"/>
                </a:lnTo>
                <a:lnTo>
                  <a:pt x="7321722" y="70596"/>
                </a:lnTo>
                <a:lnTo>
                  <a:pt x="7321722" y="28790"/>
                </a:lnTo>
                <a:lnTo>
                  <a:pt x="7306048" y="28790"/>
                </a:lnTo>
                <a:lnTo>
                  <a:pt x="7303340" y="28790"/>
                </a:lnTo>
                <a:lnTo>
                  <a:pt x="7259845" y="28790"/>
                </a:lnTo>
                <a:lnTo>
                  <a:pt x="7256062" y="28790"/>
                </a:lnTo>
                <a:lnTo>
                  <a:pt x="7242701" y="28790"/>
                </a:lnTo>
                <a:lnTo>
                  <a:pt x="7242701" y="45890"/>
                </a:lnTo>
                <a:lnTo>
                  <a:pt x="7242701" y="236476"/>
                </a:lnTo>
                <a:lnTo>
                  <a:pt x="7204746" y="236476"/>
                </a:lnTo>
                <a:lnTo>
                  <a:pt x="7204469" y="236476"/>
                </a:lnTo>
                <a:lnTo>
                  <a:pt x="7114092" y="236476"/>
                </a:lnTo>
                <a:lnTo>
                  <a:pt x="7114092" y="129565"/>
                </a:lnTo>
                <a:lnTo>
                  <a:pt x="7200686" y="129565"/>
                </a:lnTo>
                <a:lnTo>
                  <a:pt x="7200686" y="194969"/>
                </a:lnTo>
                <a:lnTo>
                  <a:pt x="7157191" y="194969"/>
                </a:lnTo>
                <a:lnTo>
                  <a:pt x="7157191" y="170262"/>
                </a:lnTo>
                <a:lnTo>
                  <a:pt x="7176428" y="170262"/>
                </a:lnTo>
                <a:lnTo>
                  <a:pt x="7176428" y="152735"/>
                </a:lnTo>
                <a:lnTo>
                  <a:pt x="7138809" y="152735"/>
                </a:lnTo>
                <a:lnTo>
                  <a:pt x="7138809" y="166478"/>
                </a:lnTo>
                <a:lnTo>
                  <a:pt x="7138809" y="170262"/>
                </a:lnTo>
                <a:lnTo>
                  <a:pt x="7138809" y="212068"/>
                </a:lnTo>
                <a:lnTo>
                  <a:pt x="7154483" y="212068"/>
                </a:lnTo>
                <a:lnTo>
                  <a:pt x="7157191" y="212068"/>
                </a:lnTo>
                <a:lnTo>
                  <a:pt x="7200686" y="212068"/>
                </a:lnTo>
                <a:lnTo>
                  <a:pt x="7204469" y="212068"/>
                </a:lnTo>
                <a:lnTo>
                  <a:pt x="7204469" y="111294"/>
                </a:lnTo>
                <a:lnTo>
                  <a:pt x="7117875" y="111294"/>
                </a:lnTo>
                <a:lnTo>
                  <a:pt x="7117875" y="45890"/>
                </a:lnTo>
                <a:lnTo>
                  <a:pt x="7161370" y="45890"/>
                </a:lnTo>
                <a:lnTo>
                  <a:pt x="7161370" y="70596"/>
                </a:lnTo>
                <a:lnTo>
                  <a:pt x="7142133" y="70596"/>
                </a:lnTo>
                <a:lnTo>
                  <a:pt x="7142133" y="88124"/>
                </a:lnTo>
                <a:lnTo>
                  <a:pt x="7179752" y="88124"/>
                </a:lnTo>
                <a:lnTo>
                  <a:pt x="7179752" y="74380"/>
                </a:lnTo>
                <a:lnTo>
                  <a:pt x="7179752" y="70596"/>
                </a:lnTo>
                <a:lnTo>
                  <a:pt x="7179752" y="28790"/>
                </a:lnTo>
                <a:lnTo>
                  <a:pt x="7164078" y="28790"/>
                </a:lnTo>
                <a:lnTo>
                  <a:pt x="7161370" y="28790"/>
                </a:lnTo>
                <a:lnTo>
                  <a:pt x="7117875" y="28790"/>
                </a:lnTo>
                <a:lnTo>
                  <a:pt x="7114092" y="28790"/>
                </a:lnTo>
                <a:lnTo>
                  <a:pt x="7100731" y="28790"/>
                </a:lnTo>
                <a:lnTo>
                  <a:pt x="7100731" y="45890"/>
                </a:lnTo>
                <a:lnTo>
                  <a:pt x="7100731" y="236476"/>
                </a:lnTo>
                <a:lnTo>
                  <a:pt x="7062776" y="236476"/>
                </a:lnTo>
                <a:lnTo>
                  <a:pt x="7062499" y="236476"/>
                </a:lnTo>
                <a:lnTo>
                  <a:pt x="6972122" y="236476"/>
                </a:lnTo>
                <a:lnTo>
                  <a:pt x="6972122" y="129565"/>
                </a:lnTo>
                <a:lnTo>
                  <a:pt x="7058716" y="129565"/>
                </a:lnTo>
                <a:lnTo>
                  <a:pt x="7058716" y="194969"/>
                </a:lnTo>
                <a:lnTo>
                  <a:pt x="7015221" y="194969"/>
                </a:lnTo>
                <a:lnTo>
                  <a:pt x="7015221" y="170262"/>
                </a:lnTo>
                <a:lnTo>
                  <a:pt x="7034458" y="170262"/>
                </a:lnTo>
                <a:lnTo>
                  <a:pt x="7034458" y="152735"/>
                </a:lnTo>
                <a:lnTo>
                  <a:pt x="6996839" y="152735"/>
                </a:lnTo>
                <a:lnTo>
                  <a:pt x="6996839" y="166478"/>
                </a:lnTo>
                <a:lnTo>
                  <a:pt x="6996839" y="170262"/>
                </a:lnTo>
                <a:lnTo>
                  <a:pt x="6996839" y="212068"/>
                </a:lnTo>
                <a:lnTo>
                  <a:pt x="7012513" y="212068"/>
                </a:lnTo>
                <a:lnTo>
                  <a:pt x="7015221" y="212068"/>
                </a:lnTo>
                <a:lnTo>
                  <a:pt x="7058716" y="212068"/>
                </a:lnTo>
                <a:lnTo>
                  <a:pt x="7062499" y="212068"/>
                </a:lnTo>
                <a:lnTo>
                  <a:pt x="7062499" y="111294"/>
                </a:lnTo>
                <a:lnTo>
                  <a:pt x="6975905" y="111294"/>
                </a:lnTo>
                <a:lnTo>
                  <a:pt x="6975905" y="45890"/>
                </a:lnTo>
                <a:lnTo>
                  <a:pt x="7019400" y="45890"/>
                </a:lnTo>
                <a:lnTo>
                  <a:pt x="7019400" y="70596"/>
                </a:lnTo>
                <a:lnTo>
                  <a:pt x="7000163" y="70596"/>
                </a:lnTo>
                <a:lnTo>
                  <a:pt x="7000163" y="88124"/>
                </a:lnTo>
                <a:lnTo>
                  <a:pt x="7037782" y="88124"/>
                </a:lnTo>
                <a:lnTo>
                  <a:pt x="7037782" y="74380"/>
                </a:lnTo>
                <a:lnTo>
                  <a:pt x="7037782" y="70596"/>
                </a:lnTo>
                <a:lnTo>
                  <a:pt x="7037782" y="28790"/>
                </a:lnTo>
                <a:lnTo>
                  <a:pt x="7022108" y="28790"/>
                </a:lnTo>
                <a:lnTo>
                  <a:pt x="7019400" y="28790"/>
                </a:lnTo>
                <a:lnTo>
                  <a:pt x="6975905" y="28790"/>
                </a:lnTo>
                <a:lnTo>
                  <a:pt x="6972122" y="28790"/>
                </a:lnTo>
                <a:lnTo>
                  <a:pt x="6958761" y="28790"/>
                </a:lnTo>
                <a:lnTo>
                  <a:pt x="6958761" y="45890"/>
                </a:lnTo>
                <a:lnTo>
                  <a:pt x="6958761" y="236476"/>
                </a:lnTo>
                <a:lnTo>
                  <a:pt x="6920806" y="236476"/>
                </a:lnTo>
                <a:lnTo>
                  <a:pt x="6920529" y="236476"/>
                </a:lnTo>
                <a:lnTo>
                  <a:pt x="6830152" y="236476"/>
                </a:lnTo>
                <a:lnTo>
                  <a:pt x="6830152" y="129565"/>
                </a:lnTo>
                <a:lnTo>
                  <a:pt x="6916746" y="129565"/>
                </a:lnTo>
                <a:lnTo>
                  <a:pt x="6916746" y="194969"/>
                </a:lnTo>
                <a:lnTo>
                  <a:pt x="6873251" y="194969"/>
                </a:lnTo>
                <a:lnTo>
                  <a:pt x="6873251" y="170262"/>
                </a:lnTo>
                <a:lnTo>
                  <a:pt x="6892488" y="170262"/>
                </a:lnTo>
                <a:lnTo>
                  <a:pt x="6892488" y="152735"/>
                </a:lnTo>
                <a:lnTo>
                  <a:pt x="6854869" y="152735"/>
                </a:lnTo>
                <a:lnTo>
                  <a:pt x="6854869" y="166478"/>
                </a:lnTo>
                <a:lnTo>
                  <a:pt x="6854869" y="170262"/>
                </a:lnTo>
                <a:lnTo>
                  <a:pt x="6854869" y="212068"/>
                </a:lnTo>
                <a:lnTo>
                  <a:pt x="6870543" y="212068"/>
                </a:lnTo>
                <a:lnTo>
                  <a:pt x="6873251" y="212068"/>
                </a:lnTo>
                <a:lnTo>
                  <a:pt x="6916746" y="212068"/>
                </a:lnTo>
                <a:lnTo>
                  <a:pt x="6920529" y="212068"/>
                </a:lnTo>
                <a:lnTo>
                  <a:pt x="6920529" y="111294"/>
                </a:lnTo>
                <a:lnTo>
                  <a:pt x="6833935" y="111294"/>
                </a:lnTo>
                <a:lnTo>
                  <a:pt x="6833935" y="45890"/>
                </a:lnTo>
                <a:lnTo>
                  <a:pt x="6877430" y="45890"/>
                </a:lnTo>
                <a:lnTo>
                  <a:pt x="6877430" y="70596"/>
                </a:lnTo>
                <a:lnTo>
                  <a:pt x="6858193" y="70596"/>
                </a:lnTo>
                <a:lnTo>
                  <a:pt x="6858193" y="88124"/>
                </a:lnTo>
                <a:lnTo>
                  <a:pt x="6895812" y="88124"/>
                </a:lnTo>
                <a:lnTo>
                  <a:pt x="6895812" y="74380"/>
                </a:lnTo>
                <a:lnTo>
                  <a:pt x="6895812" y="70596"/>
                </a:lnTo>
                <a:lnTo>
                  <a:pt x="6895812" y="28790"/>
                </a:lnTo>
                <a:lnTo>
                  <a:pt x="6880138" y="28790"/>
                </a:lnTo>
                <a:lnTo>
                  <a:pt x="6877430" y="28790"/>
                </a:lnTo>
                <a:lnTo>
                  <a:pt x="6833935" y="28790"/>
                </a:lnTo>
                <a:lnTo>
                  <a:pt x="6830152" y="28790"/>
                </a:lnTo>
                <a:lnTo>
                  <a:pt x="6816791" y="28790"/>
                </a:lnTo>
                <a:lnTo>
                  <a:pt x="6816791" y="45890"/>
                </a:lnTo>
                <a:lnTo>
                  <a:pt x="6816791" y="236476"/>
                </a:lnTo>
                <a:lnTo>
                  <a:pt x="6778836" y="236476"/>
                </a:lnTo>
                <a:lnTo>
                  <a:pt x="6778559" y="236476"/>
                </a:lnTo>
                <a:lnTo>
                  <a:pt x="6688182" y="236476"/>
                </a:lnTo>
                <a:lnTo>
                  <a:pt x="6688182" y="129565"/>
                </a:lnTo>
                <a:lnTo>
                  <a:pt x="6774776" y="129565"/>
                </a:lnTo>
                <a:lnTo>
                  <a:pt x="6774776" y="194969"/>
                </a:lnTo>
                <a:lnTo>
                  <a:pt x="6731281" y="194969"/>
                </a:lnTo>
                <a:lnTo>
                  <a:pt x="6731281" y="170262"/>
                </a:lnTo>
                <a:lnTo>
                  <a:pt x="6750518" y="170262"/>
                </a:lnTo>
                <a:lnTo>
                  <a:pt x="6750518" y="152735"/>
                </a:lnTo>
                <a:lnTo>
                  <a:pt x="6712899" y="152735"/>
                </a:lnTo>
                <a:lnTo>
                  <a:pt x="6712899" y="166478"/>
                </a:lnTo>
                <a:lnTo>
                  <a:pt x="6712899" y="170262"/>
                </a:lnTo>
                <a:lnTo>
                  <a:pt x="6712899" y="212068"/>
                </a:lnTo>
                <a:lnTo>
                  <a:pt x="6728574" y="212068"/>
                </a:lnTo>
                <a:lnTo>
                  <a:pt x="6731281" y="212068"/>
                </a:lnTo>
                <a:lnTo>
                  <a:pt x="6774776" y="212068"/>
                </a:lnTo>
                <a:lnTo>
                  <a:pt x="6778559" y="212068"/>
                </a:lnTo>
                <a:lnTo>
                  <a:pt x="6778559" y="111294"/>
                </a:lnTo>
                <a:lnTo>
                  <a:pt x="6691965" y="111294"/>
                </a:lnTo>
                <a:lnTo>
                  <a:pt x="6691965" y="45890"/>
                </a:lnTo>
                <a:lnTo>
                  <a:pt x="6735460" y="45890"/>
                </a:lnTo>
                <a:lnTo>
                  <a:pt x="6735460" y="70596"/>
                </a:lnTo>
                <a:lnTo>
                  <a:pt x="6716223" y="70596"/>
                </a:lnTo>
                <a:lnTo>
                  <a:pt x="6716223" y="88124"/>
                </a:lnTo>
                <a:lnTo>
                  <a:pt x="6753843" y="88124"/>
                </a:lnTo>
                <a:lnTo>
                  <a:pt x="6753843" y="74380"/>
                </a:lnTo>
                <a:lnTo>
                  <a:pt x="6753843" y="70596"/>
                </a:lnTo>
                <a:lnTo>
                  <a:pt x="6753843" y="28790"/>
                </a:lnTo>
                <a:lnTo>
                  <a:pt x="6738168" y="28790"/>
                </a:lnTo>
                <a:lnTo>
                  <a:pt x="6735460" y="28790"/>
                </a:lnTo>
                <a:lnTo>
                  <a:pt x="6691965" y="28790"/>
                </a:lnTo>
                <a:lnTo>
                  <a:pt x="6688182" y="28790"/>
                </a:lnTo>
                <a:lnTo>
                  <a:pt x="6674821" y="28790"/>
                </a:lnTo>
                <a:lnTo>
                  <a:pt x="6674821" y="45890"/>
                </a:lnTo>
                <a:lnTo>
                  <a:pt x="6674821" y="236476"/>
                </a:lnTo>
                <a:lnTo>
                  <a:pt x="6636866" y="236476"/>
                </a:lnTo>
                <a:lnTo>
                  <a:pt x="6636589" y="236476"/>
                </a:lnTo>
                <a:lnTo>
                  <a:pt x="6546212" y="236476"/>
                </a:lnTo>
                <a:lnTo>
                  <a:pt x="6546212" y="129565"/>
                </a:lnTo>
                <a:lnTo>
                  <a:pt x="6632807" y="129565"/>
                </a:lnTo>
                <a:lnTo>
                  <a:pt x="6632807" y="194969"/>
                </a:lnTo>
                <a:lnTo>
                  <a:pt x="6589311" y="194969"/>
                </a:lnTo>
                <a:lnTo>
                  <a:pt x="6589311" y="170262"/>
                </a:lnTo>
                <a:lnTo>
                  <a:pt x="6608548" y="170262"/>
                </a:lnTo>
                <a:lnTo>
                  <a:pt x="6608548" y="152735"/>
                </a:lnTo>
                <a:lnTo>
                  <a:pt x="6570929" y="152735"/>
                </a:lnTo>
                <a:lnTo>
                  <a:pt x="6570929" y="166478"/>
                </a:lnTo>
                <a:lnTo>
                  <a:pt x="6570929" y="170262"/>
                </a:lnTo>
                <a:lnTo>
                  <a:pt x="6570929" y="212068"/>
                </a:lnTo>
                <a:lnTo>
                  <a:pt x="6586604" y="212068"/>
                </a:lnTo>
                <a:lnTo>
                  <a:pt x="6589311" y="212068"/>
                </a:lnTo>
                <a:lnTo>
                  <a:pt x="6632807" y="212068"/>
                </a:lnTo>
                <a:lnTo>
                  <a:pt x="6636589" y="212068"/>
                </a:lnTo>
                <a:lnTo>
                  <a:pt x="6636589" y="111294"/>
                </a:lnTo>
                <a:lnTo>
                  <a:pt x="6549995" y="111294"/>
                </a:lnTo>
                <a:lnTo>
                  <a:pt x="6549995" y="45890"/>
                </a:lnTo>
                <a:lnTo>
                  <a:pt x="6593490" y="45890"/>
                </a:lnTo>
                <a:lnTo>
                  <a:pt x="6593490" y="70596"/>
                </a:lnTo>
                <a:lnTo>
                  <a:pt x="6574253" y="70596"/>
                </a:lnTo>
                <a:lnTo>
                  <a:pt x="6574253" y="88124"/>
                </a:lnTo>
                <a:lnTo>
                  <a:pt x="6611873" y="88124"/>
                </a:lnTo>
                <a:lnTo>
                  <a:pt x="6611873" y="74380"/>
                </a:lnTo>
                <a:lnTo>
                  <a:pt x="6611873" y="70596"/>
                </a:lnTo>
                <a:lnTo>
                  <a:pt x="6611873" y="28790"/>
                </a:lnTo>
                <a:lnTo>
                  <a:pt x="6596198" y="28790"/>
                </a:lnTo>
                <a:lnTo>
                  <a:pt x="6593490" y="28790"/>
                </a:lnTo>
                <a:lnTo>
                  <a:pt x="6549995" y="28790"/>
                </a:lnTo>
                <a:lnTo>
                  <a:pt x="6546212" y="28790"/>
                </a:lnTo>
                <a:lnTo>
                  <a:pt x="6532851" y="28790"/>
                </a:lnTo>
                <a:lnTo>
                  <a:pt x="6532851" y="45890"/>
                </a:lnTo>
                <a:lnTo>
                  <a:pt x="6532851" y="236476"/>
                </a:lnTo>
                <a:lnTo>
                  <a:pt x="6494896" y="236476"/>
                </a:lnTo>
                <a:lnTo>
                  <a:pt x="6494619" y="236476"/>
                </a:lnTo>
                <a:lnTo>
                  <a:pt x="6404242" y="236476"/>
                </a:lnTo>
                <a:lnTo>
                  <a:pt x="6404242" y="129565"/>
                </a:lnTo>
                <a:lnTo>
                  <a:pt x="6490837" y="129565"/>
                </a:lnTo>
                <a:lnTo>
                  <a:pt x="6490837" y="194969"/>
                </a:lnTo>
                <a:lnTo>
                  <a:pt x="6447341" y="194969"/>
                </a:lnTo>
                <a:lnTo>
                  <a:pt x="6447341" y="170262"/>
                </a:lnTo>
                <a:lnTo>
                  <a:pt x="6466578" y="170262"/>
                </a:lnTo>
                <a:lnTo>
                  <a:pt x="6466578" y="152735"/>
                </a:lnTo>
                <a:lnTo>
                  <a:pt x="6428959" y="152735"/>
                </a:lnTo>
                <a:lnTo>
                  <a:pt x="6428959" y="166478"/>
                </a:lnTo>
                <a:lnTo>
                  <a:pt x="6428959" y="170262"/>
                </a:lnTo>
                <a:lnTo>
                  <a:pt x="6428959" y="212068"/>
                </a:lnTo>
                <a:lnTo>
                  <a:pt x="6444634" y="212068"/>
                </a:lnTo>
                <a:lnTo>
                  <a:pt x="6447341" y="212068"/>
                </a:lnTo>
                <a:lnTo>
                  <a:pt x="6490837" y="212068"/>
                </a:lnTo>
                <a:lnTo>
                  <a:pt x="6494619" y="212068"/>
                </a:lnTo>
                <a:lnTo>
                  <a:pt x="6494619" y="111294"/>
                </a:lnTo>
                <a:lnTo>
                  <a:pt x="6408025" y="111294"/>
                </a:lnTo>
                <a:lnTo>
                  <a:pt x="6408025" y="45890"/>
                </a:lnTo>
                <a:lnTo>
                  <a:pt x="6451520" y="45890"/>
                </a:lnTo>
                <a:lnTo>
                  <a:pt x="6451520" y="70596"/>
                </a:lnTo>
                <a:lnTo>
                  <a:pt x="6432283" y="70596"/>
                </a:lnTo>
                <a:lnTo>
                  <a:pt x="6432283" y="88124"/>
                </a:lnTo>
                <a:lnTo>
                  <a:pt x="6469903" y="88124"/>
                </a:lnTo>
                <a:lnTo>
                  <a:pt x="6469903" y="74380"/>
                </a:lnTo>
                <a:lnTo>
                  <a:pt x="6469903" y="70596"/>
                </a:lnTo>
                <a:lnTo>
                  <a:pt x="6469903" y="28790"/>
                </a:lnTo>
                <a:lnTo>
                  <a:pt x="6454228" y="28790"/>
                </a:lnTo>
                <a:lnTo>
                  <a:pt x="6451520" y="28790"/>
                </a:lnTo>
                <a:lnTo>
                  <a:pt x="6408025" y="28790"/>
                </a:lnTo>
                <a:lnTo>
                  <a:pt x="6404242" y="28790"/>
                </a:lnTo>
                <a:lnTo>
                  <a:pt x="6390881" y="28790"/>
                </a:lnTo>
                <a:lnTo>
                  <a:pt x="6390881" y="45890"/>
                </a:lnTo>
                <a:lnTo>
                  <a:pt x="6390881" y="236476"/>
                </a:lnTo>
                <a:lnTo>
                  <a:pt x="6352926" y="236476"/>
                </a:lnTo>
                <a:lnTo>
                  <a:pt x="6352649" y="236476"/>
                </a:lnTo>
                <a:lnTo>
                  <a:pt x="6262272" y="236476"/>
                </a:lnTo>
                <a:lnTo>
                  <a:pt x="6262272" y="129565"/>
                </a:lnTo>
                <a:lnTo>
                  <a:pt x="6348867" y="129565"/>
                </a:lnTo>
                <a:lnTo>
                  <a:pt x="6348867" y="194969"/>
                </a:lnTo>
                <a:lnTo>
                  <a:pt x="6305371" y="194969"/>
                </a:lnTo>
                <a:lnTo>
                  <a:pt x="6305371" y="170262"/>
                </a:lnTo>
                <a:lnTo>
                  <a:pt x="6324608" y="170262"/>
                </a:lnTo>
                <a:lnTo>
                  <a:pt x="6324608" y="152735"/>
                </a:lnTo>
                <a:lnTo>
                  <a:pt x="6286989" y="152735"/>
                </a:lnTo>
                <a:lnTo>
                  <a:pt x="6286989" y="166478"/>
                </a:lnTo>
                <a:lnTo>
                  <a:pt x="6286989" y="170262"/>
                </a:lnTo>
                <a:lnTo>
                  <a:pt x="6286989" y="212068"/>
                </a:lnTo>
                <a:lnTo>
                  <a:pt x="6302664" y="212068"/>
                </a:lnTo>
                <a:lnTo>
                  <a:pt x="6305371" y="212068"/>
                </a:lnTo>
                <a:lnTo>
                  <a:pt x="6348867" y="212068"/>
                </a:lnTo>
                <a:lnTo>
                  <a:pt x="6352649" y="212068"/>
                </a:lnTo>
                <a:lnTo>
                  <a:pt x="6352649" y="111294"/>
                </a:lnTo>
                <a:lnTo>
                  <a:pt x="6266055" y="111294"/>
                </a:lnTo>
                <a:lnTo>
                  <a:pt x="6266055" y="45890"/>
                </a:lnTo>
                <a:lnTo>
                  <a:pt x="6309550" y="45890"/>
                </a:lnTo>
                <a:lnTo>
                  <a:pt x="6309550" y="70596"/>
                </a:lnTo>
                <a:lnTo>
                  <a:pt x="6290313" y="70596"/>
                </a:lnTo>
                <a:lnTo>
                  <a:pt x="6290313" y="88124"/>
                </a:lnTo>
                <a:lnTo>
                  <a:pt x="6327933" y="88124"/>
                </a:lnTo>
                <a:lnTo>
                  <a:pt x="6327933" y="74380"/>
                </a:lnTo>
                <a:lnTo>
                  <a:pt x="6327933" y="70596"/>
                </a:lnTo>
                <a:lnTo>
                  <a:pt x="6327933" y="28790"/>
                </a:lnTo>
                <a:lnTo>
                  <a:pt x="6312258" y="28790"/>
                </a:lnTo>
                <a:lnTo>
                  <a:pt x="6309550" y="28790"/>
                </a:lnTo>
                <a:lnTo>
                  <a:pt x="6266055" y="28790"/>
                </a:lnTo>
                <a:lnTo>
                  <a:pt x="6262272" y="28790"/>
                </a:lnTo>
                <a:lnTo>
                  <a:pt x="6248911" y="28790"/>
                </a:lnTo>
                <a:lnTo>
                  <a:pt x="6248911" y="45890"/>
                </a:lnTo>
                <a:lnTo>
                  <a:pt x="6248911" y="236476"/>
                </a:lnTo>
                <a:lnTo>
                  <a:pt x="6210956" y="236476"/>
                </a:lnTo>
                <a:lnTo>
                  <a:pt x="6210679" y="236476"/>
                </a:lnTo>
                <a:lnTo>
                  <a:pt x="6120302" y="236476"/>
                </a:lnTo>
                <a:lnTo>
                  <a:pt x="6120302" y="129565"/>
                </a:lnTo>
                <a:lnTo>
                  <a:pt x="6206897" y="129565"/>
                </a:lnTo>
                <a:lnTo>
                  <a:pt x="6206897" y="194969"/>
                </a:lnTo>
                <a:lnTo>
                  <a:pt x="6163401" y="194969"/>
                </a:lnTo>
                <a:lnTo>
                  <a:pt x="6163401" y="170262"/>
                </a:lnTo>
                <a:lnTo>
                  <a:pt x="6182638" y="170262"/>
                </a:lnTo>
                <a:lnTo>
                  <a:pt x="6182638" y="152735"/>
                </a:lnTo>
                <a:lnTo>
                  <a:pt x="6145019" y="152735"/>
                </a:lnTo>
                <a:lnTo>
                  <a:pt x="6145019" y="166478"/>
                </a:lnTo>
                <a:lnTo>
                  <a:pt x="6145019" y="170262"/>
                </a:lnTo>
                <a:lnTo>
                  <a:pt x="6145019" y="212068"/>
                </a:lnTo>
                <a:lnTo>
                  <a:pt x="6160694" y="212068"/>
                </a:lnTo>
                <a:lnTo>
                  <a:pt x="6163401" y="212068"/>
                </a:lnTo>
                <a:lnTo>
                  <a:pt x="6206897" y="212068"/>
                </a:lnTo>
                <a:lnTo>
                  <a:pt x="6210679" y="212068"/>
                </a:lnTo>
                <a:lnTo>
                  <a:pt x="6210679" y="111294"/>
                </a:lnTo>
                <a:lnTo>
                  <a:pt x="6124085" y="111294"/>
                </a:lnTo>
                <a:lnTo>
                  <a:pt x="6124085" y="45890"/>
                </a:lnTo>
                <a:lnTo>
                  <a:pt x="6167580" y="45890"/>
                </a:lnTo>
                <a:lnTo>
                  <a:pt x="6167580" y="70596"/>
                </a:lnTo>
                <a:lnTo>
                  <a:pt x="6148343" y="70596"/>
                </a:lnTo>
                <a:lnTo>
                  <a:pt x="6148343" y="88124"/>
                </a:lnTo>
                <a:lnTo>
                  <a:pt x="6185963" y="88124"/>
                </a:lnTo>
                <a:lnTo>
                  <a:pt x="6185963" y="74380"/>
                </a:lnTo>
                <a:lnTo>
                  <a:pt x="6185963" y="70596"/>
                </a:lnTo>
                <a:lnTo>
                  <a:pt x="6185963" y="28790"/>
                </a:lnTo>
                <a:lnTo>
                  <a:pt x="6170288" y="28790"/>
                </a:lnTo>
                <a:lnTo>
                  <a:pt x="6167580" y="28790"/>
                </a:lnTo>
                <a:lnTo>
                  <a:pt x="6124085" y="28790"/>
                </a:lnTo>
                <a:lnTo>
                  <a:pt x="6120302" y="28790"/>
                </a:lnTo>
                <a:lnTo>
                  <a:pt x="6106941" y="28790"/>
                </a:lnTo>
                <a:lnTo>
                  <a:pt x="6106941" y="45890"/>
                </a:lnTo>
                <a:lnTo>
                  <a:pt x="6106941" y="236476"/>
                </a:lnTo>
                <a:lnTo>
                  <a:pt x="5978332" y="236476"/>
                </a:lnTo>
                <a:lnTo>
                  <a:pt x="5978332" y="129565"/>
                </a:lnTo>
                <a:lnTo>
                  <a:pt x="6064927" y="129565"/>
                </a:lnTo>
                <a:lnTo>
                  <a:pt x="6064927" y="194969"/>
                </a:lnTo>
                <a:lnTo>
                  <a:pt x="6021431" y="194969"/>
                </a:lnTo>
                <a:lnTo>
                  <a:pt x="6021431" y="170262"/>
                </a:lnTo>
                <a:lnTo>
                  <a:pt x="6040668" y="170262"/>
                </a:lnTo>
                <a:lnTo>
                  <a:pt x="6040668" y="152735"/>
                </a:lnTo>
                <a:lnTo>
                  <a:pt x="6003049" y="152735"/>
                </a:lnTo>
                <a:lnTo>
                  <a:pt x="6003049" y="166478"/>
                </a:lnTo>
                <a:lnTo>
                  <a:pt x="6003049" y="170262"/>
                </a:lnTo>
                <a:lnTo>
                  <a:pt x="6003049" y="212068"/>
                </a:lnTo>
                <a:lnTo>
                  <a:pt x="6018724" y="212068"/>
                </a:lnTo>
                <a:lnTo>
                  <a:pt x="6021431" y="212068"/>
                </a:lnTo>
                <a:lnTo>
                  <a:pt x="6064927" y="212068"/>
                </a:lnTo>
                <a:lnTo>
                  <a:pt x="6070220" y="212068"/>
                </a:lnTo>
                <a:lnTo>
                  <a:pt x="6070220" y="106912"/>
                </a:lnTo>
                <a:lnTo>
                  <a:pt x="5983626" y="106912"/>
                </a:lnTo>
                <a:lnTo>
                  <a:pt x="5983626" y="41508"/>
                </a:lnTo>
                <a:lnTo>
                  <a:pt x="6027121" y="41508"/>
                </a:lnTo>
                <a:lnTo>
                  <a:pt x="6027121" y="66214"/>
                </a:lnTo>
                <a:lnTo>
                  <a:pt x="6007884" y="66214"/>
                </a:lnTo>
                <a:lnTo>
                  <a:pt x="6007884" y="83742"/>
                </a:lnTo>
                <a:lnTo>
                  <a:pt x="6045504" y="83742"/>
                </a:lnTo>
                <a:lnTo>
                  <a:pt x="6045504" y="69998"/>
                </a:lnTo>
                <a:lnTo>
                  <a:pt x="6045504" y="66214"/>
                </a:lnTo>
                <a:lnTo>
                  <a:pt x="6045504" y="24408"/>
                </a:lnTo>
                <a:lnTo>
                  <a:pt x="6029829" y="24408"/>
                </a:lnTo>
                <a:lnTo>
                  <a:pt x="6027121" y="24408"/>
                </a:lnTo>
                <a:lnTo>
                  <a:pt x="5983626" y="24408"/>
                </a:lnTo>
                <a:lnTo>
                  <a:pt x="5978332" y="24408"/>
                </a:lnTo>
                <a:lnTo>
                  <a:pt x="5966482" y="24408"/>
                </a:lnTo>
                <a:lnTo>
                  <a:pt x="5966482" y="41508"/>
                </a:lnTo>
                <a:lnTo>
                  <a:pt x="5966482" y="232094"/>
                </a:lnTo>
                <a:lnTo>
                  <a:pt x="5928527" y="232094"/>
                </a:lnTo>
                <a:lnTo>
                  <a:pt x="5928527" y="232095"/>
                </a:lnTo>
                <a:lnTo>
                  <a:pt x="5928250" y="232095"/>
                </a:lnTo>
                <a:lnTo>
                  <a:pt x="5928250" y="232094"/>
                </a:lnTo>
                <a:lnTo>
                  <a:pt x="5837873" y="232094"/>
                </a:lnTo>
                <a:lnTo>
                  <a:pt x="5837873" y="125183"/>
                </a:lnTo>
                <a:lnTo>
                  <a:pt x="5924468" y="125183"/>
                </a:lnTo>
                <a:lnTo>
                  <a:pt x="5924468" y="190587"/>
                </a:lnTo>
                <a:lnTo>
                  <a:pt x="5880972" y="190587"/>
                </a:lnTo>
                <a:lnTo>
                  <a:pt x="5880972" y="165880"/>
                </a:lnTo>
                <a:lnTo>
                  <a:pt x="5900209" y="165880"/>
                </a:lnTo>
                <a:lnTo>
                  <a:pt x="5900209" y="148353"/>
                </a:lnTo>
                <a:lnTo>
                  <a:pt x="5862590" y="148353"/>
                </a:lnTo>
                <a:lnTo>
                  <a:pt x="5862590" y="162096"/>
                </a:lnTo>
                <a:lnTo>
                  <a:pt x="5862590" y="165880"/>
                </a:lnTo>
                <a:lnTo>
                  <a:pt x="5862590" y="207686"/>
                </a:lnTo>
                <a:lnTo>
                  <a:pt x="5878265" y="207686"/>
                </a:lnTo>
                <a:lnTo>
                  <a:pt x="5880972" y="207686"/>
                </a:lnTo>
                <a:lnTo>
                  <a:pt x="5924468" y="207686"/>
                </a:lnTo>
                <a:lnTo>
                  <a:pt x="5928250" y="207686"/>
                </a:lnTo>
                <a:lnTo>
                  <a:pt x="5928250" y="106913"/>
                </a:lnTo>
                <a:lnTo>
                  <a:pt x="5841656" y="106913"/>
                </a:lnTo>
                <a:lnTo>
                  <a:pt x="5841656" y="41509"/>
                </a:lnTo>
                <a:lnTo>
                  <a:pt x="5885151" y="41509"/>
                </a:lnTo>
                <a:lnTo>
                  <a:pt x="5885151" y="66215"/>
                </a:lnTo>
                <a:lnTo>
                  <a:pt x="5865914" y="66215"/>
                </a:lnTo>
                <a:lnTo>
                  <a:pt x="5865914" y="83743"/>
                </a:lnTo>
                <a:lnTo>
                  <a:pt x="5903534" y="83743"/>
                </a:lnTo>
                <a:lnTo>
                  <a:pt x="5903534" y="69999"/>
                </a:lnTo>
                <a:lnTo>
                  <a:pt x="5903534" y="66215"/>
                </a:lnTo>
                <a:lnTo>
                  <a:pt x="5903534" y="24409"/>
                </a:lnTo>
                <a:lnTo>
                  <a:pt x="5887859" y="24409"/>
                </a:lnTo>
                <a:lnTo>
                  <a:pt x="5885151" y="24409"/>
                </a:lnTo>
                <a:lnTo>
                  <a:pt x="5841656" y="24409"/>
                </a:lnTo>
                <a:lnTo>
                  <a:pt x="5837873" y="24409"/>
                </a:lnTo>
                <a:lnTo>
                  <a:pt x="5824512" y="24409"/>
                </a:lnTo>
                <a:lnTo>
                  <a:pt x="5824512" y="41509"/>
                </a:lnTo>
                <a:lnTo>
                  <a:pt x="5824512" y="232095"/>
                </a:lnTo>
                <a:lnTo>
                  <a:pt x="5786557" y="232095"/>
                </a:lnTo>
                <a:lnTo>
                  <a:pt x="5786280" y="232095"/>
                </a:lnTo>
                <a:lnTo>
                  <a:pt x="5695903" y="232095"/>
                </a:lnTo>
                <a:lnTo>
                  <a:pt x="5695903" y="125184"/>
                </a:lnTo>
                <a:lnTo>
                  <a:pt x="5782498" y="125184"/>
                </a:lnTo>
                <a:lnTo>
                  <a:pt x="5782498" y="190588"/>
                </a:lnTo>
                <a:lnTo>
                  <a:pt x="5739002" y="190588"/>
                </a:lnTo>
                <a:lnTo>
                  <a:pt x="5739002" y="165881"/>
                </a:lnTo>
                <a:lnTo>
                  <a:pt x="5758239" y="165881"/>
                </a:lnTo>
                <a:lnTo>
                  <a:pt x="5758239" y="148354"/>
                </a:lnTo>
                <a:lnTo>
                  <a:pt x="5720620" y="148354"/>
                </a:lnTo>
                <a:lnTo>
                  <a:pt x="5720620" y="162097"/>
                </a:lnTo>
                <a:lnTo>
                  <a:pt x="5720620" y="165881"/>
                </a:lnTo>
                <a:lnTo>
                  <a:pt x="5720620" y="207687"/>
                </a:lnTo>
                <a:lnTo>
                  <a:pt x="5736295" y="207687"/>
                </a:lnTo>
                <a:lnTo>
                  <a:pt x="5739002" y="207687"/>
                </a:lnTo>
                <a:lnTo>
                  <a:pt x="5782498" y="207687"/>
                </a:lnTo>
                <a:lnTo>
                  <a:pt x="5786280" y="207687"/>
                </a:lnTo>
                <a:lnTo>
                  <a:pt x="5786280" y="106913"/>
                </a:lnTo>
                <a:lnTo>
                  <a:pt x="5699686" y="106913"/>
                </a:lnTo>
                <a:lnTo>
                  <a:pt x="5699686" y="41509"/>
                </a:lnTo>
                <a:lnTo>
                  <a:pt x="5743181" y="41509"/>
                </a:lnTo>
                <a:lnTo>
                  <a:pt x="5743181" y="66215"/>
                </a:lnTo>
                <a:lnTo>
                  <a:pt x="5723944" y="66215"/>
                </a:lnTo>
                <a:lnTo>
                  <a:pt x="5723944" y="83743"/>
                </a:lnTo>
                <a:lnTo>
                  <a:pt x="5761564" y="83743"/>
                </a:lnTo>
                <a:lnTo>
                  <a:pt x="5761564" y="69999"/>
                </a:lnTo>
                <a:lnTo>
                  <a:pt x="5761564" y="66215"/>
                </a:lnTo>
                <a:lnTo>
                  <a:pt x="5761564" y="24409"/>
                </a:lnTo>
                <a:lnTo>
                  <a:pt x="5745889" y="24409"/>
                </a:lnTo>
                <a:lnTo>
                  <a:pt x="5743181" y="24409"/>
                </a:lnTo>
                <a:lnTo>
                  <a:pt x="5699686" y="24409"/>
                </a:lnTo>
                <a:lnTo>
                  <a:pt x="5695903" y="24409"/>
                </a:lnTo>
                <a:lnTo>
                  <a:pt x="5682542" y="24409"/>
                </a:lnTo>
                <a:lnTo>
                  <a:pt x="5682542" y="41509"/>
                </a:lnTo>
                <a:lnTo>
                  <a:pt x="5682542" y="232095"/>
                </a:lnTo>
                <a:lnTo>
                  <a:pt x="5644587" y="232095"/>
                </a:lnTo>
                <a:lnTo>
                  <a:pt x="5644587" y="232096"/>
                </a:lnTo>
                <a:lnTo>
                  <a:pt x="5644310" y="232096"/>
                </a:lnTo>
                <a:lnTo>
                  <a:pt x="5644310" y="232095"/>
                </a:lnTo>
                <a:lnTo>
                  <a:pt x="5553933" y="232095"/>
                </a:lnTo>
                <a:lnTo>
                  <a:pt x="5553933" y="125184"/>
                </a:lnTo>
                <a:lnTo>
                  <a:pt x="5640528" y="125184"/>
                </a:lnTo>
                <a:lnTo>
                  <a:pt x="5640528" y="190588"/>
                </a:lnTo>
                <a:lnTo>
                  <a:pt x="5597032" y="190588"/>
                </a:lnTo>
                <a:lnTo>
                  <a:pt x="5597032" y="165881"/>
                </a:lnTo>
                <a:lnTo>
                  <a:pt x="5616269" y="165881"/>
                </a:lnTo>
                <a:lnTo>
                  <a:pt x="5616269" y="148354"/>
                </a:lnTo>
                <a:lnTo>
                  <a:pt x="5578650" y="148354"/>
                </a:lnTo>
                <a:lnTo>
                  <a:pt x="5578650" y="162097"/>
                </a:lnTo>
                <a:lnTo>
                  <a:pt x="5578650" y="165881"/>
                </a:lnTo>
                <a:lnTo>
                  <a:pt x="5578650" y="207687"/>
                </a:lnTo>
                <a:lnTo>
                  <a:pt x="5594325" y="207687"/>
                </a:lnTo>
                <a:lnTo>
                  <a:pt x="5597032" y="207687"/>
                </a:lnTo>
                <a:lnTo>
                  <a:pt x="5640528" y="207687"/>
                </a:lnTo>
                <a:lnTo>
                  <a:pt x="5644310" y="207687"/>
                </a:lnTo>
                <a:lnTo>
                  <a:pt x="5644310" y="106914"/>
                </a:lnTo>
                <a:lnTo>
                  <a:pt x="5557716" y="106914"/>
                </a:lnTo>
                <a:lnTo>
                  <a:pt x="5557716" y="41510"/>
                </a:lnTo>
                <a:lnTo>
                  <a:pt x="5601211" y="41510"/>
                </a:lnTo>
                <a:lnTo>
                  <a:pt x="5601211" y="66216"/>
                </a:lnTo>
                <a:lnTo>
                  <a:pt x="5581974" y="66216"/>
                </a:lnTo>
                <a:lnTo>
                  <a:pt x="5581974" y="83744"/>
                </a:lnTo>
                <a:lnTo>
                  <a:pt x="5619594" y="83744"/>
                </a:lnTo>
                <a:lnTo>
                  <a:pt x="5619594" y="70000"/>
                </a:lnTo>
                <a:lnTo>
                  <a:pt x="5619594" y="66216"/>
                </a:lnTo>
                <a:lnTo>
                  <a:pt x="5619594" y="24410"/>
                </a:lnTo>
                <a:lnTo>
                  <a:pt x="5603919" y="24410"/>
                </a:lnTo>
                <a:lnTo>
                  <a:pt x="5601211" y="24410"/>
                </a:lnTo>
                <a:lnTo>
                  <a:pt x="5557716" y="24410"/>
                </a:lnTo>
                <a:lnTo>
                  <a:pt x="5553933" y="24410"/>
                </a:lnTo>
                <a:lnTo>
                  <a:pt x="5540572" y="24410"/>
                </a:lnTo>
                <a:lnTo>
                  <a:pt x="5540572" y="41510"/>
                </a:lnTo>
                <a:lnTo>
                  <a:pt x="5540572" y="232096"/>
                </a:lnTo>
                <a:lnTo>
                  <a:pt x="5502616" y="232096"/>
                </a:lnTo>
                <a:lnTo>
                  <a:pt x="5502616" y="232097"/>
                </a:lnTo>
                <a:lnTo>
                  <a:pt x="5502339" y="232097"/>
                </a:lnTo>
                <a:lnTo>
                  <a:pt x="5502339" y="232096"/>
                </a:lnTo>
                <a:lnTo>
                  <a:pt x="5411963" y="232096"/>
                </a:lnTo>
                <a:lnTo>
                  <a:pt x="5411963" y="125185"/>
                </a:lnTo>
                <a:lnTo>
                  <a:pt x="5498558" y="125185"/>
                </a:lnTo>
                <a:lnTo>
                  <a:pt x="5498558" y="190589"/>
                </a:lnTo>
                <a:lnTo>
                  <a:pt x="5455062" y="190589"/>
                </a:lnTo>
                <a:lnTo>
                  <a:pt x="5455062" y="165882"/>
                </a:lnTo>
                <a:lnTo>
                  <a:pt x="5474299" y="165882"/>
                </a:lnTo>
                <a:lnTo>
                  <a:pt x="5474299" y="148355"/>
                </a:lnTo>
                <a:lnTo>
                  <a:pt x="5436680" y="148355"/>
                </a:lnTo>
                <a:lnTo>
                  <a:pt x="5436680" y="162098"/>
                </a:lnTo>
                <a:lnTo>
                  <a:pt x="5436680" y="165882"/>
                </a:lnTo>
                <a:lnTo>
                  <a:pt x="5436680" y="207688"/>
                </a:lnTo>
                <a:lnTo>
                  <a:pt x="5452355" y="207688"/>
                </a:lnTo>
                <a:lnTo>
                  <a:pt x="5455062" y="207688"/>
                </a:lnTo>
                <a:lnTo>
                  <a:pt x="5498558" y="207688"/>
                </a:lnTo>
                <a:lnTo>
                  <a:pt x="5502339" y="207688"/>
                </a:lnTo>
                <a:lnTo>
                  <a:pt x="5502339" y="106915"/>
                </a:lnTo>
                <a:lnTo>
                  <a:pt x="5415745" y="106915"/>
                </a:lnTo>
                <a:lnTo>
                  <a:pt x="5415745" y="41511"/>
                </a:lnTo>
                <a:lnTo>
                  <a:pt x="5459240" y="41511"/>
                </a:lnTo>
                <a:lnTo>
                  <a:pt x="5459240" y="66217"/>
                </a:lnTo>
                <a:lnTo>
                  <a:pt x="5440003" y="66217"/>
                </a:lnTo>
                <a:lnTo>
                  <a:pt x="5440003" y="83745"/>
                </a:lnTo>
                <a:lnTo>
                  <a:pt x="5477623" y="83745"/>
                </a:lnTo>
                <a:lnTo>
                  <a:pt x="5477623" y="70001"/>
                </a:lnTo>
                <a:lnTo>
                  <a:pt x="5477623" y="66217"/>
                </a:lnTo>
                <a:lnTo>
                  <a:pt x="5477623" y="24411"/>
                </a:lnTo>
                <a:lnTo>
                  <a:pt x="5461948" y="24411"/>
                </a:lnTo>
                <a:lnTo>
                  <a:pt x="5459240" y="24411"/>
                </a:lnTo>
                <a:lnTo>
                  <a:pt x="5415745" y="24411"/>
                </a:lnTo>
                <a:lnTo>
                  <a:pt x="5411963" y="24411"/>
                </a:lnTo>
                <a:lnTo>
                  <a:pt x="5398601" y="24411"/>
                </a:lnTo>
                <a:lnTo>
                  <a:pt x="5398601" y="41511"/>
                </a:lnTo>
                <a:lnTo>
                  <a:pt x="5398601" y="232097"/>
                </a:lnTo>
                <a:lnTo>
                  <a:pt x="5360646" y="232097"/>
                </a:lnTo>
                <a:lnTo>
                  <a:pt x="5360646" y="232098"/>
                </a:lnTo>
                <a:lnTo>
                  <a:pt x="5360369" y="232098"/>
                </a:lnTo>
                <a:lnTo>
                  <a:pt x="5360369" y="232097"/>
                </a:lnTo>
                <a:lnTo>
                  <a:pt x="5269992" y="232097"/>
                </a:lnTo>
                <a:lnTo>
                  <a:pt x="5269992" y="125186"/>
                </a:lnTo>
                <a:lnTo>
                  <a:pt x="5356587" y="125186"/>
                </a:lnTo>
                <a:lnTo>
                  <a:pt x="5356587" y="190590"/>
                </a:lnTo>
                <a:lnTo>
                  <a:pt x="5313091" y="190590"/>
                </a:lnTo>
                <a:lnTo>
                  <a:pt x="5313091" y="165883"/>
                </a:lnTo>
                <a:lnTo>
                  <a:pt x="5332328" y="165883"/>
                </a:lnTo>
                <a:lnTo>
                  <a:pt x="5332328" y="148356"/>
                </a:lnTo>
                <a:lnTo>
                  <a:pt x="5294709" y="148356"/>
                </a:lnTo>
                <a:lnTo>
                  <a:pt x="5294709" y="162099"/>
                </a:lnTo>
                <a:lnTo>
                  <a:pt x="5294709" y="165883"/>
                </a:lnTo>
                <a:lnTo>
                  <a:pt x="5294709" y="207689"/>
                </a:lnTo>
                <a:lnTo>
                  <a:pt x="5310384" y="207689"/>
                </a:lnTo>
                <a:lnTo>
                  <a:pt x="5313091" y="207689"/>
                </a:lnTo>
                <a:lnTo>
                  <a:pt x="5356587" y="207689"/>
                </a:lnTo>
                <a:lnTo>
                  <a:pt x="5360369" y="207689"/>
                </a:lnTo>
                <a:lnTo>
                  <a:pt x="5360369" y="106916"/>
                </a:lnTo>
                <a:lnTo>
                  <a:pt x="5273775" y="106916"/>
                </a:lnTo>
                <a:lnTo>
                  <a:pt x="5273775" y="41512"/>
                </a:lnTo>
                <a:lnTo>
                  <a:pt x="5317270" y="41512"/>
                </a:lnTo>
                <a:lnTo>
                  <a:pt x="5317270" y="66218"/>
                </a:lnTo>
                <a:lnTo>
                  <a:pt x="5298033" y="66218"/>
                </a:lnTo>
                <a:lnTo>
                  <a:pt x="5298033" y="83746"/>
                </a:lnTo>
                <a:lnTo>
                  <a:pt x="5335653" y="83746"/>
                </a:lnTo>
                <a:lnTo>
                  <a:pt x="5335653" y="70002"/>
                </a:lnTo>
                <a:lnTo>
                  <a:pt x="5335653" y="66218"/>
                </a:lnTo>
                <a:lnTo>
                  <a:pt x="5335653" y="24412"/>
                </a:lnTo>
                <a:lnTo>
                  <a:pt x="5319978" y="24412"/>
                </a:lnTo>
                <a:lnTo>
                  <a:pt x="5317270" y="24412"/>
                </a:lnTo>
                <a:lnTo>
                  <a:pt x="5273775" y="24412"/>
                </a:lnTo>
                <a:lnTo>
                  <a:pt x="5269992" y="24412"/>
                </a:lnTo>
                <a:lnTo>
                  <a:pt x="5256631" y="24412"/>
                </a:lnTo>
                <a:lnTo>
                  <a:pt x="5256631" y="41512"/>
                </a:lnTo>
                <a:lnTo>
                  <a:pt x="5256631" y="232098"/>
                </a:lnTo>
                <a:lnTo>
                  <a:pt x="5218676" y="232098"/>
                </a:lnTo>
                <a:lnTo>
                  <a:pt x="5218399" y="232098"/>
                </a:lnTo>
                <a:lnTo>
                  <a:pt x="5128022" y="232098"/>
                </a:lnTo>
                <a:lnTo>
                  <a:pt x="5128022" y="125187"/>
                </a:lnTo>
                <a:lnTo>
                  <a:pt x="5214617" y="125187"/>
                </a:lnTo>
                <a:lnTo>
                  <a:pt x="5214617" y="190591"/>
                </a:lnTo>
                <a:lnTo>
                  <a:pt x="5171121" y="190591"/>
                </a:lnTo>
                <a:lnTo>
                  <a:pt x="5171121" y="165884"/>
                </a:lnTo>
                <a:lnTo>
                  <a:pt x="5190358" y="165884"/>
                </a:lnTo>
                <a:lnTo>
                  <a:pt x="5190358" y="148357"/>
                </a:lnTo>
                <a:lnTo>
                  <a:pt x="5152739" y="148357"/>
                </a:lnTo>
                <a:lnTo>
                  <a:pt x="5152739" y="162100"/>
                </a:lnTo>
                <a:lnTo>
                  <a:pt x="5152739" y="165884"/>
                </a:lnTo>
                <a:lnTo>
                  <a:pt x="5152739" y="207690"/>
                </a:lnTo>
                <a:lnTo>
                  <a:pt x="5168414" y="207690"/>
                </a:lnTo>
                <a:lnTo>
                  <a:pt x="5171121" y="207690"/>
                </a:lnTo>
                <a:lnTo>
                  <a:pt x="5214617" y="207690"/>
                </a:lnTo>
                <a:lnTo>
                  <a:pt x="5218399" y="207690"/>
                </a:lnTo>
                <a:lnTo>
                  <a:pt x="5218399" y="106916"/>
                </a:lnTo>
                <a:lnTo>
                  <a:pt x="5131805" y="106916"/>
                </a:lnTo>
                <a:lnTo>
                  <a:pt x="5131805" y="41512"/>
                </a:lnTo>
                <a:lnTo>
                  <a:pt x="5175300" y="41512"/>
                </a:lnTo>
                <a:lnTo>
                  <a:pt x="5175300" y="66218"/>
                </a:lnTo>
                <a:lnTo>
                  <a:pt x="5156063" y="66218"/>
                </a:lnTo>
                <a:lnTo>
                  <a:pt x="5156063" y="83746"/>
                </a:lnTo>
                <a:lnTo>
                  <a:pt x="5193683" y="83746"/>
                </a:lnTo>
                <a:lnTo>
                  <a:pt x="5193683" y="70002"/>
                </a:lnTo>
                <a:lnTo>
                  <a:pt x="5193683" y="66218"/>
                </a:lnTo>
                <a:lnTo>
                  <a:pt x="5193683" y="24412"/>
                </a:lnTo>
                <a:lnTo>
                  <a:pt x="5178008" y="24412"/>
                </a:lnTo>
                <a:lnTo>
                  <a:pt x="5175300" y="24412"/>
                </a:lnTo>
                <a:lnTo>
                  <a:pt x="5131805" y="24412"/>
                </a:lnTo>
                <a:lnTo>
                  <a:pt x="5128022" y="24412"/>
                </a:lnTo>
                <a:lnTo>
                  <a:pt x="5114661" y="24412"/>
                </a:lnTo>
                <a:lnTo>
                  <a:pt x="5114661" y="41512"/>
                </a:lnTo>
                <a:lnTo>
                  <a:pt x="5114661" y="232098"/>
                </a:lnTo>
                <a:lnTo>
                  <a:pt x="5076706" y="232098"/>
                </a:lnTo>
                <a:lnTo>
                  <a:pt x="5076706" y="232099"/>
                </a:lnTo>
                <a:lnTo>
                  <a:pt x="5076429" y="232099"/>
                </a:lnTo>
                <a:lnTo>
                  <a:pt x="5076429" y="232098"/>
                </a:lnTo>
                <a:lnTo>
                  <a:pt x="4986052" y="232098"/>
                </a:lnTo>
                <a:lnTo>
                  <a:pt x="4986052" y="125187"/>
                </a:lnTo>
                <a:lnTo>
                  <a:pt x="5072647" y="125187"/>
                </a:lnTo>
                <a:lnTo>
                  <a:pt x="5072647" y="190591"/>
                </a:lnTo>
                <a:lnTo>
                  <a:pt x="5029151" y="190591"/>
                </a:lnTo>
                <a:lnTo>
                  <a:pt x="5029151" y="165884"/>
                </a:lnTo>
                <a:lnTo>
                  <a:pt x="5048388" y="165884"/>
                </a:lnTo>
                <a:lnTo>
                  <a:pt x="5048388" y="148357"/>
                </a:lnTo>
                <a:lnTo>
                  <a:pt x="5010769" y="148357"/>
                </a:lnTo>
                <a:lnTo>
                  <a:pt x="5010769" y="162100"/>
                </a:lnTo>
                <a:lnTo>
                  <a:pt x="5010769" y="165884"/>
                </a:lnTo>
                <a:lnTo>
                  <a:pt x="5010769" y="207690"/>
                </a:lnTo>
                <a:lnTo>
                  <a:pt x="5026444" y="207690"/>
                </a:lnTo>
                <a:lnTo>
                  <a:pt x="5029151" y="207690"/>
                </a:lnTo>
                <a:lnTo>
                  <a:pt x="5072647" y="207690"/>
                </a:lnTo>
                <a:lnTo>
                  <a:pt x="5076429" y="207690"/>
                </a:lnTo>
                <a:lnTo>
                  <a:pt x="5076429" y="106917"/>
                </a:lnTo>
                <a:lnTo>
                  <a:pt x="4989835" y="106917"/>
                </a:lnTo>
                <a:lnTo>
                  <a:pt x="4989835" y="41513"/>
                </a:lnTo>
                <a:lnTo>
                  <a:pt x="5033330" y="41513"/>
                </a:lnTo>
                <a:lnTo>
                  <a:pt x="5033330" y="66219"/>
                </a:lnTo>
                <a:lnTo>
                  <a:pt x="5014093" y="66219"/>
                </a:lnTo>
                <a:lnTo>
                  <a:pt x="5014093" y="83747"/>
                </a:lnTo>
                <a:lnTo>
                  <a:pt x="5051713" y="83747"/>
                </a:lnTo>
                <a:lnTo>
                  <a:pt x="5051713" y="70003"/>
                </a:lnTo>
                <a:lnTo>
                  <a:pt x="5051713" y="66219"/>
                </a:lnTo>
                <a:lnTo>
                  <a:pt x="5051713" y="24413"/>
                </a:lnTo>
                <a:lnTo>
                  <a:pt x="5036038" y="24413"/>
                </a:lnTo>
                <a:lnTo>
                  <a:pt x="5033330" y="24413"/>
                </a:lnTo>
                <a:lnTo>
                  <a:pt x="4989835" y="24413"/>
                </a:lnTo>
                <a:lnTo>
                  <a:pt x="4986052" y="24413"/>
                </a:lnTo>
                <a:lnTo>
                  <a:pt x="4972691" y="24413"/>
                </a:lnTo>
                <a:lnTo>
                  <a:pt x="4972691" y="41513"/>
                </a:lnTo>
                <a:lnTo>
                  <a:pt x="4972691" y="232099"/>
                </a:lnTo>
                <a:lnTo>
                  <a:pt x="4934736" y="232099"/>
                </a:lnTo>
                <a:lnTo>
                  <a:pt x="4934736" y="232100"/>
                </a:lnTo>
                <a:lnTo>
                  <a:pt x="4934459" y="232100"/>
                </a:lnTo>
                <a:lnTo>
                  <a:pt x="4934459" y="232099"/>
                </a:lnTo>
                <a:lnTo>
                  <a:pt x="4844082" y="232099"/>
                </a:lnTo>
                <a:lnTo>
                  <a:pt x="4844082" y="125188"/>
                </a:lnTo>
                <a:lnTo>
                  <a:pt x="4930677" y="125188"/>
                </a:lnTo>
                <a:lnTo>
                  <a:pt x="4930677" y="190592"/>
                </a:lnTo>
                <a:lnTo>
                  <a:pt x="4887181" y="190592"/>
                </a:lnTo>
                <a:lnTo>
                  <a:pt x="4887181" y="165885"/>
                </a:lnTo>
                <a:lnTo>
                  <a:pt x="4906418" y="165885"/>
                </a:lnTo>
                <a:lnTo>
                  <a:pt x="4906418" y="148358"/>
                </a:lnTo>
                <a:lnTo>
                  <a:pt x="4868799" y="148358"/>
                </a:lnTo>
                <a:lnTo>
                  <a:pt x="4868799" y="162101"/>
                </a:lnTo>
                <a:lnTo>
                  <a:pt x="4868799" y="165885"/>
                </a:lnTo>
                <a:lnTo>
                  <a:pt x="4868799" y="207691"/>
                </a:lnTo>
                <a:lnTo>
                  <a:pt x="4884474" y="207691"/>
                </a:lnTo>
                <a:lnTo>
                  <a:pt x="4887181" y="207691"/>
                </a:lnTo>
                <a:lnTo>
                  <a:pt x="4930677" y="207691"/>
                </a:lnTo>
                <a:lnTo>
                  <a:pt x="4934459" y="207691"/>
                </a:lnTo>
                <a:lnTo>
                  <a:pt x="4934459" y="106918"/>
                </a:lnTo>
                <a:lnTo>
                  <a:pt x="4847865" y="106918"/>
                </a:lnTo>
                <a:lnTo>
                  <a:pt x="4847865" y="41514"/>
                </a:lnTo>
                <a:lnTo>
                  <a:pt x="4891360" y="41514"/>
                </a:lnTo>
                <a:lnTo>
                  <a:pt x="4891360" y="66220"/>
                </a:lnTo>
                <a:lnTo>
                  <a:pt x="4872123" y="66220"/>
                </a:lnTo>
                <a:lnTo>
                  <a:pt x="4872123" y="83748"/>
                </a:lnTo>
                <a:lnTo>
                  <a:pt x="4909743" y="83748"/>
                </a:lnTo>
                <a:lnTo>
                  <a:pt x="4909743" y="70004"/>
                </a:lnTo>
                <a:lnTo>
                  <a:pt x="4909743" y="66220"/>
                </a:lnTo>
                <a:lnTo>
                  <a:pt x="4909743" y="24414"/>
                </a:lnTo>
                <a:lnTo>
                  <a:pt x="4894068" y="24414"/>
                </a:lnTo>
                <a:lnTo>
                  <a:pt x="4891360" y="24414"/>
                </a:lnTo>
                <a:lnTo>
                  <a:pt x="4847865" y="24414"/>
                </a:lnTo>
                <a:lnTo>
                  <a:pt x="4844082" y="24414"/>
                </a:lnTo>
                <a:lnTo>
                  <a:pt x="4830721" y="24414"/>
                </a:lnTo>
                <a:lnTo>
                  <a:pt x="4830721" y="41514"/>
                </a:lnTo>
                <a:lnTo>
                  <a:pt x="4830721" y="232100"/>
                </a:lnTo>
                <a:lnTo>
                  <a:pt x="4792766" y="232100"/>
                </a:lnTo>
                <a:lnTo>
                  <a:pt x="4792766" y="232101"/>
                </a:lnTo>
                <a:lnTo>
                  <a:pt x="4792489" y="232101"/>
                </a:lnTo>
                <a:lnTo>
                  <a:pt x="4792489" y="232100"/>
                </a:lnTo>
                <a:lnTo>
                  <a:pt x="4702112" y="232100"/>
                </a:lnTo>
                <a:lnTo>
                  <a:pt x="4702112" y="125189"/>
                </a:lnTo>
                <a:lnTo>
                  <a:pt x="4788707" y="125189"/>
                </a:lnTo>
                <a:lnTo>
                  <a:pt x="4788707" y="190593"/>
                </a:lnTo>
                <a:lnTo>
                  <a:pt x="4745211" y="190593"/>
                </a:lnTo>
                <a:lnTo>
                  <a:pt x="4745211" y="165886"/>
                </a:lnTo>
                <a:lnTo>
                  <a:pt x="4764448" y="165886"/>
                </a:lnTo>
                <a:lnTo>
                  <a:pt x="4764448" y="148359"/>
                </a:lnTo>
                <a:lnTo>
                  <a:pt x="4726829" y="148359"/>
                </a:lnTo>
                <a:lnTo>
                  <a:pt x="4726829" y="162102"/>
                </a:lnTo>
                <a:lnTo>
                  <a:pt x="4726829" y="165886"/>
                </a:lnTo>
                <a:lnTo>
                  <a:pt x="4726829" y="207692"/>
                </a:lnTo>
                <a:lnTo>
                  <a:pt x="4742504" y="207692"/>
                </a:lnTo>
                <a:lnTo>
                  <a:pt x="4745211" y="207692"/>
                </a:lnTo>
                <a:lnTo>
                  <a:pt x="4788707" y="207692"/>
                </a:lnTo>
                <a:lnTo>
                  <a:pt x="4792489" y="207692"/>
                </a:lnTo>
                <a:lnTo>
                  <a:pt x="4792489" y="106919"/>
                </a:lnTo>
                <a:lnTo>
                  <a:pt x="4705895" y="106919"/>
                </a:lnTo>
                <a:lnTo>
                  <a:pt x="4705895" y="41515"/>
                </a:lnTo>
                <a:lnTo>
                  <a:pt x="4749390" y="41515"/>
                </a:lnTo>
                <a:lnTo>
                  <a:pt x="4749390" y="66221"/>
                </a:lnTo>
                <a:lnTo>
                  <a:pt x="4730153" y="66221"/>
                </a:lnTo>
                <a:lnTo>
                  <a:pt x="4730153" y="83749"/>
                </a:lnTo>
                <a:lnTo>
                  <a:pt x="4767773" y="83749"/>
                </a:lnTo>
                <a:lnTo>
                  <a:pt x="4767773" y="70005"/>
                </a:lnTo>
                <a:lnTo>
                  <a:pt x="4767773" y="66221"/>
                </a:lnTo>
                <a:lnTo>
                  <a:pt x="4767773" y="24415"/>
                </a:lnTo>
                <a:lnTo>
                  <a:pt x="4752098" y="24415"/>
                </a:lnTo>
                <a:lnTo>
                  <a:pt x="4749390" y="24415"/>
                </a:lnTo>
                <a:lnTo>
                  <a:pt x="4705895" y="24415"/>
                </a:lnTo>
                <a:lnTo>
                  <a:pt x="4702112" y="24415"/>
                </a:lnTo>
                <a:lnTo>
                  <a:pt x="4688751" y="24415"/>
                </a:lnTo>
                <a:lnTo>
                  <a:pt x="4688751" y="41515"/>
                </a:lnTo>
                <a:lnTo>
                  <a:pt x="4688751" y="232101"/>
                </a:lnTo>
                <a:lnTo>
                  <a:pt x="4650796" y="232101"/>
                </a:lnTo>
                <a:lnTo>
                  <a:pt x="4650796" y="232102"/>
                </a:lnTo>
                <a:lnTo>
                  <a:pt x="4650519" y="232102"/>
                </a:lnTo>
                <a:lnTo>
                  <a:pt x="4650519" y="232101"/>
                </a:lnTo>
                <a:lnTo>
                  <a:pt x="4560142" y="232101"/>
                </a:lnTo>
                <a:lnTo>
                  <a:pt x="4560142" y="125190"/>
                </a:lnTo>
                <a:lnTo>
                  <a:pt x="4646737" y="125190"/>
                </a:lnTo>
                <a:lnTo>
                  <a:pt x="4646737" y="190594"/>
                </a:lnTo>
                <a:lnTo>
                  <a:pt x="4603241" y="190594"/>
                </a:lnTo>
                <a:lnTo>
                  <a:pt x="4603241" y="165887"/>
                </a:lnTo>
                <a:lnTo>
                  <a:pt x="4622478" y="165887"/>
                </a:lnTo>
                <a:lnTo>
                  <a:pt x="4622478" y="148360"/>
                </a:lnTo>
                <a:lnTo>
                  <a:pt x="4584859" y="148360"/>
                </a:lnTo>
                <a:lnTo>
                  <a:pt x="4584859" y="162103"/>
                </a:lnTo>
                <a:lnTo>
                  <a:pt x="4584859" y="165887"/>
                </a:lnTo>
                <a:lnTo>
                  <a:pt x="4584859" y="207693"/>
                </a:lnTo>
                <a:lnTo>
                  <a:pt x="4600534" y="207693"/>
                </a:lnTo>
                <a:lnTo>
                  <a:pt x="4603241" y="207693"/>
                </a:lnTo>
                <a:lnTo>
                  <a:pt x="4646737" y="207693"/>
                </a:lnTo>
                <a:lnTo>
                  <a:pt x="4650519" y="207693"/>
                </a:lnTo>
                <a:lnTo>
                  <a:pt x="4650519" y="106920"/>
                </a:lnTo>
                <a:lnTo>
                  <a:pt x="4563925" y="106920"/>
                </a:lnTo>
                <a:lnTo>
                  <a:pt x="4563925" y="41516"/>
                </a:lnTo>
                <a:lnTo>
                  <a:pt x="4607420" y="41516"/>
                </a:lnTo>
                <a:lnTo>
                  <a:pt x="4607420" y="66222"/>
                </a:lnTo>
                <a:lnTo>
                  <a:pt x="4588183" y="66222"/>
                </a:lnTo>
                <a:lnTo>
                  <a:pt x="4588183" y="83750"/>
                </a:lnTo>
                <a:lnTo>
                  <a:pt x="4625803" y="83750"/>
                </a:lnTo>
                <a:lnTo>
                  <a:pt x="4625803" y="70006"/>
                </a:lnTo>
                <a:lnTo>
                  <a:pt x="4625803" y="66222"/>
                </a:lnTo>
                <a:lnTo>
                  <a:pt x="4625803" y="24416"/>
                </a:lnTo>
                <a:lnTo>
                  <a:pt x="4610128" y="24416"/>
                </a:lnTo>
                <a:lnTo>
                  <a:pt x="4607420" y="24416"/>
                </a:lnTo>
                <a:lnTo>
                  <a:pt x="4563925" y="24416"/>
                </a:lnTo>
                <a:lnTo>
                  <a:pt x="4560142" y="24416"/>
                </a:lnTo>
                <a:lnTo>
                  <a:pt x="4546781" y="24416"/>
                </a:lnTo>
                <a:lnTo>
                  <a:pt x="4546781" y="41516"/>
                </a:lnTo>
                <a:lnTo>
                  <a:pt x="4546781" y="232102"/>
                </a:lnTo>
                <a:lnTo>
                  <a:pt x="4508826" y="232102"/>
                </a:lnTo>
                <a:lnTo>
                  <a:pt x="4508549" y="232102"/>
                </a:lnTo>
                <a:lnTo>
                  <a:pt x="4418172" y="232102"/>
                </a:lnTo>
                <a:lnTo>
                  <a:pt x="4418172" y="125191"/>
                </a:lnTo>
                <a:lnTo>
                  <a:pt x="4504767" y="125191"/>
                </a:lnTo>
                <a:lnTo>
                  <a:pt x="4504767" y="190595"/>
                </a:lnTo>
                <a:lnTo>
                  <a:pt x="4461271" y="190595"/>
                </a:lnTo>
                <a:lnTo>
                  <a:pt x="4461271" y="165888"/>
                </a:lnTo>
                <a:lnTo>
                  <a:pt x="4480508" y="165888"/>
                </a:lnTo>
                <a:lnTo>
                  <a:pt x="4480508" y="148361"/>
                </a:lnTo>
                <a:lnTo>
                  <a:pt x="4442889" y="148361"/>
                </a:lnTo>
                <a:lnTo>
                  <a:pt x="4442889" y="162104"/>
                </a:lnTo>
                <a:lnTo>
                  <a:pt x="4442889" y="165888"/>
                </a:lnTo>
                <a:lnTo>
                  <a:pt x="4442889" y="207694"/>
                </a:lnTo>
                <a:lnTo>
                  <a:pt x="4458564" y="207694"/>
                </a:lnTo>
                <a:lnTo>
                  <a:pt x="4461271" y="207694"/>
                </a:lnTo>
                <a:lnTo>
                  <a:pt x="4504767" y="207694"/>
                </a:lnTo>
                <a:lnTo>
                  <a:pt x="4508549" y="207694"/>
                </a:lnTo>
                <a:lnTo>
                  <a:pt x="4508549" y="106920"/>
                </a:lnTo>
                <a:lnTo>
                  <a:pt x="4421955" y="106920"/>
                </a:lnTo>
                <a:lnTo>
                  <a:pt x="4421955" y="41516"/>
                </a:lnTo>
                <a:lnTo>
                  <a:pt x="4465450" y="41516"/>
                </a:lnTo>
                <a:lnTo>
                  <a:pt x="4465450" y="66222"/>
                </a:lnTo>
                <a:lnTo>
                  <a:pt x="4446213" y="66222"/>
                </a:lnTo>
                <a:lnTo>
                  <a:pt x="4446213" y="83750"/>
                </a:lnTo>
                <a:lnTo>
                  <a:pt x="4483833" y="83750"/>
                </a:lnTo>
                <a:lnTo>
                  <a:pt x="4483833" y="70006"/>
                </a:lnTo>
                <a:lnTo>
                  <a:pt x="4483833" y="66222"/>
                </a:lnTo>
                <a:lnTo>
                  <a:pt x="4483833" y="24416"/>
                </a:lnTo>
                <a:lnTo>
                  <a:pt x="4468158" y="24416"/>
                </a:lnTo>
                <a:lnTo>
                  <a:pt x="4465450" y="24416"/>
                </a:lnTo>
                <a:lnTo>
                  <a:pt x="4421955" y="24416"/>
                </a:lnTo>
                <a:lnTo>
                  <a:pt x="4418172" y="24416"/>
                </a:lnTo>
                <a:lnTo>
                  <a:pt x="4404811" y="24416"/>
                </a:lnTo>
                <a:lnTo>
                  <a:pt x="4404811" y="41516"/>
                </a:lnTo>
                <a:lnTo>
                  <a:pt x="4404811" y="232102"/>
                </a:lnTo>
                <a:lnTo>
                  <a:pt x="4366856" y="232102"/>
                </a:lnTo>
                <a:lnTo>
                  <a:pt x="4366856" y="232103"/>
                </a:lnTo>
                <a:lnTo>
                  <a:pt x="4366579" y="232103"/>
                </a:lnTo>
                <a:lnTo>
                  <a:pt x="4366579" y="232102"/>
                </a:lnTo>
                <a:lnTo>
                  <a:pt x="4276202" y="232102"/>
                </a:lnTo>
                <a:lnTo>
                  <a:pt x="4276202" y="125191"/>
                </a:lnTo>
                <a:lnTo>
                  <a:pt x="4362797" y="125191"/>
                </a:lnTo>
                <a:lnTo>
                  <a:pt x="4362797" y="190595"/>
                </a:lnTo>
                <a:lnTo>
                  <a:pt x="4319301" y="190595"/>
                </a:lnTo>
                <a:lnTo>
                  <a:pt x="4319301" y="165888"/>
                </a:lnTo>
                <a:lnTo>
                  <a:pt x="4338538" y="165888"/>
                </a:lnTo>
                <a:lnTo>
                  <a:pt x="4338538" y="148361"/>
                </a:lnTo>
                <a:lnTo>
                  <a:pt x="4300919" y="148361"/>
                </a:lnTo>
                <a:lnTo>
                  <a:pt x="4300919" y="162104"/>
                </a:lnTo>
                <a:lnTo>
                  <a:pt x="4300919" y="165888"/>
                </a:lnTo>
                <a:lnTo>
                  <a:pt x="4300919" y="207694"/>
                </a:lnTo>
                <a:lnTo>
                  <a:pt x="4316594" y="207694"/>
                </a:lnTo>
                <a:lnTo>
                  <a:pt x="4319301" y="207694"/>
                </a:lnTo>
                <a:lnTo>
                  <a:pt x="4362797" y="207694"/>
                </a:lnTo>
                <a:lnTo>
                  <a:pt x="4366579" y="207694"/>
                </a:lnTo>
                <a:lnTo>
                  <a:pt x="4366579" y="106921"/>
                </a:lnTo>
                <a:lnTo>
                  <a:pt x="4279985" y="106921"/>
                </a:lnTo>
                <a:lnTo>
                  <a:pt x="4279985" y="41517"/>
                </a:lnTo>
                <a:lnTo>
                  <a:pt x="4323480" y="41517"/>
                </a:lnTo>
                <a:lnTo>
                  <a:pt x="4323480" y="66223"/>
                </a:lnTo>
                <a:lnTo>
                  <a:pt x="4304243" y="66223"/>
                </a:lnTo>
                <a:lnTo>
                  <a:pt x="4304243" y="83751"/>
                </a:lnTo>
                <a:lnTo>
                  <a:pt x="4341863" y="83751"/>
                </a:lnTo>
                <a:lnTo>
                  <a:pt x="4341863" y="70007"/>
                </a:lnTo>
                <a:lnTo>
                  <a:pt x="4341863" y="66223"/>
                </a:lnTo>
                <a:lnTo>
                  <a:pt x="4341863" y="24417"/>
                </a:lnTo>
                <a:lnTo>
                  <a:pt x="4326188" y="24417"/>
                </a:lnTo>
                <a:lnTo>
                  <a:pt x="4323480" y="24417"/>
                </a:lnTo>
                <a:lnTo>
                  <a:pt x="4279985" y="24417"/>
                </a:lnTo>
                <a:lnTo>
                  <a:pt x="4276202" y="24417"/>
                </a:lnTo>
                <a:lnTo>
                  <a:pt x="4262841" y="24417"/>
                </a:lnTo>
                <a:lnTo>
                  <a:pt x="4262841" y="41517"/>
                </a:lnTo>
                <a:lnTo>
                  <a:pt x="4262841" y="232103"/>
                </a:lnTo>
                <a:lnTo>
                  <a:pt x="4224886" y="232103"/>
                </a:lnTo>
                <a:lnTo>
                  <a:pt x="4224886" y="232104"/>
                </a:lnTo>
                <a:lnTo>
                  <a:pt x="4224609" y="232104"/>
                </a:lnTo>
                <a:lnTo>
                  <a:pt x="4224609" y="232103"/>
                </a:lnTo>
                <a:lnTo>
                  <a:pt x="4134232" y="232103"/>
                </a:lnTo>
                <a:lnTo>
                  <a:pt x="4134232" y="125192"/>
                </a:lnTo>
                <a:lnTo>
                  <a:pt x="4220827" y="125192"/>
                </a:lnTo>
                <a:lnTo>
                  <a:pt x="4220827" y="190596"/>
                </a:lnTo>
                <a:lnTo>
                  <a:pt x="4177331" y="190596"/>
                </a:lnTo>
                <a:lnTo>
                  <a:pt x="4177331" y="165889"/>
                </a:lnTo>
                <a:lnTo>
                  <a:pt x="4196568" y="165889"/>
                </a:lnTo>
                <a:lnTo>
                  <a:pt x="4196568" y="148362"/>
                </a:lnTo>
                <a:lnTo>
                  <a:pt x="4158949" y="148362"/>
                </a:lnTo>
                <a:lnTo>
                  <a:pt x="4158949" y="162105"/>
                </a:lnTo>
                <a:lnTo>
                  <a:pt x="4158949" y="165889"/>
                </a:lnTo>
                <a:lnTo>
                  <a:pt x="4158949" y="207695"/>
                </a:lnTo>
                <a:lnTo>
                  <a:pt x="4174624" y="207695"/>
                </a:lnTo>
                <a:lnTo>
                  <a:pt x="4177331" y="207695"/>
                </a:lnTo>
                <a:lnTo>
                  <a:pt x="4220827" y="207695"/>
                </a:lnTo>
                <a:lnTo>
                  <a:pt x="4224609" y="207695"/>
                </a:lnTo>
                <a:lnTo>
                  <a:pt x="4224609" y="106922"/>
                </a:lnTo>
                <a:lnTo>
                  <a:pt x="4138015" y="106922"/>
                </a:lnTo>
                <a:lnTo>
                  <a:pt x="4138015" y="41518"/>
                </a:lnTo>
                <a:lnTo>
                  <a:pt x="4181510" y="41518"/>
                </a:lnTo>
                <a:lnTo>
                  <a:pt x="4181510" y="66224"/>
                </a:lnTo>
                <a:lnTo>
                  <a:pt x="4162273" y="66224"/>
                </a:lnTo>
                <a:lnTo>
                  <a:pt x="4162273" y="83752"/>
                </a:lnTo>
                <a:lnTo>
                  <a:pt x="4199893" y="83752"/>
                </a:lnTo>
                <a:lnTo>
                  <a:pt x="4199893" y="70008"/>
                </a:lnTo>
                <a:lnTo>
                  <a:pt x="4199893" y="66224"/>
                </a:lnTo>
                <a:lnTo>
                  <a:pt x="4199893" y="24418"/>
                </a:lnTo>
                <a:lnTo>
                  <a:pt x="4184218" y="24418"/>
                </a:lnTo>
                <a:lnTo>
                  <a:pt x="4181510" y="24418"/>
                </a:lnTo>
                <a:lnTo>
                  <a:pt x="4138015" y="24418"/>
                </a:lnTo>
                <a:lnTo>
                  <a:pt x="4134232" y="24418"/>
                </a:lnTo>
                <a:lnTo>
                  <a:pt x="4120871" y="24418"/>
                </a:lnTo>
                <a:lnTo>
                  <a:pt x="4120871" y="41518"/>
                </a:lnTo>
                <a:lnTo>
                  <a:pt x="4120871" y="232104"/>
                </a:lnTo>
                <a:lnTo>
                  <a:pt x="4082916" y="232104"/>
                </a:lnTo>
                <a:lnTo>
                  <a:pt x="4082916" y="232105"/>
                </a:lnTo>
                <a:lnTo>
                  <a:pt x="4082639" y="232105"/>
                </a:lnTo>
                <a:lnTo>
                  <a:pt x="4082639" y="232104"/>
                </a:lnTo>
                <a:lnTo>
                  <a:pt x="3992262" y="232104"/>
                </a:lnTo>
                <a:lnTo>
                  <a:pt x="3992262" y="125193"/>
                </a:lnTo>
                <a:lnTo>
                  <a:pt x="4078857" y="125193"/>
                </a:lnTo>
                <a:lnTo>
                  <a:pt x="4078857" y="190597"/>
                </a:lnTo>
                <a:lnTo>
                  <a:pt x="4035361" y="190597"/>
                </a:lnTo>
                <a:lnTo>
                  <a:pt x="4035361" y="165890"/>
                </a:lnTo>
                <a:lnTo>
                  <a:pt x="4054598" y="165890"/>
                </a:lnTo>
                <a:lnTo>
                  <a:pt x="4054598" y="148363"/>
                </a:lnTo>
                <a:lnTo>
                  <a:pt x="4016979" y="148363"/>
                </a:lnTo>
                <a:lnTo>
                  <a:pt x="4016979" y="162106"/>
                </a:lnTo>
                <a:lnTo>
                  <a:pt x="4016979" y="165890"/>
                </a:lnTo>
                <a:lnTo>
                  <a:pt x="4016979" y="207696"/>
                </a:lnTo>
                <a:lnTo>
                  <a:pt x="4032654" y="207696"/>
                </a:lnTo>
                <a:lnTo>
                  <a:pt x="4035361" y="207696"/>
                </a:lnTo>
                <a:lnTo>
                  <a:pt x="4078857" y="207696"/>
                </a:lnTo>
                <a:lnTo>
                  <a:pt x="4082639" y="207696"/>
                </a:lnTo>
                <a:lnTo>
                  <a:pt x="4082639" y="106923"/>
                </a:lnTo>
                <a:lnTo>
                  <a:pt x="3996045" y="106923"/>
                </a:lnTo>
                <a:lnTo>
                  <a:pt x="3996045" y="41519"/>
                </a:lnTo>
                <a:lnTo>
                  <a:pt x="4039540" y="41519"/>
                </a:lnTo>
                <a:lnTo>
                  <a:pt x="4039540" y="66225"/>
                </a:lnTo>
                <a:lnTo>
                  <a:pt x="4020303" y="66225"/>
                </a:lnTo>
                <a:lnTo>
                  <a:pt x="4020303" y="83753"/>
                </a:lnTo>
                <a:lnTo>
                  <a:pt x="4057923" y="83753"/>
                </a:lnTo>
                <a:lnTo>
                  <a:pt x="4057923" y="70009"/>
                </a:lnTo>
                <a:lnTo>
                  <a:pt x="4057923" y="66225"/>
                </a:lnTo>
                <a:lnTo>
                  <a:pt x="4057923" y="24419"/>
                </a:lnTo>
                <a:lnTo>
                  <a:pt x="4042248" y="24419"/>
                </a:lnTo>
                <a:lnTo>
                  <a:pt x="4039540" y="24419"/>
                </a:lnTo>
                <a:lnTo>
                  <a:pt x="3996045" y="24419"/>
                </a:lnTo>
                <a:lnTo>
                  <a:pt x="3992262" y="24419"/>
                </a:lnTo>
                <a:lnTo>
                  <a:pt x="3978901" y="24419"/>
                </a:lnTo>
                <a:lnTo>
                  <a:pt x="3978901" y="41519"/>
                </a:lnTo>
                <a:lnTo>
                  <a:pt x="3978901" y="232105"/>
                </a:lnTo>
                <a:lnTo>
                  <a:pt x="3936531" y="232105"/>
                </a:lnTo>
                <a:lnTo>
                  <a:pt x="3936531" y="232106"/>
                </a:lnTo>
                <a:lnTo>
                  <a:pt x="3936254" y="232106"/>
                </a:lnTo>
                <a:lnTo>
                  <a:pt x="3936254" y="232105"/>
                </a:lnTo>
                <a:lnTo>
                  <a:pt x="3850292" y="232105"/>
                </a:lnTo>
                <a:lnTo>
                  <a:pt x="3850292" y="125194"/>
                </a:lnTo>
                <a:lnTo>
                  <a:pt x="3936254" y="125194"/>
                </a:lnTo>
                <a:lnTo>
                  <a:pt x="3936254" y="106924"/>
                </a:lnTo>
                <a:lnTo>
                  <a:pt x="3850292" y="106924"/>
                </a:lnTo>
                <a:lnTo>
                  <a:pt x="3849660" y="106924"/>
                </a:lnTo>
                <a:lnTo>
                  <a:pt x="3849660" y="41520"/>
                </a:lnTo>
                <a:lnTo>
                  <a:pt x="3850292" y="41520"/>
                </a:lnTo>
                <a:lnTo>
                  <a:pt x="3893155" y="41520"/>
                </a:lnTo>
                <a:lnTo>
                  <a:pt x="3893155" y="66226"/>
                </a:lnTo>
                <a:lnTo>
                  <a:pt x="3873918" y="66226"/>
                </a:lnTo>
                <a:lnTo>
                  <a:pt x="3873918" y="83754"/>
                </a:lnTo>
                <a:lnTo>
                  <a:pt x="3911538" y="83754"/>
                </a:lnTo>
                <a:lnTo>
                  <a:pt x="3911538" y="70010"/>
                </a:lnTo>
                <a:lnTo>
                  <a:pt x="3911538" y="66226"/>
                </a:lnTo>
                <a:lnTo>
                  <a:pt x="3911538" y="24420"/>
                </a:lnTo>
                <a:lnTo>
                  <a:pt x="3895863" y="24420"/>
                </a:lnTo>
                <a:lnTo>
                  <a:pt x="3893155" y="24420"/>
                </a:lnTo>
                <a:lnTo>
                  <a:pt x="3850292" y="24420"/>
                </a:lnTo>
                <a:lnTo>
                  <a:pt x="3849660" y="24420"/>
                </a:lnTo>
                <a:lnTo>
                  <a:pt x="3832516" y="24420"/>
                </a:lnTo>
                <a:lnTo>
                  <a:pt x="3832516" y="41520"/>
                </a:lnTo>
                <a:lnTo>
                  <a:pt x="3832516" y="232106"/>
                </a:lnTo>
                <a:lnTo>
                  <a:pt x="3790147" y="232106"/>
                </a:lnTo>
                <a:lnTo>
                  <a:pt x="3789870" y="232106"/>
                </a:lnTo>
                <a:lnTo>
                  <a:pt x="3703907" y="232106"/>
                </a:lnTo>
                <a:lnTo>
                  <a:pt x="3703907" y="125195"/>
                </a:lnTo>
                <a:lnTo>
                  <a:pt x="3789870" y="125195"/>
                </a:lnTo>
                <a:lnTo>
                  <a:pt x="3789870" y="106924"/>
                </a:lnTo>
                <a:lnTo>
                  <a:pt x="3703907" y="106924"/>
                </a:lnTo>
                <a:lnTo>
                  <a:pt x="3703276" y="106924"/>
                </a:lnTo>
                <a:lnTo>
                  <a:pt x="3703276" y="41520"/>
                </a:lnTo>
                <a:lnTo>
                  <a:pt x="3703907" y="41520"/>
                </a:lnTo>
                <a:lnTo>
                  <a:pt x="3746771" y="41520"/>
                </a:lnTo>
                <a:lnTo>
                  <a:pt x="3746771" y="66226"/>
                </a:lnTo>
                <a:lnTo>
                  <a:pt x="3727534" y="66226"/>
                </a:lnTo>
                <a:lnTo>
                  <a:pt x="3727534" y="83754"/>
                </a:lnTo>
                <a:lnTo>
                  <a:pt x="3765154" y="83754"/>
                </a:lnTo>
                <a:lnTo>
                  <a:pt x="3765154" y="70010"/>
                </a:lnTo>
                <a:lnTo>
                  <a:pt x="3765154" y="66226"/>
                </a:lnTo>
                <a:lnTo>
                  <a:pt x="3765154" y="24420"/>
                </a:lnTo>
                <a:lnTo>
                  <a:pt x="3749479" y="24420"/>
                </a:lnTo>
                <a:lnTo>
                  <a:pt x="3746771" y="24420"/>
                </a:lnTo>
                <a:lnTo>
                  <a:pt x="3703907" y="24420"/>
                </a:lnTo>
                <a:lnTo>
                  <a:pt x="3703276" y="24420"/>
                </a:lnTo>
                <a:lnTo>
                  <a:pt x="3686132" y="24420"/>
                </a:lnTo>
                <a:lnTo>
                  <a:pt x="3686132" y="41520"/>
                </a:lnTo>
                <a:lnTo>
                  <a:pt x="3686132" y="232106"/>
                </a:lnTo>
                <a:lnTo>
                  <a:pt x="3643762" y="232106"/>
                </a:lnTo>
                <a:lnTo>
                  <a:pt x="3643485" y="232106"/>
                </a:lnTo>
                <a:lnTo>
                  <a:pt x="3557523" y="232106"/>
                </a:lnTo>
                <a:lnTo>
                  <a:pt x="3557523" y="125195"/>
                </a:lnTo>
                <a:lnTo>
                  <a:pt x="3643485" y="125195"/>
                </a:lnTo>
                <a:lnTo>
                  <a:pt x="3643485" y="106924"/>
                </a:lnTo>
                <a:lnTo>
                  <a:pt x="3557523" y="106924"/>
                </a:lnTo>
                <a:lnTo>
                  <a:pt x="3556891" y="106924"/>
                </a:lnTo>
                <a:lnTo>
                  <a:pt x="3556891" y="41520"/>
                </a:lnTo>
                <a:lnTo>
                  <a:pt x="3557523" y="41520"/>
                </a:lnTo>
                <a:lnTo>
                  <a:pt x="3600386" y="41520"/>
                </a:lnTo>
                <a:lnTo>
                  <a:pt x="3600386" y="66226"/>
                </a:lnTo>
                <a:lnTo>
                  <a:pt x="3581149" y="66226"/>
                </a:lnTo>
                <a:lnTo>
                  <a:pt x="3581149" y="83754"/>
                </a:lnTo>
                <a:lnTo>
                  <a:pt x="3618769" y="83754"/>
                </a:lnTo>
                <a:lnTo>
                  <a:pt x="3618769" y="70010"/>
                </a:lnTo>
                <a:lnTo>
                  <a:pt x="3618769" y="66226"/>
                </a:lnTo>
                <a:lnTo>
                  <a:pt x="3618769" y="24420"/>
                </a:lnTo>
                <a:lnTo>
                  <a:pt x="3603094" y="24420"/>
                </a:lnTo>
                <a:lnTo>
                  <a:pt x="3600386" y="24420"/>
                </a:lnTo>
                <a:lnTo>
                  <a:pt x="3557523" y="24420"/>
                </a:lnTo>
                <a:lnTo>
                  <a:pt x="3556891" y="24420"/>
                </a:lnTo>
                <a:lnTo>
                  <a:pt x="3539747" y="24420"/>
                </a:lnTo>
                <a:lnTo>
                  <a:pt x="3539747" y="41520"/>
                </a:lnTo>
                <a:lnTo>
                  <a:pt x="3539747" y="232106"/>
                </a:lnTo>
                <a:lnTo>
                  <a:pt x="3497376" y="232106"/>
                </a:lnTo>
                <a:lnTo>
                  <a:pt x="3497376" y="232107"/>
                </a:lnTo>
                <a:lnTo>
                  <a:pt x="3497099" y="232107"/>
                </a:lnTo>
                <a:lnTo>
                  <a:pt x="3497099" y="232106"/>
                </a:lnTo>
                <a:lnTo>
                  <a:pt x="3411138" y="232106"/>
                </a:lnTo>
                <a:lnTo>
                  <a:pt x="3411138" y="125195"/>
                </a:lnTo>
                <a:lnTo>
                  <a:pt x="3497099" y="125195"/>
                </a:lnTo>
                <a:lnTo>
                  <a:pt x="3497099" y="106925"/>
                </a:lnTo>
                <a:lnTo>
                  <a:pt x="3411138" y="106925"/>
                </a:lnTo>
                <a:lnTo>
                  <a:pt x="3410505" y="106925"/>
                </a:lnTo>
                <a:lnTo>
                  <a:pt x="3410505" y="41521"/>
                </a:lnTo>
                <a:lnTo>
                  <a:pt x="3411138" y="41521"/>
                </a:lnTo>
                <a:lnTo>
                  <a:pt x="3454000" y="41521"/>
                </a:lnTo>
                <a:lnTo>
                  <a:pt x="3454000" y="66227"/>
                </a:lnTo>
                <a:lnTo>
                  <a:pt x="3434763" y="66227"/>
                </a:lnTo>
                <a:lnTo>
                  <a:pt x="3434763" y="83755"/>
                </a:lnTo>
                <a:lnTo>
                  <a:pt x="3472383" y="83755"/>
                </a:lnTo>
                <a:lnTo>
                  <a:pt x="3472383" y="70011"/>
                </a:lnTo>
                <a:lnTo>
                  <a:pt x="3472383" y="66227"/>
                </a:lnTo>
                <a:lnTo>
                  <a:pt x="3472383" y="24421"/>
                </a:lnTo>
                <a:lnTo>
                  <a:pt x="3456708" y="24421"/>
                </a:lnTo>
                <a:lnTo>
                  <a:pt x="3454000" y="24421"/>
                </a:lnTo>
                <a:lnTo>
                  <a:pt x="3411138" y="24421"/>
                </a:lnTo>
                <a:lnTo>
                  <a:pt x="3410505" y="24421"/>
                </a:lnTo>
                <a:lnTo>
                  <a:pt x="3393361" y="24421"/>
                </a:lnTo>
                <a:lnTo>
                  <a:pt x="3393361" y="41521"/>
                </a:lnTo>
                <a:lnTo>
                  <a:pt x="3393361" y="232107"/>
                </a:lnTo>
                <a:lnTo>
                  <a:pt x="3350992" y="232107"/>
                </a:lnTo>
                <a:lnTo>
                  <a:pt x="3350992" y="232108"/>
                </a:lnTo>
                <a:lnTo>
                  <a:pt x="3350715" y="232108"/>
                </a:lnTo>
                <a:lnTo>
                  <a:pt x="3350715" y="232107"/>
                </a:lnTo>
                <a:lnTo>
                  <a:pt x="3264752" y="232107"/>
                </a:lnTo>
                <a:lnTo>
                  <a:pt x="3264752" y="125196"/>
                </a:lnTo>
                <a:lnTo>
                  <a:pt x="3350715" y="125196"/>
                </a:lnTo>
                <a:lnTo>
                  <a:pt x="3350715" y="106926"/>
                </a:lnTo>
                <a:lnTo>
                  <a:pt x="3264752" y="106926"/>
                </a:lnTo>
                <a:lnTo>
                  <a:pt x="3264121" y="106926"/>
                </a:lnTo>
                <a:lnTo>
                  <a:pt x="3264121" y="41522"/>
                </a:lnTo>
                <a:lnTo>
                  <a:pt x="3264752" y="41522"/>
                </a:lnTo>
                <a:lnTo>
                  <a:pt x="3307616" y="41522"/>
                </a:lnTo>
                <a:lnTo>
                  <a:pt x="3307616" y="66228"/>
                </a:lnTo>
                <a:lnTo>
                  <a:pt x="3288379" y="66228"/>
                </a:lnTo>
                <a:lnTo>
                  <a:pt x="3288379" y="83756"/>
                </a:lnTo>
                <a:lnTo>
                  <a:pt x="3325999" y="83756"/>
                </a:lnTo>
                <a:lnTo>
                  <a:pt x="3325999" y="70012"/>
                </a:lnTo>
                <a:lnTo>
                  <a:pt x="3325999" y="66228"/>
                </a:lnTo>
                <a:lnTo>
                  <a:pt x="3325999" y="24422"/>
                </a:lnTo>
                <a:lnTo>
                  <a:pt x="3310324" y="24422"/>
                </a:lnTo>
                <a:lnTo>
                  <a:pt x="3307616" y="24422"/>
                </a:lnTo>
                <a:lnTo>
                  <a:pt x="3264752" y="24422"/>
                </a:lnTo>
                <a:lnTo>
                  <a:pt x="3264121" y="24422"/>
                </a:lnTo>
                <a:lnTo>
                  <a:pt x="3246977" y="24422"/>
                </a:lnTo>
                <a:lnTo>
                  <a:pt x="3246977" y="41522"/>
                </a:lnTo>
                <a:lnTo>
                  <a:pt x="3246977" y="232108"/>
                </a:lnTo>
                <a:lnTo>
                  <a:pt x="3204607" y="232108"/>
                </a:lnTo>
                <a:lnTo>
                  <a:pt x="3204607" y="232109"/>
                </a:lnTo>
                <a:lnTo>
                  <a:pt x="3204330" y="232109"/>
                </a:lnTo>
                <a:lnTo>
                  <a:pt x="3204330" y="232108"/>
                </a:lnTo>
                <a:lnTo>
                  <a:pt x="3118368" y="232108"/>
                </a:lnTo>
                <a:lnTo>
                  <a:pt x="3118368" y="125197"/>
                </a:lnTo>
                <a:lnTo>
                  <a:pt x="3204330" y="125197"/>
                </a:lnTo>
                <a:lnTo>
                  <a:pt x="3204330" y="106927"/>
                </a:lnTo>
                <a:lnTo>
                  <a:pt x="3118368" y="106927"/>
                </a:lnTo>
                <a:lnTo>
                  <a:pt x="3117736" y="106927"/>
                </a:lnTo>
                <a:lnTo>
                  <a:pt x="3117736" y="41523"/>
                </a:lnTo>
                <a:lnTo>
                  <a:pt x="3118368" y="41523"/>
                </a:lnTo>
                <a:lnTo>
                  <a:pt x="3161231" y="41523"/>
                </a:lnTo>
                <a:lnTo>
                  <a:pt x="3161231" y="66229"/>
                </a:lnTo>
                <a:lnTo>
                  <a:pt x="3141994" y="66229"/>
                </a:lnTo>
                <a:lnTo>
                  <a:pt x="3141994" y="83757"/>
                </a:lnTo>
                <a:lnTo>
                  <a:pt x="3179614" y="83757"/>
                </a:lnTo>
                <a:lnTo>
                  <a:pt x="3179614" y="70013"/>
                </a:lnTo>
                <a:lnTo>
                  <a:pt x="3179614" y="66229"/>
                </a:lnTo>
                <a:lnTo>
                  <a:pt x="3179614" y="24423"/>
                </a:lnTo>
                <a:lnTo>
                  <a:pt x="3163939" y="24423"/>
                </a:lnTo>
                <a:lnTo>
                  <a:pt x="3161231" y="24423"/>
                </a:lnTo>
                <a:lnTo>
                  <a:pt x="3118368" y="24423"/>
                </a:lnTo>
                <a:lnTo>
                  <a:pt x="3117736" y="24423"/>
                </a:lnTo>
                <a:lnTo>
                  <a:pt x="3100592" y="24423"/>
                </a:lnTo>
                <a:lnTo>
                  <a:pt x="3100592" y="41523"/>
                </a:lnTo>
                <a:lnTo>
                  <a:pt x="3100592" y="232109"/>
                </a:lnTo>
                <a:lnTo>
                  <a:pt x="3058221" y="232109"/>
                </a:lnTo>
                <a:lnTo>
                  <a:pt x="3057944" y="232109"/>
                </a:lnTo>
                <a:lnTo>
                  <a:pt x="2971983" y="232109"/>
                </a:lnTo>
                <a:lnTo>
                  <a:pt x="2971983" y="125198"/>
                </a:lnTo>
                <a:lnTo>
                  <a:pt x="3057944" y="125198"/>
                </a:lnTo>
                <a:lnTo>
                  <a:pt x="3057944" y="106927"/>
                </a:lnTo>
                <a:lnTo>
                  <a:pt x="2971983" y="106927"/>
                </a:lnTo>
                <a:lnTo>
                  <a:pt x="2971350" y="106927"/>
                </a:lnTo>
                <a:lnTo>
                  <a:pt x="2971350" y="41523"/>
                </a:lnTo>
                <a:lnTo>
                  <a:pt x="2971983" y="41523"/>
                </a:lnTo>
                <a:lnTo>
                  <a:pt x="3014845" y="41523"/>
                </a:lnTo>
                <a:lnTo>
                  <a:pt x="3014845" y="66229"/>
                </a:lnTo>
                <a:lnTo>
                  <a:pt x="2995608" y="66229"/>
                </a:lnTo>
                <a:lnTo>
                  <a:pt x="2995608" y="83757"/>
                </a:lnTo>
                <a:lnTo>
                  <a:pt x="3033228" y="83757"/>
                </a:lnTo>
                <a:lnTo>
                  <a:pt x="3033228" y="70013"/>
                </a:lnTo>
                <a:lnTo>
                  <a:pt x="3033228" y="66229"/>
                </a:lnTo>
                <a:lnTo>
                  <a:pt x="3033228" y="24423"/>
                </a:lnTo>
                <a:lnTo>
                  <a:pt x="3017553" y="24423"/>
                </a:lnTo>
                <a:lnTo>
                  <a:pt x="3014845" y="24423"/>
                </a:lnTo>
                <a:lnTo>
                  <a:pt x="2971983" y="24423"/>
                </a:lnTo>
                <a:lnTo>
                  <a:pt x="2971350" y="24423"/>
                </a:lnTo>
                <a:lnTo>
                  <a:pt x="2954206" y="24423"/>
                </a:lnTo>
                <a:lnTo>
                  <a:pt x="2954206" y="41523"/>
                </a:lnTo>
                <a:lnTo>
                  <a:pt x="2954206" y="232109"/>
                </a:lnTo>
                <a:lnTo>
                  <a:pt x="2911837" y="232109"/>
                </a:lnTo>
                <a:lnTo>
                  <a:pt x="2911560" y="232109"/>
                </a:lnTo>
                <a:lnTo>
                  <a:pt x="2825597" y="232109"/>
                </a:lnTo>
                <a:lnTo>
                  <a:pt x="2825597" y="125198"/>
                </a:lnTo>
                <a:lnTo>
                  <a:pt x="2911560" y="125198"/>
                </a:lnTo>
                <a:lnTo>
                  <a:pt x="2911560" y="106927"/>
                </a:lnTo>
                <a:lnTo>
                  <a:pt x="2825597" y="106927"/>
                </a:lnTo>
                <a:lnTo>
                  <a:pt x="2824966" y="106927"/>
                </a:lnTo>
                <a:lnTo>
                  <a:pt x="2824966" y="41523"/>
                </a:lnTo>
                <a:lnTo>
                  <a:pt x="2825597" y="41523"/>
                </a:lnTo>
                <a:lnTo>
                  <a:pt x="2868461" y="41523"/>
                </a:lnTo>
                <a:lnTo>
                  <a:pt x="2868461" y="66229"/>
                </a:lnTo>
                <a:lnTo>
                  <a:pt x="2849224" y="66229"/>
                </a:lnTo>
                <a:lnTo>
                  <a:pt x="2849224" y="83757"/>
                </a:lnTo>
                <a:lnTo>
                  <a:pt x="2886844" y="83757"/>
                </a:lnTo>
                <a:lnTo>
                  <a:pt x="2886844" y="70013"/>
                </a:lnTo>
                <a:lnTo>
                  <a:pt x="2886844" y="66229"/>
                </a:lnTo>
                <a:lnTo>
                  <a:pt x="2886844" y="24423"/>
                </a:lnTo>
                <a:lnTo>
                  <a:pt x="2871169" y="24423"/>
                </a:lnTo>
                <a:lnTo>
                  <a:pt x="2868461" y="24423"/>
                </a:lnTo>
                <a:lnTo>
                  <a:pt x="2825597" y="24423"/>
                </a:lnTo>
                <a:lnTo>
                  <a:pt x="2824966" y="24423"/>
                </a:lnTo>
                <a:lnTo>
                  <a:pt x="2807822" y="24423"/>
                </a:lnTo>
                <a:lnTo>
                  <a:pt x="2807822" y="41523"/>
                </a:lnTo>
                <a:lnTo>
                  <a:pt x="2807822" y="232109"/>
                </a:lnTo>
                <a:lnTo>
                  <a:pt x="2765452" y="232109"/>
                </a:lnTo>
                <a:lnTo>
                  <a:pt x="2765452" y="232110"/>
                </a:lnTo>
                <a:lnTo>
                  <a:pt x="2765175" y="232110"/>
                </a:lnTo>
                <a:lnTo>
                  <a:pt x="2765175" y="232109"/>
                </a:lnTo>
                <a:lnTo>
                  <a:pt x="2679213" y="232109"/>
                </a:lnTo>
                <a:lnTo>
                  <a:pt x="2679213" y="125198"/>
                </a:lnTo>
                <a:lnTo>
                  <a:pt x="2765175" y="125198"/>
                </a:lnTo>
                <a:lnTo>
                  <a:pt x="2765175" y="106928"/>
                </a:lnTo>
                <a:lnTo>
                  <a:pt x="2679213" y="106928"/>
                </a:lnTo>
                <a:lnTo>
                  <a:pt x="2678581" y="106928"/>
                </a:lnTo>
                <a:lnTo>
                  <a:pt x="2678581" y="41524"/>
                </a:lnTo>
                <a:lnTo>
                  <a:pt x="2679213" y="41524"/>
                </a:lnTo>
                <a:lnTo>
                  <a:pt x="2722076" y="41524"/>
                </a:lnTo>
                <a:lnTo>
                  <a:pt x="2722076" y="66230"/>
                </a:lnTo>
                <a:lnTo>
                  <a:pt x="2702839" y="66230"/>
                </a:lnTo>
                <a:lnTo>
                  <a:pt x="2702839" y="83758"/>
                </a:lnTo>
                <a:lnTo>
                  <a:pt x="2740459" y="83758"/>
                </a:lnTo>
                <a:lnTo>
                  <a:pt x="2740459" y="70014"/>
                </a:lnTo>
                <a:lnTo>
                  <a:pt x="2740459" y="66230"/>
                </a:lnTo>
                <a:lnTo>
                  <a:pt x="2740459" y="24424"/>
                </a:lnTo>
                <a:lnTo>
                  <a:pt x="2724784" y="24424"/>
                </a:lnTo>
                <a:lnTo>
                  <a:pt x="2722076" y="24424"/>
                </a:lnTo>
                <a:lnTo>
                  <a:pt x="2679213" y="24424"/>
                </a:lnTo>
                <a:lnTo>
                  <a:pt x="2678581" y="24424"/>
                </a:lnTo>
                <a:lnTo>
                  <a:pt x="2661437" y="24424"/>
                </a:lnTo>
                <a:lnTo>
                  <a:pt x="2661437" y="41524"/>
                </a:lnTo>
                <a:lnTo>
                  <a:pt x="2661437" y="232110"/>
                </a:lnTo>
                <a:lnTo>
                  <a:pt x="2619066" y="232110"/>
                </a:lnTo>
                <a:lnTo>
                  <a:pt x="2619066" y="232111"/>
                </a:lnTo>
                <a:lnTo>
                  <a:pt x="2618789" y="232111"/>
                </a:lnTo>
                <a:lnTo>
                  <a:pt x="2618789" y="232110"/>
                </a:lnTo>
                <a:lnTo>
                  <a:pt x="2532829" y="232110"/>
                </a:lnTo>
                <a:lnTo>
                  <a:pt x="2532829" y="125199"/>
                </a:lnTo>
                <a:lnTo>
                  <a:pt x="2618789" y="125199"/>
                </a:lnTo>
                <a:lnTo>
                  <a:pt x="2618789" y="106929"/>
                </a:lnTo>
                <a:lnTo>
                  <a:pt x="2532829" y="106929"/>
                </a:lnTo>
                <a:lnTo>
                  <a:pt x="2532196" y="106929"/>
                </a:lnTo>
                <a:lnTo>
                  <a:pt x="2532196" y="41525"/>
                </a:lnTo>
                <a:lnTo>
                  <a:pt x="2532829" y="41525"/>
                </a:lnTo>
                <a:lnTo>
                  <a:pt x="2575690" y="41525"/>
                </a:lnTo>
                <a:lnTo>
                  <a:pt x="2575690" y="66231"/>
                </a:lnTo>
                <a:lnTo>
                  <a:pt x="2556454" y="66231"/>
                </a:lnTo>
                <a:lnTo>
                  <a:pt x="2556454" y="83759"/>
                </a:lnTo>
                <a:lnTo>
                  <a:pt x="2594073" y="83759"/>
                </a:lnTo>
                <a:lnTo>
                  <a:pt x="2594073" y="70015"/>
                </a:lnTo>
                <a:lnTo>
                  <a:pt x="2594073" y="66231"/>
                </a:lnTo>
                <a:lnTo>
                  <a:pt x="2594073" y="24425"/>
                </a:lnTo>
                <a:lnTo>
                  <a:pt x="2578398" y="24425"/>
                </a:lnTo>
                <a:lnTo>
                  <a:pt x="2575690" y="24425"/>
                </a:lnTo>
                <a:lnTo>
                  <a:pt x="2532829" y="24425"/>
                </a:lnTo>
                <a:lnTo>
                  <a:pt x="2532196" y="24425"/>
                </a:lnTo>
                <a:lnTo>
                  <a:pt x="2515052" y="24425"/>
                </a:lnTo>
                <a:lnTo>
                  <a:pt x="2515052" y="41525"/>
                </a:lnTo>
                <a:lnTo>
                  <a:pt x="2515052" y="232111"/>
                </a:lnTo>
                <a:lnTo>
                  <a:pt x="2472684" y="232111"/>
                </a:lnTo>
                <a:lnTo>
                  <a:pt x="2472684" y="232112"/>
                </a:lnTo>
                <a:lnTo>
                  <a:pt x="2472407" y="232112"/>
                </a:lnTo>
                <a:lnTo>
                  <a:pt x="2472407" y="232111"/>
                </a:lnTo>
                <a:lnTo>
                  <a:pt x="2386443" y="232111"/>
                </a:lnTo>
                <a:lnTo>
                  <a:pt x="2386443" y="125200"/>
                </a:lnTo>
                <a:lnTo>
                  <a:pt x="2472407" y="125200"/>
                </a:lnTo>
                <a:lnTo>
                  <a:pt x="2472407" y="106930"/>
                </a:lnTo>
                <a:lnTo>
                  <a:pt x="2386443" y="106930"/>
                </a:lnTo>
                <a:lnTo>
                  <a:pt x="2385812" y="106930"/>
                </a:lnTo>
                <a:lnTo>
                  <a:pt x="2385812" y="41526"/>
                </a:lnTo>
                <a:lnTo>
                  <a:pt x="2386443" y="41526"/>
                </a:lnTo>
                <a:lnTo>
                  <a:pt x="2429308" y="41526"/>
                </a:lnTo>
                <a:lnTo>
                  <a:pt x="2429308" y="66232"/>
                </a:lnTo>
                <a:lnTo>
                  <a:pt x="2410070" y="66232"/>
                </a:lnTo>
                <a:lnTo>
                  <a:pt x="2410070" y="83760"/>
                </a:lnTo>
                <a:lnTo>
                  <a:pt x="2447690" y="83760"/>
                </a:lnTo>
                <a:lnTo>
                  <a:pt x="2447690" y="70016"/>
                </a:lnTo>
                <a:lnTo>
                  <a:pt x="2447690" y="66232"/>
                </a:lnTo>
                <a:lnTo>
                  <a:pt x="2447690" y="24426"/>
                </a:lnTo>
                <a:lnTo>
                  <a:pt x="2432016" y="24426"/>
                </a:lnTo>
                <a:lnTo>
                  <a:pt x="2429308" y="24426"/>
                </a:lnTo>
                <a:lnTo>
                  <a:pt x="2386443" y="24426"/>
                </a:lnTo>
                <a:lnTo>
                  <a:pt x="2385812" y="24426"/>
                </a:lnTo>
                <a:lnTo>
                  <a:pt x="2368669" y="24426"/>
                </a:lnTo>
                <a:lnTo>
                  <a:pt x="2368669" y="41526"/>
                </a:lnTo>
                <a:lnTo>
                  <a:pt x="2368669" y="232112"/>
                </a:lnTo>
                <a:lnTo>
                  <a:pt x="2326299" y="232112"/>
                </a:lnTo>
                <a:lnTo>
                  <a:pt x="2326021" y="232112"/>
                </a:lnTo>
                <a:lnTo>
                  <a:pt x="2240060" y="232112"/>
                </a:lnTo>
                <a:lnTo>
                  <a:pt x="2240060" y="125201"/>
                </a:lnTo>
                <a:lnTo>
                  <a:pt x="2326021" y="125201"/>
                </a:lnTo>
                <a:lnTo>
                  <a:pt x="2326021" y="106930"/>
                </a:lnTo>
                <a:lnTo>
                  <a:pt x="2240060" y="106930"/>
                </a:lnTo>
                <a:lnTo>
                  <a:pt x="2239428" y="106930"/>
                </a:lnTo>
                <a:lnTo>
                  <a:pt x="2239428" y="41526"/>
                </a:lnTo>
                <a:lnTo>
                  <a:pt x="2240060" y="41526"/>
                </a:lnTo>
                <a:lnTo>
                  <a:pt x="2282923" y="41526"/>
                </a:lnTo>
                <a:lnTo>
                  <a:pt x="2282923" y="66232"/>
                </a:lnTo>
                <a:lnTo>
                  <a:pt x="2263686" y="66232"/>
                </a:lnTo>
                <a:lnTo>
                  <a:pt x="2263686" y="83760"/>
                </a:lnTo>
                <a:lnTo>
                  <a:pt x="2301305" y="83760"/>
                </a:lnTo>
                <a:lnTo>
                  <a:pt x="2301305" y="70016"/>
                </a:lnTo>
                <a:lnTo>
                  <a:pt x="2301305" y="66232"/>
                </a:lnTo>
                <a:lnTo>
                  <a:pt x="2301305" y="24426"/>
                </a:lnTo>
                <a:lnTo>
                  <a:pt x="2285631" y="24426"/>
                </a:lnTo>
                <a:lnTo>
                  <a:pt x="2282923" y="24426"/>
                </a:lnTo>
                <a:lnTo>
                  <a:pt x="2240060" y="24426"/>
                </a:lnTo>
                <a:lnTo>
                  <a:pt x="2239428" y="24426"/>
                </a:lnTo>
                <a:lnTo>
                  <a:pt x="2222284" y="24426"/>
                </a:lnTo>
                <a:lnTo>
                  <a:pt x="2222284" y="41526"/>
                </a:lnTo>
                <a:lnTo>
                  <a:pt x="2222284" y="232112"/>
                </a:lnTo>
                <a:lnTo>
                  <a:pt x="2179914" y="232112"/>
                </a:lnTo>
                <a:lnTo>
                  <a:pt x="2179914" y="232113"/>
                </a:lnTo>
                <a:lnTo>
                  <a:pt x="2179637" y="232113"/>
                </a:lnTo>
                <a:lnTo>
                  <a:pt x="2179637" y="232112"/>
                </a:lnTo>
                <a:lnTo>
                  <a:pt x="2093674" y="232112"/>
                </a:lnTo>
                <a:lnTo>
                  <a:pt x="2093674" y="125201"/>
                </a:lnTo>
                <a:lnTo>
                  <a:pt x="2179637" y="125201"/>
                </a:lnTo>
                <a:lnTo>
                  <a:pt x="2179637" y="106931"/>
                </a:lnTo>
                <a:lnTo>
                  <a:pt x="2093674" y="106931"/>
                </a:lnTo>
                <a:lnTo>
                  <a:pt x="2093042" y="106931"/>
                </a:lnTo>
                <a:lnTo>
                  <a:pt x="2093042" y="41527"/>
                </a:lnTo>
                <a:lnTo>
                  <a:pt x="2093674" y="41527"/>
                </a:lnTo>
                <a:lnTo>
                  <a:pt x="2136538" y="41527"/>
                </a:lnTo>
                <a:lnTo>
                  <a:pt x="2136538" y="66233"/>
                </a:lnTo>
                <a:lnTo>
                  <a:pt x="2117301" y="66233"/>
                </a:lnTo>
                <a:lnTo>
                  <a:pt x="2117301" y="83761"/>
                </a:lnTo>
                <a:lnTo>
                  <a:pt x="2154920" y="83761"/>
                </a:lnTo>
                <a:lnTo>
                  <a:pt x="2154920" y="70017"/>
                </a:lnTo>
                <a:lnTo>
                  <a:pt x="2154920" y="66233"/>
                </a:lnTo>
                <a:lnTo>
                  <a:pt x="2154920" y="24427"/>
                </a:lnTo>
                <a:lnTo>
                  <a:pt x="2139245" y="24427"/>
                </a:lnTo>
                <a:lnTo>
                  <a:pt x="2136538" y="24427"/>
                </a:lnTo>
                <a:lnTo>
                  <a:pt x="2093674" y="24427"/>
                </a:lnTo>
                <a:lnTo>
                  <a:pt x="2093042" y="24427"/>
                </a:lnTo>
                <a:lnTo>
                  <a:pt x="2075899" y="24427"/>
                </a:lnTo>
                <a:lnTo>
                  <a:pt x="2075899" y="41527"/>
                </a:lnTo>
                <a:lnTo>
                  <a:pt x="2075899" y="232113"/>
                </a:lnTo>
                <a:lnTo>
                  <a:pt x="2033528" y="232113"/>
                </a:lnTo>
                <a:lnTo>
                  <a:pt x="2033252" y="232113"/>
                </a:lnTo>
                <a:lnTo>
                  <a:pt x="1947289" y="232113"/>
                </a:lnTo>
                <a:lnTo>
                  <a:pt x="1947289" y="125202"/>
                </a:lnTo>
                <a:lnTo>
                  <a:pt x="2033252" y="125202"/>
                </a:lnTo>
                <a:lnTo>
                  <a:pt x="2033252" y="106931"/>
                </a:lnTo>
                <a:lnTo>
                  <a:pt x="1947289" y="106931"/>
                </a:lnTo>
                <a:lnTo>
                  <a:pt x="1946656" y="106931"/>
                </a:lnTo>
                <a:lnTo>
                  <a:pt x="1946656" y="41527"/>
                </a:lnTo>
                <a:lnTo>
                  <a:pt x="1947289" y="41527"/>
                </a:lnTo>
                <a:lnTo>
                  <a:pt x="1990152" y="41527"/>
                </a:lnTo>
                <a:lnTo>
                  <a:pt x="1990152" y="66233"/>
                </a:lnTo>
                <a:lnTo>
                  <a:pt x="1970915" y="66233"/>
                </a:lnTo>
                <a:lnTo>
                  <a:pt x="1970915" y="83761"/>
                </a:lnTo>
                <a:lnTo>
                  <a:pt x="2008535" y="83761"/>
                </a:lnTo>
                <a:lnTo>
                  <a:pt x="2008535" y="70017"/>
                </a:lnTo>
                <a:lnTo>
                  <a:pt x="2008535" y="66233"/>
                </a:lnTo>
                <a:lnTo>
                  <a:pt x="2008535" y="24427"/>
                </a:lnTo>
                <a:lnTo>
                  <a:pt x="1992860" y="24427"/>
                </a:lnTo>
                <a:lnTo>
                  <a:pt x="1990152" y="24427"/>
                </a:lnTo>
                <a:lnTo>
                  <a:pt x="1947289" y="24427"/>
                </a:lnTo>
                <a:lnTo>
                  <a:pt x="1946656" y="24427"/>
                </a:lnTo>
                <a:lnTo>
                  <a:pt x="1929513" y="24427"/>
                </a:lnTo>
                <a:lnTo>
                  <a:pt x="1929513" y="41527"/>
                </a:lnTo>
                <a:lnTo>
                  <a:pt x="1929513" y="232113"/>
                </a:lnTo>
                <a:lnTo>
                  <a:pt x="1887143" y="232113"/>
                </a:lnTo>
                <a:lnTo>
                  <a:pt x="1887143" y="232114"/>
                </a:lnTo>
                <a:lnTo>
                  <a:pt x="1886866" y="232114"/>
                </a:lnTo>
                <a:lnTo>
                  <a:pt x="1886866" y="232113"/>
                </a:lnTo>
                <a:lnTo>
                  <a:pt x="1800905" y="232113"/>
                </a:lnTo>
                <a:lnTo>
                  <a:pt x="1800905" y="125202"/>
                </a:lnTo>
                <a:lnTo>
                  <a:pt x="1886866" y="125202"/>
                </a:lnTo>
                <a:lnTo>
                  <a:pt x="1886866" y="106932"/>
                </a:lnTo>
                <a:lnTo>
                  <a:pt x="1800905" y="106932"/>
                </a:lnTo>
                <a:lnTo>
                  <a:pt x="1800273" y="106932"/>
                </a:lnTo>
                <a:lnTo>
                  <a:pt x="1800273" y="41528"/>
                </a:lnTo>
                <a:lnTo>
                  <a:pt x="1800905" y="41528"/>
                </a:lnTo>
                <a:lnTo>
                  <a:pt x="1843767" y="41528"/>
                </a:lnTo>
                <a:lnTo>
                  <a:pt x="1843767" y="66234"/>
                </a:lnTo>
                <a:lnTo>
                  <a:pt x="1824530" y="66234"/>
                </a:lnTo>
                <a:lnTo>
                  <a:pt x="1824530" y="83762"/>
                </a:lnTo>
                <a:lnTo>
                  <a:pt x="1862149" y="83762"/>
                </a:lnTo>
                <a:lnTo>
                  <a:pt x="1862149" y="70018"/>
                </a:lnTo>
                <a:lnTo>
                  <a:pt x="1862149" y="66234"/>
                </a:lnTo>
                <a:lnTo>
                  <a:pt x="1862149" y="24428"/>
                </a:lnTo>
                <a:lnTo>
                  <a:pt x="1846475" y="24428"/>
                </a:lnTo>
                <a:lnTo>
                  <a:pt x="1843767" y="24428"/>
                </a:lnTo>
                <a:lnTo>
                  <a:pt x="1800905" y="24428"/>
                </a:lnTo>
                <a:lnTo>
                  <a:pt x="1800273" y="24428"/>
                </a:lnTo>
                <a:lnTo>
                  <a:pt x="1783129" y="24428"/>
                </a:lnTo>
                <a:lnTo>
                  <a:pt x="1783129" y="41528"/>
                </a:lnTo>
                <a:lnTo>
                  <a:pt x="1783129" y="232114"/>
                </a:lnTo>
                <a:lnTo>
                  <a:pt x="1740758" y="232114"/>
                </a:lnTo>
                <a:lnTo>
                  <a:pt x="1740758" y="232115"/>
                </a:lnTo>
                <a:lnTo>
                  <a:pt x="1740482" y="232115"/>
                </a:lnTo>
                <a:lnTo>
                  <a:pt x="1740482" y="232114"/>
                </a:lnTo>
                <a:lnTo>
                  <a:pt x="1654520" y="232114"/>
                </a:lnTo>
                <a:lnTo>
                  <a:pt x="1654520" y="125203"/>
                </a:lnTo>
                <a:lnTo>
                  <a:pt x="1740482" y="125203"/>
                </a:lnTo>
                <a:lnTo>
                  <a:pt x="1740482" y="106933"/>
                </a:lnTo>
                <a:lnTo>
                  <a:pt x="1654520" y="106933"/>
                </a:lnTo>
                <a:lnTo>
                  <a:pt x="1653887" y="106933"/>
                </a:lnTo>
                <a:lnTo>
                  <a:pt x="1653887" y="41529"/>
                </a:lnTo>
                <a:lnTo>
                  <a:pt x="1654520" y="41529"/>
                </a:lnTo>
                <a:lnTo>
                  <a:pt x="1697382" y="41529"/>
                </a:lnTo>
                <a:lnTo>
                  <a:pt x="1697382" y="66235"/>
                </a:lnTo>
                <a:lnTo>
                  <a:pt x="1678146" y="66235"/>
                </a:lnTo>
                <a:lnTo>
                  <a:pt x="1678146" y="83763"/>
                </a:lnTo>
                <a:lnTo>
                  <a:pt x="1715765" y="83763"/>
                </a:lnTo>
                <a:lnTo>
                  <a:pt x="1715765" y="70019"/>
                </a:lnTo>
                <a:lnTo>
                  <a:pt x="1715765" y="66235"/>
                </a:lnTo>
                <a:lnTo>
                  <a:pt x="1715765" y="24429"/>
                </a:lnTo>
                <a:lnTo>
                  <a:pt x="1700091" y="24429"/>
                </a:lnTo>
                <a:lnTo>
                  <a:pt x="1697382" y="24429"/>
                </a:lnTo>
                <a:lnTo>
                  <a:pt x="1654520" y="24429"/>
                </a:lnTo>
                <a:lnTo>
                  <a:pt x="1653887" y="24429"/>
                </a:lnTo>
                <a:lnTo>
                  <a:pt x="1636744" y="24429"/>
                </a:lnTo>
                <a:lnTo>
                  <a:pt x="1636744" y="41529"/>
                </a:lnTo>
                <a:lnTo>
                  <a:pt x="1636744" y="232115"/>
                </a:lnTo>
                <a:lnTo>
                  <a:pt x="1594373" y="232115"/>
                </a:lnTo>
                <a:lnTo>
                  <a:pt x="1594096" y="232115"/>
                </a:lnTo>
                <a:lnTo>
                  <a:pt x="1508134" y="232115"/>
                </a:lnTo>
                <a:lnTo>
                  <a:pt x="1508134" y="125204"/>
                </a:lnTo>
                <a:lnTo>
                  <a:pt x="1594096" y="125204"/>
                </a:lnTo>
                <a:lnTo>
                  <a:pt x="1594096" y="106933"/>
                </a:lnTo>
                <a:lnTo>
                  <a:pt x="1508134" y="106933"/>
                </a:lnTo>
                <a:lnTo>
                  <a:pt x="1507502" y="106933"/>
                </a:lnTo>
                <a:lnTo>
                  <a:pt x="1507502" y="41529"/>
                </a:lnTo>
                <a:lnTo>
                  <a:pt x="1508134" y="41529"/>
                </a:lnTo>
                <a:lnTo>
                  <a:pt x="1550998" y="41529"/>
                </a:lnTo>
                <a:lnTo>
                  <a:pt x="1550998" y="66235"/>
                </a:lnTo>
                <a:lnTo>
                  <a:pt x="1531760" y="66235"/>
                </a:lnTo>
                <a:lnTo>
                  <a:pt x="1531760" y="83763"/>
                </a:lnTo>
                <a:lnTo>
                  <a:pt x="1569380" y="83763"/>
                </a:lnTo>
                <a:lnTo>
                  <a:pt x="1569380" y="70019"/>
                </a:lnTo>
                <a:lnTo>
                  <a:pt x="1569380" y="66235"/>
                </a:lnTo>
                <a:lnTo>
                  <a:pt x="1569380" y="24429"/>
                </a:lnTo>
                <a:lnTo>
                  <a:pt x="1553705" y="24429"/>
                </a:lnTo>
                <a:lnTo>
                  <a:pt x="1550998" y="24429"/>
                </a:lnTo>
                <a:lnTo>
                  <a:pt x="1508134" y="24429"/>
                </a:lnTo>
                <a:lnTo>
                  <a:pt x="1507502" y="24429"/>
                </a:lnTo>
                <a:lnTo>
                  <a:pt x="1490358" y="24429"/>
                </a:lnTo>
                <a:lnTo>
                  <a:pt x="1490358" y="41529"/>
                </a:lnTo>
                <a:lnTo>
                  <a:pt x="1490358" y="232115"/>
                </a:lnTo>
                <a:lnTo>
                  <a:pt x="1447988" y="232115"/>
                </a:lnTo>
                <a:lnTo>
                  <a:pt x="1447988" y="232116"/>
                </a:lnTo>
                <a:lnTo>
                  <a:pt x="1447711" y="232116"/>
                </a:lnTo>
                <a:lnTo>
                  <a:pt x="1447711" y="232115"/>
                </a:lnTo>
                <a:lnTo>
                  <a:pt x="1361750" y="232115"/>
                </a:lnTo>
                <a:lnTo>
                  <a:pt x="1361750" y="125204"/>
                </a:lnTo>
                <a:lnTo>
                  <a:pt x="1447711" y="125204"/>
                </a:lnTo>
                <a:lnTo>
                  <a:pt x="1447711" y="106934"/>
                </a:lnTo>
                <a:lnTo>
                  <a:pt x="1361750" y="106934"/>
                </a:lnTo>
                <a:lnTo>
                  <a:pt x="1361118" y="106934"/>
                </a:lnTo>
                <a:lnTo>
                  <a:pt x="1361118" y="41530"/>
                </a:lnTo>
                <a:lnTo>
                  <a:pt x="1361750" y="41530"/>
                </a:lnTo>
                <a:lnTo>
                  <a:pt x="1404613" y="41530"/>
                </a:lnTo>
                <a:lnTo>
                  <a:pt x="1404613" y="66236"/>
                </a:lnTo>
                <a:lnTo>
                  <a:pt x="1385376" y="66236"/>
                </a:lnTo>
                <a:lnTo>
                  <a:pt x="1385376" y="83764"/>
                </a:lnTo>
                <a:lnTo>
                  <a:pt x="1422995" y="83764"/>
                </a:lnTo>
                <a:lnTo>
                  <a:pt x="1422995" y="70020"/>
                </a:lnTo>
                <a:lnTo>
                  <a:pt x="1422995" y="66236"/>
                </a:lnTo>
                <a:lnTo>
                  <a:pt x="1422995" y="24430"/>
                </a:lnTo>
                <a:lnTo>
                  <a:pt x="1407320" y="24430"/>
                </a:lnTo>
                <a:lnTo>
                  <a:pt x="1404613" y="24430"/>
                </a:lnTo>
                <a:lnTo>
                  <a:pt x="1361750" y="24430"/>
                </a:lnTo>
                <a:lnTo>
                  <a:pt x="1361118" y="24430"/>
                </a:lnTo>
                <a:lnTo>
                  <a:pt x="1343973" y="24430"/>
                </a:lnTo>
                <a:lnTo>
                  <a:pt x="1343973" y="41530"/>
                </a:lnTo>
                <a:lnTo>
                  <a:pt x="1343973" y="232116"/>
                </a:lnTo>
                <a:lnTo>
                  <a:pt x="1301604" y="232116"/>
                </a:lnTo>
                <a:lnTo>
                  <a:pt x="1301604" y="232117"/>
                </a:lnTo>
                <a:lnTo>
                  <a:pt x="1301326" y="232117"/>
                </a:lnTo>
                <a:lnTo>
                  <a:pt x="1301326" y="232116"/>
                </a:lnTo>
                <a:lnTo>
                  <a:pt x="1215364" y="232116"/>
                </a:lnTo>
                <a:lnTo>
                  <a:pt x="1215364" y="125205"/>
                </a:lnTo>
                <a:lnTo>
                  <a:pt x="1301326" y="125205"/>
                </a:lnTo>
                <a:lnTo>
                  <a:pt x="1301326" y="106935"/>
                </a:lnTo>
                <a:lnTo>
                  <a:pt x="1215364" y="106935"/>
                </a:lnTo>
                <a:lnTo>
                  <a:pt x="1214732" y="106935"/>
                </a:lnTo>
                <a:lnTo>
                  <a:pt x="1214732" y="41531"/>
                </a:lnTo>
                <a:lnTo>
                  <a:pt x="1215364" y="41531"/>
                </a:lnTo>
                <a:lnTo>
                  <a:pt x="1258228" y="41531"/>
                </a:lnTo>
                <a:lnTo>
                  <a:pt x="1258228" y="66237"/>
                </a:lnTo>
                <a:lnTo>
                  <a:pt x="1238991" y="66237"/>
                </a:lnTo>
                <a:lnTo>
                  <a:pt x="1238991" y="83765"/>
                </a:lnTo>
                <a:lnTo>
                  <a:pt x="1276610" y="83765"/>
                </a:lnTo>
                <a:lnTo>
                  <a:pt x="1276610" y="70021"/>
                </a:lnTo>
                <a:lnTo>
                  <a:pt x="1276610" y="66237"/>
                </a:lnTo>
                <a:lnTo>
                  <a:pt x="1276610" y="24431"/>
                </a:lnTo>
                <a:lnTo>
                  <a:pt x="1260935" y="24431"/>
                </a:lnTo>
                <a:lnTo>
                  <a:pt x="1258228" y="24431"/>
                </a:lnTo>
                <a:lnTo>
                  <a:pt x="1215364" y="24431"/>
                </a:lnTo>
                <a:lnTo>
                  <a:pt x="1214732" y="24431"/>
                </a:lnTo>
                <a:lnTo>
                  <a:pt x="1197588" y="24431"/>
                </a:lnTo>
                <a:lnTo>
                  <a:pt x="1197588" y="41531"/>
                </a:lnTo>
                <a:lnTo>
                  <a:pt x="1197588" y="232117"/>
                </a:lnTo>
                <a:lnTo>
                  <a:pt x="1155218" y="232117"/>
                </a:lnTo>
                <a:lnTo>
                  <a:pt x="1154942" y="232117"/>
                </a:lnTo>
                <a:lnTo>
                  <a:pt x="1068980" y="232117"/>
                </a:lnTo>
                <a:lnTo>
                  <a:pt x="1068980" y="125206"/>
                </a:lnTo>
                <a:lnTo>
                  <a:pt x="1154942" y="125206"/>
                </a:lnTo>
                <a:lnTo>
                  <a:pt x="1154942" y="106935"/>
                </a:lnTo>
                <a:lnTo>
                  <a:pt x="1068980" y="106935"/>
                </a:lnTo>
                <a:lnTo>
                  <a:pt x="1068347" y="106935"/>
                </a:lnTo>
                <a:lnTo>
                  <a:pt x="1068347" y="41531"/>
                </a:lnTo>
                <a:lnTo>
                  <a:pt x="1068980" y="41531"/>
                </a:lnTo>
                <a:lnTo>
                  <a:pt x="1111843" y="41531"/>
                </a:lnTo>
                <a:lnTo>
                  <a:pt x="1111843" y="66237"/>
                </a:lnTo>
                <a:lnTo>
                  <a:pt x="1092605" y="66237"/>
                </a:lnTo>
                <a:lnTo>
                  <a:pt x="1092605" y="83765"/>
                </a:lnTo>
                <a:lnTo>
                  <a:pt x="1130225" y="83765"/>
                </a:lnTo>
                <a:lnTo>
                  <a:pt x="1130225" y="70021"/>
                </a:lnTo>
                <a:lnTo>
                  <a:pt x="1130225" y="66237"/>
                </a:lnTo>
                <a:lnTo>
                  <a:pt x="1130225" y="24431"/>
                </a:lnTo>
                <a:lnTo>
                  <a:pt x="1114551" y="24431"/>
                </a:lnTo>
                <a:lnTo>
                  <a:pt x="1111843" y="24431"/>
                </a:lnTo>
                <a:lnTo>
                  <a:pt x="1068980" y="24431"/>
                </a:lnTo>
                <a:lnTo>
                  <a:pt x="1068347" y="24431"/>
                </a:lnTo>
                <a:lnTo>
                  <a:pt x="1051203" y="24431"/>
                </a:lnTo>
                <a:lnTo>
                  <a:pt x="1051203" y="41531"/>
                </a:lnTo>
                <a:lnTo>
                  <a:pt x="1051203" y="232117"/>
                </a:lnTo>
                <a:lnTo>
                  <a:pt x="1008834" y="232117"/>
                </a:lnTo>
                <a:lnTo>
                  <a:pt x="1008834" y="232118"/>
                </a:lnTo>
                <a:lnTo>
                  <a:pt x="1008557" y="232118"/>
                </a:lnTo>
                <a:lnTo>
                  <a:pt x="1008557" y="232117"/>
                </a:lnTo>
                <a:lnTo>
                  <a:pt x="922595" y="232117"/>
                </a:lnTo>
                <a:lnTo>
                  <a:pt x="922595" y="125206"/>
                </a:lnTo>
                <a:lnTo>
                  <a:pt x="1008557" y="125206"/>
                </a:lnTo>
                <a:lnTo>
                  <a:pt x="1008557" y="106936"/>
                </a:lnTo>
                <a:lnTo>
                  <a:pt x="922595" y="106936"/>
                </a:lnTo>
                <a:lnTo>
                  <a:pt x="921962" y="106936"/>
                </a:lnTo>
                <a:lnTo>
                  <a:pt x="921962" y="41532"/>
                </a:lnTo>
                <a:lnTo>
                  <a:pt x="922595" y="41532"/>
                </a:lnTo>
                <a:lnTo>
                  <a:pt x="965458" y="41532"/>
                </a:lnTo>
                <a:lnTo>
                  <a:pt x="965458" y="66238"/>
                </a:lnTo>
                <a:lnTo>
                  <a:pt x="946221" y="66238"/>
                </a:lnTo>
                <a:lnTo>
                  <a:pt x="946221" y="83766"/>
                </a:lnTo>
                <a:lnTo>
                  <a:pt x="983840" y="83766"/>
                </a:lnTo>
                <a:lnTo>
                  <a:pt x="983840" y="70022"/>
                </a:lnTo>
                <a:lnTo>
                  <a:pt x="983840" y="66238"/>
                </a:lnTo>
                <a:lnTo>
                  <a:pt x="983840" y="24432"/>
                </a:lnTo>
                <a:lnTo>
                  <a:pt x="968165" y="24432"/>
                </a:lnTo>
                <a:lnTo>
                  <a:pt x="965458" y="24432"/>
                </a:lnTo>
                <a:lnTo>
                  <a:pt x="922595" y="24432"/>
                </a:lnTo>
                <a:lnTo>
                  <a:pt x="921962" y="24432"/>
                </a:lnTo>
                <a:lnTo>
                  <a:pt x="904818" y="24432"/>
                </a:lnTo>
                <a:lnTo>
                  <a:pt x="904818" y="41532"/>
                </a:lnTo>
                <a:lnTo>
                  <a:pt x="904818" y="232118"/>
                </a:lnTo>
                <a:lnTo>
                  <a:pt x="862449" y="232118"/>
                </a:lnTo>
                <a:lnTo>
                  <a:pt x="862171" y="232118"/>
                </a:lnTo>
                <a:lnTo>
                  <a:pt x="776209" y="232118"/>
                </a:lnTo>
                <a:lnTo>
                  <a:pt x="776209" y="125207"/>
                </a:lnTo>
                <a:lnTo>
                  <a:pt x="862171" y="125207"/>
                </a:lnTo>
                <a:lnTo>
                  <a:pt x="862171" y="106936"/>
                </a:lnTo>
                <a:lnTo>
                  <a:pt x="776209" y="106936"/>
                </a:lnTo>
                <a:lnTo>
                  <a:pt x="775577" y="106936"/>
                </a:lnTo>
                <a:lnTo>
                  <a:pt x="775577" y="41532"/>
                </a:lnTo>
                <a:lnTo>
                  <a:pt x="776209" y="41532"/>
                </a:lnTo>
                <a:lnTo>
                  <a:pt x="819073" y="41532"/>
                </a:lnTo>
                <a:lnTo>
                  <a:pt x="819073" y="66238"/>
                </a:lnTo>
                <a:lnTo>
                  <a:pt x="799835" y="66238"/>
                </a:lnTo>
                <a:lnTo>
                  <a:pt x="799835" y="83766"/>
                </a:lnTo>
                <a:lnTo>
                  <a:pt x="837455" y="83766"/>
                </a:lnTo>
                <a:lnTo>
                  <a:pt x="837455" y="70022"/>
                </a:lnTo>
                <a:lnTo>
                  <a:pt x="837455" y="66238"/>
                </a:lnTo>
                <a:lnTo>
                  <a:pt x="837455" y="24432"/>
                </a:lnTo>
                <a:lnTo>
                  <a:pt x="821780" y="24432"/>
                </a:lnTo>
                <a:lnTo>
                  <a:pt x="819073" y="24432"/>
                </a:lnTo>
                <a:lnTo>
                  <a:pt x="776209" y="24432"/>
                </a:lnTo>
                <a:lnTo>
                  <a:pt x="775577" y="24432"/>
                </a:lnTo>
                <a:lnTo>
                  <a:pt x="758433" y="24432"/>
                </a:lnTo>
                <a:lnTo>
                  <a:pt x="758433" y="41532"/>
                </a:lnTo>
                <a:lnTo>
                  <a:pt x="758433" y="232118"/>
                </a:lnTo>
                <a:lnTo>
                  <a:pt x="716064" y="232118"/>
                </a:lnTo>
                <a:lnTo>
                  <a:pt x="716064" y="232119"/>
                </a:lnTo>
                <a:lnTo>
                  <a:pt x="715787" y="232119"/>
                </a:lnTo>
                <a:lnTo>
                  <a:pt x="715787" y="232118"/>
                </a:lnTo>
                <a:lnTo>
                  <a:pt x="629824" y="232118"/>
                </a:lnTo>
                <a:lnTo>
                  <a:pt x="629824" y="125207"/>
                </a:lnTo>
                <a:lnTo>
                  <a:pt x="715787" y="125207"/>
                </a:lnTo>
                <a:lnTo>
                  <a:pt x="715787" y="106937"/>
                </a:lnTo>
                <a:lnTo>
                  <a:pt x="629824" y="106937"/>
                </a:lnTo>
                <a:lnTo>
                  <a:pt x="629193" y="106937"/>
                </a:lnTo>
                <a:lnTo>
                  <a:pt x="629193" y="41533"/>
                </a:lnTo>
                <a:lnTo>
                  <a:pt x="629824" y="41533"/>
                </a:lnTo>
                <a:lnTo>
                  <a:pt x="672689" y="41533"/>
                </a:lnTo>
                <a:lnTo>
                  <a:pt x="672689" y="66239"/>
                </a:lnTo>
                <a:lnTo>
                  <a:pt x="653451" y="66239"/>
                </a:lnTo>
                <a:lnTo>
                  <a:pt x="653451" y="83767"/>
                </a:lnTo>
                <a:lnTo>
                  <a:pt x="691071" y="83767"/>
                </a:lnTo>
                <a:lnTo>
                  <a:pt x="691071" y="70023"/>
                </a:lnTo>
                <a:lnTo>
                  <a:pt x="691071" y="66239"/>
                </a:lnTo>
                <a:lnTo>
                  <a:pt x="691071" y="24433"/>
                </a:lnTo>
                <a:lnTo>
                  <a:pt x="675396" y="24433"/>
                </a:lnTo>
                <a:lnTo>
                  <a:pt x="672689" y="24433"/>
                </a:lnTo>
                <a:lnTo>
                  <a:pt x="629824" y="24433"/>
                </a:lnTo>
                <a:lnTo>
                  <a:pt x="629193" y="24433"/>
                </a:lnTo>
                <a:lnTo>
                  <a:pt x="612049" y="24433"/>
                </a:lnTo>
                <a:lnTo>
                  <a:pt x="612049" y="41533"/>
                </a:lnTo>
                <a:lnTo>
                  <a:pt x="612049" y="232119"/>
                </a:lnTo>
                <a:lnTo>
                  <a:pt x="569678" y="232119"/>
                </a:lnTo>
                <a:lnTo>
                  <a:pt x="569678" y="232120"/>
                </a:lnTo>
                <a:lnTo>
                  <a:pt x="569401" y="232120"/>
                </a:lnTo>
                <a:lnTo>
                  <a:pt x="569401" y="232119"/>
                </a:lnTo>
                <a:lnTo>
                  <a:pt x="483440" y="232119"/>
                </a:lnTo>
                <a:lnTo>
                  <a:pt x="483440" y="125208"/>
                </a:lnTo>
                <a:lnTo>
                  <a:pt x="569401" y="125208"/>
                </a:lnTo>
                <a:lnTo>
                  <a:pt x="569401" y="106938"/>
                </a:lnTo>
                <a:lnTo>
                  <a:pt x="483440" y="106938"/>
                </a:lnTo>
                <a:lnTo>
                  <a:pt x="482807" y="106938"/>
                </a:lnTo>
                <a:lnTo>
                  <a:pt x="482807" y="41534"/>
                </a:lnTo>
                <a:lnTo>
                  <a:pt x="483440" y="41534"/>
                </a:lnTo>
                <a:lnTo>
                  <a:pt x="526303" y="41534"/>
                </a:lnTo>
                <a:lnTo>
                  <a:pt x="526303" y="66240"/>
                </a:lnTo>
                <a:lnTo>
                  <a:pt x="507065" y="66240"/>
                </a:lnTo>
                <a:lnTo>
                  <a:pt x="507065" y="83768"/>
                </a:lnTo>
                <a:lnTo>
                  <a:pt x="544685" y="83768"/>
                </a:lnTo>
                <a:lnTo>
                  <a:pt x="544685" y="70024"/>
                </a:lnTo>
                <a:lnTo>
                  <a:pt x="544685" y="66240"/>
                </a:lnTo>
                <a:lnTo>
                  <a:pt x="544685" y="24434"/>
                </a:lnTo>
                <a:lnTo>
                  <a:pt x="529010" y="24434"/>
                </a:lnTo>
                <a:lnTo>
                  <a:pt x="526303" y="24434"/>
                </a:lnTo>
                <a:lnTo>
                  <a:pt x="483440" y="24434"/>
                </a:lnTo>
                <a:lnTo>
                  <a:pt x="482807" y="24434"/>
                </a:lnTo>
                <a:lnTo>
                  <a:pt x="465663" y="24434"/>
                </a:lnTo>
                <a:lnTo>
                  <a:pt x="465663" y="41534"/>
                </a:lnTo>
                <a:lnTo>
                  <a:pt x="465663" y="232120"/>
                </a:lnTo>
                <a:lnTo>
                  <a:pt x="423294" y="232120"/>
                </a:lnTo>
                <a:lnTo>
                  <a:pt x="423018" y="232120"/>
                </a:lnTo>
                <a:lnTo>
                  <a:pt x="337056" y="232120"/>
                </a:lnTo>
                <a:lnTo>
                  <a:pt x="337056" y="125209"/>
                </a:lnTo>
                <a:lnTo>
                  <a:pt x="423018" y="125209"/>
                </a:lnTo>
                <a:lnTo>
                  <a:pt x="423018" y="106938"/>
                </a:lnTo>
                <a:lnTo>
                  <a:pt x="337056" y="106938"/>
                </a:lnTo>
                <a:lnTo>
                  <a:pt x="336424" y="106938"/>
                </a:lnTo>
                <a:lnTo>
                  <a:pt x="336424" y="41534"/>
                </a:lnTo>
                <a:lnTo>
                  <a:pt x="337056" y="41534"/>
                </a:lnTo>
                <a:lnTo>
                  <a:pt x="379920" y="41534"/>
                </a:lnTo>
                <a:lnTo>
                  <a:pt x="379920" y="66240"/>
                </a:lnTo>
                <a:lnTo>
                  <a:pt x="360682" y="66240"/>
                </a:lnTo>
                <a:lnTo>
                  <a:pt x="360682" y="83768"/>
                </a:lnTo>
                <a:lnTo>
                  <a:pt x="398302" y="83768"/>
                </a:lnTo>
                <a:lnTo>
                  <a:pt x="398302" y="70024"/>
                </a:lnTo>
                <a:lnTo>
                  <a:pt x="398302" y="66240"/>
                </a:lnTo>
                <a:lnTo>
                  <a:pt x="398302" y="24434"/>
                </a:lnTo>
                <a:lnTo>
                  <a:pt x="382626" y="24434"/>
                </a:lnTo>
                <a:lnTo>
                  <a:pt x="379920" y="24434"/>
                </a:lnTo>
                <a:lnTo>
                  <a:pt x="337056" y="24434"/>
                </a:lnTo>
                <a:lnTo>
                  <a:pt x="336424" y="24434"/>
                </a:lnTo>
                <a:lnTo>
                  <a:pt x="319280" y="24434"/>
                </a:lnTo>
                <a:lnTo>
                  <a:pt x="319280" y="41534"/>
                </a:lnTo>
                <a:lnTo>
                  <a:pt x="319280" y="232120"/>
                </a:lnTo>
                <a:lnTo>
                  <a:pt x="276911" y="232120"/>
                </a:lnTo>
                <a:lnTo>
                  <a:pt x="276911" y="232121"/>
                </a:lnTo>
                <a:lnTo>
                  <a:pt x="276634" y="232121"/>
                </a:lnTo>
                <a:lnTo>
                  <a:pt x="276634" y="232120"/>
                </a:lnTo>
                <a:lnTo>
                  <a:pt x="190671" y="232120"/>
                </a:lnTo>
                <a:lnTo>
                  <a:pt x="190671" y="125209"/>
                </a:lnTo>
                <a:lnTo>
                  <a:pt x="276634" y="125209"/>
                </a:lnTo>
                <a:lnTo>
                  <a:pt x="276634" y="106939"/>
                </a:lnTo>
                <a:lnTo>
                  <a:pt x="190671" y="106939"/>
                </a:lnTo>
                <a:lnTo>
                  <a:pt x="190039" y="106939"/>
                </a:lnTo>
                <a:lnTo>
                  <a:pt x="190039" y="41535"/>
                </a:lnTo>
                <a:lnTo>
                  <a:pt x="190671" y="41535"/>
                </a:lnTo>
                <a:lnTo>
                  <a:pt x="233536" y="41535"/>
                </a:lnTo>
                <a:lnTo>
                  <a:pt x="233536" y="66241"/>
                </a:lnTo>
                <a:lnTo>
                  <a:pt x="214298" y="66241"/>
                </a:lnTo>
                <a:lnTo>
                  <a:pt x="214298" y="83769"/>
                </a:lnTo>
                <a:lnTo>
                  <a:pt x="251917" y="83769"/>
                </a:lnTo>
                <a:lnTo>
                  <a:pt x="251917" y="70025"/>
                </a:lnTo>
                <a:lnTo>
                  <a:pt x="251917" y="66241"/>
                </a:lnTo>
                <a:lnTo>
                  <a:pt x="251917" y="24435"/>
                </a:lnTo>
                <a:lnTo>
                  <a:pt x="236243" y="24435"/>
                </a:lnTo>
                <a:lnTo>
                  <a:pt x="233536" y="24435"/>
                </a:lnTo>
                <a:lnTo>
                  <a:pt x="190671" y="24435"/>
                </a:lnTo>
                <a:lnTo>
                  <a:pt x="190039" y="24435"/>
                </a:lnTo>
                <a:lnTo>
                  <a:pt x="172896" y="24435"/>
                </a:lnTo>
                <a:lnTo>
                  <a:pt x="172896" y="41535"/>
                </a:lnTo>
                <a:lnTo>
                  <a:pt x="172896" y="232121"/>
                </a:lnTo>
                <a:lnTo>
                  <a:pt x="129951" y="232121"/>
                </a:lnTo>
                <a:lnTo>
                  <a:pt x="129674" y="232121"/>
                </a:lnTo>
                <a:lnTo>
                  <a:pt x="44287" y="232121"/>
                </a:lnTo>
                <a:lnTo>
                  <a:pt x="44287" y="125210"/>
                </a:lnTo>
                <a:lnTo>
                  <a:pt x="129674" y="125210"/>
                </a:lnTo>
                <a:lnTo>
                  <a:pt x="129674" y="106939"/>
                </a:lnTo>
                <a:lnTo>
                  <a:pt x="44287" y="106939"/>
                </a:lnTo>
                <a:lnTo>
                  <a:pt x="43080" y="106939"/>
                </a:lnTo>
                <a:lnTo>
                  <a:pt x="43080" y="41535"/>
                </a:lnTo>
                <a:lnTo>
                  <a:pt x="44287" y="41535"/>
                </a:lnTo>
                <a:lnTo>
                  <a:pt x="86575" y="41535"/>
                </a:lnTo>
                <a:lnTo>
                  <a:pt x="86575" y="66242"/>
                </a:lnTo>
                <a:lnTo>
                  <a:pt x="67338" y="66242"/>
                </a:lnTo>
                <a:lnTo>
                  <a:pt x="67338" y="83769"/>
                </a:lnTo>
                <a:lnTo>
                  <a:pt x="104958" y="83769"/>
                </a:lnTo>
                <a:lnTo>
                  <a:pt x="104958" y="70025"/>
                </a:lnTo>
                <a:lnTo>
                  <a:pt x="104958" y="66242"/>
                </a:lnTo>
                <a:lnTo>
                  <a:pt x="104958" y="24436"/>
                </a:lnTo>
                <a:lnTo>
                  <a:pt x="89283" y="24436"/>
                </a:lnTo>
                <a:lnTo>
                  <a:pt x="86575" y="24436"/>
                </a:lnTo>
                <a:lnTo>
                  <a:pt x="44287" y="24436"/>
                </a:lnTo>
                <a:lnTo>
                  <a:pt x="43080" y="24436"/>
                </a:lnTo>
                <a:lnTo>
                  <a:pt x="25936" y="24436"/>
                </a:lnTo>
                <a:lnTo>
                  <a:pt x="25936" y="41535"/>
                </a:lnTo>
                <a:lnTo>
                  <a:pt x="25936" y="232121"/>
                </a:lnTo>
                <a:lnTo>
                  <a:pt x="0" y="232121"/>
                </a:lnTo>
                <a:lnTo>
                  <a:pt x="0" y="207714"/>
                </a:lnTo>
                <a:lnTo>
                  <a:pt x="1066" y="207714"/>
                </a:lnTo>
                <a:lnTo>
                  <a:pt x="1066" y="190614"/>
                </a:lnTo>
                <a:lnTo>
                  <a:pt x="1066" y="27"/>
                </a:lnTo>
                <a:lnTo>
                  <a:pt x="44287" y="27"/>
                </a:lnTo>
                <a:lnTo>
                  <a:pt x="129951" y="27"/>
                </a:lnTo>
                <a:lnTo>
                  <a:pt x="129951" y="125210"/>
                </a:lnTo>
                <a:lnTo>
                  <a:pt x="130882" y="125210"/>
                </a:lnTo>
                <a:lnTo>
                  <a:pt x="130882" y="190614"/>
                </a:lnTo>
                <a:lnTo>
                  <a:pt x="129951" y="190614"/>
                </a:lnTo>
                <a:lnTo>
                  <a:pt x="129951" y="207713"/>
                </a:lnTo>
                <a:lnTo>
                  <a:pt x="130882" y="207713"/>
                </a:lnTo>
                <a:lnTo>
                  <a:pt x="148025" y="207713"/>
                </a:lnTo>
                <a:lnTo>
                  <a:pt x="148025" y="190614"/>
                </a:lnTo>
                <a:lnTo>
                  <a:pt x="148025" y="27"/>
                </a:lnTo>
                <a:lnTo>
                  <a:pt x="190671" y="27"/>
                </a:lnTo>
                <a:lnTo>
                  <a:pt x="276911" y="27"/>
                </a:lnTo>
                <a:lnTo>
                  <a:pt x="276911" y="125209"/>
                </a:lnTo>
                <a:lnTo>
                  <a:pt x="277265" y="125209"/>
                </a:lnTo>
                <a:lnTo>
                  <a:pt x="277265" y="190613"/>
                </a:lnTo>
                <a:lnTo>
                  <a:pt x="276911" y="190613"/>
                </a:lnTo>
                <a:lnTo>
                  <a:pt x="276911" y="207712"/>
                </a:lnTo>
                <a:lnTo>
                  <a:pt x="277265" y="207712"/>
                </a:lnTo>
                <a:lnTo>
                  <a:pt x="294409" y="207712"/>
                </a:lnTo>
                <a:lnTo>
                  <a:pt x="294409" y="190613"/>
                </a:lnTo>
                <a:lnTo>
                  <a:pt x="294409" y="26"/>
                </a:lnTo>
                <a:lnTo>
                  <a:pt x="337056" y="26"/>
                </a:lnTo>
                <a:lnTo>
                  <a:pt x="423294" y="26"/>
                </a:lnTo>
                <a:lnTo>
                  <a:pt x="423294" y="125209"/>
                </a:lnTo>
                <a:lnTo>
                  <a:pt x="423650" y="125209"/>
                </a:lnTo>
                <a:lnTo>
                  <a:pt x="423650" y="190613"/>
                </a:lnTo>
                <a:lnTo>
                  <a:pt x="423294" y="190613"/>
                </a:lnTo>
                <a:lnTo>
                  <a:pt x="423294" y="207712"/>
                </a:lnTo>
                <a:lnTo>
                  <a:pt x="423650" y="207712"/>
                </a:lnTo>
                <a:lnTo>
                  <a:pt x="440794" y="207712"/>
                </a:lnTo>
                <a:lnTo>
                  <a:pt x="440794" y="190613"/>
                </a:lnTo>
                <a:lnTo>
                  <a:pt x="440794" y="26"/>
                </a:lnTo>
                <a:lnTo>
                  <a:pt x="483440" y="26"/>
                </a:lnTo>
                <a:lnTo>
                  <a:pt x="569678" y="26"/>
                </a:lnTo>
                <a:lnTo>
                  <a:pt x="569678" y="125208"/>
                </a:lnTo>
                <a:lnTo>
                  <a:pt x="570035" y="125208"/>
                </a:lnTo>
                <a:lnTo>
                  <a:pt x="570035" y="190612"/>
                </a:lnTo>
                <a:lnTo>
                  <a:pt x="569678" y="190612"/>
                </a:lnTo>
                <a:lnTo>
                  <a:pt x="569678" y="207711"/>
                </a:lnTo>
                <a:lnTo>
                  <a:pt x="570035" y="207711"/>
                </a:lnTo>
                <a:lnTo>
                  <a:pt x="587179" y="207711"/>
                </a:lnTo>
                <a:lnTo>
                  <a:pt x="587179" y="190612"/>
                </a:lnTo>
                <a:lnTo>
                  <a:pt x="587179" y="25"/>
                </a:lnTo>
                <a:lnTo>
                  <a:pt x="629824" y="25"/>
                </a:lnTo>
                <a:lnTo>
                  <a:pt x="716064" y="25"/>
                </a:lnTo>
                <a:lnTo>
                  <a:pt x="716064" y="125207"/>
                </a:lnTo>
                <a:lnTo>
                  <a:pt x="716419" y="125207"/>
                </a:lnTo>
                <a:lnTo>
                  <a:pt x="716419" y="190611"/>
                </a:lnTo>
                <a:lnTo>
                  <a:pt x="716064" y="190611"/>
                </a:lnTo>
                <a:lnTo>
                  <a:pt x="716064" y="207710"/>
                </a:lnTo>
                <a:lnTo>
                  <a:pt x="716419" y="207710"/>
                </a:lnTo>
                <a:lnTo>
                  <a:pt x="733563" y="207710"/>
                </a:lnTo>
                <a:lnTo>
                  <a:pt x="733563" y="190611"/>
                </a:lnTo>
                <a:lnTo>
                  <a:pt x="733563" y="24"/>
                </a:lnTo>
                <a:lnTo>
                  <a:pt x="776209" y="24"/>
                </a:lnTo>
                <a:lnTo>
                  <a:pt x="862449" y="24"/>
                </a:lnTo>
                <a:lnTo>
                  <a:pt x="862449" y="125207"/>
                </a:lnTo>
                <a:lnTo>
                  <a:pt x="862804" y="125207"/>
                </a:lnTo>
                <a:lnTo>
                  <a:pt x="862804" y="190611"/>
                </a:lnTo>
                <a:lnTo>
                  <a:pt x="862449" y="190611"/>
                </a:lnTo>
                <a:lnTo>
                  <a:pt x="862449" y="207710"/>
                </a:lnTo>
                <a:lnTo>
                  <a:pt x="862804" y="207710"/>
                </a:lnTo>
                <a:lnTo>
                  <a:pt x="879948" y="207710"/>
                </a:lnTo>
                <a:lnTo>
                  <a:pt x="879948" y="190611"/>
                </a:lnTo>
                <a:lnTo>
                  <a:pt x="879948" y="24"/>
                </a:lnTo>
                <a:lnTo>
                  <a:pt x="922595" y="24"/>
                </a:lnTo>
                <a:lnTo>
                  <a:pt x="1008834" y="24"/>
                </a:lnTo>
                <a:lnTo>
                  <a:pt x="1008834" y="125206"/>
                </a:lnTo>
                <a:lnTo>
                  <a:pt x="1009189" y="125206"/>
                </a:lnTo>
                <a:lnTo>
                  <a:pt x="1009189" y="190610"/>
                </a:lnTo>
                <a:lnTo>
                  <a:pt x="1008834" y="190610"/>
                </a:lnTo>
                <a:lnTo>
                  <a:pt x="1008834" y="207709"/>
                </a:lnTo>
                <a:lnTo>
                  <a:pt x="1009189" y="207709"/>
                </a:lnTo>
                <a:lnTo>
                  <a:pt x="1026333" y="207709"/>
                </a:lnTo>
                <a:lnTo>
                  <a:pt x="1026333" y="190610"/>
                </a:lnTo>
                <a:lnTo>
                  <a:pt x="1026333" y="23"/>
                </a:lnTo>
                <a:lnTo>
                  <a:pt x="1068980" y="23"/>
                </a:lnTo>
                <a:lnTo>
                  <a:pt x="1155218" y="23"/>
                </a:lnTo>
                <a:lnTo>
                  <a:pt x="1155218" y="125206"/>
                </a:lnTo>
                <a:lnTo>
                  <a:pt x="1155574" y="125206"/>
                </a:lnTo>
                <a:lnTo>
                  <a:pt x="1155574" y="190610"/>
                </a:lnTo>
                <a:lnTo>
                  <a:pt x="1155218" y="190610"/>
                </a:lnTo>
                <a:lnTo>
                  <a:pt x="1155218" y="207709"/>
                </a:lnTo>
                <a:lnTo>
                  <a:pt x="1155574" y="207709"/>
                </a:lnTo>
                <a:lnTo>
                  <a:pt x="1172718" y="207709"/>
                </a:lnTo>
                <a:lnTo>
                  <a:pt x="1172718" y="190610"/>
                </a:lnTo>
                <a:lnTo>
                  <a:pt x="1172718" y="23"/>
                </a:lnTo>
                <a:lnTo>
                  <a:pt x="1215364" y="23"/>
                </a:lnTo>
                <a:lnTo>
                  <a:pt x="1301604" y="23"/>
                </a:lnTo>
                <a:lnTo>
                  <a:pt x="1301604" y="125205"/>
                </a:lnTo>
                <a:lnTo>
                  <a:pt x="1301959" y="125205"/>
                </a:lnTo>
                <a:lnTo>
                  <a:pt x="1301959" y="190609"/>
                </a:lnTo>
                <a:lnTo>
                  <a:pt x="1301604" y="190609"/>
                </a:lnTo>
                <a:lnTo>
                  <a:pt x="1301604" y="207708"/>
                </a:lnTo>
                <a:lnTo>
                  <a:pt x="1301959" y="207708"/>
                </a:lnTo>
                <a:lnTo>
                  <a:pt x="1319102" y="207708"/>
                </a:lnTo>
                <a:lnTo>
                  <a:pt x="1319102" y="190609"/>
                </a:lnTo>
                <a:lnTo>
                  <a:pt x="1319102" y="22"/>
                </a:lnTo>
                <a:lnTo>
                  <a:pt x="1361750" y="22"/>
                </a:lnTo>
                <a:lnTo>
                  <a:pt x="1447988" y="22"/>
                </a:lnTo>
                <a:lnTo>
                  <a:pt x="1447988" y="125204"/>
                </a:lnTo>
                <a:lnTo>
                  <a:pt x="1448344" y="125204"/>
                </a:lnTo>
                <a:lnTo>
                  <a:pt x="1448344" y="190608"/>
                </a:lnTo>
                <a:lnTo>
                  <a:pt x="1447988" y="190608"/>
                </a:lnTo>
                <a:lnTo>
                  <a:pt x="1447988" y="207707"/>
                </a:lnTo>
                <a:lnTo>
                  <a:pt x="1448344" y="207707"/>
                </a:lnTo>
                <a:lnTo>
                  <a:pt x="1465488" y="207707"/>
                </a:lnTo>
                <a:lnTo>
                  <a:pt x="1465488" y="190608"/>
                </a:lnTo>
                <a:lnTo>
                  <a:pt x="1465488" y="21"/>
                </a:lnTo>
                <a:lnTo>
                  <a:pt x="1508134" y="21"/>
                </a:lnTo>
                <a:lnTo>
                  <a:pt x="1594373" y="21"/>
                </a:lnTo>
                <a:lnTo>
                  <a:pt x="1594373" y="125204"/>
                </a:lnTo>
                <a:lnTo>
                  <a:pt x="1594729" y="125204"/>
                </a:lnTo>
                <a:lnTo>
                  <a:pt x="1594729" y="190608"/>
                </a:lnTo>
                <a:lnTo>
                  <a:pt x="1594373" y="190608"/>
                </a:lnTo>
                <a:lnTo>
                  <a:pt x="1594373" y="207707"/>
                </a:lnTo>
                <a:lnTo>
                  <a:pt x="1594729" y="207707"/>
                </a:lnTo>
                <a:lnTo>
                  <a:pt x="1611873" y="207707"/>
                </a:lnTo>
                <a:lnTo>
                  <a:pt x="1611873" y="190608"/>
                </a:lnTo>
                <a:lnTo>
                  <a:pt x="1611873" y="21"/>
                </a:lnTo>
                <a:lnTo>
                  <a:pt x="1654520" y="21"/>
                </a:lnTo>
                <a:lnTo>
                  <a:pt x="1740758" y="21"/>
                </a:lnTo>
                <a:lnTo>
                  <a:pt x="1740758" y="125203"/>
                </a:lnTo>
                <a:lnTo>
                  <a:pt x="1741114" y="125203"/>
                </a:lnTo>
                <a:lnTo>
                  <a:pt x="1741114" y="190607"/>
                </a:lnTo>
                <a:lnTo>
                  <a:pt x="1740758" y="190607"/>
                </a:lnTo>
                <a:lnTo>
                  <a:pt x="1740758" y="207706"/>
                </a:lnTo>
                <a:lnTo>
                  <a:pt x="1741114" y="207706"/>
                </a:lnTo>
                <a:lnTo>
                  <a:pt x="1758257" y="207706"/>
                </a:lnTo>
                <a:lnTo>
                  <a:pt x="1758257" y="190607"/>
                </a:lnTo>
                <a:lnTo>
                  <a:pt x="1758257" y="20"/>
                </a:lnTo>
                <a:lnTo>
                  <a:pt x="1800905" y="20"/>
                </a:lnTo>
                <a:lnTo>
                  <a:pt x="1887143" y="20"/>
                </a:lnTo>
                <a:lnTo>
                  <a:pt x="1887143" y="125202"/>
                </a:lnTo>
                <a:lnTo>
                  <a:pt x="1887498" y="125202"/>
                </a:lnTo>
                <a:lnTo>
                  <a:pt x="1887498" y="190606"/>
                </a:lnTo>
                <a:lnTo>
                  <a:pt x="1887143" y="190606"/>
                </a:lnTo>
                <a:lnTo>
                  <a:pt x="1887143" y="207705"/>
                </a:lnTo>
                <a:lnTo>
                  <a:pt x="1887498" y="207705"/>
                </a:lnTo>
                <a:lnTo>
                  <a:pt x="1904642" y="207705"/>
                </a:lnTo>
                <a:lnTo>
                  <a:pt x="1904642" y="190606"/>
                </a:lnTo>
                <a:lnTo>
                  <a:pt x="1904642" y="19"/>
                </a:lnTo>
                <a:lnTo>
                  <a:pt x="1947289" y="19"/>
                </a:lnTo>
                <a:lnTo>
                  <a:pt x="2033528" y="19"/>
                </a:lnTo>
                <a:lnTo>
                  <a:pt x="2033528" y="125202"/>
                </a:lnTo>
                <a:lnTo>
                  <a:pt x="2033884" y="125202"/>
                </a:lnTo>
                <a:lnTo>
                  <a:pt x="2033884" y="190606"/>
                </a:lnTo>
                <a:lnTo>
                  <a:pt x="2033528" y="190606"/>
                </a:lnTo>
                <a:lnTo>
                  <a:pt x="2033528" y="207705"/>
                </a:lnTo>
                <a:lnTo>
                  <a:pt x="2033884" y="207705"/>
                </a:lnTo>
                <a:lnTo>
                  <a:pt x="2051028" y="207705"/>
                </a:lnTo>
                <a:lnTo>
                  <a:pt x="2051028" y="190606"/>
                </a:lnTo>
                <a:lnTo>
                  <a:pt x="2051028" y="19"/>
                </a:lnTo>
                <a:lnTo>
                  <a:pt x="2093674" y="19"/>
                </a:lnTo>
                <a:lnTo>
                  <a:pt x="2179914" y="19"/>
                </a:lnTo>
                <a:lnTo>
                  <a:pt x="2179914" y="125201"/>
                </a:lnTo>
                <a:lnTo>
                  <a:pt x="2180269" y="125201"/>
                </a:lnTo>
                <a:lnTo>
                  <a:pt x="2180269" y="190605"/>
                </a:lnTo>
                <a:lnTo>
                  <a:pt x="2179914" y="190605"/>
                </a:lnTo>
                <a:lnTo>
                  <a:pt x="2179914" y="207704"/>
                </a:lnTo>
                <a:lnTo>
                  <a:pt x="2180269" y="207704"/>
                </a:lnTo>
                <a:lnTo>
                  <a:pt x="2197413" y="207704"/>
                </a:lnTo>
                <a:lnTo>
                  <a:pt x="2197413" y="190605"/>
                </a:lnTo>
                <a:lnTo>
                  <a:pt x="2197413" y="18"/>
                </a:lnTo>
                <a:lnTo>
                  <a:pt x="2240060" y="18"/>
                </a:lnTo>
                <a:lnTo>
                  <a:pt x="2326299" y="18"/>
                </a:lnTo>
                <a:lnTo>
                  <a:pt x="2326299" y="125201"/>
                </a:lnTo>
                <a:lnTo>
                  <a:pt x="2326653" y="125201"/>
                </a:lnTo>
                <a:lnTo>
                  <a:pt x="2326653" y="190605"/>
                </a:lnTo>
                <a:lnTo>
                  <a:pt x="2326299" y="190605"/>
                </a:lnTo>
                <a:lnTo>
                  <a:pt x="2326299" y="207704"/>
                </a:lnTo>
                <a:lnTo>
                  <a:pt x="2326653" y="207704"/>
                </a:lnTo>
                <a:lnTo>
                  <a:pt x="2343798" y="207704"/>
                </a:lnTo>
                <a:lnTo>
                  <a:pt x="2343798" y="190605"/>
                </a:lnTo>
                <a:lnTo>
                  <a:pt x="2343798" y="18"/>
                </a:lnTo>
                <a:lnTo>
                  <a:pt x="2386443" y="18"/>
                </a:lnTo>
                <a:lnTo>
                  <a:pt x="2472684" y="18"/>
                </a:lnTo>
                <a:lnTo>
                  <a:pt x="2472684" y="125200"/>
                </a:lnTo>
                <a:lnTo>
                  <a:pt x="2473038" y="125200"/>
                </a:lnTo>
                <a:lnTo>
                  <a:pt x="2473038" y="190604"/>
                </a:lnTo>
                <a:lnTo>
                  <a:pt x="2472684" y="190604"/>
                </a:lnTo>
                <a:lnTo>
                  <a:pt x="2472684" y="207703"/>
                </a:lnTo>
                <a:lnTo>
                  <a:pt x="2473038" y="207703"/>
                </a:lnTo>
                <a:lnTo>
                  <a:pt x="2490182" y="207703"/>
                </a:lnTo>
                <a:lnTo>
                  <a:pt x="2490182" y="190604"/>
                </a:lnTo>
                <a:lnTo>
                  <a:pt x="2490182" y="17"/>
                </a:lnTo>
                <a:lnTo>
                  <a:pt x="2532829" y="17"/>
                </a:lnTo>
                <a:lnTo>
                  <a:pt x="2619066" y="17"/>
                </a:lnTo>
                <a:lnTo>
                  <a:pt x="2619066" y="125199"/>
                </a:lnTo>
                <a:lnTo>
                  <a:pt x="2619423" y="125199"/>
                </a:lnTo>
                <a:lnTo>
                  <a:pt x="2619423" y="190603"/>
                </a:lnTo>
                <a:lnTo>
                  <a:pt x="2619066" y="190603"/>
                </a:lnTo>
                <a:lnTo>
                  <a:pt x="2619066" y="207702"/>
                </a:lnTo>
                <a:lnTo>
                  <a:pt x="2619423" y="207702"/>
                </a:lnTo>
                <a:lnTo>
                  <a:pt x="2636567" y="207702"/>
                </a:lnTo>
                <a:lnTo>
                  <a:pt x="2636567" y="190603"/>
                </a:lnTo>
                <a:lnTo>
                  <a:pt x="2636567" y="16"/>
                </a:lnTo>
                <a:lnTo>
                  <a:pt x="2679213" y="16"/>
                </a:lnTo>
                <a:lnTo>
                  <a:pt x="2765452" y="16"/>
                </a:lnTo>
                <a:lnTo>
                  <a:pt x="2765452" y="125198"/>
                </a:lnTo>
                <a:lnTo>
                  <a:pt x="2765808" y="125198"/>
                </a:lnTo>
                <a:lnTo>
                  <a:pt x="2765808" y="190602"/>
                </a:lnTo>
                <a:lnTo>
                  <a:pt x="2765452" y="190602"/>
                </a:lnTo>
                <a:lnTo>
                  <a:pt x="2765452" y="207701"/>
                </a:lnTo>
                <a:lnTo>
                  <a:pt x="2765808" y="207701"/>
                </a:lnTo>
                <a:lnTo>
                  <a:pt x="2782952" y="207701"/>
                </a:lnTo>
                <a:lnTo>
                  <a:pt x="2782952" y="190602"/>
                </a:lnTo>
                <a:lnTo>
                  <a:pt x="2782952" y="15"/>
                </a:lnTo>
                <a:lnTo>
                  <a:pt x="2825597" y="15"/>
                </a:lnTo>
                <a:lnTo>
                  <a:pt x="2911837" y="15"/>
                </a:lnTo>
                <a:lnTo>
                  <a:pt x="2911837" y="125198"/>
                </a:lnTo>
                <a:lnTo>
                  <a:pt x="2912192" y="125198"/>
                </a:lnTo>
                <a:lnTo>
                  <a:pt x="2912192" y="190602"/>
                </a:lnTo>
                <a:lnTo>
                  <a:pt x="2911837" y="190602"/>
                </a:lnTo>
                <a:lnTo>
                  <a:pt x="2911837" y="207701"/>
                </a:lnTo>
                <a:lnTo>
                  <a:pt x="2912192" y="207701"/>
                </a:lnTo>
                <a:lnTo>
                  <a:pt x="2929336" y="207701"/>
                </a:lnTo>
                <a:lnTo>
                  <a:pt x="2929336" y="190602"/>
                </a:lnTo>
                <a:lnTo>
                  <a:pt x="2929336" y="15"/>
                </a:lnTo>
                <a:lnTo>
                  <a:pt x="2971983" y="15"/>
                </a:lnTo>
                <a:lnTo>
                  <a:pt x="3058221" y="15"/>
                </a:lnTo>
                <a:lnTo>
                  <a:pt x="3058221" y="125198"/>
                </a:lnTo>
                <a:lnTo>
                  <a:pt x="3058578" y="125198"/>
                </a:lnTo>
                <a:lnTo>
                  <a:pt x="3058578" y="190602"/>
                </a:lnTo>
                <a:lnTo>
                  <a:pt x="3058221" y="190602"/>
                </a:lnTo>
                <a:lnTo>
                  <a:pt x="3058221" y="207701"/>
                </a:lnTo>
                <a:lnTo>
                  <a:pt x="3058578" y="207701"/>
                </a:lnTo>
                <a:lnTo>
                  <a:pt x="3075722" y="207701"/>
                </a:lnTo>
                <a:lnTo>
                  <a:pt x="3075722" y="190602"/>
                </a:lnTo>
                <a:lnTo>
                  <a:pt x="3075722" y="15"/>
                </a:lnTo>
                <a:lnTo>
                  <a:pt x="3118368" y="15"/>
                </a:lnTo>
                <a:lnTo>
                  <a:pt x="3204607" y="15"/>
                </a:lnTo>
                <a:lnTo>
                  <a:pt x="3204607" y="125197"/>
                </a:lnTo>
                <a:lnTo>
                  <a:pt x="3204963" y="125197"/>
                </a:lnTo>
                <a:lnTo>
                  <a:pt x="3204963" y="190601"/>
                </a:lnTo>
                <a:lnTo>
                  <a:pt x="3204607" y="190601"/>
                </a:lnTo>
                <a:lnTo>
                  <a:pt x="3204607" y="207700"/>
                </a:lnTo>
                <a:lnTo>
                  <a:pt x="3204963" y="207700"/>
                </a:lnTo>
                <a:lnTo>
                  <a:pt x="3222107" y="207700"/>
                </a:lnTo>
                <a:lnTo>
                  <a:pt x="3222107" y="190601"/>
                </a:lnTo>
                <a:lnTo>
                  <a:pt x="3222107" y="14"/>
                </a:lnTo>
                <a:lnTo>
                  <a:pt x="3264752" y="14"/>
                </a:lnTo>
                <a:lnTo>
                  <a:pt x="3350992" y="14"/>
                </a:lnTo>
                <a:lnTo>
                  <a:pt x="3350992" y="125196"/>
                </a:lnTo>
                <a:lnTo>
                  <a:pt x="3351347" y="125196"/>
                </a:lnTo>
                <a:lnTo>
                  <a:pt x="3351347" y="190600"/>
                </a:lnTo>
                <a:lnTo>
                  <a:pt x="3350992" y="190600"/>
                </a:lnTo>
                <a:lnTo>
                  <a:pt x="3350992" y="207699"/>
                </a:lnTo>
                <a:lnTo>
                  <a:pt x="3351347" y="207699"/>
                </a:lnTo>
                <a:lnTo>
                  <a:pt x="3368491" y="207699"/>
                </a:lnTo>
                <a:lnTo>
                  <a:pt x="3368491" y="190600"/>
                </a:lnTo>
                <a:lnTo>
                  <a:pt x="3368491" y="13"/>
                </a:lnTo>
                <a:lnTo>
                  <a:pt x="3411138" y="13"/>
                </a:lnTo>
                <a:lnTo>
                  <a:pt x="3497376" y="13"/>
                </a:lnTo>
                <a:lnTo>
                  <a:pt x="3497376" y="125195"/>
                </a:lnTo>
                <a:lnTo>
                  <a:pt x="3497733" y="125195"/>
                </a:lnTo>
                <a:lnTo>
                  <a:pt x="3497733" y="190599"/>
                </a:lnTo>
                <a:lnTo>
                  <a:pt x="3497376" y="190599"/>
                </a:lnTo>
                <a:lnTo>
                  <a:pt x="3497376" y="207698"/>
                </a:lnTo>
                <a:lnTo>
                  <a:pt x="3497733" y="207698"/>
                </a:lnTo>
                <a:lnTo>
                  <a:pt x="3514877" y="207698"/>
                </a:lnTo>
                <a:lnTo>
                  <a:pt x="3514877" y="190599"/>
                </a:lnTo>
                <a:lnTo>
                  <a:pt x="3514877" y="12"/>
                </a:lnTo>
                <a:lnTo>
                  <a:pt x="3557523" y="12"/>
                </a:lnTo>
                <a:lnTo>
                  <a:pt x="3643762" y="12"/>
                </a:lnTo>
                <a:lnTo>
                  <a:pt x="3643762" y="125195"/>
                </a:lnTo>
                <a:lnTo>
                  <a:pt x="3644118" y="125195"/>
                </a:lnTo>
                <a:lnTo>
                  <a:pt x="3644118" y="190599"/>
                </a:lnTo>
                <a:lnTo>
                  <a:pt x="3643762" y="190599"/>
                </a:lnTo>
                <a:lnTo>
                  <a:pt x="3643762" y="207698"/>
                </a:lnTo>
                <a:lnTo>
                  <a:pt x="3644118" y="207698"/>
                </a:lnTo>
                <a:lnTo>
                  <a:pt x="3661262" y="207698"/>
                </a:lnTo>
                <a:lnTo>
                  <a:pt x="3661262" y="190599"/>
                </a:lnTo>
                <a:lnTo>
                  <a:pt x="3661262" y="12"/>
                </a:lnTo>
                <a:lnTo>
                  <a:pt x="3703907" y="12"/>
                </a:lnTo>
                <a:lnTo>
                  <a:pt x="3790147" y="12"/>
                </a:lnTo>
                <a:lnTo>
                  <a:pt x="3790147" y="125195"/>
                </a:lnTo>
                <a:lnTo>
                  <a:pt x="3790502" y="125195"/>
                </a:lnTo>
                <a:lnTo>
                  <a:pt x="3790502" y="190599"/>
                </a:lnTo>
                <a:lnTo>
                  <a:pt x="3790147" y="190599"/>
                </a:lnTo>
                <a:lnTo>
                  <a:pt x="3790147" y="207698"/>
                </a:lnTo>
                <a:lnTo>
                  <a:pt x="3790502" y="207698"/>
                </a:lnTo>
                <a:lnTo>
                  <a:pt x="3807646" y="207698"/>
                </a:lnTo>
                <a:lnTo>
                  <a:pt x="3807646" y="190599"/>
                </a:lnTo>
                <a:lnTo>
                  <a:pt x="3807646" y="12"/>
                </a:lnTo>
                <a:lnTo>
                  <a:pt x="3850292" y="12"/>
                </a:lnTo>
                <a:lnTo>
                  <a:pt x="3936531" y="12"/>
                </a:lnTo>
                <a:lnTo>
                  <a:pt x="3936531" y="125194"/>
                </a:lnTo>
                <a:lnTo>
                  <a:pt x="3936887" y="125194"/>
                </a:lnTo>
                <a:lnTo>
                  <a:pt x="3936887" y="190598"/>
                </a:lnTo>
                <a:lnTo>
                  <a:pt x="3936531" y="190598"/>
                </a:lnTo>
                <a:lnTo>
                  <a:pt x="3936531" y="207697"/>
                </a:lnTo>
                <a:lnTo>
                  <a:pt x="3936887" y="207697"/>
                </a:lnTo>
                <a:lnTo>
                  <a:pt x="3954031" y="207697"/>
                </a:lnTo>
                <a:lnTo>
                  <a:pt x="3954031" y="190598"/>
                </a:lnTo>
                <a:lnTo>
                  <a:pt x="3954031" y="11"/>
                </a:lnTo>
                <a:lnTo>
                  <a:pt x="3992262" y="11"/>
                </a:lnTo>
                <a:lnTo>
                  <a:pt x="4082916" y="11"/>
                </a:lnTo>
                <a:lnTo>
                  <a:pt x="4082916" y="207696"/>
                </a:lnTo>
                <a:lnTo>
                  <a:pt x="4096001" y="207696"/>
                </a:lnTo>
                <a:lnTo>
                  <a:pt x="4096001" y="190597"/>
                </a:lnTo>
                <a:lnTo>
                  <a:pt x="4096001" y="10"/>
                </a:lnTo>
                <a:lnTo>
                  <a:pt x="4134232" y="10"/>
                </a:lnTo>
                <a:lnTo>
                  <a:pt x="4224886" y="10"/>
                </a:lnTo>
                <a:lnTo>
                  <a:pt x="4224886" y="207695"/>
                </a:lnTo>
                <a:lnTo>
                  <a:pt x="4237971" y="207695"/>
                </a:lnTo>
                <a:lnTo>
                  <a:pt x="4237971" y="190596"/>
                </a:lnTo>
                <a:lnTo>
                  <a:pt x="4237971" y="9"/>
                </a:lnTo>
                <a:lnTo>
                  <a:pt x="4276202" y="9"/>
                </a:lnTo>
                <a:lnTo>
                  <a:pt x="4366856" y="9"/>
                </a:lnTo>
                <a:lnTo>
                  <a:pt x="4366856" y="207694"/>
                </a:lnTo>
                <a:lnTo>
                  <a:pt x="4379941" y="207694"/>
                </a:lnTo>
                <a:lnTo>
                  <a:pt x="4379941" y="190595"/>
                </a:lnTo>
                <a:lnTo>
                  <a:pt x="4379941" y="8"/>
                </a:lnTo>
                <a:lnTo>
                  <a:pt x="4418172" y="8"/>
                </a:lnTo>
                <a:lnTo>
                  <a:pt x="4508826" y="8"/>
                </a:lnTo>
                <a:lnTo>
                  <a:pt x="4508826" y="207694"/>
                </a:lnTo>
                <a:lnTo>
                  <a:pt x="4521911" y="207694"/>
                </a:lnTo>
                <a:lnTo>
                  <a:pt x="4521911" y="190595"/>
                </a:lnTo>
                <a:lnTo>
                  <a:pt x="4521911" y="8"/>
                </a:lnTo>
                <a:lnTo>
                  <a:pt x="4560142" y="8"/>
                </a:lnTo>
                <a:lnTo>
                  <a:pt x="4650796" y="8"/>
                </a:lnTo>
                <a:lnTo>
                  <a:pt x="4650796" y="207693"/>
                </a:lnTo>
                <a:lnTo>
                  <a:pt x="4663881" y="207693"/>
                </a:lnTo>
                <a:lnTo>
                  <a:pt x="4663881" y="190594"/>
                </a:lnTo>
                <a:lnTo>
                  <a:pt x="4663881" y="7"/>
                </a:lnTo>
                <a:lnTo>
                  <a:pt x="4702112" y="7"/>
                </a:lnTo>
                <a:lnTo>
                  <a:pt x="4792766" y="7"/>
                </a:lnTo>
                <a:lnTo>
                  <a:pt x="4792766" y="207692"/>
                </a:lnTo>
                <a:lnTo>
                  <a:pt x="4805851" y="207692"/>
                </a:lnTo>
                <a:lnTo>
                  <a:pt x="4805851" y="190593"/>
                </a:lnTo>
                <a:lnTo>
                  <a:pt x="4805851" y="6"/>
                </a:lnTo>
                <a:lnTo>
                  <a:pt x="4844082" y="6"/>
                </a:lnTo>
                <a:lnTo>
                  <a:pt x="4934736" y="6"/>
                </a:lnTo>
                <a:lnTo>
                  <a:pt x="4934736" y="207691"/>
                </a:lnTo>
                <a:lnTo>
                  <a:pt x="4947821" y="207691"/>
                </a:lnTo>
                <a:lnTo>
                  <a:pt x="4947821" y="190592"/>
                </a:lnTo>
                <a:lnTo>
                  <a:pt x="4947821" y="5"/>
                </a:lnTo>
                <a:lnTo>
                  <a:pt x="4986052" y="5"/>
                </a:lnTo>
                <a:lnTo>
                  <a:pt x="5076706" y="5"/>
                </a:lnTo>
                <a:lnTo>
                  <a:pt x="5076706" y="207690"/>
                </a:lnTo>
                <a:lnTo>
                  <a:pt x="5089791" y="207690"/>
                </a:lnTo>
                <a:lnTo>
                  <a:pt x="5089791" y="190591"/>
                </a:lnTo>
                <a:lnTo>
                  <a:pt x="5089791" y="4"/>
                </a:lnTo>
                <a:lnTo>
                  <a:pt x="5128022" y="4"/>
                </a:lnTo>
                <a:lnTo>
                  <a:pt x="5218676" y="4"/>
                </a:lnTo>
                <a:lnTo>
                  <a:pt x="5218676" y="207690"/>
                </a:lnTo>
                <a:lnTo>
                  <a:pt x="5231761" y="207690"/>
                </a:lnTo>
                <a:lnTo>
                  <a:pt x="5231761" y="190591"/>
                </a:lnTo>
                <a:lnTo>
                  <a:pt x="5231761" y="4"/>
                </a:lnTo>
                <a:lnTo>
                  <a:pt x="5269992" y="4"/>
                </a:lnTo>
                <a:lnTo>
                  <a:pt x="5360646" y="4"/>
                </a:lnTo>
                <a:lnTo>
                  <a:pt x="5360646" y="207689"/>
                </a:lnTo>
                <a:lnTo>
                  <a:pt x="5373731" y="207689"/>
                </a:lnTo>
                <a:lnTo>
                  <a:pt x="5373731" y="190590"/>
                </a:lnTo>
                <a:lnTo>
                  <a:pt x="5373731" y="3"/>
                </a:lnTo>
                <a:lnTo>
                  <a:pt x="5411963" y="3"/>
                </a:lnTo>
                <a:lnTo>
                  <a:pt x="5502616" y="3"/>
                </a:lnTo>
                <a:lnTo>
                  <a:pt x="5502616" y="207688"/>
                </a:lnTo>
                <a:lnTo>
                  <a:pt x="5515702" y="207688"/>
                </a:lnTo>
                <a:lnTo>
                  <a:pt x="5515702" y="190589"/>
                </a:lnTo>
                <a:lnTo>
                  <a:pt x="5515702" y="2"/>
                </a:lnTo>
                <a:lnTo>
                  <a:pt x="5553933" y="2"/>
                </a:lnTo>
                <a:lnTo>
                  <a:pt x="5644587" y="2"/>
                </a:lnTo>
                <a:lnTo>
                  <a:pt x="5644587" y="207687"/>
                </a:lnTo>
                <a:lnTo>
                  <a:pt x="5657672" y="207687"/>
                </a:lnTo>
                <a:lnTo>
                  <a:pt x="5657672" y="190588"/>
                </a:lnTo>
                <a:lnTo>
                  <a:pt x="5657672" y="1"/>
                </a:lnTo>
                <a:lnTo>
                  <a:pt x="5695903" y="1"/>
                </a:lnTo>
                <a:lnTo>
                  <a:pt x="5786557" y="1"/>
                </a:lnTo>
                <a:lnTo>
                  <a:pt x="5786557" y="207687"/>
                </a:lnTo>
                <a:lnTo>
                  <a:pt x="5799642" y="207687"/>
                </a:lnTo>
                <a:lnTo>
                  <a:pt x="5799642" y="190588"/>
                </a:lnTo>
                <a:lnTo>
                  <a:pt x="5799642" y="1"/>
                </a:lnTo>
                <a:lnTo>
                  <a:pt x="5837873" y="1"/>
                </a:lnTo>
                <a:lnTo>
                  <a:pt x="5928527" y="1"/>
                </a:lnTo>
                <a:lnTo>
                  <a:pt x="5928527" y="207686"/>
                </a:lnTo>
                <a:lnTo>
                  <a:pt x="5941612" y="207686"/>
                </a:lnTo>
                <a:lnTo>
                  <a:pt x="5941612" y="190587"/>
                </a:lnTo>
                <a:lnTo>
                  <a:pt x="5941612" y="0"/>
                </a:lnTo>
                <a:close/>
              </a:path>
            </a:pathLst>
          </a:custGeom>
          <a:solidFill>
            <a:srgbClr val="c2d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39"/>
          <p:cNvSpPr/>
          <p:nvPr/>
        </p:nvSpPr>
        <p:spPr>
          <a:xfrm flipH="1">
            <a:off x="961560" y="5830920"/>
            <a:ext cx="7688520" cy="0"/>
          </a:xfrm>
          <a:prstGeom prst="line">
            <a:avLst/>
          </a:prstGeom>
          <a:ln w="1440">
            <a:solidFill>
              <a:srgbClr val="c2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40"/>
          <p:cNvSpPr/>
          <p:nvPr/>
        </p:nvSpPr>
        <p:spPr>
          <a:xfrm>
            <a:off x="971640" y="1297080"/>
            <a:ext cx="7670880" cy="237960"/>
          </a:xfrm>
          <a:custGeom>
            <a:avLst/>
            <a:gdLst/>
            <a:ahLst/>
            <a:rect l="l" t="t" r="r" b="b"/>
            <a:pathLst>
              <a:path w="7670129" h="236901">
                <a:moveTo>
                  <a:pt x="69004" y="148380"/>
                </a:moveTo>
                <a:lnTo>
                  <a:pt x="69004" y="162123"/>
                </a:lnTo>
                <a:lnTo>
                  <a:pt x="69004" y="165907"/>
                </a:lnTo>
                <a:lnTo>
                  <a:pt x="69004" y="207713"/>
                </a:lnTo>
                <a:lnTo>
                  <a:pt x="84679" y="207713"/>
                </a:lnTo>
                <a:lnTo>
                  <a:pt x="87385" y="207713"/>
                </a:lnTo>
                <a:lnTo>
                  <a:pt x="129674" y="207713"/>
                </a:lnTo>
                <a:lnTo>
                  <a:pt x="129674" y="190614"/>
                </a:lnTo>
                <a:lnTo>
                  <a:pt x="87385" y="190614"/>
                </a:lnTo>
                <a:lnTo>
                  <a:pt x="87385" y="165907"/>
                </a:lnTo>
                <a:lnTo>
                  <a:pt x="106623" y="165907"/>
                </a:lnTo>
                <a:lnTo>
                  <a:pt x="106623" y="148380"/>
                </a:lnTo>
                <a:lnTo>
                  <a:pt x="69004" y="148380"/>
                </a:lnTo>
                <a:close/>
                <a:moveTo>
                  <a:pt x="361773" y="148379"/>
                </a:moveTo>
                <a:lnTo>
                  <a:pt x="361773" y="162122"/>
                </a:lnTo>
                <a:lnTo>
                  <a:pt x="361773" y="165906"/>
                </a:lnTo>
                <a:lnTo>
                  <a:pt x="361773" y="207712"/>
                </a:lnTo>
                <a:lnTo>
                  <a:pt x="377447" y="207712"/>
                </a:lnTo>
                <a:lnTo>
                  <a:pt x="380155" y="207712"/>
                </a:lnTo>
                <a:lnTo>
                  <a:pt x="423018" y="207712"/>
                </a:lnTo>
                <a:lnTo>
                  <a:pt x="423018" y="190613"/>
                </a:lnTo>
                <a:lnTo>
                  <a:pt x="380155" y="190613"/>
                </a:lnTo>
                <a:lnTo>
                  <a:pt x="380155" y="165906"/>
                </a:lnTo>
                <a:lnTo>
                  <a:pt x="399392" y="165906"/>
                </a:lnTo>
                <a:lnTo>
                  <a:pt x="399392" y="148379"/>
                </a:lnTo>
                <a:lnTo>
                  <a:pt x="361773" y="148379"/>
                </a:lnTo>
                <a:close/>
                <a:moveTo>
                  <a:pt x="215388" y="148379"/>
                </a:moveTo>
                <a:lnTo>
                  <a:pt x="215388" y="162122"/>
                </a:lnTo>
                <a:lnTo>
                  <a:pt x="215388" y="165906"/>
                </a:lnTo>
                <a:lnTo>
                  <a:pt x="215388" y="207712"/>
                </a:lnTo>
                <a:lnTo>
                  <a:pt x="231062" y="207712"/>
                </a:lnTo>
                <a:lnTo>
                  <a:pt x="233770" y="207712"/>
                </a:lnTo>
                <a:lnTo>
                  <a:pt x="276634" y="207712"/>
                </a:lnTo>
                <a:lnTo>
                  <a:pt x="276634" y="190613"/>
                </a:lnTo>
                <a:lnTo>
                  <a:pt x="233770" y="190613"/>
                </a:lnTo>
                <a:lnTo>
                  <a:pt x="233770" y="165906"/>
                </a:lnTo>
                <a:lnTo>
                  <a:pt x="253007" y="165906"/>
                </a:lnTo>
                <a:lnTo>
                  <a:pt x="253007" y="148379"/>
                </a:lnTo>
                <a:lnTo>
                  <a:pt x="215388" y="148379"/>
                </a:lnTo>
                <a:close/>
                <a:moveTo>
                  <a:pt x="508157" y="148378"/>
                </a:moveTo>
                <a:lnTo>
                  <a:pt x="508157" y="162121"/>
                </a:lnTo>
                <a:lnTo>
                  <a:pt x="508157" y="165905"/>
                </a:lnTo>
                <a:lnTo>
                  <a:pt x="508157" y="207711"/>
                </a:lnTo>
                <a:lnTo>
                  <a:pt x="523832" y="207711"/>
                </a:lnTo>
                <a:lnTo>
                  <a:pt x="526539" y="207711"/>
                </a:lnTo>
                <a:lnTo>
                  <a:pt x="569401" y="207711"/>
                </a:lnTo>
                <a:lnTo>
                  <a:pt x="569401" y="190612"/>
                </a:lnTo>
                <a:lnTo>
                  <a:pt x="526539" y="190612"/>
                </a:lnTo>
                <a:lnTo>
                  <a:pt x="526539" y="165905"/>
                </a:lnTo>
                <a:lnTo>
                  <a:pt x="545777" y="165905"/>
                </a:lnTo>
                <a:lnTo>
                  <a:pt x="545777" y="148378"/>
                </a:lnTo>
                <a:lnTo>
                  <a:pt x="508157" y="148378"/>
                </a:lnTo>
                <a:close/>
                <a:moveTo>
                  <a:pt x="800926" y="148377"/>
                </a:moveTo>
                <a:lnTo>
                  <a:pt x="800926" y="162120"/>
                </a:lnTo>
                <a:lnTo>
                  <a:pt x="800926" y="165904"/>
                </a:lnTo>
                <a:lnTo>
                  <a:pt x="800926" y="207710"/>
                </a:lnTo>
                <a:lnTo>
                  <a:pt x="816601" y="207710"/>
                </a:lnTo>
                <a:lnTo>
                  <a:pt x="819309" y="207710"/>
                </a:lnTo>
                <a:lnTo>
                  <a:pt x="862171" y="207710"/>
                </a:lnTo>
                <a:lnTo>
                  <a:pt x="862171" y="190611"/>
                </a:lnTo>
                <a:lnTo>
                  <a:pt x="819309" y="190611"/>
                </a:lnTo>
                <a:lnTo>
                  <a:pt x="819309" y="165904"/>
                </a:lnTo>
                <a:lnTo>
                  <a:pt x="838545" y="165904"/>
                </a:lnTo>
                <a:lnTo>
                  <a:pt x="838545" y="148377"/>
                </a:lnTo>
                <a:lnTo>
                  <a:pt x="800926" y="148377"/>
                </a:lnTo>
                <a:close/>
                <a:moveTo>
                  <a:pt x="654541" y="148377"/>
                </a:moveTo>
                <a:lnTo>
                  <a:pt x="654541" y="162120"/>
                </a:lnTo>
                <a:lnTo>
                  <a:pt x="654541" y="165904"/>
                </a:lnTo>
                <a:lnTo>
                  <a:pt x="654541" y="207710"/>
                </a:lnTo>
                <a:lnTo>
                  <a:pt x="670216" y="207710"/>
                </a:lnTo>
                <a:lnTo>
                  <a:pt x="672923" y="207710"/>
                </a:lnTo>
                <a:lnTo>
                  <a:pt x="715787" y="207710"/>
                </a:lnTo>
                <a:lnTo>
                  <a:pt x="715787" y="190611"/>
                </a:lnTo>
                <a:lnTo>
                  <a:pt x="672923" y="190611"/>
                </a:lnTo>
                <a:lnTo>
                  <a:pt x="672923" y="165904"/>
                </a:lnTo>
                <a:lnTo>
                  <a:pt x="692160" y="165904"/>
                </a:lnTo>
                <a:lnTo>
                  <a:pt x="692160" y="148377"/>
                </a:lnTo>
                <a:lnTo>
                  <a:pt x="654541" y="148377"/>
                </a:lnTo>
                <a:close/>
                <a:moveTo>
                  <a:pt x="1093696" y="148376"/>
                </a:moveTo>
                <a:lnTo>
                  <a:pt x="1093696" y="162119"/>
                </a:lnTo>
                <a:lnTo>
                  <a:pt x="1093696" y="165903"/>
                </a:lnTo>
                <a:lnTo>
                  <a:pt x="1093696" y="207709"/>
                </a:lnTo>
                <a:lnTo>
                  <a:pt x="1109371" y="207709"/>
                </a:lnTo>
                <a:lnTo>
                  <a:pt x="1112079" y="207709"/>
                </a:lnTo>
                <a:lnTo>
                  <a:pt x="1154942" y="207709"/>
                </a:lnTo>
                <a:lnTo>
                  <a:pt x="1154942" y="190610"/>
                </a:lnTo>
                <a:lnTo>
                  <a:pt x="1112079" y="190610"/>
                </a:lnTo>
                <a:lnTo>
                  <a:pt x="1112079" y="165903"/>
                </a:lnTo>
                <a:lnTo>
                  <a:pt x="1131316" y="165903"/>
                </a:lnTo>
                <a:lnTo>
                  <a:pt x="1131316" y="148376"/>
                </a:lnTo>
                <a:lnTo>
                  <a:pt x="1093696" y="148376"/>
                </a:lnTo>
                <a:close/>
                <a:moveTo>
                  <a:pt x="947311" y="148376"/>
                </a:moveTo>
                <a:lnTo>
                  <a:pt x="947311" y="162119"/>
                </a:lnTo>
                <a:lnTo>
                  <a:pt x="947311" y="165903"/>
                </a:lnTo>
                <a:lnTo>
                  <a:pt x="947311" y="207709"/>
                </a:lnTo>
                <a:lnTo>
                  <a:pt x="962986" y="207709"/>
                </a:lnTo>
                <a:lnTo>
                  <a:pt x="965693" y="207709"/>
                </a:lnTo>
                <a:lnTo>
                  <a:pt x="1008557" y="207709"/>
                </a:lnTo>
                <a:lnTo>
                  <a:pt x="1008557" y="190610"/>
                </a:lnTo>
                <a:lnTo>
                  <a:pt x="965693" y="190610"/>
                </a:lnTo>
                <a:lnTo>
                  <a:pt x="965693" y="165903"/>
                </a:lnTo>
                <a:lnTo>
                  <a:pt x="984931" y="165903"/>
                </a:lnTo>
                <a:lnTo>
                  <a:pt x="984931" y="148376"/>
                </a:lnTo>
                <a:lnTo>
                  <a:pt x="947311" y="148376"/>
                </a:lnTo>
                <a:close/>
                <a:moveTo>
                  <a:pt x="1240081" y="148375"/>
                </a:moveTo>
                <a:lnTo>
                  <a:pt x="1240081" y="162118"/>
                </a:lnTo>
                <a:lnTo>
                  <a:pt x="1240081" y="165902"/>
                </a:lnTo>
                <a:lnTo>
                  <a:pt x="1240081" y="207708"/>
                </a:lnTo>
                <a:lnTo>
                  <a:pt x="1255756" y="207708"/>
                </a:lnTo>
                <a:lnTo>
                  <a:pt x="1258464" y="207708"/>
                </a:lnTo>
                <a:lnTo>
                  <a:pt x="1301326" y="207708"/>
                </a:lnTo>
                <a:lnTo>
                  <a:pt x="1301326" y="190609"/>
                </a:lnTo>
                <a:lnTo>
                  <a:pt x="1258464" y="190609"/>
                </a:lnTo>
                <a:lnTo>
                  <a:pt x="1258464" y="165902"/>
                </a:lnTo>
                <a:lnTo>
                  <a:pt x="1277701" y="165902"/>
                </a:lnTo>
                <a:lnTo>
                  <a:pt x="1277701" y="148375"/>
                </a:lnTo>
                <a:lnTo>
                  <a:pt x="1240081" y="148375"/>
                </a:lnTo>
                <a:close/>
                <a:moveTo>
                  <a:pt x="1532851" y="148374"/>
                </a:moveTo>
                <a:lnTo>
                  <a:pt x="1532851" y="162117"/>
                </a:lnTo>
                <a:lnTo>
                  <a:pt x="1532851" y="165901"/>
                </a:lnTo>
                <a:lnTo>
                  <a:pt x="1532851" y="207707"/>
                </a:lnTo>
                <a:lnTo>
                  <a:pt x="1548526" y="207707"/>
                </a:lnTo>
                <a:lnTo>
                  <a:pt x="1551233" y="207707"/>
                </a:lnTo>
                <a:lnTo>
                  <a:pt x="1594096" y="207707"/>
                </a:lnTo>
                <a:lnTo>
                  <a:pt x="1594096" y="190608"/>
                </a:lnTo>
                <a:lnTo>
                  <a:pt x="1551233" y="190608"/>
                </a:lnTo>
                <a:lnTo>
                  <a:pt x="1551233" y="165901"/>
                </a:lnTo>
                <a:lnTo>
                  <a:pt x="1570471" y="165901"/>
                </a:lnTo>
                <a:lnTo>
                  <a:pt x="1570471" y="148374"/>
                </a:lnTo>
                <a:lnTo>
                  <a:pt x="1532851" y="148374"/>
                </a:lnTo>
                <a:close/>
                <a:moveTo>
                  <a:pt x="1386467" y="148374"/>
                </a:moveTo>
                <a:lnTo>
                  <a:pt x="1386467" y="162117"/>
                </a:lnTo>
                <a:lnTo>
                  <a:pt x="1386467" y="165901"/>
                </a:lnTo>
                <a:lnTo>
                  <a:pt x="1386467" y="207707"/>
                </a:lnTo>
                <a:lnTo>
                  <a:pt x="1402141" y="207707"/>
                </a:lnTo>
                <a:lnTo>
                  <a:pt x="1404849" y="207707"/>
                </a:lnTo>
                <a:lnTo>
                  <a:pt x="1447711" y="207707"/>
                </a:lnTo>
                <a:lnTo>
                  <a:pt x="1447711" y="190608"/>
                </a:lnTo>
                <a:lnTo>
                  <a:pt x="1404849" y="190608"/>
                </a:lnTo>
                <a:lnTo>
                  <a:pt x="1404849" y="165901"/>
                </a:lnTo>
                <a:lnTo>
                  <a:pt x="1424086" y="165901"/>
                </a:lnTo>
                <a:lnTo>
                  <a:pt x="1424086" y="148374"/>
                </a:lnTo>
                <a:lnTo>
                  <a:pt x="1386467" y="148374"/>
                </a:lnTo>
                <a:close/>
                <a:moveTo>
                  <a:pt x="1679236" y="148373"/>
                </a:moveTo>
                <a:lnTo>
                  <a:pt x="1679236" y="162116"/>
                </a:lnTo>
                <a:lnTo>
                  <a:pt x="1679236" y="165900"/>
                </a:lnTo>
                <a:lnTo>
                  <a:pt x="1679236" y="207706"/>
                </a:lnTo>
                <a:lnTo>
                  <a:pt x="1694911" y="207706"/>
                </a:lnTo>
                <a:lnTo>
                  <a:pt x="1697618" y="207706"/>
                </a:lnTo>
                <a:lnTo>
                  <a:pt x="1740482" y="207706"/>
                </a:lnTo>
                <a:lnTo>
                  <a:pt x="1740482" y="190607"/>
                </a:lnTo>
                <a:lnTo>
                  <a:pt x="1697618" y="190607"/>
                </a:lnTo>
                <a:lnTo>
                  <a:pt x="1697618" y="165900"/>
                </a:lnTo>
                <a:lnTo>
                  <a:pt x="1716855" y="165900"/>
                </a:lnTo>
                <a:lnTo>
                  <a:pt x="1716855" y="148373"/>
                </a:lnTo>
                <a:lnTo>
                  <a:pt x="1679236" y="148373"/>
                </a:lnTo>
                <a:close/>
                <a:moveTo>
                  <a:pt x="1972006" y="148372"/>
                </a:moveTo>
                <a:lnTo>
                  <a:pt x="1972006" y="162115"/>
                </a:lnTo>
                <a:lnTo>
                  <a:pt x="1972006" y="165899"/>
                </a:lnTo>
                <a:lnTo>
                  <a:pt x="1972006" y="207705"/>
                </a:lnTo>
                <a:lnTo>
                  <a:pt x="1987681" y="207705"/>
                </a:lnTo>
                <a:lnTo>
                  <a:pt x="1990389" y="207705"/>
                </a:lnTo>
                <a:lnTo>
                  <a:pt x="2033252" y="207705"/>
                </a:lnTo>
                <a:lnTo>
                  <a:pt x="2033252" y="190606"/>
                </a:lnTo>
                <a:lnTo>
                  <a:pt x="1990389" y="190606"/>
                </a:lnTo>
                <a:lnTo>
                  <a:pt x="1990389" y="165899"/>
                </a:lnTo>
                <a:lnTo>
                  <a:pt x="2009626" y="165899"/>
                </a:lnTo>
                <a:lnTo>
                  <a:pt x="2009626" y="148372"/>
                </a:lnTo>
                <a:lnTo>
                  <a:pt x="1972006" y="148372"/>
                </a:lnTo>
                <a:close/>
                <a:moveTo>
                  <a:pt x="1825622" y="148372"/>
                </a:moveTo>
                <a:lnTo>
                  <a:pt x="1825622" y="162115"/>
                </a:lnTo>
                <a:lnTo>
                  <a:pt x="1825622" y="165899"/>
                </a:lnTo>
                <a:lnTo>
                  <a:pt x="1825622" y="207705"/>
                </a:lnTo>
                <a:lnTo>
                  <a:pt x="1841295" y="207705"/>
                </a:lnTo>
                <a:lnTo>
                  <a:pt x="1844003" y="207705"/>
                </a:lnTo>
                <a:lnTo>
                  <a:pt x="1886866" y="207705"/>
                </a:lnTo>
                <a:lnTo>
                  <a:pt x="1886866" y="190606"/>
                </a:lnTo>
                <a:lnTo>
                  <a:pt x="1844003" y="190606"/>
                </a:lnTo>
                <a:lnTo>
                  <a:pt x="1844003" y="165899"/>
                </a:lnTo>
                <a:lnTo>
                  <a:pt x="1863241" y="165899"/>
                </a:lnTo>
                <a:lnTo>
                  <a:pt x="1863241" y="148372"/>
                </a:lnTo>
                <a:lnTo>
                  <a:pt x="1825622" y="148372"/>
                </a:lnTo>
                <a:close/>
                <a:moveTo>
                  <a:pt x="2264777" y="148371"/>
                </a:moveTo>
                <a:lnTo>
                  <a:pt x="2264777" y="162114"/>
                </a:lnTo>
                <a:lnTo>
                  <a:pt x="2264777" y="165898"/>
                </a:lnTo>
                <a:lnTo>
                  <a:pt x="2264777" y="207704"/>
                </a:lnTo>
                <a:lnTo>
                  <a:pt x="2280451" y="207704"/>
                </a:lnTo>
                <a:lnTo>
                  <a:pt x="2283158" y="207704"/>
                </a:lnTo>
                <a:lnTo>
                  <a:pt x="2326021" y="207704"/>
                </a:lnTo>
                <a:lnTo>
                  <a:pt x="2326021" y="190605"/>
                </a:lnTo>
                <a:lnTo>
                  <a:pt x="2283158" y="190605"/>
                </a:lnTo>
                <a:lnTo>
                  <a:pt x="2283158" y="165898"/>
                </a:lnTo>
                <a:lnTo>
                  <a:pt x="2302396" y="165898"/>
                </a:lnTo>
                <a:lnTo>
                  <a:pt x="2302396" y="148371"/>
                </a:lnTo>
                <a:lnTo>
                  <a:pt x="2264777" y="148371"/>
                </a:lnTo>
                <a:close/>
                <a:moveTo>
                  <a:pt x="2118391" y="148371"/>
                </a:moveTo>
                <a:lnTo>
                  <a:pt x="2118391" y="162114"/>
                </a:lnTo>
                <a:lnTo>
                  <a:pt x="2118391" y="165898"/>
                </a:lnTo>
                <a:lnTo>
                  <a:pt x="2118391" y="207704"/>
                </a:lnTo>
                <a:lnTo>
                  <a:pt x="2134066" y="207704"/>
                </a:lnTo>
                <a:lnTo>
                  <a:pt x="2136773" y="207704"/>
                </a:lnTo>
                <a:lnTo>
                  <a:pt x="2179637" y="207704"/>
                </a:lnTo>
                <a:lnTo>
                  <a:pt x="2179637" y="190605"/>
                </a:lnTo>
                <a:lnTo>
                  <a:pt x="2136773" y="190605"/>
                </a:lnTo>
                <a:lnTo>
                  <a:pt x="2136773" y="165898"/>
                </a:lnTo>
                <a:lnTo>
                  <a:pt x="2156010" y="165898"/>
                </a:lnTo>
                <a:lnTo>
                  <a:pt x="2156010" y="148371"/>
                </a:lnTo>
                <a:lnTo>
                  <a:pt x="2118391" y="148371"/>
                </a:lnTo>
                <a:close/>
                <a:moveTo>
                  <a:pt x="2411161" y="148370"/>
                </a:moveTo>
                <a:lnTo>
                  <a:pt x="2411161" y="162113"/>
                </a:lnTo>
                <a:lnTo>
                  <a:pt x="2411161" y="165897"/>
                </a:lnTo>
                <a:lnTo>
                  <a:pt x="2411161" y="207703"/>
                </a:lnTo>
                <a:lnTo>
                  <a:pt x="2426835" y="207703"/>
                </a:lnTo>
                <a:lnTo>
                  <a:pt x="2429542" y="207703"/>
                </a:lnTo>
                <a:lnTo>
                  <a:pt x="2472407" y="207703"/>
                </a:lnTo>
                <a:lnTo>
                  <a:pt x="2472407" y="190604"/>
                </a:lnTo>
                <a:lnTo>
                  <a:pt x="2429542" y="190604"/>
                </a:lnTo>
                <a:lnTo>
                  <a:pt x="2429542" y="165897"/>
                </a:lnTo>
                <a:lnTo>
                  <a:pt x="2448780" y="165897"/>
                </a:lnTo>
                <a:lnTo>
                  <a:pt x="2448780" y="148370"/>
                </a:lnTo>
                <a:lnTo>
                  <a:pt x="2411161" y="148370"/>
                </a:lnTo>
                <a:close/>
                <a:moveTo>
                  <a:pt x="2557546" y="148369"/>
                </a:moveTo>
                <a:lnTo>
                  <a:pt x="2557546" y="162112"/>
                </a:lnTo>
                <a:lnTo>
                  <a:pt x="2557546" y="165896"/>
                </a:lnTo>
                <a:lnTo>
                  <a:pt x="2557546" y="207702"/>
                </a:lnTo>
                <a:lnTo>
                  <a:pt x="2573220" y="207702"/>
                </a:lnTo>
                <a:lnTo>
                  <a:pt x="2575927" y="207702"/>
                </a:lnTo>
                <a:lnTo>
                  <a:pt x="2618789" y="207702"/>
                </a:lnTo>
                <a:lnTo>
                  <a:pt x="2618789" y="190603"/>
                </a:lnTo>
                <a:lnTo>
                  <a:pt x="2575927" y="190603"/>
                </a:lnTo>
                <a:lnTo>
                  <a:pt x="2575927" y="165896"/>
                </a:lnTo>
                <a:lnTo>
                  <a:pt x="2595164" y="165896"/>
                </a:lnTo>
                <a:lnTo>
                  <a:pt x="2595164" y="148369"/>
                </a:lnTo>
                <a:lnTo>
                  <a:pt x="2557546" y="148369"/>
                </a:lnTo>
                <a:close/>
                <a:moveTo>
                  <a:pt x="2996700" y="148368"/>
                </a:moveTo>
                <a:lnTo>
                  <a:pt x="2996700" y="162111"/>
                </a:lnTo>
                <a:lnTo>
                  <a:pt x="2996700" y="165895"/>
                </a:lnTo>
                <a:lnTo>
                  <a:pt x="2996700" y="207701"/>
                </a:lnTo>
                <a:lnTo>
                  <a:pt x="3012375" y="207701"/>
                </a:lnTo>
                <a:lnTo>
                  <a:pt x="3015082" y="207701"/>
                </a:lnTo>
                <a:lnTo>
                  <a:pt x="3057944" y="207701"/>
                </a:lnTo>
                <a:lnTo>
                  <a:pt x="3057944" y="190602"/>
                </a:lnTo>
                <a:lnTo>
                  <a:pt x="3015082" y="190602"/>
                </a:lnTo>
                <a:lnTo>
                  <a:pt x="3015082" y="165895"/>
                </a:lnTo>
                <a:lnTo>
                  <a:pt x="3034319" y="165895"/>
                </a:lnTo>
                <a:lnTo>
                  <a:pt x="3034319" y="148368"/>
                </a:lnTo>
                <a:lnTo>
                  <a:pt x="2996700" y="148368"/>
                </a:lnTo>
                <a:close/>
                <a:moveTo>
                  <a:pt x="2850314" y="148368"/>
                </a:moveTo>
                <a:lnTo>
                  <a:pt x="2850314" y="162111"/>
                </a:lnTo>
                <a:lnTo>
                  <a:pt x="2850314" y="165895"/>
                </a:lnTo>
                <a:lnTo>
                  <a:pt x="2850314" y="207701"/>
                </a:lnTo>
                <a:lnTo>
                  <a:pt x="2865989" y="207701"/>
                </a:lnTo>
                <a:lnTo>
                  <a:pt x="2868696" y="207701"/>
                </a:lnTo>
                <a:lnTo>
                  <a:pt x="2911560" y="207701"/>
                </a:lnTo>
                <a:lnTo>
                  <a:pt x="2911560" y="190602"/>
                </a:lnTo>
                <a:lnTo>
                  <a:pt x="2868696" y="190602"/>
                </a:lnTo>
                <a:lnTo>
                  <a:pt x="2868696" y="165895"/>
                </a:lnTo>
                <a:lnTo>
                  <a:pt x="2887933" y="165895"/>
                </a:lnTo>
                <a:lnTo>
                  <a:pt x="2887933" y="148368"/>
                </a:lnTo>
                <a:lnTo>
                  <a:pt x="2850314" y="148368"/>
                </a:lnTo>
                <a:close/>
                <a:moveTo>
                  <a:pt x="2703930" y="148368"/>
                </a:moveTo>
                <a:lnTo>
                  <a:pt x="2703930" y="162111"/>
                </a:lnTo>
                <a:lnTo>
                  <a:pt x="2703930" y="165895"/>
                </a:lnTo>
                <a:lnTo>
                  <a:pt x="2703930" y="207701"/>
                </a:lnTo>
                <a:lnTo>
                  <a:pt x="2719605" y="207701"/>
                </a:lnTo>
                <a:lnTo>
                  <a:pt x="2722312" y="207701"/>
                </a:lnTo>
                <a:lnTo>
                  <a:pt x="2765175" y="207701"/>
                </a:lnTo>
                <a:lnTo>
                  <a:pt x="2765175" y="190602"/>
                </a:lnTo>
                <a:lnTo>
                  <a:pt x="2722312" y="190602"/>
                </a:lnTo>
                <a:lnTo>
                  <a:pt x="2722312" y="165895"/>
                </a:lnTo>
                <a:lnTo>
                  <a:pt x="2741549" y="165895"/>
                </a:lnTo>
                <a:lnTo>
                  <a:pt x="2741549" y="148368"/>
                </a:lnTo>
                <a:lnTo>
                  <a:pt x="2703930" y="148368"/>
                </a:lnTo>
                <a:close/>
                <a:moveTo>
                  <a:pt x="3143085" y="148367"/>
                </a:moveTo>
                <a:lnTo>
                  <a:pt x="3143085" y="162110"/>
                </a:lnTo>
                <a:lnTo>
                  <a:pt x="3143085" y="165894"/>
                </a:lnTo>
                <a:lnTo>
                  <a:pt x="3143085" y="207700"/>
                </a:lnTo>
                <a:lnTo>
                  <a:pt x="3158760" y="207700"/>
                </a:lnTo>
                <a:lnTo>
                  <a:pt x="3161467" y="207700"/>
                </a:lnTo>
                <a:lnTo>
                  <a:pt x="3204330" y="207700"/>
                </a:lnTo>
                <a:lnTo>
                  <a:pt x="3204330" y="190601"/>
                </a:lnTo>
                <a:lnTo>
                  <a:pt x="3161467" y="190601"/>
                </a:lnTo>
                <a:lnTo>
                  <a:pt x="3161467" y="165894"/>
                </a:lnTo>
                <a:lnTo>
                  <a:pt x="3180704" y="165894"/>
                </a:lnTo>
                <a:lnTo>
                  <a:pt x="3180704" y="148367"/>
                </a:lnTo>
                <a:lnTo>
                  <a:pt x="3143085" y="148367"/>
                </a:lnTo>
                <a:close/>
                <a:moveTo>
                  <a:pt x="3289469" y="148366"/>
                </a:moveTo>
                <a:lnTo>
                  <a:pt x="3289469" y="162109"/>
                </a:lnTo>
                <a:lnTo>
                  <a:pt x="3289469" y="165893"/>
                </a:lnTo>
                <a:lnTo>
                  <a:pt x="3289469" y="207699"/>
                </a:lnTo>
                <a:lnTo>
                  <a:pt x="3305144" y="207699"/>
                </a:lnTo>
                <a:lnTo>
                  <a:pt x="3307851" y="207699"/>
                </a:lnTo>
                <a:lnTo>
                  <a:pt x="3350715" y="207699"/>
                </a:lnTo>
                <a:lnTo>
                  <a:pt x="3350715" y="190600"/>
                </a:lnTo>
                <a:lnTo>
                  <a:pt x="3307851" y="190600"/>
                </a:lnTo>
                <a:lnTo>
                  <a:pt x="3307851" y="165893"/>
                </a:lnTo>
                <a:lnTo>
                  <a:pt x="3327088" y="165893"/>
                </a:lnTo>
                <a:lnTo>
                  <a:pt x="3327088" y="148366"/>
                </a:lnTo>
                <a:lnTo>
                  <a:pt x="3289469" y="148366"/>
                </a:lnTo>
                <a:close/>
                <a:moveTo>
                  <a:pt x="3728624" y="148365"/>
                </a:moveTo>
                <a:lnTo>
                  <a:pt x="3728624" y="162108"/>
                </a:lnTo>
                <a:lnTo>
                  <a:pt x="3728624" y="165892"/>
                </a:lnTo>
                <a:lnTo>
                  <a:pt x="3728624" y="207698"/>
                </a:lnTo>
                <a:lnTo>
                  <a:pt x="3744299" y="207698"/>
                </a:lnTo>
                <a:lnTo>
                  <a:pt x="3747006" y="207698"/>
                </a:lnTo>
                <a:lnTo>
                  <a:pt x="3789870" y="207698"/>
                </a:lnTo>
                <a:lnTo>
                  <a:pt x="3789870" y="190599"/>
                </a:lnTo>
                <a:lnTo>
                  <a:pt x="3747006" y="190599"/>
                </a:lnTo>
                <a:lnTo>
                  <a:pt x="3747006" y="165892"/>
                </a:lnTo>
                <a:lnTo>
                  <a:pt x="3766243" y="165892"/>
                </a:lnTo>
                <a:lnTo>
                  <a:pt x="3766243" y="148365"/>
                </a:lnTo>
                <a:lnTo>
                  <a:pt x="3728624" y="148365"/>
                </a:lnTo>
                <a:close/>
                <a:moveTo>
                  <a:pt x="3582240" y="148365"/>
                </a:moveTo>
                <a:lnTo>
                  <a:pt x="3582240" y="162108"/>
                </a:lnTo>
                <a:lnTo>
                  <a:pt x="3582240" y="165892"/>
                </a:lnTo>
                <a:lnTo>
                  <a:pt x="3582240" y="207698"/>
                </a:lnTo>
                <a:lnTo>
                  <a:pt x="3597915" y="207698"/>
                </a:lnTo>
                <a:lnTo>
                  <a:pt x="3600622" y="207698"/>
                </a:lnTo>
                <a:lnTo>
                  <a:pt x="3643485" y="207698"/>
                </a:lnTo>
                <a:lnTo>
                  <a:pt x="3643485" y="190599"/>
                </a:lnTo>
                <a:lnTo>
                  <a:pt x="3600622" y="190599"/>
                </a:lnTo>
                <a:lnTo>
                  <a:pt x="3600622" y="165892"/>
                </a:lnTo>
                <a:lnTo>
                  <a:pt x="3619859" y="165892"/>
                </a:lnTo>
                <a:lnTo>
                  <a:pt x="3619859" y="148365"/>
                </a:lnTo>
                <a:lnTo>
                  <a:pt x="3582240" y="148365"/>
                </a:lnTo>
                <a:close/>
                <a:moveTo>
                  <a:pt x="3435855" y="148365"/>
                </a:moveTo>
                <a:lnTo>
                  <a:pt x="3435855" y="162108"/>
                </a:lnTo>
                <a:lnTo>
                  <a:pt x="3435855" y="165892"/>
                </a:lnTo>
                <a:lnTo>
                  <a:pt x="3435855" y="207698"/>
                </a:lnTo>
                <a:lnTo>
                  <a:pt x="3451530" y="207698"/>
                </a:lnTo>
                <a:lnTo>
                  <a:pt x="3454237" y="207698"/>
                </a:lnTo>
                <a:lnTo>
                  <a:pt x="3497099" y="207698"/>
                </a:lnTo>
                <a:lnTo>
                  <a:pt x="3497099" y="190599"/>
                </a:lnTo>
                <a:lnTo>
                  <a:pt x="3454237" y="190599"/>
                </a:lnTo>
                <a:lnTo>
                  <a:pt x="3454237" y="165892"/>
                </a:lnTo>
                <a:lnTo>
                  <a:pt x="3473474" y="165892"/>
                </a:lnTo>
                <a:lnTo>
                  <a:pt x="3473474" y="148365"/>
                </a:lnTo>
                <a:lnTo>
                  <a:pt x="3435855" y="148365"/>
                </a:lnTo>
                <a:close/>
                <a:moveTo>
                  <a:pt x="3875009" y="148364"/>
                </a:moveTo>
                <a:lnTo>
                  <a:pt x="3875009" y="162107"/>
                </a:lnTo>
                <a:lnTo>
                  <a:pt x="3875009" y="165891"/>
                </a:lnTo>
                <a:lnTo>
                  <a:pt x="3875009" y="207697"/>
                </a:lnTo>
                <a:lnTo>
                  <a:pt x="3890684" y="207697"/>
                </a:lnTo>
                <a:lnTo>
                  <a:pt x="3893391" y="207697"/>
                </a:lnTo>
                <a:lnTo>
                  <a:pt x="3936254" y="207697"/>
                </a:lnTo>
                <a:lnTo>
                  <a:pt x="3936254" y="190598"/>
                </a:lnTo>
                <a:lnTo>
                  <a:pt x="3893391" y="190598"/>
                </a:lnTo>
                <a:lnTo>
                  <a:pt x="3893391" y="165891"/>
                </a:lnTo>
                <a:lnTo>
                  <a:pt x="3912628" y="165891"/>
                </a:lnTo>
                <a:lnTo>
                  <a:pt x="3912628" y="148364"/>
                </a:lnTo>
                <a:lnTo>
                  <a:pt x="3875009" y="148364"/>
                </a:lnTo>
                <a:close/>
                <a:moveTo>
                  <a:pt x="5941612" y="0"/>
                </a:moveTo>
                <a:lnTo>
                  <a:pt x="6070497" y="0"/>
                </a:lnTo>
                <a:lnTo>
                  <a:pt x="6070497" y="212068"/>
                </a:lnTo>
                <a:lnTo>
                  <a:pt x="6082071" y="212068"/>
                </a:lnTo>
                <a:lnTo>
                  <a:pt x="6082071" y="194969"/>
                </a:lnTo>
                <a:lnTo>
                  <a:pt x="6082071" y="4382"/>
                </a:lnTo>
                <a:lnTo>
                  <a:pt x="6120302" y="4382"/>
                </a:lnTo>
                <a:lnTo>
                  <a:pt x="6210956" y="4382"/>
                </a:lnTo>
                <a:lnTo>
                  <a:pt x="6210956" y="212068"/>
                </a:lnTo>
                <a:lnTo>
                  <a:pt x="6224041" y="212068"/>
                </a:lnTo>
                <a:lnTo>
                  <a:pt x="6224041" y="194969"/>
                </a:lnTo>
                <a:lnTo>
                  <a:pt x="6224041" y="4382"/>
                </a:lnTo>
                <a:lnTo>
                  <a:pt x="6262272" y="4382"/>
                </a:lnTo>
                <a:lnTo>
                  <a:pt x="6352926" y="4382"/>
                </a:lnTo>
                <a:lnTo>
                  <a:pt x="6352926" y="212068"/>
                </a:lnTo>
                <a:lnTo>
                  <a:pt x="6366011" y="212068"/>
                </a:lnTo>
                <a:lnTo>
                  <a:pt x="6366011" y="194969"/>
                </a:lnTo>
                <a:lnTo>
                  <a:pt x="6366011" y="4382"/>
                </a:lnTo>
                <a:lnTo>
                  <a:pt x="6404242" y="4382"/>
                </a:lnTo>
                <a:lnTo>
                  <a:pt x="6494896" y="4382"/>
                </a:lnTo>
                <a:lnTo>
                  <a:pt x="6494896" y="212068"/>
                </a:lnTo>
                <a:lnTo>
                  <a:pt x="6507981" y="212068"/>
                </a:lnTo>
                <a:lnTo>
                  <a:pt x="6507981" y="194969"/>
                </a:lnTo>
                <a:lnTo>
                  <a:pt x="6507981" y="4382"/>
                </a:lnTo>
                <a:lnTo>
                  <a:pt x="6546212" y="4382"/>
                </a:lnTo>
                <a:lnTo>
                  <a:pt x="6636866" y="4382"/>
                </a:lnTo>
                <a:lnTo>
                  <a:pt x="6636866" y="212068"/>
                </a:lnTo>
                <a:lnTo>
                  <a:pt x="6649951" y="212068"/>
                </a:lnTo>
                <a:lnTo>
                  <a:pt x="6649951" y="194969"/>
                </a:lnTo>
                <a:lnTo>
                  <a:pt x="6649951" y="4382"/>
                </a:lnTo>
                <a:lnTo>
                  <a:pt x="6688182" y="4382"/>
                </a:lnTo>
                <a:lnTo>
                  <a:pt x="6778836" y="4382"/>
                </a:lnTo>
                <a:lnTo>
                  <a:pt x="6778836" y="212068"/>
                </a:lnTo>
                <a:lnTo>
                  <a:pt x="6791920" y="212068"/>
                </a:lnTo>
                <a:lnTo>
                  <a:pt x="6791920" y="194969"/>
                </a:lnTo>
                <a:lnTo>
                  <a:pt x="6791920" y="4382"/>
                </a:lnTo>
                <a:lnTo>
                  <a:pt x="6830152" y="4382"/>
                </a:lnTo>
                <a:lnTo>
                  <a:pt x="6920806" y="4382"/>
                </a:lnTo>
                <a:lnTo>
                  <a:pt x="6920806" y="212068"/>
                </a:lnTo>
                <a:lnTo>
                  <a:pt x="6933890" y="212068"/>
                </a:lnTo>
                <a:lnTo>
                  <a:pt x="6933890" y="194969"/>
                </a:lnTo>
                <a:lnTo>
                  <a:pt x="6933890" y="4382"/>
                </a:lnTo>
                <a:lnTo>
                  <a:pt x="6972122" y="4382"/>
                </a:lnTo>
                <a:lnTo>
                  <a:pt x="7062776" y="4382"/>
                </a:lnTo>
                <a:lnTo>
                  <a:pt x="7062776" y="212068"/>
                </a:lnTo>
                <a:lnTo>
                  <a:pt x="7075860" y="212068"/>
                </a:lnTo>
                <a:lnTo>
                  <a:pt x="7075860" y="194969"/>
                </a:lnTo>
                <a:lnTo>
                  <a:pt x="7075860" y="4382"/>
                </a:lnTo>
                <a:lnTo>
                  <a:pt x="7114092" y="4382"/>
                </a:lnTo>
                <a:lnTo>
                  <a:pt x="7204746" y="4382"/>
                </a:lnTo>
                <a:lnTo>
                  <a:pt x="7204746" y="212068"/>
                </a:lnTo>
                <a:lnTo>
                  <a:pt x="7217830" y="212068"/>
                </a:lnTo>
                <a:lnTo>
                  <a:pt x="7217830" y="194969"/>
                </a:lnTo>
                <a:lnTo>
                  <a:pt x="7217830" y="4382"/>
                </a:lnTo>
                <a:lnTo>
                  <a:pt x="7256062" y="4382"/>
                </a:lnTo>
                <a:lnTo>
                  <a:pt x="7346716" y="4382"/>
                </a:lnTo>
                <a:lnTo>
                  <a:pt x="7346716" y="212068"/>
                </a:lnTo>
                <a:lnTo>
                  <a:pt x="7359800" y="212068"/>
                </a:lnTo>
                <a:lnTo>
                  <a:pt x="7359800" y="194969"/>
                </a:lnTo>
                <a:lnTo>
                  <a:pt x="7359800" y="4382"/>
                </a:lnTo>
                <a:lnTo>
                  <a:pt x="7398032" y="4382"/>
                </a:lnTo>
                <a:lnTo>
                  <a:pt x="7488686" y="4382"/>
                </a:lnTo>
                <a:lnTo>
                  <a:pt x="7488686" y="212068"/>
                </a:lnTo>
                <a:lnTo>
                  <a:pt x="7501770" y="212068"/>
                </a:lnTo>
                <a:lnTo>
                  <a:pt x="7501770" y="194969"/>
                </a:lnTo>
                <a:lnTo>
                  <a:pt x="7501770" y="4382"/>
                </a:lnTo>
                <a:lnTo>
                  <a:pt x="7630656" y="4382"/>
                </a:lnTo>
                <a:lnTo>
                  <a:pt x="7630656" y="212494"/>
                </a:lnTo>
                <a:lnTo>
                  <a:pt x="7644470" y="212494"/>
                </a:lnTo>
                <a:lnTo>
                  <a:pt x="7644470" y="195394"/>
                </a:lnTo>
                <a:lnTo>
                  <a:pt x="7644470" y="4807"/>
                </a:lnTo>
                <a:lnTo>
                  <a:pt x="7670129" y="4807"/>
                </a:lnTo>
                <a:lnTo>
                  <a:pt x="7670129" y="29215"/>
                </a:lnTo>
                <a:lnTo>
                  <a:pt x="7669341" y="29215"/>
                </a:lnTo>
                <a:lnTo>
                  <a:pt x="7669341" y="46314"/>
                </a:lnTo>
                <a:lnTo>
                  <a:pt x="7669341" y="236901"/>
                </a:lnTo>
                <a:lnTo>
                  <a:pt x="7540732" y="236901"/>
                </a:lnTo>
                <a:lnTo>
                  <a:pt x="7540732" y="129990"/>
                </a:lnTo>
                <a:lnTo>
                  <a:pt x="7627326" y="129990"/>
                </a:lnTo>
                <a:lnTo>
                  <a:pt x="7627326" y="195394"/>
                </a:lnTo>
                <a:lnTo>
                  <a:pt x="7583831" y="195394"/>
                </a:lnTo>
                <a:lnTo>
                  <a:pt x="7583831" y="170687"/>
                </a:lnTo>
                <a:lnTo>
                  <a:pt x="7603068" y="170687"/>
                </a:lnTo>
                <a:lnTo>
                  <a:pt x="7603068" y="153159"/>
                </a:lnTo>
                <a:lnTo>
                  <a:pt x="7565449" y="153159"/>
                </a:lnTo>
                <a:lnTo>
                  <a:pt x="7565449" y="166904"/>
                </a:lnTo>
                <a:lnTo>
                  <a:pt x="7565449" y="170687"/>
                </a:lnTo>
                <a:lnTo>
                  <a:pt x="7565449" y="212494"/>
                </a:lnTo>
                <a:lnTo>
                  <a:pt x="7581124" y="212494"/>
                </a:lnTo>
                <a:lnTo>
                  <a:pt x="7583831" y="212494"/>
                </a:lnTo>
                <a:lnTo>
                  <a:pt x="7627326" y="212494"/>
                </a:lnTo>
                <a:lnTo>
                  <a:pt x="7630379" y="212494"/>
                </a:lnTo>
                <a:lnTo>
                  <a:pt x="7630379" y="111293"/>
                </a:lnTo>
                <a:lnTo>
                  <a:pt x="7543785" y="111293"/>
                </a:lnTo>
                <a:lnTo>
                  <a:pt x="7543785" y="45890"/>
                </a:lnTo>
                <a:lnTo>
                  <a:pt x="7587280" y="45890"/>
                </a:lnTo>
                <a:lnTo>
                  <a:pt x="7587280" y="70596"/>
                </a:lnTo>
                <a:lnTo>
                  <a:pt x="7568043" y="70596"/>
                </a:lnTo>
                <a:lnTo>
                  <a:pt x="7568043" y="88123"/>
                </a:lnTo>
                <a:lnTo>
                  <a:pt x="7605662" y="88123"/>
                </a:lnTo>
                <a:lnTo>
                  <a:pt x="7605662" y="74380"/>
                </a:lnTo>
                <a:lnTo>
                  <a:pt x="7605662" y="70596"/>
                </a:lnTo>
                <a:lnTo>
                  <a:pt x="7605662" y="28790"/>
                </a:lnTo>
                <a:lnTo>
                  <a:pt x="7589988" y="28790"/>
                </a:lnTo>
                <a:lnTo>
                  <a:pt x="7587280" y="28790"/>
                </a:lnTo>
                <a:lnTo>
                  <a:pt x="7543785" y="28790"/>
                </a:lnTo>
                <a:lnTo>
                  <a:pt x="7526641" y="28790"/>
                </a:lnTo>
                <a:lnTo>
                  <a:pt x="7526641" y="45890"/>
                </a:lnTo>
                <a:lnTo>
                  <a:pt x="7526641" y="236476"/>
                </a:lnTo>
                <a:lnTo>
                  <a:pt x="7488686" y="236476"/>
                </a:lnTo>
                <a:lnTo>
                  <a:pt x="7488409" y="236476"/>
                </a:lnTo>
                <a:lnTo>
                  <a:pt x="7398032" y="236476"/>
                </a:lnTo>
                <a:lnTo>
                  <a:pt x="7398032" y="129565"/>
                </a:lnTo>
                <a:lnTo>
                  <a:pt x="7484626" y="129565"/>
                </a:lnTo>
                <a:lnTo>
                  <a:pt x="7484626" y="194969"/>
                </a:lnTo>
                <a:lnTo>
                  <a:pt x="7441131" y="194969"/>
                </a:lnTo>
                <a:lnTo>
                  <a:pt x="7441131" y="170262"/>
                </a:lnTo>
                <a:lnTo>
                  <a:pt x="7460368" y="170262"/>
                </a:lnTo>
                <a:lnTo>
                  <a:pt x="7460368" y="152735"/>
                </a:lnTo>
                <a:lnTo>
                  <a:pt x="7422749" y="152735"/>
                </a:lnTo>
                <a:lnTo>
                  <a:pt x="7422749" y="166478"/>
                </a:lnTo>
                <a:lnTo>
                  <a:pt x="7422749" y="170262"/>
                </a:lnTo>
                <a:lnTo>
                  <a:pt x="7422749" y="212068"/>
                </a:lnTo>
                <a:lnTo>
                  <a:pt x="7438423" y="212068"/>
                </a:lnTo>
                <a:lnTo>
                  <a:pt x="7441131" y="212068"/>
                </a:lnTo>
                <a:lnTo>
                  <a:pt x="7484626" y="212068"/>
                </a:lnTo>
                <a:lnTo>
                  <a:pt x="7488409" y="212068"/>
                </a:lnTo>
                <a:lnTo>
                  <a:pt x="7488409" y="111293"/>
                </a:lnTo>
                <a:lnTo>
                  <a:pt x="7401815" y="111293"/>
                </a:lnTo>
                <a:lnTo>
                  <a:pt x="7401815" y="45890"/>
                </a:lnTo>
                <a:lnTo>
                  <a:pt x="7445310" y="45890"/>
                </a:lnTo>
                <a:lnTo>
                  <a:pt x="7445310" y="70596"/>
                </a:lnTo>
                <a:lnTo>
                  <a:pt x="7426073" y="70596"/>
                </a:lnTo>
                <a:lnTo>
                  <a:pt x="7426073" y="88123"/>
                </a:lnTo>
                <a:lnTo>
                  <a:pt x="7463692" y="88123"/>
                </a:lnTo>
                <a:lnTo>
                  <a:pt x="7463692" y="74380"/>
                </a:lnTo>
                <a:lnTo>
                  <a:pt x="7463692" y="70596"/>
                </a:lnTo>
                <a:lnTo>
                  <a:pt x="7463692" y="28790"/>
                </a:lnTo>
                <a:lnTo>
                  <a:pt x="7448018" y="28790"/>
                </a:lnTo>
                <a:lnTo>
                  <a:pt x="7445310" y="28790"/>
                </a:lnTo>
                <a:lnTo>
                  <a:pt x="7401815" y="28790"/>
                </a:lnTo>
                <a:lnTo>
                  <a:pt x="7398032" y="28790"/>
                </a:lnTo>
                <a:lnTo>
                  <a:pt x="7384671" y="28790"/>
                </a:lnTo>
                <a:lnTo>
                  <a:pt x="7384671" y="45890"/>
                </a:lnTo>
                <a:lnTo>
                  <a:pt x="7384671" y="236476"/>
                </a:lnTo>
                <a:lnTo>
                  <a:pt x="7346716" y="236476"/>
                </a:lnTo>
                <a:lnTo>
                  <a:pt x="7346439" y="236476"/>
                </a:lnTo>
                <a:lnTo>
                  <a:pt x="7256062" y="236476"/>
                </a:lnTo>
                <a:lnTo>
                  <a:pt x="7256062" y="129565"/>
                </a:lnTo>
                <a:lnTo>
                  <a:pt x="7342656" y="129565"/>
                </a:lnTo>
                <a:lnTo>
                  <a:pt x="7342656" y="194969"/>
                </a:lnTo>
                <a:lnTo>
                  <a:pt x="7299161" y="194969"/>
                </a:lnTo>
                <a:lnTo>
                  <a:pt x="7299161" y="170262"/>
                </a:lnTo>
                <a:lnTo>
                  <a:pt x="7318398" y="170262"/>
                </a:lnTo>
                <a:lnTo>
                  <a:pt x="7318398" y="152735"/>
                </a:lnTo>
                <a:lnTo>
                  <a:pt x="7280779" y="152735"/>
                </a:lnTo>
                <a:lnTo>
                  <a:pt x="7280779" y="166478"/>
                </a:lnTo>
                <a:lnTo>
                  <a:pt x="7280779" y="170262"/>
                </a:lnTo>
                <a:lnTo>
                  <a:pt x="7280779" y="212068"/>
                </a:lnTo>
                <a:lnTo>
                  <a:pt x="7296453" y="212068"/>
                </a:lnTo>
                <a:lnTo>
                  <a:pt x="7299161" y="212068"/>
                </a:lnTo>
                <a:lnTo>
                  <a:pt x="7342656" y="212068"/>
                </a:lnTo>
                <a:lnTo>
                  <a:pt x="7346439" y="212068"/>
                </a:lnTo>
                <a:lnTo>
                  <a:pt x="7346439" y="111293"/>
                </a:lnTo>
                <a:lnTo>
                  <a:pt x="7259845" y="111293"/>
                </a:lnTo>
                <a:lnTo>
                  <a:pt x="7259845" y="45890"/>
                </a:lnTo>
                <a:lnTo>
                  <a:pt x="7303340" y="45890"/>
                </a:lnTo>
                <a:lnTo>
                  <a:pt x="7303340" y="70596"/>
                </a:lnTo>
                <a:lnTo>
                  <a:pt x="7284103" y="70596"/>
                </a:lnTo>
                <a:lnTo>
                  <a:pt x="7284103" y="88123"/>
                </a:lnTo>
                <a:lnTo>
                  <a:pt x="7321722" y="88123"/>
                </a:lnTo>
                <a:lnTo>
                  <a:pt x="7321722" y="74380"/>
                </a:lnTo>
                <a:lnTo>
                  <a:pt x="7321722" y="70596"/>
                </a:lnTo>
                <a:lnTo>
                  <a:pt x="7321722" y="28790"/>
                </a:lnTo>
                <a:lnTo>
                  <a:pt x="7306048" y="28790"/>
                </a:lnTo>
                <a:lnTo>
                  <a:pt x="7303340" y="28790"/>
                </a:lnTo>
                <a:lnTo>
                  <a:pt x="7259845" y="28790"/>
                </a:lnTo>
                <a:lnTo>
                  <a:pt x="7256062" y="28790"/>
                </a:lnTo>
                <a:lnTo>
                  <a:pt x="7242701" y="28790"/>
                </a:lnTo>
                <a:lnTo>
                  <a:pt x="7242701" y="45890"/>
                </a:lnTo>
                <a:lnTo>
                  <a:pt x="7242701" y="236476"/>
                </a:lnTo>
                <a:lnTo>
                  <a:pt x="7204746" y="236476"/>
                </a:lnTo>
                <a:lnTo>
                  <a:pt x="7204469" y="236476"/>
                </a:lnTo>
                <a:lnTo>
                  <a:pt x="7114092" y="236476"/>
                </a:lnTo>
                <a:lnTo>
                  <a:pt x="7114092" y="129565"/>
                </a:lnTo>
                <a:lnTo>
                  <a:pt x="7200686" y="129565"/>
                </a:lnTo>
                <a:lnTo>
                  <a:pt x="7200686" y="194969"/>
                </a:lnTo>
                <a:lnTo>
                  <a:pt x="7157191" y="194969"/>
                </a:lnTo>
                <a:lnTo>
                  <a:pt x="7157191" y="170262"/>
                </a:lnTo>
                <a:lnTo>
                  <a:pt x="7176428" y="170262"/>
                </a:lnTo>
                <a:lnTo>
                  <a:pt x="7176428" y="152735"/>
                </a:lnTo>
                <a:lnTo>
                  <a:pt x="7138809" y="152735"/>
                </a:lnTo>
                <a:lnTo>
                  <a:pt x="7138809" y="166478"/>
                </a:lnTo>
                <a:lnTo>
                  <a:pt x="7138809" y="170262"/>
                </a:lnTo>
                <a:lnTo>
                  <a:pt x="7138809" y="212068"/>
                </a:lnTo>
                <a:lnTo>
                  <a:pt x="7154483" y="212068"/>
                </a:lnTo>
                <a:lnTo>
                  <a:pt x="7157191" y="212068"/>
                </a:lnTo>
                <a:lnTo>
                  <a:pt x="7200686" y="212068"/>
                </a:lnTo>
                <a:lnTo>
                  <a:pt x="7204469" y="212068"/>
                </a:lnTo>
                <a:lnTo>
                  <a:pt x="7204469" y="111293"/>
                </a:lnTo>
                <a:lnTo>
                  <a:pt x="7117875" y="111293"/>
                </a:lnTo>
                <a:lnTo>
                  <a:pt x="7117875" y="45890"/>
                </a:lnTo>
                <a:lnTo>
                  <a:pt x="7161370" y="45890"/>
                </a:lnTo>
                <a:lnTo>
                  <a:pt x="7161370" y="70596"/>
                </a:lnTo>
                <a:lnTo>
                  <a:pt x="7142133" y="70596"/>
                </a:lnTo>
                <a:lnTo>
                  <a:pt x="7142133" y="88123"/>
                </a:lnTo>
                <a:lnTo>
                  <a:pt x="7179752" y="88123"/>
                </a:lnTo>
                <a:lnTo>
                  <a:pt x="7179752" y="74380"/>
                </a:lnTo>
                <a:lnTo>
                  <a:pt x="7179752" y="70596"/>
                </a:lnTo>
                <a:lnTo>
                  <a:pt x="7179752" y="28790"/>
                </a:lnTo>
                <a:lnTo>
                  <a:pt x="7164078" y="28790"/>
                </a:lnTo>
                <a:lnTo>
                  <a:pt x="7161370" y="28790"/>
                </a:lnTo>
                <a:lnTo>
                  <a:pt x="7117875" y="28790"/>
                </a:lnTo>
                <a:lnTo>
                  <a:pt x="7114092" y="28790"/>
                </a:lnTo>
                <a:lnTo>
                  <a:pt x="7100731" y="28790"/>
                </a:lnTo>
                <a:lnTo>
                  <a:pt x="7100731" y="45890"/>
                </a:lnTo>
                <a:lnTo>
                  <a:pt x="7100731" y="236476"/>
                </a:lnTo>
                <a:lnTo>
                  <a:pt x="7062776" y="236476"/>
                </a:lnTo>
                <a:lnTo>
                  <a:pt x="7062499" y="236476"/>
                </a:lnTo>
                <a:lnTo>
                  <a:pt x="6972122" y="236476"/>
                </a:lnTo>
                <a:lnTo>
                  <a:pt x="6972122" y="129565"/>
                </a:lnTo>
                <a:lnTo>
                  <a:pt x="7058716" y="129565"/>
                </a:lnTo>
                <a:lnTo>
                  <a:pt x="7058716" y="194969"/>
                </a:lnTo>
                <a:lnTo>
                  <a:pt x="7015221" y="194969"/>
                </a:lnTo>
                <a:lnTo>
                  <a:pt x="7015221" y="170262"/>
                </a:lnTo>
                <a:lnTo>
                  <a:pt x="7034458" y="170262"/>
                </a:lnTo>
                <a:lnTo>
                  <a:pt x="7034458" y="152735"/>
                </a:lnTo>
                <a:lnTo>
                  <a:pt x="6996839" y="152735"/>
                </a:lnTo>
                <a:lnTo>
                  <a:pt x="6996839" y="166478"/>
                </a:lnTo>
                <a:lnTo>
                  <a:pt x="6996839" y="170262"/>
                </a:lnTo>
                <a:lnTo>
                  <a:pt x="6996839" y="212068"/>
                </a:lnTo>
                <a:lnTo>
                  <a:pt x="7012513" y="212068"/>
                </a:lnTo>
                <a:lnTo>
                  <a:pt x="7015221" y="212068"/>
                </a:lnTo>
                <a:lnTo>
                  <a:pt x="7058716" y="212068"/>
                </a:lnTo>
                <a:lnTo>
                  <a:pt x="7062499" y="212068"/>
                </a:lnTo>
                <a:lnTo>
                  <a:pt x="7062499" y="111293"/>
                </a:lnTo>
                <a:lnTo>
                  <a:pt x="6975905" y="111293"/>
                </a:lnTo>
                <a:lnTo>
                  <a:pt x="6975905" y="45890"/>
                </a:lnTo>
                <a:lnTo>
                  <a:pt x="7019400" y="45890"/>
                </a:lnTo>
                <a:lnTo>
                  <a:pt x="7019400" y="70596"/>
                </a:lnTo>
                <a:lnTo>
                  <a:pt x="7000163" y="70596"/>
                </a:lnTo>
                <a:lnTo>
                  <a:pt x="7000163" y="88123"/>
                </a:lnTo>
                <a:lnTo>
                  <a:pt x="7037782" y="88123"/>
                </a:lnTo>
                <a:lnTo>
                  <a:pt x="7037782" y="74380"/>
                </a:lnTo>
                <a:lnTo>
                  <a:pt x="7037782" y="70596"/>
                </a:lnTo>
                <a:lnTo>
                  <a:pt x="7037782" y="28790"/>
                </a:lnTo>
                <a:lnTo>
                  <a:pt x="7022108" y="28790"/>
                </a:lnTo>
                <a:lnTo>
                  <a:pt x="7019400" y="28790"/>
                </a:lnTo>
                <a:lnTo>
                  <a:pt x="6975905" y="28790"/>
                </a:lnTo>
                <a:lnTo>
                  <a:pt x="6972122" y="28790"/>
                </a:lnTo>
                <a:lnTo>
                  <a:pt x="6958761" y="28790"/>
                </a:lnTo>
                <a:lnTo>
                  <a:pt x="6958761" y="45890"/>
                </a:lnTo>
                <a:lnTo>
                  <a:pt x="6958761" y="236476"/>
                </a:lnTo>
                <a:lnTo>
                  <a:pt x="6920806" y="236476"/>
                </a:lnTo>
                <a:lnTo>
                  <a:pt x="6920529" y="236476"/>
                </a:lnTo>
                <a:lnTo>
                  <a:pt x="6830152" y="236476"/>
                </a:lnTo>
                <a:lnTo>
                  <a:pt x="6830152" y="129565"/>
                </a:lnTo>
                <a:lnTo>
                  <a:pt x="6916746" y="129565"/>
                </a:lnTo>
                <a:lnTo>
                  <a:pt x="6916746" y="194969"/>
                </a:lnTo>
                <a:lnTo>
                  <a:pt x="6873251" y="194969"/>
                </a:lnTo>
                <a:lnTo>
                  <a:pt x="6873251" y="170262"/>
                </a:lnTo>
                <a:lnTo>
                  <a:pt x="6892488" y="170262"/>
                </a:lnTo>
                <a:lnTo>
                  <a:pt x="6892488" y="152735"/>
                </a:lnTo>
                <a:lnTo>
                  <a:pt x="6854869" y="152735"/>
                </a:lnTo>
                <a:lnTo>
                  <a:pt x="6854869" y="166478"/>
                </a:lnTo>
                <a:lnTo>
                  <a:pt x="6854869" y="170262"/>
                </a:lnTo>
                <a:lnTo>
                  <a:pt x="6854869" y="212068"/>
                </a:lnTo>
                <a:lnTo>
                  <a:pt x="6870543" y="212068"/>
                </a:lnTo>
                <a:lnTo>
                  <a:pt x="6873251" y="212068"/>
                </a:lnTo>
                <a:lnTo>
                  <a:pt x="6916746" y="212068"/>
                </a:lnTo>
                <a:lnTo>
                  <a:pt x="6920529" y="212068"/>
                </a:lnTo>
                <a:lnTo>
                  <a:pt x="6920529" y="111293"/>
                </a:lnTo>
                <a:lnTo>
                  <a:pt x="6833935" y="111293"/>
                </a:lnTo>
                <a:lnTo>
                  <a:pt x="6833935" y="45890"/>
                </a:lnTo>
                <a:lnTo>
                  <a:pt x="6877430" y="45890"/>
                </a:lnTo>
                <a:lnTo>
                  <a:pt x="6877430" y="70596"/>
                </a:lnTo>
                <a:lnTo>
                  <a:pt x="6858193" y="70596"/>
                </a:lnTo>
                <a:lnTo>
                  <a:pt x="6858193" y="88123"/>
                </a:lnTo>
                <a:lnTo>
                  <a:pt x="6895812" y="88123"/>
                </a:lnTo>
                <a:lnTo>
                  <a:pt x="6895812" y="74380"/>
                </a:lnTo>
                <a:lnTo>
                  <a:pt x="6895812" y="70596"/>
                </a:lnTo>
                <a:lnTo>
                  <a:pt x="6895812" y="28790"/>
                </a:lnTo>
                <a:lnTo>
                  <a:pt x="6880138" y="28790"/>
                </a:lnTo>
                <a:lnTo>
                  <a:pt x="6877430" y="28790"/>
                </a:lnTo>
                <a:lnTo>
                  <a:pt x="6833935" y="28790"/>
                </a:lnTo>
                <a:lnTo>
                  <a:pt x="6830152" y="28790"/>
                </a:lnTo>
                <a:lnTo>
                  <a:pt x="6816791" y="28790"/>
                </a:lnTo>
                <a:lnTo>
                  <a:pt x="6816791" y="45890"/>
                </a:lnTo>
                <a:lnTo>
                  <a:pt x="6816791" y="236476"/>
                </a:lnTo>
                <a:lnTo>
                  <a:pt x="6778836" y="236476"/>
                </a:lnTo>
                <a:lnTo>
                  <a:pt x="6778559" y="236476"/>
                </a:lnTo>
                <a:lnTo>
                  <a:pt x="6688182" y="236476"/>
                </a:lnTo>
                <a:lnTo>
                  <a:pt x="6688182" y="129565"/>
                </a:lnTo>
                <a:lnTo>
                  <a:pt x="6774776" y="129565"/>
                </a:lnTo>
                <a:lnTo>
                  <a:pt x="6774776" y="194969"/>
                </a:lnTo>
                <a:lnTo>
                  <a:pt x="6731281" y="194969"/>
                </a:lnTo>
                <a:lnTo>
                  <a:pt x="6731281" y="170262"/>
                </a:lnTo>
                <a:lnTo>
                  <a:pt x="6750518" y="170262"/>
                </a:lnTo>
                <a:lnTo>
                  <a:pt x="6750518" y="152735"/>
                </a:lnTo>
                <a:lnTo>
                  <a:pt x="6712899" y="152735"/>
                </a:lnTo>
                <a:lnTo>
                  <a:pt x="6712899" y="166478"/>
                </a:lnTo>
                <a:lnTo>
                  <a:pt x="6712899" y="170262"/>
                </a:lnTo>
                <a:lnTo>
                  <a:pt x="6712899" y="212068"/>
                </a:lnTo>
                <a:lnTo>
                  <a:pt x="6728574" y="212068"/>
                </a:lnTo>
                <a:lnTo>
                  <a:pt x="6731281" y="212068"/>
                </a:lnTo>
                <a:lnTo>
                  <a:pt x="6774776" y="212068"/>
                </a:lnTo>
                <a:lnTo>
                  <a:pt x="6778559" y="212068"/>
                </a:lnTo>
                <a:lnTo>
                  <a:pt x="6778559" y="111293"/>
                </a:lnTo>
                <a:lnTo>
                  <a:pt x="6691965" y="111293"/>
                </a:lnTo>
                <a:lnTo>
                  <a:pt x="6691965" y="45890"/>
                </a:lnTo>
                <a:lnTo>
                  <a:pt x="6735460" y="45890"/>
                </a:lnTo>
                <a:lnTo>
                  <a:pt x="6735460" y="70596"/>
                </a:lnTo>
                <a:lnTo>
                  <a:pt x="6716223" y="70596"/>
                </a:lnTo>
                <a:lnTo>
                  <a:pt x="6716223" y="88123"/>
                </a:lnTo>
                <a:lnTo>
                  <a:pt x="6753843" y="88123"/>
                </a:lnTo>
                <a:lnTo>
                  <a:pt x="6753843" y="74380"/>
                </a:lnTo>
                <a:lnTo>
                  <a:pt x="6753843" y="70596"/>
                </a:lnTo>
                <a:lnTo>
                  <a:pt x="6753843" y="28790"/>
                </a:lnTo>
                <a:lnTo>
                  <a:pt x="6738168" y="28790"/>
                </a:lnTo>
                <a:lnTo>
                  <a:pt x="6735460" y="28790"/>
                </a:lnTo>
                <a:lnTo>
                  <a:pt x="6691965" y="28790"/>
                </a:lnTo>
                <a:lnTo>
                  <a:pt x="6688182" y="28790"/>
                </a:lnTo>
                <a:lnTo>
                  <a:pt x="6674821" y="28790"/>
                </a:lnTo>
                <a:lnTo>
                  <a:pt x="6674821" y="45890"/>
                </a:lnTo>
                <a:lnTo>
                  <a:pt x="6674821" y="236476"/>
                </a:lnTo>
                <a:lnTo>
                  <a:pt x="6636866" y="236476"/>
                </a:lnTo>
                <a:lnTo>
                  <a:pt x="6636589" y="236476"/>
                </a:lnTo>
                <a:lnTo>
                  <a:pt x="6546212" y="236476"/>
                </a:lnTo>
                <a:lnTo>
                  <a:pt x="6546212" y="129565"/>
                </a:lnTo>
                <a:lnTo>
                  <a:pt x="6632807" y="129565"/>
                </a:lnTo>
                <a:lnTo>
                  <a:pt x="6632807" y="194969"/>
                </a:lnTo>
                <a:lnTo>
                  <a:pt x="6589311" y="194969"/>
                </a:lnTo>
                <a:lnTo>
                  <a:pt x="6589311" y="170262"/>
                </a:lnTo>
                <a:lnTo>
                  <a:pt x="6608548" y="170262"/>
                </a:lnTo>
                <a:lnTo>
                  <a:pt x="6608548" y="152735"/>
                </a:lnTo>
                <a:lnTo>
                  <a:pt x="6570929" y="152735"/>
                </a:lnTo>
                <a:lnTo>
                  <a:pt x="6570929" y="166478"/>
                </a:lnTo>
                <a:lnTo>
                  <a:pt x="6570929" y="170262"/>
                </a:lnTo>
                <a:lnTo>
                  <a:pt x="6570929" y="212068"/>
                </a:lnTo>
                <a:lnTo>
                  <a:pt x="6586604" y="212068"/>
                </a:lnTo>
                <a:lnTo>
                  <a:pt x="6589311" y="212068"/>
                </a:lnTo>
                <a:lnTo>
                  <a:pt x="6632807" y="212068"/>
                </a:lnTo>
                <a:lnTo>
                  <a:pt x="6636589" y="212068"/>
                </a:lnTo>
                <a:lnTo>
                  <a:pt x="6636589" y="111293"/>
                </a:lnTo>
                <a:lnTo>
                  <a:pt x="6549995" y="111293"/>
                </a:lnTo>
                <a:lnTo>
                  <a:pt x="6549995" y="45890"/>
                </a:lnTo>
                <a:lnTo>
                  <a:pt x="6593490" y="45890"/>
                </a:lnTo>
                <a:lnTo>
                  <a:pt x="6593490" y="70596"/>
                </a:lnTo>
                <a:lnTo>
                  <a:pt x="6574253" y="70596"/>
                </a:lnTo>
                <a:lnTo>
                  <a:pt x="6574253" y="88123"/>
                </a:lnTo>
                <a:lnTo>
                  <a:pt x="6611873" y="88123"/>
                </a:lnTo>
                <a:lnTo>
                  <a:pt x="6611873" y="74380"/>
                </a:lnTo>
                <a:lnTo>
                  <a:pt x="6611873" y="70596"/>
                </a:lnTo>
                <a:lnTo>
                  <a:pt x="6611873" y="28790"/>
                </a:lnTo>
                <a:lnTo>
                  <a:pt x="6596198" y="28790"/>
                </a:lnTo>
                <a:lnTo>
                  <a:pt x="6593490" y="28790"/>
                </a:lnTo>
                <a:lnTo>
                  <a:pt x="6549995" y="28790"/>
                </a:lnTo>
                <a:lnTo>
                  <a:pt x="6546212" y="28790"/>
                </a:lnTo>
                <a:lnTo>
                  <a:pt x="6532851" y="28790"/>
                </a:lnTo>
                <a:lnTo>
                  <a:pt x="6532851" y="45890"/>
                </a:lnTo>
                <a:lnTo>
                  <a:pt x="6532851" y="236476"/>
                </a:lnTo>
                <a:lnTo>
                  <a:pt x="6494896" y="236476"/>
                </a:lnTo>
                <a:lnTo>
                  <a:pt x="6494619" y="236476"/>
                </a:lnTo>
                <a:lnTo>
                  <a:pt x="6404242" y="236476"/>
                </a:lnTo>
                <a:lnTo>
                  <a:pt x="6404242" y="129565"/>
                </a:lnTo>
                <a:lnTo>
                  <a:pt x="6490837" y="129565"/>
                </a:lnTo>
                <a:lnTo>
                  <a:pt x="6490837" y="194969"/>
                </a:lnTo>
                <a:lnTo>
                  <a:pt x="6447341" y="194969"/>
                </a:lnTo>
                <a:lnTo>
                  <a:pt x="6447341" y="170262"/>
                </a:lnTo>
                <a:lnTo>
                  <a:pt x="6466578" y="170262"/>
                </a:lnTo>
                <a:lnTo>
                  <a:pt x="6466578" y="152735"/>
                </a:lnTo>
                <a:lnTo>
                  <a:pt x="6428959" y="152735"/>
                </a:lnTo>
                <a:lnTo>
                  <a:pt x="6428959" y="166478"/>
                </a:lnTo>
                <a:lnTo>
                  <a:pt x="6428959" y="170262"/>
                </a:lnTo>
                <a:lnTo>
                  <a:pt x="6428959" y="212068"/>
                </a:lnTo>
                <a:lnTo>
                  <a:pt x="6444634" y="212068"/>
                </a:lnTo>
                <a:lnTo>
                  <a:pt x="6447341" y="212068"/>
                </a:lnTo>
                <a:lnTo>
                  <a:pt x="6490837" y="212068"/>
                </a:lnTo>
                <a:lnTo>
                  <a:pt x="6494619" y="212068"/>
                </a:lnTo>
                <a:lnTo>
                  <a:pt x="6494619" y="111293"/>
                </a:lnTo>
                <a:lnTo>
                  <a:pt x="6408025" y="111293"/>
                </a:lnTo>
                <a:lnTo>
                  <a:pt x="6408025" y="45890"/>
                </a:lnTo>
                <a:lnTo>
                  <a:pt x="6451520" y="45890"/>
                </a:lnTo>
                <a:lnTo>
                  <a:pt x="6451520" y="70596"/>
                </a:lnTo>
                <a:lnTo>
                  <a:pt x="6432283" y="70596"/>
                </a:lnTo>
                <a:lnTo>
                  <a:pt x="6432283" y="88123"/>
                </a:lnTo>
                <a:lnTo>
                  <a:pt x="6469903" y="88123"/>
                </a:lnTo>
                <a:lnTo>
                  <a:pt x="6469903" y="74380"/>
                </a:lnTo>
                <a:lnTo>
                  <a:pt x="6469903" y="70596"/>
                </a:lnTo>
                <a:lnTo>
                  <a:pt x="6469903" y="28790"/>
                </a:lnTo>
                <a:lnTo>
                  <a:pt x="6454228" y="28790"/>
                </a:lnTo>
                <a:lnTo>
                  <a:pt x="6451520" y="28790"/>
                </a:lnTo>
                <a:lnTo>
                  <a:pt x="6408025" y="28790"/>
                </a:lnTo>
                <a:lnTo>
                  <a:pt x="6404242" y="28790"/>
                </a:lnTo>
                <a:lnTo>
                  <a:pt x="6390881" y="28790"/>
                </a:lnTo>
                <a:lnTo>
                  <a:pt x="6390881" y="45890"/>
                </a:lnTo>
                <a:lnTo>
                  <a:pt x="6390881" y="236476"/>
                </a:lnTo>
                <a:lnTo>
                  <a:pt x="6352926" y="236476"/>
                </a:lnTo>
                <a:lnTo>
                  <a:pt x="6352649" y="236476"/>
                </a:lnTo>
                <a:lnTo>
                  <a:pt x="6262272" y="236476"/>
                </a:lnTo>
                <a:lnTo>
                  <a:pt x="6262272" y="129565"/>
                </a:lnTo>
                <a:lnTo>
                  <a:pt x="6348867" y="129565"/>
                </a:lnTo>
                <a:lnTo>
                  <a:pt x="6348867" y="194969"/>
                </a:lnTo>
                <a:lnTo>
                  <a:pt x="6305371" y="194969"/>
                </a:lnTo>
                <a:lnTo>
                  <a:pt x="6305371" y="170262"/>
                </a:lnTo>
                <a:lnTo>
                  <a:pt x="6324608" y="170262"/>
                </a:lnTo>
                <a:lnTo>
                  <a:pt x="6324608" y="152735"/>
                </a:lnTo>
                <a:lnTo>
                  <a:pt x="6286989" y="152735"/>
                </a:lnTo>
                <a:lnTo>
                  <a:pt x="6286989" y="166478"/>
                </a:lnTo>
                <a:lnTo>
                  <a:pt x="6286989" y="170262"/>
                </a:lnTo>
                <a:lnTo>
                  <a:pt x="6286989" y="212068"/>
                </a:lnTo>
                <a:lnTo>
                  <a:pt x="6302664" y="212068"/>
                </a:lnTo>
                <a:lnTo>
                  <a:pt x="6305371" y="212068"/>
                </a:lnTo>
                <a:lnTo>
                  <a:pt x="6348867" y="212068"/>
                </a:lnTo>
                <a:lnTo>
                  <a:pt x="6352649" y="212068"/>
                </a:lnTo>
                <a:lnTo>
                  <a:pt x="6352649" y="111293"/>
                </a:lnTo>
                <a:lnTo>
                  <a:pt x="6266055" y="111293"/>
                </a:lnTo>
                <a:lnTo>
                  <a:pt x="6266055" y="45890"/>
                </a:lnTo>
                <a:lnTo>
                  <a:pt x="6309550" y="45890"/>
                </a:lnTo>
                <a:lnTo>
                  <a:pt x="6309550" y="70596"/>
                </a:lnTo>
                <a:lnTo>
                  <a:pt x="6290313" y="70596"/>
                </a:lnTo>
                <a:lnTo>
                  <a:pt x="6290313" y="88123"/>
                </a:lnTo>
                <a:lnTo>
                  <a:pt x="6327933" y="88123"/>
                </a:lnTo>
                <a:lnTo>
                  <a:pt x="6327933" y="74380"/>
                </a:lnTo>
                <a:lnTo>
                  <a:pt x="6327933" y="70596"/>
                </a:lnTo>
                <a:lnTo>
                  <a:pt x="6327933" y="28790"/>
                </a:lnTo>
                <a:lnTo>
                  <a:pt x="6312258" y="28790"/>
                </a:lnTo>
                <a:lnTo>
                  <a:pt x="6309550" y="28790"/>
                </a:lnTo>
                <a:lnTo>
                  <a:pt x="6266055" y="28790"/>
                </a:lnTo>
                <a:lnTo>
                  <a:pt x="6262272" y="28790"/>
                </a:lnTo>
                <a:lnTo>
                  <a:pt x="6248911" y="28790"/>
                </a:lnTo>
                <a:lnTo>
                  <a:pt x="6248911" y="45890"/>
                </a:lnTo>
                <a:lnTo>
                  <a:pt x="6248911" y="236476"/>
                </a:lnTo>
                <a:lnTo>
                  <a:pt x="6210956" y="236476"/>
                </a:lnTo>
                <a:lnTo>
                  <a:pt x="6210679" y="236476"/>
                </a:lnTo>
                <a:lnTo>
                  <a:pt x="6120302" y="236476"/>
                </a:lnTo>
                <a:lnTo>
                  <a:pt x="6120302" y="129565"/>
                </a:lnTo>
                <a:lnTo>
                  <a:pt x="6206897" y="129565"/>
                </a:lnTo>
                <a:lnTo>
                  <a:pt x="6206897" y="194969"/>
                </a:lnTo>
                <a:lnTo>
                  <a:pt x="6163401" y="194969"/>
                </a:lnTo>
                <a:lnTo>
                  <a:pt x="6163401" y="170262"/>
                </a:lnTo>
                <a:lnTo>
                  <a:pt x="6182638" y="170262"/>
                </a:lnTo>
                <a:lnTo>
                  <a:pt x="6182638" y="152735"/>
                </a:lnTo>
                <a:lnTo>
                  <a:pt x="6145019" y="152735"/>
                </a:lnTo>
                <a:lnTo>
                  <a:pt x="6145019" y="166478"/>
                </a:lnTo>
                <a:lnTo>
                  <a:pt x="6145019" y="170262"/>
                </a:lnTo>
                <a:lnTo>
                  <a:pt x="6145019" y="212068"/>
                </a:lnTo>
                <a:lnTo>
                  <a:pt x="6160694" y="212068"/>
                </a:lnTo>
                <a:lnTo>
                  <a:pt x="6163401" y="212068"/>
                </a:lnTo>
                <a:lnTo>
                  <a:pt x="6206897" y="212068"/>
                </a:lnTo>
                <a:lnTo>
                  <a:pt x="6210679" y="212068"/>
                </a:lnTo>
                <a:lnTo>
                  <a:pt x="6210679" y="111293"/>
                </a:lnTo>
                <a:lnTo>
                  <a:pt x="6124085" y="111293"/>
                </a:lnTo>
                <a:lnTo>
                  <a:pt x="6124085" y="45890"/>
                </a:lnTo>
                <a:lnTo>
                  <a:pt x="6167580" y="45890"/>
                </a:lnTo>
                <a:lnTo>
                  <a:pt x="6167580" y="70596"/>
                </a:lnTo>
                <a:lnTo>
                  <a:pt x="6148343" y="70596"/>
                </a:lnTo>
                <a:lnTo>
                  <a:pt x="6148343" y="88123"/>
                </a:lnTo>
                <a:lnTo>
                  <a:pt x="6185963" y="88123"/>
                </a:lnTo>
                <a:lnTo>
                  <a:pt x="6185963" y="74380"/>
                </a:lnTo>
                <a:lnTo>
                  <a:pt x="6185963" y="70596"/>
                </a:lnTo>
                <a:lnTo>
                  <a:pt x="6185963" y="28790"/>
                </a:lnTo>
                <a:lnTo>
                  <a:pt x="6170288" y="28790"/>
                </a:lnTo>
                <a:lnTo>
                  <a:pt x="6167580" y="28790"/>
                </a:lnTo>
                <a:lnTo>
                  <a:pt x="6124085" y="28790"/>
                </a:lnTo>
                <a:lnTo>
                  <a:pt x="6120302" y="28790"/>
                </a:lnTo>
                <a:lnTo>
                  <a:pt x="6106941" y="28790"/>
                </a:lnTo>
                <a:lnTo>
                  <a:pt x="6106941" y="45890"/>
                </a:lnTo>
                <a:lnTo>
                  <a:pt x="6106941" y="236476"/>
                </a:lnTo>
                <a:lnTo>
                  <a:pt x="5978332" y="236476"/>
                </a:lnTo>
                <a:lnTo>
                  <a:pt x="5978332" y="129565"/>
                </a:lnTo>
                <a:lnTo>
                  <a:pt x="6064927" y="129565"/>
                </a:lnTo>
                <a:lnTo>
                  <a:pt x="6064927" y="194969"/>
                </a:lnTo>
                <a:lnTo>
                  <a:pt x="6021431" y="194969"/>
                </a:lnTo>
                <a:lnTo>
                  <a:pt x="6021431" y="170262"/>
                </a:lnTo>
                <a:lnTo>
                  <a:pt x="6040668" y="170262"/>
                </a:lnTo>
                <a:lnTo>
                  <a:pt x="6040668" y="152735"/>
                </a:lnTo>
                <a:lnTo>
                  <a:pt x="6003049" y="152735"/>
                </a:lnTo>
                <a:lnTo>
                  <a:pt x="6003049" y="166478"/>
                </a:lnTo>
                <a:lnTo>
                  <a:pt x="6003049" y="170262"/>
                </a:lnTo>
                <a:lnTo>
                  <a:pt x="6003049" y="212068"/>
                </a:lnTo>
                <a:lnTo>
                  <a:pt x="6018724" y="212068"/>
                </a:lnTo>
                <a:lnTo>
                  <a:pt x="6021431" y="212068"/>
                </a:lnTo>
                <a:lnTo>
                  <a:pt x="6064927" y="212068"/>
                </a:lnTo>
                <a:lnTo>
                  <a:pt x="6070220" y="212068"/>
                </a:lnTo>
                <a:lnTo>
                  <a:pt x="6070220" y="106911"/>
                </a:lnTo>
                <a:lnTo>
                  <a:pt x="5983626" y="106911"/>
                </a:lnTo>
                <a:lnTo>
                  <a:pt x="5983626" y="41508"/>
                </a:lnTo>
                <a:lnTo>
                  <a:pt x="6027121" y="41508"/>
                </a:lnTo>
                <a:lnTo>
                  <a:pt x="6027121" y="66214"/>
                </a:lnTo>
                <a:lnTo>
                  <a:pt x="6007884" y="66214"/>
                </a:lnTo>
                <a:lnTo>
                  <a:pt x="6007884" y="83741"/>
                </a:lnTo>
                <a:lnTo>
                  <a:pt x="6045504" y="83741"/>
                </a:lnTo>
                <a:lnTo>
                  <a:pt x="6045504" y="69998"/>
                </a:lnTo>
                <a:lnTo>
                  <a:pt x="6045504" y="66214"/>
                </a:lnTo>
                <a:lnTo>
                  <a:pt x="6045504" y="24408"/>
                </a:lnTo>
                <a:lnTo>
                  <a:pt x="6029829" y="24408"/>
                </a:lnTo>
                <a:lnTo>
                  <a:pt x="6027121" y="24408"/>
                </a:lnTo>
                <a:lnTo>
                  <a:pt x="5983626" y="24408"/>
                </a:lnTo>
                <a:lnTo>
                  <a:pt x="5978332" y="24408"/>
                </a:lnTo>
                <a:lnTo>
                  <a:pt x="5966482" y="24408"/>
                </a:lnTo>
                <a:lnTo>
                  <a:pt x="5966482" y="41508"/>
                </a:lnTo>
                <a:lnTo>
                  <a:pt x="5966482" y="232094"/>
                </a:lnTo>
                <a:lnTo>
                  <a:pt x="5928527" y="232094"/>
                </a:lnTo>
                <a:lnTo>
                  <a:pt x="5928527" y="232095"/>
                </a:lnTo>
                <a:lnTo>
                  <a:pt x="5928250" y="232095"/>
                </a:lnTo>
                <a:lnTo>
                  <a:pt x="5928250" y="232094"/>
                </a:lnTo>
                <a:lnTo>
                  <a:pt x="5837873" y="232094"/>
                </a:lnTo>
                <a:lnTo>
                  <a:pt x="5837873" y="125183"/>
                </a:lnTo>
                <a:lnTo>
                  <a:pt x="5924468" y="125183"/>
                </a:lnTo>
                <a:lnTo>
                  <a:pt x="5924468" y="190587"/>
                </a:lnTo>
                <a:lnTo>
                  <a:pt x="5880972" y="190587"/>
                </a:lnTo>
                <a:lnTo>
                  <a:pt x="5880972" y="165880"/>
                </a:lnTo>
                <a:lnTo>
                  <a:pt x="5900209" y="165880"/>
                </a:lnTo>
                <a:lnTo>
                  <a:pt x="5900209" y="148353"/>
                </a:lnTo>
                <a:lnTo>
                  <a:pt x="5862590" y="148353"/>
                </a:lnTo>
                <a:lnTo>
                  <a:pt x="5862590" y="162096"/>
                </a:lnTo>
                <a:lnTo>
                  <a:pt x="5862590" y="165880"/>
                </a:lnTo>
                <a:lnTo>
                  <a:pt x="5862590" y="207686"/>
                </a:lnTo>
                <a:lnTo>
                  <a:pt x="5878265" y="207686"/>
                </a:lnTo>
                <a:lnTo>
                  <a:pt x="5880972" y="207686"/>
                </a:lnTo>
                <a:lnTo>
                  <a:pt x="5924468" y="207686"/>
                </a:lnTo>
                <a:lnTo>
                  <a:pt x="5928250" y="207686"/>
                </a:lnTo>
                <a:lnTo>
                  <a:pt x="5928250" y="106912"/>
                </a:lnTo>
                <a:lnTo>
                  <a:pt x="5841656" y="106912"/>
                </a:lnTo>
                <a:lnTo>
                  <a:pt x="5841656" y="41509"/>
                </a:lnTo>
                <a:lnTo>
                  <a:pt x="5885151" y="41509"/>
                </a:lnTo>
                <a:lnTo>
                  <a:pt x="5885151" y="66215"/>
                </a:lnTo>
                <a:lnTo>
                  <a:pt x="5865914" y="66215"/>
                </a:lnTo>
                <a:lnTo>
                  <a:pt x="5865914" y="83742"/>
                </a:lnTo>
                <a:lnTo>
                  <a:pt x="5903534" y="83742"/>
                </a:lnTo>
                <a:lnTo>
                  <a:pt x="5903534" y="69999"/>
                </a:lnTo>
                <a:lnTo>
                  <a:pt x="5903534" y="66215"/>
                </a:lnTo>
                <a:lnTo>
                  <a:pt x="5903534" y="24409"/>
                </a:lnTo>
                <a:lnTo>
                  <a:pt x="5887859" y="24409"/>
                </a:lnTo>
                <a:lnTo>
                  <a:pt x="5885151" y="24409"/>
                </a:lnTo>
                <a:lnTo>
                  <a:pt x="5841656" y="24409"/>
                </a:lnTo>
                <a:lnTo>
                  <a:pt x="5837873" y="24409"/>
                </a:lnTo>
                <a:lnTo>
                  <a:pt x="5824512" y="24409"/>
                </a:lnTo>
                <a:lnTo>
                  <a:pt x="5824512" y="41509"/>
                </a:lnTo>
                <a:lnTo>
                  <a:pt x="5824512" y="232095"/>
                </a:lnTo>
                <a:lnTo>
                  <a:pt x="5786557" y="232095"/>
                </a:lnTo>
                <a:lnTo>
                  <a:pt x="5786280" y="232095"/>
                </a:lnTo>
                <a:lnTo>
                  <a:pt x="5695903" y="232095"/>
                </a:lnTo>
                <a:lnTo>
                  <a:pt x="5695903" y="125184"/>
                </a:lnTo>
                <a:lnTo>
                  <a:pt x="5782498" y="125184"/>
                </a:lnTo>
                <a:lnTo>
                  <a:pt x="5782498" y="190588"/>
                </a:lnTo>
                <a:lnTo>
                  <a:pt x="5739002" y="190588"/>
                </a:lnTo>
                <a:lnTo>
                  <a:pt x="5739002" y="165881"/>
                </a:lnTo>
                <a:lnTo>
                  <a:pt x="5758239" y="165881"/>
                </a:lnTo>
                <a:lnTo>
                  <a:pt x="5758239" y="148354"/>
                </a:lnTo>
                <a:lnTo>
                  <a:pt x="5720620" y="148354"/>
                </a:lnTo>
                <a:lnTo>
                  <a:pt x="5720620" y="162097"/>
                </a:lnTo>
                <a:lnTo>
                  <a:pt x="5720620" y="165881"/>
                </a:lnTo>
                <a:lnTo>
                  <a:pt x="5720620" y="207687"/>
                </a:lnTo>
                <a:lnTo>
                  <a:pt x="5736295" y="207687"/>
                </a:lnTo>
                <a:lnTo>
                  <a:pt x="5739002" y="207687"/>
                </a:lnTo>
                <a:lnTo>
                  <a:pt x="5782498" y="207687"/>
                </a:lnTo>
                <a:lnTo>
                  <a:pt x="5786280" y="207687"/>
                </a:lnTo>
                <a:lnTo>
                  <a:pt x="5786280" y="106912"/>
                </a:lnTo>
                <a:lnTo>
                  <a:pt x="5699686" y="106912"/>
                </a:lnTo>
                <a:lnTo>
                  <a:pt x="5699686" y="41509"/>
                </a:lnTo>
                <a:lnTo>
                  <a:pt x="5743181" y="41509"/>
                </a:lnTo>
                <a:lnTo>
                  <a:pt x="5743181" y="66215"/>
                </a:lnTo>
                <a:lnTo>
                  <a:pt x="5723944" y="66215"/>
                </a:lnTo>
                <a:lnTo>
                  <a:pt x="5723944" y="83742"/>
                </a:lnTo>
                <a:lnTo>
                  <a:pt x="5761564" y="83742"/>
                </a:lnTo>
                <a:lnTo>
                  <a:pt x="5761564" y="69999"/>
                </a:lnTo>
                <a:lnTo>
                  <a:pt x="5761564" y="66215"/>
                </a:lnTo>
                <a:lnTo>
                  <a:pt x="5761564" y="24409"/>
                </a:lnTo>
                <a:lnTo>
                  <a:pt x="5745889" y="24409"/>
                </a:lnTo>
                <a:lnTo>
                  <a:pt x="5743181" y="24409"/>
                </a:lnTo>
                <a:lnTo>
                  <a:pt x="5699686" y="24409"/>
                </a:lnTo>
                <a:lnTo>
                  <a:pt x="5695903" y="24409"/>
                </a:lnTo>
                <a:lnTo>
                  <a:pt x="5682542" y="24409"/>
                </a:lnTo>
                <a:lnTo>
                  <a:pt x="5682542" y="41509"/>
                </a:lnTo>
                <a:lnTo>
                  <a:pt x="5682542" y="232095"/>
                </a:lnTo>
                <a:lnTo>
                  <a:pt x="5644587" y="232095"/>
                </a:lnTo>
                <a:lnTo>
                  <a:pt x="5644587" y="232096"/>
                </a:lnTo>
                <a:lnTo>
                  <a:pt x="5644310" y="232096"/>
                </a:lnTo>
                <a:lnTo>
                  <a:pt x="5644310" y="232095"/>
                </a:lnTo>
                <a:lnTo>
                  <a:pt x="5553933" y="232095"/>
                </a:lnTo>
                <a:lnTo>
                  <a:pt x="5553933" y="125184"/>
                </a:lnTo>
                <a:lnTo>
                  <a:pt x="5640528" y="125184"/>
                </a:lnTo>
                <a:lnTo>
                  <a:pt x="5640528" y="190588"/>
                </a:lnTo>
                <a:lnTo>
                  <a:pt x="5597032" y="190588"/>
                </a:lnTo>
                <a:lnTo>
                  <a:pt x="5597032" y="165881"/>
                </a:lnTo>
                <a:lnTo>
                  <a:pt x="5616269" y="165881"/>
                </a:lnTo>
                <a:lnTo>
                  <a:pt x="5616269" y="148354"/>
                </a:lnTo>
                <a:lnTo>
                  <a:pt x="5578650" y="148354"/>
                </a:lnTo>
                <a:lnTo>
                  <a:pt x="5578650" y="162097"/>
                </a:lnTo>
                <a:lnTo>
                  <a:pt x="5578650" y="165881"/>
                </a:lnTo>
                <a:lnTo>
                  <a:pt x="5578650" y="207687"/>
                </a:lnTo>
                <a:lnTo>
                  <a:pt x="5594325" y="207687"/>
                </a:lnTo>
                <a:lnTo>
                  <a:pt x="5597032" y="207687"/>
                </a:lnTo>
                <a:lnTo>
                  <a:pt x="5640528" y="207687"/>
                </a:lnTo>
                <a:lnTo>
                  <a:pt x="5644310" y="207687"/>
                </a:lnTo>
                <a:lnTo>
                  <a:pt x="5644310" y="106913"/>
                </a:lnTo>
                <a:lnTo>
                  <a:pt x="5557716" y="106913"/>
                </a:lnTo>
                <a:lnTo>
                  <a:pt x="5557716" y="41510"/>
                </a:lnTo>
                <a:lnTo>
                  <a:pt x="5601211" y="41510"/>
                </a:lnTo>
                <a:lnTo>
                  <a:pt x="5601211" y="66216"/>
                </a:lnTo>
                <a:lnTo>
                  <a:pt x="5581974" y="66216"/>
                </a:lnTo>
                <a:lnTo>
                  <a:pt x="5581974" y="83743"/>
                </a:lnTo>
                <a:lnTo>
                  <a:pt x="5619594" y="83743"/>
                </a:lnTo>
                <a:lnTo>
                  <a:pt x="5619594" y="70000"/>
                </a:lnTo>
                <a:lnTo>
                  <a:pt x="5619594" y="66216"/>
                </a:lnTo>
                <a:lnTo>
                  <a:pt x="5619594" y="24410"/>
                </a:lnTo>
                <a:lnTo>
                  <a:pt x="5603919" y="24410"/>
                </a:lnTo>
                <a:lnTo>
                  <a:pt x="5601211" y="24410"/>
                </a:lnTo>
                <a:lnTo>
                  <a:pt x="5557716" y="24410"/>
                </a:lnTo>
                <a:lnTo>
                  <a:pt x="5553933" y="24410"/>
                </a:lnTo>
                <a:lnTo>
                  <a:pt x="5540572" y="24410"/>
                </a:lnTo>
                <a:lnTo>
                  <a:pt x="5540572" y="41510"/>
                </a:lnTo>
                <a:lnTo>
                  <a:pt x="5540572" y="232096"/>
                </a:lnTo>
                <a:lnTo>
                  <a:pt x="5502616" y="232096"/>
                </a:lnTo>
                <a:lnTo>
                  <a:pt x="5502616" y="232097"/>
                </a:lnTo>
                <a:lnTo>
                  <a:pt x="5502339" y="232097"/>
                </a:lnTo>
                <a:lnTo>
                  <a:pt x="5502339" y="232096"/>
                </a:lnTo>
                <a:lnTo>
                  <a:pt x="5411963" y="232096"/>
                </a:lnTo>
                <a:lnTo>
                  <a:pt x="5411963" y="125185"/>
                </a:lnTo>
                <a:lnTo>
                  <a:pt x="5498558" y="125185"/>
                </a:lnTo>
                <a:lnTo>
                  <a:pt x="5498558" y="190589"/>
                </a:lnTo>
                <a:lnTo>
                  <a:pt x="5455062" y="190589"/>
                </a:lnTo>
                <a:lnTo>
                  <a:pt x="5455062" y="165882"/>
                </a:lnTo>
                <a:lnTo>
                  <a:pt x="5474299" y="165882"/>
                </a:lnTo>
                <a:lnTo>
                  <a:pt x="5474299" y="148355"/>
                </a:lnTo>
                <a:lnTo>
                  <a:pt x="5436680" y="148355"/>
                </a:lnTo>
                <a:lnTo>
                  <a:pt x="5436680" y="162098"/>
                </a:lnTo>
                <a:lnTo>
                  <a:pt x="5436680" y="165882"/>
                </a:lnTo>
                <a:lnTo>
                  <a:pt x="5436680" y="207688"/>
                </a:lnTo>
                <a:lnTo>
                  <a:pt x="5452355" y="207688"/>
                </a:lnTo>
                <a:lnTo>
                  <a:pt x="5455062" y="207688"/>
                </a:lnTo>
                <a:lnTo>
                  <a:pt x="5498558" y="207688"/>
                </a:lnTo>
                <a:lnTo>
                  <a:pt x="5502339" y="207688"/>
                </a:lnTo>
                <a:lnTo>
                  <a:pt x="5502339" y="106914"/>
                </a:lnTo>
                <a:lnTo>
                  <a:pt x="5415745" y="106914"/>
                </a:lnTo>
                <a:lnTo>
                  <a:pt x="5415745" y="41511"/>
                </a:lnTo>
                <a:lnTo>
                  <a:pt x="5459240" y="41511"/>
                </a:lnTo>
                <a:lnTo>
                  <a:pt x="5459240" y="66217"/>
                </a:lnTo>
                <a:lnTo>
                  <a:pt x="5440003" y="66217"/>
                </a:lnTo>
                <a:lnTo>
                  <a:pt x="5440003" y="83744"/>
                </a:lnTo>
                <a:lnTo>
                  <a:pt x="5477623" y="83744"/>
                </a:lnTo>
                <a:lnTo>
                  <a:pt x="5477623" y="70001"/>
                </a:lnTo>
                <a:lnTo>
                  <a:pt x="5477623" y="66217"/>
                </a:lnTo>
                <a:lnTo>
                  <a:pt x="5477623" y="24411"/>
                </a:lnTo>
                <a:lnTo>
                  <a:pt x="5461948" y="24411"/>
                </a:lnTo>
                <a:lnTo>
                  <a:pt x="5459240" y="24411"/>
                </a:lnTo>
                <a:lnTo>
                  <a:pt x="5415745" y="24411"/>
                </a:lnTo>
                <a:lnTo>
                  <a:pt x="5411963" y="24411"/>
                </a:lnTo>
                <a:lnTo>
                  <a:pt x="5398601" y="24411"/>
                </a:lnTo>
                <a:lnTo>
                  <a:pt x="5398601" y="41511"/>
                </a:lnTo>
                <a:lnTo>
                  <a:pt x="5398601" y="232097"/>
                </a:lnTo>
                <a:lnTo>
                  <a:pt x="5360646" y="232097"/>
                </a:lnTo>
                <a:lnTo>
                  <a:pt x="5360646" y="232098"/>
                </a:lnTo>
                <a:lnTo>
                  <a:pt x="5360369" y="232098"/>
                </a:lnTo>
                <a:lnTo>
                  <a:pt x="5360369" y="232097"/>
                </a:lnTo>
                <a:lnTo>
                  <a:pt x="5269992" y="232097"/>
                </a:lnTo>
                <a:lnTo>
                  <a:pt x="5269992" y="125186"/>
                </a:lnTo>
                <a:lnTo>
                  <a:pt x="5356587" y="125186"/>
                </a:lnTo>
                <a:lnTo>
                  <a:pt x="5356587" y="190590"/>
                </a:lnTo>
                <a:lnTo>
                  <a:pt x="5313091" y="190590"/>
                </a:lnTo>
                <a:lnTo>
                  <a:pt x="5313091" y="165883"/>
                </a:lnTo>
                <a:lnTo>
                  <a:pt x="5332328" y="165883"/>
                </a:lnTo>
                <a:lnTo>
                  <a:pt x="5332328" y="148356"/>
                </a:lnTo>
                <a:lnTo>
                  <a:pt x="5294709" y="148356"/>
                </a:lnTo>
                <a:lnTo>
                  <a:pt x="5294709" y="162099"/>
                </a:lnTo>
                <a:lnTo>
                  <a:pt x="5294709" y="165883"/>
                </a:lnTo>
                <a:lnTo>
                  <a:pt x="5294709" y="207689"/>
                </a:lnTo>
                <a:lnTo>
                  <a:pt x="5310384" y="207689"/>
                </a:lnTo>
                <a:lnTo>
                  <a:pt x="5313091" y="207689"/>
                </a:lnTo>
                <a:lnTo>
                  <a:pt x="5356587" y="207689"/>
                </a:lnTo>
                <a:lnTo>
                  <a:pt x="5360369" y="207689"/>
                </a:lnTo>
                <a:lnTo>
                  <a:pt x="5360369" y="106915"/>
                </a:lnTo>
                <a:lnTo>
                  <a:pt x="5273775" y="106915"/>
                </a:lnTo>
                <a:lnTo>
                  <a:pt x="5273775" y="41512"/>
                </a:lnTo>
                <a:lnTo>
                  <a:pt x="5317270" y="41512"/>
                </a:lnTo>
                <a:lnTo>
                  <a:pt x="5317270" y="66218"/>
                </a:lnTo>
                <a:lnTo>
                  <a:pt x="5298033" y="66218"/>
                </a:lnTo>
                <a:lnTo>
                  <a:pt x="5298033" y="83745"/>
                </a:lnTo>
                <a:lnTo>
                  <a:pt x="5335653" y="83745"/>
                </a:lnTo>
                <a:lnTo>
                  <a:pt x="5335653" y="70002"/>
                </a:lnTo>
                <a:lnTo>
                  <a:pt x="5335653" y="66218"/>
                </a:lnTo>
                <a:lnTo>
                  <a:pt x="5335653" y="24412"/>
                </a:lnTo>
                <a:lnTo>
                  <a:pt x="5319978" y="24412"/>
                </a:lnTo>
                <a:lnTo>
                  <a:pt x="5317270" y="24412"/>
                </a:lnTo>
                <a:lnTo>
                  <a:pt x="5273775" y="24412"/>
                </a:lnTo>
                <a:lnTo>
                  <a:pt x="5269992" y="24412"/>
                </a:lnTo>
                <a:lnTo>
                  <a:pt x="5256631" y="24412"/>
                </a:lnTo>
                <a:lnTo>
                  <a:pt x="5256631" y="41512"/>
                </a:lnTo>
                <a:lnTo>
                  <a:pt x="5256631" y="232098"/>
                </a:lnTo>
                <a:lnTo>
                  <a:pt x="5218676" y="232098"/>
                </a:lnTo>
                <a:lnTo>
                  <a:pt x="5218399" y="232098"/>
                </a:lnTo>
                <a:lnTo>
                  <a:pt x="5128022" y="232098"/>
                </a:lnTo>
                <a:lnTo>
                  <a:pt x="5128022" y="125187"/>
                </a:lnTo>
                <a:lnTo>
                  <a:pt x="5214617" y="125187"/>
                </a:lnTo>
                <a:lnTo>
                  <a:pt x="5214617" y="190591"/>
                </a:lnTo>
                <a:lnTo>
                  <a:pt x="5171121" y="190591"/>
                </a:lnTo>
                <a:lnTo>
                  <a:pt x="5171121" y="165884"/>
                </a:lnTo>
                <a:lnTo>
                  <a:pt x="5190358" y="165884"/>
                </a:lnTo>
                <a:lnTo>
                  <a:pt x="5190358" y="148357"/>
                </a:lnTo>
                <a:lnTo>
                  <a:pt x="5152739" y="148357"/>
                </a:lnTo>
                <a:lnTo>
                  <a:pt x="5152739" y="162100"/>
                </a:lnTo>
                <a:lnTo>
                  <a:pt x="5152739" y="165884"/>
                </a:lnTo>
                <a:lnTo>
                  <a:pt x="5152739" y="207690"/>
                </a:lnTo>
                <a:lnTo>
                  <a:pt x="5168414" y="207690"/>
                </a:lnTo>
                <a:lnTo>
                  <a:pt x="5171121" y="207690"/>
                </a:lnTo>
                <a:lnTo>
                  <a:pt x="5214617" y="207690"/>
                </a:lnTo>
                <a:lnTo>
                  <a:pt x="5218399" y="207690"/>
                </a:lnTo>
                <a:lnTo>
                  <a:pt x="5218399" y="106915"/>
                </a:lnTo>
                <a:lnTo>
                  <a:pt x="5131805" y="106915"/>
                </a:lnTo>
                <a:lnTo>
                  <a:pt x="5131805" y="41512"/>
                </a:lnTo>
                <a:lnTo>
                  <a:pt x="5175300" y="41512"/>
                </a:lnTo>
                <a:lnTo>
                  <a:pt x="5175300" y="66218"/>
                </a:lnTo>
                <a:lnTo>
                  <a:pt x="5156063" y="66218"/>
                </a:lnTo>
                <a:lnTo>
                  <a:pt x="5156063" y="83745"/>
                </a:lnTo>
                <a:lnTo>
                  <a:pt x="5193683" y="83745"/>
                </a:lnTo>
                <a:lnTo>
                  <a:pt x="5193683" y="70002"/>
                </a:lnTo>
                <a:lnTo>
                  <a:pt x="5193683" y="66218"/>
                </a:lnTo>
                <a:lnTo>
                  <a:pt x="5193683" y="24412"/>
                </a:lnTo>
                <a:lnTo>
                  <a:pt x="5178008" y="24412"/>
                </a:lnTo>
                <a:lnTo>
                  <a:pt x="5175300" y="24412"/>
                </a:lnTo>
                <a:lnTo>
                  <a:pt x="5131805" y="24412"/>
                </a:lnTo>
                <a:lnTo>
                  <a:pt x="5128022" y="24412"/>
                </a:lnTo>
                <a:lnTo>
                  <a:pt x="5114661" y="24412"/>
                </a:lnTo>
                <a:lnTo>
                  <a:pt x="5114661" y="41512"/>
                </a:lnTo>
                <a:lnTo>
                  <a:pt x="5114661" y="232098"/>
                </a:lnTo>
                <a:lnTo>
                  <a:pt x="5076706" y="232098"/>
                </a:lnTo>
                <a:lnTo>
                  <a:pt x="5076706" y="232099"/>
                </a:lnTo>
                <a:lnTo>
                  <a:pt x="5076429" y="232099"/>
                </a:lnTo>
                <a:lnTo>
                  <a:pt x="5076429" y="232098"/>
                </a:lnTo>
                <a:lnTo>
                  <a:pt x="4986052" y="232098"/>
                </a:lnTo>
                <a:lnTo>
                  <a:pt x="4986052" y="125187"/>
                </a:lnTo>
                <a:lnTo>
                  <a:pt x="5072647" y="125187"/>
                </a:lnTo>
                <a:lnTo>
                  <a:pt x="5072647" y="190591"/>
                </a:lnTo>
                <a:lnTo>
                  <a:pt x="5029151" y="190591"/>
                </a:lnTo>
                <a:lnTo>
                  <a:pt x="5029151" y="165884"/>
                </a:lnTo>
                <a:lnTo>
                  <a:pt x="5048388" y="165884"/>
                </a:lnTo>
                <a:lnTo>
                  <a:pt x="5048388" y="148357"/>
                </a:lnTo>
                <a:lnTo>
                  <a:pt x="5010769" y="148357"/>
                </a:lnTo>
                <a:lnTo>
                  <a:pt x="5010769" y="162100"/>
                </a:lnTo>
                <a:lnTo>
                  <a:pt x="5010769" y="165884"/>
                </a:lnTo>
                <a:lnTo>
                  <a:pt x="5010769" y="207690"/>
                </a:lnTo>
                <a:lnTo>
                  <a:pt x="5026444" y="207690"/>
                </a:lnTo>
                <a:lnTo>
                  <a:pt x="5029151" y="207690"/>
                </a:lnTo>
                <a:lnTo>
                  <a:pt x="5072647" y="207690"/>
                </a:lnTo>
                <a:lnTo>
                  <a:pt x="5076429" y="207690"/>
                </a:lnTo>
                <a:lnTo>
                  <a:pt x="5076429" y="106916"/>
                </a:lnTo>
                <a:lnTo>
                  <a:pt x="4989835" y="106916"/>
                </a:lnTo>
                <a:lnTo>
                  <a:pt x="4989835" y="41513"/>
                </a:lnTo>
                <a:lnTo>
                  <a:pt x="5033330" y="41513"/>
                </a:lnTo>
                <a:lnTo>
                  <a:pt x="5033330" y="66219"/>
                </a:lnTo>
                <a:lnTo>
                  <a:pt x="5014093" y="66219"/>
                </a:lnTo>
                <a:lnTo>
                  <a:pt x="5014093" y="83746"/>
                </a:lnTo>
                <a:lnTo>
                  <a:pt x="5051713" y="83746"/>
                </a:lnTo>
                <a:lnTo>
                  <a:pt x="5051713" y="70003"/>
                </a:lnTo>
                <a:lnTo>
                  <a:pt x="5051713" y="66219"/>
                </a:lnTo>
                <a:lnTo>
                  <a:pt x="5051713" y="24413"/>
                </a:lnTo>
                <a:lnTo>
                  <a:pt x="5036038" y="24413"/>
                </a:lnTo>
                <a:lnTo>
                  <a:pt x="5033330" y="24413"/>
                </a:lnTo>
                <a:lnTo>
                  <a:pt x="4989835" y="24413"/>
                </a:lnTo>
                <a:lnTo>
                  <a:pt x="4986052" y="24413"/>
                </a:lnTo>
                <a:lnTo>
                  <a:pt x="4972691" y="24413"/>
                </a:lnTo>
                <a:lnTo>
                  <a:pt x="4972691" y="41513"/>
                </a:lnTo>
                <a:lnTo>
                  <a:pt x="4972691" y="232099"/>
                </a:lnTo>
                <a:lnTo>
                  <a:pt x="4934736" y="232099"/>
                </a:lnTo>
                <a:lnTo>
                  <a:pt x="4934736" y="232100"/>
                </a:lnTo>
                <a:lnTo>
                  <a:pt x="4934459" y="232100"/>
                </a:lnTo>
                <a:lnTo>
                  <a:pt x="4934459" y="232099"/>
                </a:lnTo>
                <a:lnTo>
                  <a:pt x="4844082" y="232099"/>
                </a:lnTo>
                <a:lnTo>
                  <a:pt x="4844082" y="125188"/>
                </a:lnTo>
                <a:lnTo>
                  <a:pt x="4930677" y="125188"/>
                </a:lnTo>
                <a:lnTo>
                  <a:pt x="4930677" y="190592"/>
                </a:lnTo>
                <a:lnTo>
                  <a:pt x="4887181" y="190592"/>
                </a:lnTo>
                <a:lnTo>
                  <a:pt x="4887181" y="165885"/>
                </a:lnTo>
                <a:lnTo>
                  <a:pt x="4906418" y="165885"/>
                </a:lnTo>
                <a:lnTo>
                  <a:pt x="4906418" y="148358"/>
                </a:lnTo>
                <a:lnTo>
                  <a:pt x="4868799" y="148358"/>
                </a:lnTo>
                <a:lnTo>
                  <a:pt x="4868799" y="162101"/>
                </a:lnTo>
                <a:lnTo>
                  <a:pt x="4868799" y="165885"/>
                </a:lnTo>
                <a:lnTo>
                  <a:pt x="4868799" y="207691"/>
                </a:lnTo>
                <a:lnTo>
                  <a:pt x="4884474" y="207691"/>
                </a:lnTo>
                <a:lnTo>
                  <a:pt x="4887181" y="207691"/>
                </a:lnTo>
                <a:lnTo>
                  <a:pt x="4930677" y="207691"/>
                </a:lnTo>
                <a:lnTo>
                  <a:pt x="4934459" y="207691"/>
                </a:lnTo>
                <a:lnTo>
                  <a:pt x="4934459" y="106917"/>
                </a:lnTo>
                <a:lnTo>
                  <a:pt x="4847865" y="106917"/>
                </a:lnTo>
                <a:lnTo>
                  <a:pt x="4847865" y="41514"/>
                </a:lnTo>
                <a:lnTo>
                  <a:pt x="4891360" y="41514"/>
                </a:lnTo>
                <a:lnTo>
                  <a:pt x="4891360" y="66220"/>
                </a:lnTo>
                <a:lnTo>
                  <a:pt x="4872123" y="66220"/>
                </a:lnTo>
                <a:lnTo>
                  <a:pt x="4872123" y="83747"/>
                </a:lnTo>
                <a:lnTo>
                  <a:pt x="4909743" y="83747"/>
                </a:lnTo>
                <a:lnTo>
                  <a:pt x="4909743" y="70004"/>
                </a:lnTo>
                <a:lnTo>
                  <a:pt x="4909743" y="66220"/>
                </a:lnTo>
                <a:lnTo>
                  <a:pt x="4909743" y="24414"/>
                </a:lnTo>
                <a:lnTo>
                  <a:pt x="4894068" y="24414"/>
                </a:lnTo>
                <a:lnTo>
                  <a:pt x="4891360" y="24414"/>
                </a:lnTo>
                <a:lnTo>
                  <a:pt x="4847865" y="24414"/>
                </a:lnTo>
                <a:lnTo>
                  <a:pt x="4844082" y="24414"/>
                </a:lnTo>
                <a:lnTo>
                  <a:pt x="4830721" y="24414"/>
                </a:lnTo>
                <a:lnTo>
                  <a:pt x="4830721" y="41514"/>
                </a:lnTo>
                <a:lnTo>
                  <a:pt x="4830721" y="232100"/>
                </a:lnTo>
                <a:lnTo>
                  <a:pt x="4792766" y="232100"/>
                </a:lnTo>
                <a:lnTo>
                  <a:pt x="4792766" y="232101"/>
                </a:lnTo>
                <a:lnTo>
                  <a:pt x="4792489" y="232101"/>
                </a:lnTo>
                <a:lnTo>
                  <a:pt x="4792489" y="232100"/>
                </a:lnTo>
                <a:lnTo>
                  <a:pt x="4702112" y="232100"/>
                </a:lnTo>
                <a:lnTo>
                  <a:pt x="4702112" y="125189"/>
                </a:lnTo>
                <a:lnTo>
                  <a:pt x="4788707" y="125189"/>
                </a:lnTo>
                <a:lnTo>
                  <a:pt x="4788707" y="190593"/>
                </a:lnTo>
                <a:lnTo>
                  <a:pt x="4745211" y="190593"/>
                </a:lnTo>
                <a:lnTo>
                  <a:pt x="4745211" y="165886"/>
                </a:lnTo>
                <a:lnTo>
                  <a:pt x="4764448" y="165886"/>
                </a:lnTo>
                <a:lnTo>
                  <a:pt x="4764448" y="148359"/>
                </a:lnTo>
                <a:lnTo>
                  <a:pt x="4726829" y="148359"/>
                </a:lnTo>
                <a:lnTo>
                  <a:pt x="4726829" y="162102"/>
                </a:lnTo>
                <a:lnTo>
                  <a:pt x="4726829" y="165886"/>
                </a:lnTo>
                <a:lnTo>
                  <a:pt x="4726829" y="207692"/>
                </a:lnTo>
                <a:lnTo>
                  <a:pt x="4742504" y="207692"/>
                </a:lnTo>
                <a:lnTo>
                  <a:pt x="4745211" y="207692"/>
                </a:lnTo>
                <a:lnTo>
                  <a:pt x="4788707" y="207692"/>
                </a:lnTo>
                <a:lnTo>
                  <a:pt x="4792489" y="207692"/>
                </a:lnTo>
                <a:lnTo>
                  <a:pt x="4792489" y="106918"/>
                </a:lnTo>
                <a:lnTo>
                  <a:pt x="4705895" y="106918"/>
                </a:lnTo>
                <a:lnTo>
                  <a:pt x="4705895" y="41515"/>
                </a:lnTo>
                <a:lnTo>
                  <a:pt x="4749390" y="41515"/>
                </a:lnTo>
                <a:lnTo>
                  <a:pt x="4749390" y="66221"/>
                </a:lnTo>
                <a:lnTo>
                  <a:pt x="4730153" y="66221"/>
                </a:lnTo>
                <a:lnTo>
                  <a:pt x="4730153" y="83748"/>
                </a:lnTo>
                <a:lnTo>
                  <a:pt x="4767773" y="83748"/>
                </a:lnTo>
                <a:lnTo>
                  <a:pt x="4767773" y="70005"/>
                </a:lnTo>
                <a:lnTo>
                  <a:pt x="4767773" y="66221"/>
                </a:lnTo>
                <a:lnTo>
                  <a:pt x="4767773" y="24415"/>
                </a:lnTo>
                <a:lnTo>
                  <a:pt x="4752098" y="24415"/>
                </a:lnTo>
                <a:lnTo>
                  <a:pt x="4749390" y="24415"/>
                </a:lnTo>
                <a:lnTo>
                  <a:pt x="4705895" y="24415"/>
                </a:lnTo>
                <a:lnTo>
                  <a:pt x="4702112" y="24415"/>
                </a:lnTo>
                <a:lnTo>
                  <a:pt x="4688751" y="24415"/>
                </a:lnTo>
                <a:lnTo>
                  <a:pt x="4688751" y="41515"/>
                </a:lnTo>
                <a:lnTo>
                  <a:pt x="4688751" y="232101"/>
                </a:lnTo>
                <a:lnTo>
                  <a:pt x="4650796" y="232101"/>
                </a:lnTo>
                <a:lnTo>
                  <a:pt x="4650796" y="232102"/>
                </a:lnTo>
                <a:lnTo>
                  <a:pt x="4650519" y="232102"/>
                </a:lnTo>
                <a:lnTo>
                  <a:pt x="4650519" y="232101"/>
                </a:lnTo>
                <a:lnTo>
                  <a:pt x="4560142" y="232101"/>
                </a:lnTo>
                <a:lnTo>
                  <a:pt x="4560142" y="125190"/>
                </a:lnTo>
                <a:lnTo>
                  <a:pt x="4646737" y="125190"/>
                </a:lnTo>
                <a:lnTo>
                  <a:pt x="4646737" y="190594"/>
                </a:lnTo>
                <a:lnTo>
                  <a:pt x="4603241" y="190594"/>
                </a:lnTo>
                <a:lnTo>
                  <a:pt x="4603241" y="165887"/>
                </a:lnTo>
                <a:lnTo>
                  <a:pt x="4622478" y="165887"/>
                </a:lnTo>
                <a:lnTo>
                  <a:pt x="4622478" y="148360"/>
                </a:lnTo>
                <a:lnTo>
                  <a:pt x="4584859" y="148360"/>
                </a:lnTo>
                <a:lnTo>
                  <a:pt x="4584859" y="162103"/>
                </a:lnTo>
                <a:lnTo>
                  <a:pt x="4584859" y="165887"/>
                </a:lnTo>
                <a:lnTo>
                  <a:pt x="4584859" y="207693"/>
                </a:lnTo>
                <a:lnTo>
                  <a:pt x="4600534" y="207693"/>
                </a:lnTo>
                <a:lnTo>
                  <a:pt x="4603241" y="207693"/>
                </a:lnTo>
                <a:lnTo>
                  <a:pt x="4646737" y="207693"/>
                </a:lnTo>
                <a:lnTo>
                  <a:pt x="4650519" y="207693"/>
                </a:lnTo>
                <a:lnTo>
                  <a:pt x="4650519" y="106919"/>
                </a:lnTo>
                <a:lnTo>
                  <a:pt x="4563925" y="106919"/>
                </a:lnTo>
                <a:lnTo>
                  <a:pt x="4563925" y="41516"/>
                </a:lnTo>
                <a:lnTo>
                  <a:pt x="4607420" y="41516"/>
                </a:lnTo>
                <a:lnTo>
                  <a:pt x="4607420" y="66222"/>
                </a:lnTo>
                <a:lnTo>
                  <a:pt x="4588183" y="66222"/>
                </a:lnTo>
                <a:lnTo>
                  <a:pt x="4588183" y="83749"/>
                </a:lnTo>
                <a:lnTo>
                  <a:pt x="4625803" y="83749"/>
                </a:lnTo>
                <a:lnTo>
                  <a:pt x="4625803" y="70006"/>
                </a:lnTo>
                <a:lnTo>
                  <a:pt x="4625803" y="66222"/>
                </a:lnTo>
                <a:lnTo>
                  <a:pt x="4625803" y="24416"/>
                </a:lnTo>
                <a:lnTo>
                  <a:pt x="4610128" y="24416"/>
                </a:lnTo>
                <a:lnTo>
                  <a:pt x="4607420" y="24416"/>
                </a:lnTo>
                <a:lnTo>
                  <a:pt x="4563925" y="24416"/>
                </a:lnTo>
                <a:lnTo>
                  <a:pt x="4560142" y="24416"/>
                </a:lnTo>
                <a:lnTo>
                  <a:pt x="4546781" y="24416"/>
                </a:lnTo>
                <a:lnTo>
                  <a:pt x="4546781" y="41516"/>
                </a:lnTo>
                <a:lnTo>
                  <a:pt x="4546781" y="232102"/>
                </a:lnTo>
                <a:lnTo>
                  <a:pt x="4508826" y="232102"/>
                </a:lnTo>
                <a:lnTo>
                  <a:pt x="4508549" y="232102"/>
                </a:lnTo>
                <a:lnTo>
                  <a:pt x="4418172" y="232102"/>
                </a:lnTo>
                <a:lnTo>
                  <a:pt x="4418172" y="125191"/>
                </a:lnTo>
                <a:lnTo>
                  <a:pt x="4504767" y="125191"/>
                </a:lnTo>
                <a:lnTo>
                  <a:pt x="4504767" y="190595"/>
                </a:lnTo>
                <a:lnTo>
                  <a:pt x="4461271" y="190595"/>
                </a:lnTo>
                <a:lnTo>
                  <a:pt x="4461271" y="165888"/>
                </a:lnTo>
                <a:lnTo>
                  <a:pt x="4480508" y="165888"/>
                </a:lnTo>
                <a:lnTo>
                  <a:pt x="4480508" y="148361"/>
                </a:lnTo>
                <a:lnTo>
                  <a:pt x="4442889" y="148361"/>
                </a:lnTo>
                <a:lnTo>
                  <a:pt x="4442889" y="162104"/>
                </a:lnTo>
                <a:lnTo>
                  <a:pt x="4442889" y="165888"/>
                </a:lnTo>
                <a:lnTo>
                  <a:pt x="4442889" y="207694"/>
                </a:lnTo>
                <a:lnTo>
                  <a:pt x="4458564" y="207694"/>
                </a:lnTo>
                <a:lnTo>
                  <a:pt x="4461271" y="207694"/>
                </a:lnTo>
                <a:lnTo>
                  <a:pt x="4504767" y="207694"/>
                </a:lnTo>
                <a:lnTo>
                  <a:pt x="4508549" y="207694"/>
                </a:lnTo>
                <a:lnTo>
                  <a:pt x="4508549" y="106919"/>
                </a:lnTo>
                <a:lnTo>
                  <a:pt x="4421955" y="106919"/>
                </a:lnTo>
                <a:lnTo>
                  <a:pt x="4421955" y="41516"/>
                </a:lnTo>
                <a:lnTo>
                  <a:pt x="4465450" y="41516"/>
                </a:lnTo>
                <a:lnTo>
                  <a:pt x="4465450" y="66222"/>
                </a:lnTo>
                <a:lnTo>
                  <a:pt x="4446213" y="66222"/>
                </a:lnTo>
                <a:lnTo>
                  <a:pt x="4446213" y="83749"/>
                </a:lnTo>
                <a:lnTo>
                  <a:pt x="4483833" y="83749"/>
                </a:lnTo>
                <a:lnTo>
                  <a:pt x="4483833" y="70006"/>
                </a:lnTo>
                <a:lnTo>
                  <a:pt x="4483833" y="66222"/>
                </a:lnTo>
                <a:lnTo>
                  <a:pt x="4483833" y="24416"/>
                </a:lnTo>
                <a:lnTo>
                  <a:pt x="4468158" y="24416"/>
                </a:lnTo>
                <a:lnTo>
                  <a:pt x="4465450" y="24416"/>
                </a:lnTo>
                <a:lnTo>
                  <a:pt x="4421955" y="24416"/>
                </a:lnTo>
                <a:lnTo>
                  <a:pt x="4418172" y="24416"/>
                </a:lnTo>
                <a:lnTo>
                  <a:pt x="4404811" y="24416"/>
                </a:lnTo>
                <a:lnTo>
                  <a:pt x="4404811" y="41516"/>
                </a:lnTo>
                <a:lnTo>
                  <a:pt x="4404811" y="232102"/>
                </a:lnTo>
                <a:lnTo>
                  <a:pt x="4366856" y="232102"/>
                </a:lnTo>
                <a:lnTo>
                  <a:pt x="4366856" y="232103"/>
                </a:lnTo>
                <a:lnTo>
                  <a:pt x="4366579" y="232103"/>
                </a:lnTo>
                <a:lnTo>
                  <a:pt x="4366579" y="232102"/>
                </a:lnTo>
                <a:lnTo>
                  <a:pt x="4276202" y="232102"/>
                </a:lnTo>
                <a:lnTo>
                  <a:pt x="4276202" y="125191"/>
                </a:lnTo>
                <a:lnTo>
                  <a:pt x="4362797" y="125191"/>
                </a:lnTo>
                <a:lnTo>
                  <a:pt x="4362797" y="190595"/>
                </a:lnTo>
                <a:lnTo>
                  <a:pt x="4319301" y="190595"/>
                </a:lnTo>
                <a:lnTo>
                  <a:pt x="4319301" y="165888"/>
                </a:lnTo>
                <a:lnTo>
                  <a:pt x="4338538" y="165888"/>
                </a:lnTo>
                <a:lnTo>
                  <a:pt x="4338538" y="148361"/>
                </a:lnTo>
                <a:lnTo>
                  <a:pt x="4300919" y="148361"/>
                </a:lnTo>
                <a:lnTo>
                  <a:pt x="4300919" y="162104"/>
                </a:lnTo>
                <a:lnTo>
                  <a:pt x="4300919" y="165888"/>
                </a:lnTo>
                <a:lnTo>
                  <a:pt x="4300919" y="207694"/>
                </a:lnTo>
                <a:lnTo>
                  <a:pt x="4316594" y="207694"/>
                </a:lnTo>
                <a:lnTo>
                  <a:pt x="4319301" y="207694"/>
                </a:lnTo>
                <a:lnTo>
                  <a:pt x="4362797" y="207694"/>
                </a:lnTo>
                <a:lnTo>
                  <a:pt x="4366579" y="207694"/>
                </a:lnTo>
                <a:lnTo>
                  <a:pt x="4366579" y="106920"/>
                </a:lnTo>
                <a:lnTo>
                  <a:pt x="4279985" y="106920"/>
                </a:lnTo>
                <a:lnTo>
                  <a:pt x="4279985" y="41517"/>
                </a:lnTo>
                <a:lnTo>
                  <a:pt x="4323480" y="41517"/>
                </a:lnTo>
                <a:lnTo>
                  <a:pt x="4323480" y="66223"/>
                </a:lnTo>
                <a:lnTo>
                  <a:pt x="4304243" y="66223"/>
                </a:lnTo>
                <a:lnTo>
                  <a:pt x="4304243" y="83750"/>
                </a:lnTo>
                <a:lnTo>
                  <a:pt x="4341863" y="83750"/>
                </a:lnTo>
                <a:lnTo>
                  <a:pt x="4341863" y="70007"/>
                </a:lnTo>
                <a:lnTo>
                  <a:pt x="4341863" y="66223"/>
                </a:lnTo>
                <a:lnTo>
                  <a:pt x="4341863" y="24417"/>
                </a:lnTo>
                <a:lnTo>
                  <a:pt x="4326188" y="24417"/>
                </a:lnTo>
                <a:lnTo>
                  <a:pt x="4323480" y="24417"/>
                </a:lnTo>
                <a:lnTo>
                  <a:pt x="4279985" y="24417"/>
                </a:lnTo>
                <a:lnTo>
                  <a:pt x="4276202" y="24417"/>
                </a:lnTo>
                <a:lnTo>
                  <a:pt x="4262841" y="24417"/>
                </a:lnTo>
                <a:lnTo>
                  <a:pt x="4262841" y="41517"/>
                </a:lnTo>
                <a:lnTo>
                  <a:pt x="4262841" y="232103"/>
                </a:lnTo>
                <a:lnTo>
                  <a:pt x="4224886" y="232103"/>
                </a:lnTo>
                <a:lnTo>
                  <a:pt x="4224886" y="232104"/>
                </a:lnTo>
                <a:lnTo>
                  <a:pt x="4224609" y="232104"/>
                </a:lnTo>
                <a:lnTo>
                  <a:pt x="4224609" y="232103"/>
                </a:lnTo>
                <a:lnTo>
                  <a:pt x="4134232" y="232103"/>
                </a:lnTo>
                <a:lnTo>
                  <a:pt x="4134232" y="125192"/>
                </a:lnTo>
                <a:lnTo>
                  <a:pt x="4220827" y="125192"/>
                </a:lnTo>
                <a:lnTo>
                  <a:pt x="4220827" y="190596"/>
                </a:lnTo>
                <a:lnTo>
                  <a:pt x="4177331" y="190596"/>
                </a:lnTo>
                <a:lnTo>
                  <a:pt x="4177331" y="165889"/>
                </a:lnTo>
                <a:lnTo>
                  <a:pt x="4196568" y="165889"/>
                </a:lnTo>
                <a:lnTo>
                  <a:pt x="4196568" y="148362"/>
                </a:lnTo>
                <a:lnTo>
                  <a:pt x="4158949" y="148362"/>
                </a:lnTo>
                <a:lnTo>
                  <a:pt x="4158949" y="162105"/>
                </a:lnTo>
                <a:lnTo>
                  <a:pt x="4158949" y="165889"/>
                </a:lnTo>
                <a:lnTo>
                  <a:pt x="4158949" y="207695"/>
                </a:lnTo>
                <a:lnTo>
                  <a:pt x="4174624" y="207695"/>
                </a:lnTo>
                <a:lnTo>
                  <a:pt x="4177331" y="207695"/>
                </a:lnTo>
                <a:lnTo>
                  <a:pt x="4220827" y="207695"/>
                </a:lnTo>
                <a:lnTo>
                  <a:pt x="4224609" y="207695"/>
                </a:lnTo>
                <a:lnTo>
                  <a:pt x="4224609" y="106921"/>
                </a:lnTo>
                <a:lnTo>
                  <a:pt x="4138015" y="106921"/>
                </a:lnTo>
                <a:lnTo>
                  <a:pt x="4138015" y="41518"/>
                </a:lnTo>
                <a:lnTo>
                  <a:pt x="4181510" y="41518"/>
                </a:lnTo>
                <a:lnTo>
                  <a:pt x="4181510" y="66224"/>
                </a:lnTo>
                <a:lnTo>
                  <a:pt x="4162273" y="66224"/>
                </a:lnTo>
                <a:lnTo>
                  <a:pt x="4162273" y="83751"/>
                </a:lnTo>
                <a:lnTo>
                  <a:pt x="4199893" y="83751"/>
                </a:lnTo>
                <a:lnTo>
                  <a:pt x="4199893" y="70008"/>
                </a:lnTo>
                <a:lnTo>
                  <a:pt x="4199893" y="66224"/>
                </a:lnTo>
                <a:lnTo>
                  <a:pt x="4199893" y="24418"/>
                </a:lnTo>
                <a:lnTo>
                  <a:pt x="4184218" y="24418"/>
                </a:lnTo>
                <a:lnTo>
                  <a:pt x="4181510" y="24418"/>
                </a:lnTo>
                <a:lnTo>
                  <a:pt x="4138015" y="24418"/>
                </a:lnTo>
                <a:lnTo>
                  <a:pt x="4134232" y="24418"/>
                </a:lnTo>
                <a:lnTo>
                  <a:pt x="4120871" y="24418"/>
                </a:lnTo>
                <a:lnTo>
                  <a:pt x="4120871" y="41518"/>
                </a:lnTo>
                <a:lnTo>
                  <a:pt x="4120871" y="232104"/>
                </a:lnTo>
                <a:lnTo>
                  <a:pt x="4082916" y="232104"/>
                </a:lnTo>
                <a:lnTo>
                  <a:pt x="4082916" y="232105"/>
                </a:lnTo>
                <a:lnTo>
                  <a:pt x="4082639" y="232105"/>
                </a:lnTo>
                <a:lnTo>
                  <a:pt x="4082639" y="232104"/>
                </a:lnTo>
                <a:lnTo>
                  <a:pt x="3992262" y="232104"/>
                </a:lnTo>
                <a:lnTo>
                  <a:pt x="3992262" y="125193"/>
                </a:lnTo>
                <a:lnTo>
                  <a:pt x="4078857" y="125193"/>
                </a:lnTo>
                <a:lnTo>
                  <a:pt x="4078857" y="190597"/>
                </a:lnTo>
                <a:lnTo>
                  <a:pt x="4035361" y="190597"/>
                </a:lnTo>
                <a:lnTo>
                  <a:pt x="4035361" y="165890"/>
                </a:lnTo>
                <a:lnTo>
                  <a:pt x="4054598" y="165890"/>
                </a:lnTo>
                <a:lnTo>
                  <a:pt x="4054598" y="148363"/>
                </a:lnTo>
                <a:lnTo>
                  <a:pt x="4016979" y="148363"/>
                </a:lnTo>
                <a:lnTo>
                  <a:pt x="4016979" y="162106"/>
                </a:lnTo>
                <a:lnTo>
                  <a:pt x="4016979" y="165890"/>
                </a:lnTo>
                <a:lnTo>
                  <a:pt x="4016979" y="207696"/>
                </a:lnTo>
                <a:lnTo>
                  <a:pt x="4032654" y="207696"/>
                </a:lnTo>
                <a:lnTo>
                  <a:pt x="4035361" y="207696"/>
                </a:lnTo>
                <a:lnTo>
                  <a:pt x="4078857" y="207696"/>
                </a:lnTo>
                <a:lnTo>
                  <a:pt x="4082639" y="207696"/>
                </a:lnTo>
                <a:lnTo>
                  <a:pt x="4082639" y="106922"/>
                </a:lnTo>
                <a:lnTo>
                  <a:pt x="3996045" y="106922"/>
                </a:lnTo>
                <a:lnTo>
                  <a:pt x="3996045" y="41519"/>
                </a:lnTo>
                <a:lnTo>
                  <a:pt x="4039540" y="41519"/>
                </a:lnTo>
                <a:lnTo>
                  <a:pt x="4039540" y="66225"/>
                </a:lnTo>
                <a:lnTo>
                  <a:pt x="4020303" y="66225"/>
                </a:lnTo>
                <a:lnTo>
                  <a:pt x="4020303" y="83752"/>
                </a:lnTo>
                <a:lnTo>
                  <a:pt x="4057923" y="83752"/>
                </a:lnTo>
                <a:lnTo>
                  <a:pt x="4057923" y="70009"/>
                </a:lnTo>
                <a:lnTo>
                  <a:pt x="4057923" y="66225"/>
                </a:lnTo>
                <a:lnTo>
                  <a:pt x="4057923" y="24419"/>
                </a:lnTo>
                <a:lnTo>
                  <a:pt x="4042248" y="24419"/>
                </a:lnTo>
                <a:lnTo>
                  <a:pt x="4039540" y="24419"/>
                </a:lnTo>
                <a:lnTo>
                  <a:pt x="3996045" y="24419"/>
                </a:lnTo>
                <a:lnTo>
                  <a:pt x="3992262" y="24419"/>
                </a:lnTo>
                <a:lnTo>
                  <a:pt x="3978901" y="24419"/>
                </a:lnTo>
                <a:lnTo>
                  <a:pt x="3978901" y="41519"/>
                </a:lnTo>
                <a:lnTo>
                  <a:pt x="3978901" y="232105"/>
                </a:lnTo>
                <a:lnTo>
                  <a:pt x="3936531" y="232105"/>
                </a:lnTo>
                <a:lnTo>
                  <a:pt x="3936531" y="232106"/>
                </a:lnTo>
                <a:lnTo>
                  <a:pt x="3936254" y="232106"/>
                </a:lnTo>
                <a:lnTo>
                  <a:pt x="3936254" y="232105"/>
                </a:lnTo>
                <a:lnTo>
                  <a:pt x="3850292" y="232105"/>
                </a:lnTo>
                <a:lnTo>
                  <a:pt x="3850292" y="125194"/>
                </a:lnTo>
                <a:lnTo>
                  <a:pt x="3936254" y="125194"/>
                </a:lnTo>
                <a:lnTo>
                  <a:pt x="3936254" y="106923"/>
                </a:lnTo>
                <a:lnTo>
                  <a:pt x="3850292" y="106923"/>
                </a:lnTo>
                <a:lnTo>
                  <a:pt x="3849660" y="106923"/>
                </a:lnTo>
                <a:lnTo>
                  <a:pt x="3849660" y="41520"/>
                </a:lnTo>
                <a:lnTo>
                  <a:pt x="3850292" y="41520"/>
                </a:lnTo>
                <a:lnTo>
                  <a:pt x="3893155" y="41520"/>
                </a:lnTo>
                <a:lnTo>
                  <a:pt x="3893155" y="66226"/>
                </a:lnTo>
                <a:lnTo>
                  <a:pt x="3873918" y="66226"/>
                </a:lnTo>
                <a:lnTo>
                  <a:pt x="3873918" y="83753"/>
                </a:lnTo>
                <a:lnTo>
                  <a:pt x="3911538" y="83753"/>
                </a:lnTo>
                <a:lnTo>
                  <a:pt x="3911538" y="70010"/>
                </a:lnTo>
                <a:lnTo>
                  <a:pt x="3911538" y="66226"/>
                </a:lnTo>
                <a:lnTo>
                  <a:pt x="3911538" y="24420"/>
                </a:lnTo>
                <a:lnTo>
                  <a:pt x="3895863" y="24420"/>
                </a:lnTo>
                <a:lnTo>
                  <a:pt x="3893155" y="24420"/>
                </a:lnTo>
                <a:lnTo>
                  <a:pt x="3850292" y="24420"/>
                </a:lnTo>
                <a:lnTo>
                  <a:pt x="3849660" y="24420"/>
                </a:lnTo>
                <a:lnTo>
                  <a:pt x="3832516" y="24420"/>
                </a:lnTo>
                <a:lnTo>
                  <a:pt x="3832516" y="41520"/>
                </a:lnTo>
                <a:lnTo>
                  <a:pt x="3832516" y="232106"/>
                </a:lnTo>
                <a:lnTo>
                  <a:pt x="3790147" y="232106"/>
                </a:lnTo>
                <a:lnTo>
                  <a:pt x="3789870" y="232106"/>
                </a:lnTo>
                <a:lnTo>
                  <a:pt x="3703907" y="232106"/>
                </a:lnTo>
                <a:lnTo>
                  <a:pt x="3703907" y="125195"/>
                </a:lnTo>
                <a:lnTo>
                  <a:pt x="3789870" y="125195"/>
                </a:lnTo>
                <a:lnTo>
                  <a:pt x="3789870" y="106923"/>
                </a:lnTo>
                <a:lnTo>
                  <a:pt x="3703907" y="106923"/>
                </a:lnTo>
                <a:lnTo>
                  <a:pt x="3703276" y="106923"/>
                </a:lnTo>
                <a:lnTo>
                  <a:pt x="3703276" y="41520"/>
                </a:lnTo>
                <a:lnTo>
                  <a:pt x="3703907" y="41520"/>
                </a:lnTo>
                <a:lnTo>
                  <a:pt x="3746771" y="41520"/>
                </a:lnTo>
                <a:lnTo>
                  <a:pt x="3746771" y="66226"/>
                </a:lnTo>
                <a:lnTo>
                  <a:pt x="3727534" y="66226"/>
                </a:lnTo>
                <a:lnTo>
                  <a:pt x="3727534" y="83753"/>
                </a:lnTo>
                <a:lnTo>
                  <a:pt x="3765154" y="83753"/>
                </a:lnTo>
                <a:lnTo>
                  <a:pt x="3765154" y="70010"/>
                </a:lnTo>
                <a:lnTo>
                  <a:pt x="3765154" y="66226"/>
                </a:lnTo>
                <a:lnTo>
                  <a:pt x="3765154" y="24420"/>
                </a:lnTo>
                <a:lnTo>
                  <a:pt x="3749479" y="24420"/>
                </a:lnTo>
                <a:lnTo>
                  <a:pt x="3746771" y="24420"/>
                </a:lnTo>
                <a:lnTo>
                  <a:pt x="3703907" y="24420"/>
                </a:lnTo>
                <a:lnTo>
                  <a:pt x="3703276" y="24420"/>
                </a:lnTo>
                <a:lnTo>
                  <a:pt x="3686132" y="24420"/>
                </a:lnTo>
                <a:lnTo>
                  <a:pt x="3686132" y="41520"/>
                </a:lnTo>
                <a:lnTo>
                  <a:pt x="3686132" y="232106"/>
                </a:lnTo>
                <a:lnTo>
                  <a:pt x="3643762" y="232106"/>
                </a:lnTo>
                <a:lnTo>
                  <a:pt x="3643485" y="232106"/>
                </a:lnTo>
                <a:lnTo>
                  <a:pt x="3557523" y="232106"/>
                </a:lnTo>
                <a:lnTo>
                  <a:pt x="3557523" y="125195"/>
                </a:lnTo>
                <a:lnTo>
                  <a:pt x="3643485" y="125195"/>
                </a:lnTo>
                <a:lnTo>
                  <a:pt x="3643485" y="106923"/>
                </a:lnTo>
                <a:lnTo>
                  <a:pt x="3557523" y="106923"/>
                </a:lnTo>
                <a:lnTo>
                  <a:pt x="3556891" y="106923"/>
                </a:lnTo>
                <a:lnTo>
                  <a:pt x="3556891" y="41520"/>
                </a:lnTo>
                <a:lnTo>
                  <a:pt x="3557523" y="41520"/>
                </a:lnTo>
                <a:lnTo>
                  <a:pt x="3600386" y="41520"/>
                </a:lnTo>
                <a:lnTo>
                  <a:pt x="3600386" y="66226"/>
                </a:lnTo>
                <a:lnTo>
                  <a:pt x="3581149" y="66226"/>
                </a:lnTo>
                <a:lnTo>
                  <a:pt x="3581149" y="83753"/>
                </a:lnTo>
                <a:lnTo>
                  <a:pt x="3618769" y="83753"/>
                </a:lnTo>
                <a:lnTo>
                  <a:pt x="3618769" y="70010"/>
                </a:lnTo>
                <a:lnTo>
                  <a:pt x="3618769" y="66226"/>
                </a:lnTo>
                <a:lnTo>
                  <a:pt x="3618769" y="24420"/>
                </a:lnTo>
                <a:lnTo>
                  <a:pt x="3603094" y="24420"/>
                </a:lnTo>
                <a:lnTo>
                  <a:pt x="3600386" y="24420"/>
                </a:lnTo>
                <a:lnTo>
                  <a:pt x="3557523" y="24420"/>
                </a:lnTo>
                <a:lnTo>
                  <a:pt x="3556891" y="24420"/>
                </a:lnTo>
                <a:lnTo>
                  <a:pt x="3539747" y="24420"/>
                </a:lnTo>
                <a:lnTo>
                  <a:pt x="3539747" y="41520"/>
                </a:lnTo>
                <a:lnTo>
                  <a:pt x="3539747" y="232106"/>
                </a:lnTo>
                <a:lnTo>
                  <a:pt x="3497376" y="232106"/>
                </a:lnTo>
                <a:lnTo>
                  <a:pt x="3497376" y="232107"/>
                </a:lnTo>
                <a:lnTo>
                  <a:pt x="3497099" y="232107"/>
                </a:lnTo>
                <a:lnTo>
                  <a:pt x="3497099" y="232106"/>
                </a:lnTo>
                <a:lnTo>
                  <a:pt x="3411138" y="232106"/>
                </a:lnTo>
                <a:lnTo>
                  <a:pt x="3411138" y="125195"/>
                </a:lnTo>
                <a:lnTo>
                  <a:pt x="3497099" y="125195"/>
                </a:lnTo>
                <a:lnTo>
                  <a:pt x="3497099" y="106924"/>
                </a:lnTo>
                <a:lnTo>
                  <a:pt x="3411138" y="106924"/>
                </a:lnTo>
                <a:lnTo>
                  <a:pt x="3410505" y="106924"/>
                </a:lnTo>
                <a:lnTo>
                  <a:pt x="3410505" y="41521"/>
                </a:lnTo>
                <a:lnTo>
                  <a:pt x="3411138" y="41521"/>
                </a:lnTo>
                <a:lnTo>
                  <a:pt x="3454000" y="41521"/>
                </a:lnTo>
                <a:lnTo>
                  <a:pt x="3454000" y="66227"/>
                </a:lnTo>
                <a:lnTo>
                  <a:pt x="3434763" y="66227"/>
                </a:lnTo>
                <a:lnTo>
                  <a:pt x="3434763" y="83754"/>
                </a:lnTo>
                <a:lnTo>
                  <a:pt x="3472383" y="83754"/>
                </a:lnTo>
                <a:lnTo>
                  <a:pt x="3472383" y="70011"/>
                </a:lnTo>
                <a:lnTo>
                  <a:pt x="3472383" y="66227"/>
                </a:lnTo>
                <a:lnTo>
                  <a:pt x="3472383" y="24421"/>
                </a:lnTo>
                <a:lnTo>
                  <a:pt x="3456708" y="24421"/>
                </a:lnTo>
                <a:lnTo>
                  <a:pt x="3454000" y="24421"/>
                </a:lnTo>
                <a:lnTo>
                  <a:pt x="3411138" y="24421"/>
                </a:lnTo>
                <a:lnTo>
                  <a:pt x="3410505" y="24421"/>
                </a:lnTo>
                <a:lnTo>
                  <a:pt x="3393361" y="24421"/>
                </a:lnTo>
                <a:lnTo>
                  <a:pt x="3393361" y="41521"/>
                </a:lnTo>
                <a:lnTo>
                  <a:pt x="3393361" y="232107"/>
                </a:lnTo>
                <a:lnTo>
                  <a:pt x="3350992" y="232107"/>
                </a:lnTo>
                <a:lnTo>
                  <a:pt x="3350992" y="232108"/>
                </a:lnTo>
                <a:lnTo>
                  <a:pt x="3350715" y="232108"/>
                </a:lnTo>
                <a:lnTo>
                  <a:pt x="3350715" y="232107"/>
                </a:lnTo>
                <a:lnTo>
                  <a:pt x="3264752" y="232107"/>
                </a:lnTo>
                <a:lnTo>
                  <a:pt x="3264752" y="125196"/>
                </a:lnTo>
                <a:lnTo>
                  <a:pt x="3350715" y="125196"/>
                </a:lnTo>
                <a:lnTo>
                  <a:pt x="3350715" y="106925"/>
                </a:lnTo>
                <a:lnTo>
                  <a:pt x="3264752" y="106925"/>
                </a:lnTo>
                <a:lnTo>
                  <a:pt x="3264121" y="106925"/>
                </a:lnTo>
                <a:lnTo>
                  <a:pt x="3264121" y="41522"/>
                </a:lnTo>
                <a:lnTo>
                  <a:pt x="3264752" y="41522"/>
                </a:lnTo>
                <a:lnTo>
                  <a:pt x="3307616" y="41522"/>
                </a:lnTo>
                <a:lnTo>
                  <a:pt x="3307616" y="66228"/>
                </a:lnTo>
                <a:lnTo>
                  <a:pt x="3288379" y="66228"/>
                </a:lnTo>
                <a:lnTo>
                  <a:pt x="3288379" y="83755"/>
                </a:lnTo>
                <a:lnTo>
                  <a:pt x="3325999" y="83755"/>
                </a:lnTo>
                <a:lnTo>
                  <a:pt x="3325999" y="70012"/>
                </a:lnTo>
                <a:lnTo>
                  <a:pt x="3325999" y="66228"/>
                </a:lnTo>
                <a:lnTo>
                  <a:pt x="3325999" y="24422"/>
                </a:lnTo>
                <a:lnTo>
                  <a:pt x="3310324" y="24422"/>
                </a:lnTo>
                <a:lnTo>
                  <a:pt x="3307616" y="24422"/>
                </a:lnTo>
                <a:lnTo>
                  <a:pt x="3264752" y="24422"/>
                </a:lnTo>
                <a:lnTo>
                  <a:pt x="3264121" y="24422"/>
                </a:lnTo>
                <a:lnTo>
                  <a:pt x="3246977" y="24422"/>
                </a:lnTo>
                <a:lnTo>
                  <a:pt x="3246977" y="41522"/>
                </a:lnTo>
                <a:lnTo>
                  <a:pt x="3246977" y="232108"/>
                </a:lnTo>
                <a:lnTo>
                  <a:pt x="3204607" y="232108"/>
                </a:lnTo>
                <a:lnTo>
                  <a:pt x="3204607" y="232109"/>
                </a:lnTo>
                <a:lnTo>
                  <a:pt x="3204330" y="232109"/>
                </a:lnTo>
                <a:lnTo>
                  <a:pt x="3204330" y="232108"/>
                </a:lnTo>
                <a:lnTo>
                  <a:pt x="3118368" y="232108"/>
                </a:lnTo>
                <a:lnTo>
                  <a:pt x="3118368" y="125197"/>
                </a:lnTo>
                <a:lnTo>
                  <a:pt x="3204330" y="125197"/>
                </a:lnTo>
                <a:lnTo>
                  <a:pt x="3204330" y="106926"/>
                </a:lnTo>
                <a:lnTo>
                  <a:pt x="3118368" y="106926"/>
                </a:lnTo>
                <a:lnTo>
                  <a:pt x="3117736" y="106926"/>
                </a:lnTo>
                <a:lnTo>
                  <a:pt x="3117736" y="41523"/>
                </a:lnTo>
                <a:lnTo>
                  <a:pt x="3118368" y="41523"/>
                </a:lnTo>
                <a:lnTo>
                  <a:pt x="3161231" y="41523"/>
                </a:lnTo>
                <a:lnTo>
                  <a:pt x="3161231" y="66229"/>
                </a:lnTo>
                <a:lnTo>
                  <a:pt x="3141994" y="66229"/>
                </a:lnTo>
                <a:lnTo>
                  <a:pt x="3141994" y="83756"/>
                </a:lnTo>
                <a:lnTo>
                  <a:pt x="3179614" y="83756"/>
                </a:lnTo>
                <a:lnTo>
                  <a:pt x="3179614" y="70013"/>
                </a:lnTo>
                <a:lnTo>
                  <a:pt x="3179614" y="66229"/>
                </a:lnTo>
                <a:lnTo>
                  <a:pt x="3179614" y="24423"/>
                </a:lnTo>
                <a:lnTo>
                  <a:pt x="3163939" y="24423"/>
                </a:lnTo>
                <a:lnTo>
                  <a:pt x="3161231" y="24423"/>
                </a:lnTo>
                <a:lnTo>
                  <a:pt x="3118368" y="24423"/>
                </a:lnTo>
                <a:lnTo>
                  <a:pt x="3117736" y="24423"/>
                </a:lnTo>
                <a:lnTo>
                  <a:pt x="3100592" y="24423"/>
                </a:lnTo>
                <a:lnTo>
                  <a:pt x="3100592" y="41523"/>
                </a:lnTo>
                <a:lnTo>
                  <a:pt x="3100592" y="232109"/>
                </a:lnTo>
                <a:lnTo>
                  <a:pt x="3058221" y="232109"/>
                </a:lnTo>
                <a:lnTo>
                  <a:pt x="3057944" y="232109"/>
                </a:lnTo>
                <a:lnTo>
                  <a:pt x="2971983" y="232109"/>
                </a:lnTo>
                <a:lnTo>
                  <a:pt x="2971983" y="125198"/>
                </a:lnTo>
                <a:lnTo>
                  <a:pt x="3057944" y="125198"/>
                </a:lnTo>
                <a:lnTo>
                  <a:pt x="3057944" y="106926"/>
                </a:lnTo>
                <a:lnTo>
                  <a:pt x="2971983" y="106926"/>
                </a:lnTo>
                <a:lnTo>
                  <a:pt x="2971350" y="106926"/>
                </a:lnTo>
                <a:lnTo>
                  <a:pt x="2971350" y="41523"/>
                </a:lnTo>
                <a:lnTo>
                  <a:pt x="2971983" y="41523"/>
                </a:lnTo>
                <a:lnTo>
                  <a:pt x="3014845" y="41523"/>
                </a:lnTo>
                <a:lnTo>
                  <a:pt x="3014845" y="66229"/>
                </a:lnTo>
                <a:lnTo>
                  <a:pt x="2995608" y="66229"/>
                </a:lnTo>
                <a:lnTo>
                  <a:pt x="2995608" y="83756"/>
                </a:lnTo>
                <a:lnTo>
                  <a:pt x="3033228" y="83756"/>
                </a:lnTo>
                <a:lnTo>
                  <a:pt x="3033228" y="70013"/>
                </a:lnTo>
                <a:lnTo>
                  <a:pt x="3033228" y="66229"/>
                </a:lnTo>
                <a:lnTo>
                  <a:pt x="3033228" y="24423"/>
                </a:lnTo>
                <a:lnTo>
                  <a:pt x="3017553" y="24423"/>
                </a:lnTo>
                <a:lnTo>
                  <a:pt x="3014845" y="24423"/>
                </a:lnTo>
                <a:lnTo>
                  <a:pt x="2971983" y="24423"/>
                </a:lnTo>
                <a:lnTo>
                  <a:pt x="2971350" y="24423"/>
                </a:lnTo>
                <a:lnTo>
                  <a:pt x="2954206" y="24423"/>
                </a:lnTo>
                <a:lnTo>
                  <a:pt x="2954206" y="41523"/>
                </a:lnTo>
                <a:lnTo>
                  <a:pt x="2954206" y="232109"/>
                </a:lnTo>
                <a:lnTo>
                  <a:pt x="2911837" y="232109"/>
                </a:lnTo>
                <a:lnTo>
                  <a:pt x="2911560" y="232109"/>
                </a:lnTo>
                <a:lnTo>
                  <a:pt x="2825597" y="232109"/>
                </a:lnTo>
                <a:lnTo>
                  <a:pt x="2825597" y="125198"/>
                </a:lnTo>
                <a:lnTo>
                  <a:pt x="2911560" y="125198"/>
                </a:lnTo>
                <a:lnTo>
                  <a:pt x="2911560" y="106926"/>
                </a:lnTo>
                <a:lnTo>
                  <a:pt x="2825597" y="106926"/>
                </a:lnTo>
                <a:lnTo>
                  <a:pt x="2824966" y="106926"/>
                </a:lnTo>
                <a:lnTo>
                  <a:pt x="2824966" y="41523"/>
                </a:lnTo>
                <a:lnTo>
                  <a:pt x="2825597" y="41523"/>
                </a:lnTo>
                <a:lnTo>
                  <a:pt x="2868461" y="41523"/>
                </a:lnTo>
                <a:lnTo>
                  <a:pt x="2868461" y="66229"/>
                </a:lnTo>
                <a:lnTo>
                  <a:pt x="2849224" y="66229"/>
                </a:lnTo>
                <a:lnTo>
                  <a:pt x="2849224" y="83756"/>
                </a:lnTo>
                <a:lnTo>
                  <a:pt x="2886844" y="83756"/>
                </a:lnTo>
                <a:lnTo>
                  <a:pt x="2886844" y="70013"/>
                </a:lnTo>
                <a:lnTo>
                  <a:pt x="2886844" y="66229"/>
                </a:lnTo>
                <a:lnTo>
                  <a:pt x="2886844" y="24423"/>
                </a:lnTo>
                <a:lnTo>
                  <a:pt x="2871169" y="24423"/>
                </a:lnTo>
                <a:lnTo>
                  <a:pt x="2868461" y="24423"/>
                </a:lnTo>
                <a:lnTo>
                  <a:pt x="2825597" y="24423"/>
                </a:lnTo>
                <a:lnTo>
                  <a:pt x="2824966" y="24423"/>
                </a:lnTo>
                <a:lnTo>
                  <a:pt x="2807822" y="24423"/>
                </a:lnTo>
                <a:lnTo>
                  <a:pt x="2807822" y="41523"/>
                </a:lnTo>
                <a:lnTo>
                  <a:pt x="2807822" y="232109"/>
                </a:lnTo>
                <a:lnTo>
                  <a:pt x="2765452" y="232109"/>
                </a:lnTo>
                <a:lnTo>
                  <a:pt x="2765452" y="232110"/>
                </a:lnTo>
                <a:lnTo>
                  <a:pt x="2765175" y="232110"/>
                </a:lnTo>
                <a:lnTo>
                  <a:pt x="2765175" y="232109"/>
                </a:lnTo>
                <a:lnTo>
                  <a:pt x="2679213" y="232109"/>
                </a:lnTo>
                <a:lnTo>
                  <a:pt x="2679213" y="125198"/>
                </a:lnTo>
                <a:lnTo>
                  <a:pt x="2765175" y="125198"/>
                </a:lnTo>
                <a:lnTo>
                  <a:pt x="2765175" y="106927"/>
                </a:lnTo>
                <a:lnTo>
                  <a:pt x="2679213" y="106927"/>
                </a:lnTo>
                <a:lnTo>
                  <a:pt x="2678581" y="106927"/>
                </a:lnTo>
                <a:lnTo>
                  <a:pt x="2678581" y="41524"/>
                </a:lnTo>
                <a:lnTo>
                  <a:pt x="2679213" y="41524"/>
                </a:lnTo>
                <a:lnTo>
                  <a:pt x="2722076" y="41524"/>
                </a:lnTo>
                <a:lnTo>
                  <a:pt x="2722076" y="66230"/>
                </a:lnTo>
                <a:lnTo>
                  <a:pt x="2702839" y="66230"/>
                </a:lnTo>
                <a:lnTo>
                  <a:pt x="2702839" y="83757"/>
                </a:lnTo>
                <a:lnTo>
                  <a:pt x="2740459" y="83757"/>
                </a:lnTo>
                <a:lnTo>
                  <a:pt x="2740459" y="70014"/>
                </a:lnTo>
                <a:lnTo>
                  <a:pt x="2740459" y="66230"/>
                </a:lnTo>
                <a:lnTo>
                  <a:pt x="2740459" y="24424"/>
                </a:lnTo>
                <a:lnTo>
                  <a:pt x="2724784" y="24424"/>
                </a:lnTo>
                <a:lnTo>
                  <a:pt x="2722076" y="24424"/>
                </a:lnTo>
                <a:lnTo>
                  <a:pt x="2679213" y="24424"/>
                </a:lnTo>
                <a:lnTo>
                  <a:pt x="2678581" y="24424"/>
                </a:lnTo>
                <a:lnTo>
                  <a:pt x="2661437" y="24424"/>
                </a:lnTo>
                <a:lnTo>
                  <a:pt x="2661437" y="41524"/>
                </a:lnTo>
                <a:lnTo>
                  <a:pt x="2661437" y="232110"/>
                </a:lnTo>
                <a:lnTo>
                  <a:pt x="2619066" y="232110"/>
                </a:lnTo>
                <a:lnTo>
                  <a:pt x="2619066" y="232111"/>
                </a:lnTo>
                <a:lnTo>
                  <a:pt x="2618789" y="232111"/>
                </a:lnTo>
                <a:lnTo>
                  <a:pt x="2618789" y="232110"/>
                </a:lnTo>
                <a:lnTo>
                  <a:pt x="2532829" y="232110"/>
                </a:lnTo>
                <a:lnTo>
                  <a:pt x="2532829" y="125199"/>
                </a:lnTo>
                <a:lnTo>
                  <a:pt x="2618789" y="125199"/>
                </a:lnTo>
                <a:lnTo>
                  <a:pt x="2618789" y="106928"/>
                </a:lnTo>
                <a:lnTo>
                  <a:pt x="2532829" y="106928"/>
                </a:lnTo>
                <a:lnTo>
                  <a:pt x="2532196" y="106928"/>
                </a:lnTo>
                <a:lnTo>
                  <a:pt x="2532196" y="41525"/>
                </a:lnTo>
                <a:lnTo>
                  <a:pt x="2532829" y="41525"/>
                </a:lnTo>
                <a:lnTo>
                  <a:pt x="2575690" y="41525"/>
                </a:lnTo>
                <a:lnTo>
                  <a:pt x="2575690" y="66231"/>
                </a:lnTo>
                <a:lnTo>
                  <a:pt x="2556454" y="66231"/>
                </a:lnTo>
                <a:lnTo>
                  <a:pt x="2556454" y="83758"/>
                </a:lnTo>
                <a:lnTo>
                  <a:pt x="2594073" y="83758"/>
                </a:lnTo>
                <a:lnTo>
                  <a:pt x="2594073" y="70015"/>
                </a:lnTo>
                <a:lnTo>
                  <a:pt x="2594073" y="66231"/>
                </a:lnTo>
                <a:lnTo>
                  <a:pt x="2594073" y="24425"/>
                </a:lnTo>
                <a:lnTo>
                  <a:pt x="2578398" y="24425"/>
                </a:lnTo>
                <a:lnTo>
                  <a:pt x="2575690" y="24425"/>
                </a:lnTo>
                <a:lnTo>
                  <a:pt x="2532829" y="24425"/>
                </a:lnTo>
                <a:lnTo>
                  <a:pt x="2532196" y="24425"/>
                </a:lnTo>
                <a:lnTo>
                  <a:pt x="2515052" y="24425"/>
                </a:lnTo>
                <a:lnTo>
                  <a:pt x="2515052" y="41525"/>
                </a:lnTo>
                <a:lnTo>
                  <a:pt x="2515052" y="232111"/>
                </a:lnTo>
                <a:lnTo>
                  <a:pt x="2472684" y="232111"/>
                </a:lnTo>
                <a:lnTo>
                  <a:pt x="2472684" y="232112"/>
                </a:lnTo>
                <a:lnTo>
                  <a:pt x="2472407" y="232112"/>
                </a:lnTo>
                <a:lnTo>
                  <a:pt x="2472407" y="232111"/>
                </a:lnTo>
                <a:lnTo>
                  <a:pt x="2386443" y="232111"/>
                </a:lnTo>
                <a:lnTo>
                  <a:pt x="2386443" y="125200"/>
                </a:lnTo>
                <a:lnTo>
                  <a:pt x="2472407" y="125200"/>
                </a:lnTo>
                <a:lnTo>
                  <a:pt x="2472407" y="106929"/>
                </a:lnTo>
                <a:lnTo>
                  <a:pt x="2386443" y="106929"/>
                </a:lnTo>
                <a:lnTo>
                  <a:pt x="2385812" y="106929"/>
                </a:lnTo>
                <a:lnTo>
                  <a:pt x="2385812" y="41526"/>
                </a:lnTo>
                <a:lnTo>
                  <a:pt x="2386443" y="41526"/>
                </a:lnTo>
                <a:lnTo>
                  <a:pt x="2429308" y="41526"/>
                </a:lnTo>
                <a:lnTo>
                  <a:pt x="2429308" y="66232"/>
                </a:lnTo>
                <a:lnTo>
                  <a:pt x="2410070" y="66232"/>
                </a:lnTo>
                <a:lnTo>
                  <a:pt x="2410070" y="83759"/>
                </a:lnTo>
                <a:lnTo>
                  <a:pt x="2447690" y="83759"/>
                </a:lnTo>
                <a:lnTo>
                  <a:pt x="2447690" y="70016"/>
                </a:lnTo>
                <a:lnTo>
                  <a:pt x="2447690" y="66232"/>
                </a:lnTo>
                <a:lnTo>
                  <a:pt x="2447690" y="24426"/>
                </a:lnTo>
                <a:lnTo>
                  <a:pt x="2432016" y="24426"/>
                </a:lnTo>
                <a:lnTo>
                  <a:pt x="2429308" y="24426"/>
                </a:lnTo>
                <a:lnTo>
                  <a:pt x="2386443" y="24426"/>
                </a:lnTo>
                <a:lnTo>
                  <a:pt x="2385812" y="24426"/>
                </a:lnTo>
                <a:lnTo>
                  <a:pt x="2368669" y="24426"/>
                </a:lnTo>
                <a:lnTo>
                  <a:pt x="2368669" y="41526"/>
                </a:lnTo>
                <a:lnTo>
                  <a:pt x="2368669" y="232112"/>
                </a:lnTo>
                <a:lnTo>
                  <a:pt x="2326299" y="232112"/>
                </a:lnTo>
                <a:lnTo>
                  <a:pt x="2326021" y="232112"/>
                </a:lnTo>
                <a:lnTo>
                  <a:pt x="2240060" y="232112"/>
                </a:lnTo>
                <a:lnTo>
                  <a:pt x="2240060" y="125201"/>
                </a:lnTo>
                <a:lnTo>
                  <a:pt x="2326021" y="125201"/>
                </a:lnTo>
                <a:lnTo>
                  <a:pt x="2326021" y="106929"/>
                </a:lnTo>
                <a:lnTo>
                  <a:pt x="2240060" y="106929"/>
                </a:lnTo>
                <a:lnTo>
                  <a:pt x="2239428" y="106929"/>
                </a:lnTo>
                <a:lnTo>
                  <a:pt x="2239428" y="41526"/>
                </a:lnTo>
                <a:lnTo>
                  <a:pt x="2240060" y="41526"/>
                </a:lnTo>
                <a:lnTo>
                  <a:pt x="2282923" y="41526"/>
                </a:lnTo>
                <a:lnTo>
                  <a:pt x="2282923" y="66232"/>
                </a:lnTo>
                <a:lnTo>
                  <a:pt x="2263686" y="66232"/>
                </a:lnTo>
                <a:lnTo>
                  <a:pt x="2263686" y="83759"/>
                </a:lnTo>
                <a:lnTo>
                  <a:pt x="2301305" y="83759"/>
                </a:lnTo>
                <a:lnTo>
                  <a:pt x="2301305" y="70016"/>
                </a:lnTo>
                <a:lnTo>
                  <a:pt x="2301305" y="66232"/>
                </a:lnTo>
                <a:lnTo>
                  <a:pt x="2301305" y="24426"/>
                </a:lnTo>
                <a:lnTo>
                  <a:pt x="2285631" y="24426"/>
                </a:lnTo>
                <a:lnTo>
                  <a:pt x="2282923" y="24426"/>
                </a:lnTo>
                <a:lnTo>
                  <a:pt x="2240060" y="24426"/>
                </a:lnTo>
                <a:lnTo>
                  <a:pt x="2239428" y="24426"/>
                </a:lnTo>
                <a:lnTo>
                  <a:pt x="2222284" y="24426"/>
                </a:lnTo>
                <a:lnTo>
                  <a:pt x="2222284" y="41526"/>
                </a:lnTo>
                <a:lnTo>
                  <a:pt x="2222284" y="232112"/>
                </a:lnTo>
                <a:lnTo>
                  <a:pt x="2179914" y="232112"/>
                </a:lnTo>
                <a:lnTo>
                  <a:pt x="2179914" y="232113"/>
                </a:lnTo>
                <a:lnTo>
                  <a:pt x="2179637" y="232113"/>
                </a:lnTo>
                <a:lnTo>
                  <a:pt x="2179637" y="232112"/>
                </a:lnTo>
                <a:lnTo>
                  <a:pt x="2093674" y="232112"/>
                </a:lnTo>
                <a:lnTo>
                  <a:pt x="2093674" y="125201"/>
                </a:lnTo>
                <a:lnTo>
                  <a:pt x="2179637" y="125201"/>
                </a:lnTo>
                <a:lnTo>
                  <a:pt x="2179637" y="106930"/>
                </a:lnTo>
                <a:lnTo>
                  <a:pt x="2093674" y="106930"/>
                </a:lnTo>
                <a:lnTo>
                  <a:pt x="2093042" y="106930"/>
                </a:lnTo>
                <a:lnTo>
                  <a:pt x="2093042" y="41527"/>
                </a:lnTo>
                <a:lnTo>
                  <a:pt x="2093674" y="41527"/>
                </a:lnTo>
                <a:lnTo>
                  <a:pt x="2136538" y="41527"/>
                </a:lnTo>
                <a:lnTo>
                  <a:pt x="2136538" y="66233"/>
                </a:lnTo>
                <a:lnTo>
                  <a:pt x="2117301" y="66233"/>
                </a:lnTo>
                <a:lnTo>
                  <a:pt x="2117301" y="83760"/>
                </a:lnTo>
                <a:lnTo>
                  <a:pt x="2154920" y="83760"/>
                </a:lnTo>
                <a:lnTo>
                  <a:pt x="2154920" y="70017"/>
                </a:lnTo>
                <a:lnTo>
                  <a:pt x="2154920" y="66233"/>
                </a:lnTo>
                <a:lnTo>
                  <a:pt x="2154920" y="24427"/>
                </a:lnTo>
                <a:lnTo>
                  <a:pt x="2139245" y="24427"/>
                </a:lnTo>
                <a:lnTo>
                  <a:pt x="2136538" y="24427"/>
                </a:lnTo>
                <a:lnTo>
                  <a:pt x="2093674" y="24427"/>
                </a:lnTo>
                <a:lnTo>
                  <a:pt x="2093042" y="24427"/>
                </a:lnTo>
                <a:lnTo>
                  <a:pt x="2075899" y="24427"/>
                </a:lnTo>
                <a:lnTo>
                  <a:pt x="2075899" y="41527"/>
                </a:lnTo>
                <a:lnTo>
                  <a:pt x="2075899" y="232113"/>
                </a:lnTo>
                <a:lnTo>
                  <a:pt x="2033528" y="232113"/>
                </a:lnTo>
                <a:lnTo>
                  <a:pt x="2033252" y="232113"/>
                </a:lnTo>
                <a:lnTo>
                  <a:pt x="1947289" y="232113"/>
                </a:lnTo>
                <a:lnTo>
                  <a:pt x="1947289" y="125202"/>
                </a:lnTo>
                <a:lnTo>
                  <a:pt x="2033252" y="125202"/>
                </a:lnTo>
                <a:lnTo>
                  <a:pt x="2033252" y="106930"/>
                </a:lnTo>
                <a:lnTo>
                  <a:pt x="1947289" y="106930"/>
                </a:lnTo>
                <a:lnTo>
                  <a:pt x="1946656" y="106930"/>
                </a:lnTo>
                <a:lnTo>
                  <a:pt x="1946656" y="41527"/>
                </a:lnTo>
                <a:lnTo>
                  <a:pt x="1947289" y="41527"/>
                </a:lnTo>
                <a:lnTo>
                  <a:pt x="1990152" y="41527"/>
                </a:lnTo>
                <a:lnTo>
                  <a:pt x="1990152" y="66233"/>
                </a:lnTo>
                <a:lnTo>
                  <a:pt x="1970915" y="66233"/>
                </a:lnTo>
                <a:lnTo>
                  <a:pt x="1970915" y="83760"/>
                </a:lnTo>
                <a:lnTo>
                  <a:pt x="2008535" y="83760"/>
                </a:lnTo>
                <a:lnTo>
                  <a:pt x="2008535" y="70017"/>
                </a:lnTo>
                <a:lnTo>
                  <a:pt x="2008535" y="66233"/>
                </a:lnTo>
                <a:lnTo>
                  <a:pt x="2008535" y="24427"/>
                </a:lnTo>
                <a:lnTo>
                  <a:pt x="1992860" y="24427"/>
                </a:lnTo>
                <a:lnTo>
                  <a:pt x="1990152" y="24427"/>
                </a:lnTo>
                <a:lnTo>
                  <a:pt x="1947289" y="24427"/>
                </a:lnTo>
                <a:lnTo>
                  <a:pt x="1946656" y="24427"/>
                </a:lnTo>
                <a:lnTo>
                  <a:pt x="1929513" y="24427"/>
                </a:lnTo>
                <a:lnTo>
                  <a:pt x="1929513" y="41527"/>
                </a:lnTo>
                <a:lnTo>
                  <a:pt x="1929513" y="232113"/>
                </a:lnTo>
                <a:lnTo>
                  <a:pt x="1887143" y="232113"/>
                </a:lnTo>
                <a:lnTo>
                  <a:pt x="1887143" y="232114"/>
                </a:lnTo>
                <a:lnTo>
                  <a:pt x="1886866" y="232114"/>
                </a:lnTo>
                <a:lnTo>
                  <a:pt x="1886866" y="232113"/>
                </a:lnTo>
                <a:lnTo>
                  <a:pt x="1800905" y="232113"/>
                </a:lnTo>
                <a:lnTo>
                  <a:pt x="1800905" y="125202"/>
                </a:lnTo>
                <a:lnTo>
                  <a:pt x="1886866" y="125202"/>
                </a:lnTo>
                <a:lnTo>
                  <a:pt x="1886866" y="106931"/>
                </a:lnTo>
                <a:lnTo>
                  <a:pt x="1800905" y="106931"/>
                </a:lnTo>
                <a:lnTo>
                  <a:pt x="1800273" y="106931"/>
                </a:lnTo>
                <a:lnTo>
                  <a:pt x="1800273" y="41528"/>
                </a:lnTo>
                <a:lnTo>
                  <a:pt x="1800905" y="41528"/>
                </a:lnTo>
                <a:lnTo>
                  <a:pt x="1843767" y="41528"/>
                </a:lnTo>
                <a:lnTo>
                  <a:pt x="1843767" y="66234"/>
                </a:lnTo>
                <a:lnTo>
                  <a:pt x="1824530" y="66234"/>
                </a:lnTo>
                <a:lnTo>
                  <a:pt x="1824530" y="83761"/>
                </a:lnTo>
                <a:lnTo>
                  <a:pt x="1862149" y="83761"/>
                </a:lnTo>
                <a:lnTo>
                  <a:pt x="1862149" y="70018"/>
                </a:lnTo>
                <a:lnTo>
                  <a:pt x="1862149" y="66234"/>
                </a:lnTo>
                <a:lnTo>
                  <a:pt x="1862149" y="24428"/>
                </a:lnTo>
                <a:lnTo>
                  <a:pt x="1846475" y="24428"/>
                </a:lnTo>
                <a:lnTo>
                  <a:pt x="1843767" y="24428"/>
                </a:lnTo>
                <a:lnTo>
                  <a:pt x="1800905" y="24428"/>
                </a:lnTo>
                <a:lnTo>
                  <a:pt x="1800273" y="24428"/>
                </a:lnTo>
                <a:lnTo>
                  <a:pt x="1783129" y="24428"/>
                </a:lnTo>
                <a:lnTo>
                  <a:pt x="1783129" y="41528"/>
                </a:lnTo>
                <a:lnTo>
                  <a:pt x="1783129" y="232114"/>
                </a:lnTo>
                <a:lnTo>
                  <a:pt x="1740758" y="232114"/>
                </a:lnTo>
                <a:lnTo>
                  <a:pt x="1740758" y="232115"/>
                </a:lnTo>
                <a:lnTo>
                  <a:pt x="1740482" y="232115"/>
                </a:lnTo>
                <a:lnTo>
                  <a:pt x="1740482" y="232114"/>
                </a:lnTo>
                <a:lnTo>
                  <a:pt x="1654520" y="232114"/>
                </a:lnTo>
                <a:lnTo>
                  <a:pt x="1654520" y="125203"/>
                </a:lnTo>
                <a:lnTo>
                  <a:pt x="1740482" y="125203"/>
                </a:lnTo>
                <a:lnTo>
                  <a:pt x="1740482" y="106932"/>
                </a:lnTo>
                <a:lnTo>
                  <a:pt x="1654520" y="106932"/>
                </a:lnTo>
                <a:lnTo>
                  <a:pt x="1653887" y="106932"/>
                </a:lnTo>
                <a:lnTo>
                  <a:pt x="1653887" y="41529"/>
                </a:lnTo>
                <a:lnTo>
                  <a:pt x="1654520" y="41529"/>
                </a:lnTo>
                <a:lnTo>
                  <a:pt x="1697382" y="41529"/>
                </a:lnTo>
                <a:lnTo>
                  <a:pt x="1697382" y="66235"/>
                </a:lnTo>
                <a:lnTo>
                  <a:pt x="1678146" y="66235"/>
                </a:lnTo>
                <a:lnTo>
                  <a:pt x="1678146" y="83762"/>
                </a:lnTo>
                <a:lnTo>
                  <a:pt x="1715765" y="83762"/>
                </a:lnTo>
                <a:lnTo>
                  <a:pt x="1715765" y="70019"/>
                </a:lnTo>
                <a:lnTo>
                  <a:pt x="1715765" y="66235"/>
                </a:lnTo>
                <a:lnTo>
                  <a:pt x="1715765" y="24429"/>
                </a:lnTo>
                <a:lnTo>
                  <a:pt x="1700091" y="24429"/>
                </a:lnTo>
                <a:lnTo>
                  <a:pt x="1697382" y="24429"/>
                </a:lnTo>
                <a:lnTo>
                  <a:pt x="1654520" y="24429"/>
                </a:lnTo>
                <a:lnTo>
                  <a:pt x="1653887" y="24429"/>
                </a:lnTo>
                <a:lnTo>
                  <a:pt x="1636744" y="24429"/>
                </a:lnTo>
                <a:lnTo>
                  <a:pt x="1636744" y="41529"/>
                </a:lnTo>
                <a:lnTo>
                  <a:pt x="1636744" y="232115"/>
                </a:lnTo>
                <a:lnTo>
                  <a:pt x="1594373" y="232115"/>
                </a:lnTo>
                <a:lnTo>
                  <a:pt x="1594096" y="232115"/>
                </a:lnTo>
                <a:lnTo>
                  <a:pt x="1508134" y="232115"/>
                </a:lnTo>
                <a:lnTo>
                  <a:pt x="1508134" y="125204"/>
                </a:lnTo>
                <a:lnTo>
                  <a:pt x="1594096" y="125204"/>
                </a:lnTo>
                <a:lnTo>
                  <a:pt x="1594096" y="106932"/>
                </a:lnTo>
                <a:lnTo>
                  <a:pt x="1508134" y="106932"/>
                </a:lnTo>
                <a:lnTo>
                  <a:pt x="1507502" y="106932"/>
                </a:lnTo>
                <a:lnTo>
                  <a:pt x="1507502" y="41529"/>
                </a:lnTo>
                <a:lnTo>
                  <a:pt x="1508134" y="41529"/>
                </a:lnTo>
                <a:lnTo>
                  <a:pt x="1550998" y="41529"/>
                </a:lnTo>
                <a:lnTo>
                  <a:pt x="1550998" y="66235"/>
                </a:lnTo>
                <a:lnTo>
                  <a:pt x="1531760" y="66235"/>
                </a:lnTo>
                <a:lnTo>
                  <a:pt x="1531760" y="83762"/>
                </a:lnTo>
                <a:lnTo>
                  <a:pt x="1569380" y="83762"/>
                </a:lnTo>
                <a:lnTo>
                  <a:pt x="1569380" y="70019"/>
                </a:lnTo>
                <a:lnTo>
                  <a:pt x="1569380" y="66235"/>
                </a:lnTo>
                <a:lnTo>
                  <a:pt x="1569380" y="24429"/>
                </a:lnTo>
                <a:lnTo>
                  <a:pt x="1553705" y="24429"/>
                </a:lnTo>
                <a:lnTo>
                  <a:pt x="1550998" y="24429"/>
                </a:lnTo>
                <a:lnTo>
                  <a:pt x="1508134" y="24429"/>
                </a:lnTo>
                <a:lnTo>
                  <a:pt x="1507502" y="24429"/>
                </a:lnTo>
                <a:lnTo>
                  <a:pt x="1490358" y="24429"/>
                </a:lnTo>
                <a:lnTo>
                  <a:pt x="1490358" y="41529"/>
                </a:lnTo>
                <a:lnTo>
                  <a:pt x="1490358" y="232115"/>
                </a:lnTo>
                <a:lnTo>
                  <a:pt x="1447988" y="232115"/>
                </a:lnTo>
                <a:lnTo>
                  <a:pt x="1447988" y="232116"/>
                </a:lnTo>
                <a:lnTo>
                  <a:pt x="1447711" y="232116"/>
                </a:lnTo>
                <a:lnTo>
                  <a:pt x="1447711" y="232115"/>
                </a:lnTo>
                <a:lnTo>
                  <a:pt x="1361750" y="232115"/>
                </a:lnTo>
                <a:lnTo>
                  <a:pt x="1361750" y="125204"/>
                </a:lnTo>
                <a:lnTo>
                  <a:pt x="1447711" y="125204"/>
                </a:lnTo>
                <a:lnTo>
                  <a:pt x="1447711" y="106933"/>
                </a:lnTo>
                <a:lnTo>
                  <a:pt x="1361750" y="106933"/>
                </a:lnTo>
                <a:lnTo>
                  <a:pt x="1361118" y="106933"/>
                </a:lnTo>
                <a:lnTo>
                  <a:pt x="1361118" y="41530"/>
                </a:lnTo>
                <a:lnTo>
                  <a:pt x="1361750" y="41530"/>
                </a:lnTo>
                <a:lnTo>
                  <a:pt x="1404613" y="41530"/>
                </a:lnTo>
                <a:lnTo>
                  <a:pt x="1404613" y="66236"/>
                </a:lnTo>
                <a:lnTo>
                  <a:pt x="1385376" y="66236"/>
                </a:lnTo>
                <a:lnTo>
                  <a:pt x="1385376" y="83763"/>
                </a:lnTo>
                <a:lnTo>
                  <a:pt x="1422995" y="83763"/>
                </a:lnTo>
                <a:lnTo>
                  <a:pt x="1422995" y="70020"/>
                </a:lnTo>
                <a:lnTo>
                  <a:pt x="1422995" y="66236"/>
                </a:lnTo>
                <a:lnTo>
                  <a:pt x="1422995" y="24430"/>
                </a:lnTo>
                <a:lnTo>
                  <a:pt x="1407320" y="24430"/>
                </a:lnTo>
                <a:lnTo>
                  <a:pt x="1404613" y="24430"/>
                </a:lnTo>
                <a:lnTo>
                  <a:pt x="1361750" y="24430"/>
                </a:lnTo>
                <a:lnTo>
                  <a:pt x="1361118" y="24430"/>
                </a:lnTo>
                <a:lnTo>
                  <a:pt x="1343973" y="24430"/>
                </a:lnTo>
                <a:lnTo>
                  <a:pt x="1343973" y="41530"/>
                </a:lnTo>
                <a:lnTo>
                  <a:pt x="1343973" y="232116"/>
                </a:lnTo>
                <a:lnTo>
                  <a:pt x="1301604" y="232116"/>
                </a:lnTo>
                <a:lnTo>
                  <a:pt x="1301604" y="232117"/>
                </a:lnTo>
                <a:lnTo>
                  <a:pt x="1301326" y="232117"/>
                </a:lnTo>
                <a:lnTo>
                  <a:pt x="1301326" y="232116"/>
                </a:lnTo>
                <a:lnTo>
                  <a:pt x="1215364" y="232116"/>
                </a:lnTo>
                <a:lnTo>
                  <a:pt x="1215364" y="125205"/>
                </a:lnTo>
                <a:lnTo>
                  <a:pt x="1301326" y="125205"/>
                </a:lnTo>
                <a:lnTo>
                  <a:pt x="1301326" y="106934"/>
                </a:lnTo>
                <a:lnTo>
                  <a:pt x="1215364" y="106934"/>
                </a:lnTo>
                <a:lnTo>
                  <a:pt x="1214732" y="106934"/>
                </a:lnTo>
                <a:lnTo>
                  <a:pt x="1214732" y="41531"/>
                </a:lnTo>
                <a:lnTo>
                  <a:pt x="1215364" y="41531"/>
                </a:lnTo>
                <a:lnTo>
                  <a:pt x="1258228" y="41531"/>
                </a:lnTo>
                <a:lnTo>
                  <a:pt x="1258228" y="66237"/>
                </a:lnTo>
                <a:lnTo>
                  <a:pt x="1238991" y="66237"/>
                </a:lnTo>
                <a:lnTo>
                  <a:pt x="1238991" y="83764"/>
                </a:lnTo>
                <a:lnTo>
                  <a:pt x="1276610" y="83764"/>
                </a:lnTo>
                <a:lnTo>
                  <a:pt x="1276610" y="70021"/>
                </a:lnTo>
                <a:lnTo>
                  <a:pt x="1276610" y="66237"/>
                </a:lnTo>
                <a:lnTo>
                  <a:pt x="1276610" y="24431"/>
                </a:lnTo>
                <a:lnTo>
                  <a:pt x="1260935" y="24431"/>
                </a:lnTo>
                <a:lnTo>
                  <a:pt x="1258228" y="24431"/>
                </a:lnTo>
                <a:lnTo>
                  <a:pt x="1215364" y="24431"/>
                </a:lnTo>
                <a:lnTo>
                  <a:pt x="1214732" y="24431"/>
                </a:lnTo>
                <a:lnTo>
                  <a:pt x="1197588" y="24431"/>
                </a:lnTo>
                <a:lnTo>
                  <a:pt x="1197588" y="41531"/>
                </a:lnTo>
                <a:lnTo>
                  <a:pt x="1197588" y="232117"/>
                </a:lnTo>
                <a:lnTo>
                  <a:pt x="1155218" y="232117"/>
                </a:lnTo>
                <a:lnTo>
                  <a:pt x="1154942" y="232117"/>
                </a:lnTo>
                <a:lnTo>
                  <a:pt x="1068980" y="232117"/>
                </a:lnTo>
                <a:lnTo>
                  <a:pt x="1068980" y="125206"/>
                </a:lnTo>
                <a:lnTo>
                  <a:pt x="1154942" y="125206"/>
                </a:lnTo>
                <a:lnTo>
                  <a:pt x="1154942" y="106934"/>
                </a:lnTo>
                <a:lnTo>
                  <a:pt x="1068980" y="106934"/>
                </a:lnTo>
                <a:lnTo>
                  <a:pt x="1068347" y="106934"/>
                </a:lnTo>
                <a:lnTo>
                  <a:pt x="1068347" y="41531"/>
                </a:lnTo>
                <a:lnTo>
                  <a:pt x="1068980" y="41531"/>
                </a:lnTo>
                <a:lnTo>
                  <a:pt x="1111843" y="41531"/>
                </a:lnTo>
                <a:lnTo>
                  <a:pt x="1111843" y="66237"/>
                </a:lnTo>
                <a:lnTo>
                  <a:pt x="1092605" y="66237"/>
                </a:lnTo>
                <a:lnTo>
                  <a:pt x="1092605" y="83764"/>
                </a:lnTo>
                <a:lnTo>
                  <a:pt x="1130225" y="83764"/>
                </a:lnTo>
                <a:lnTo>
                  <a:pt x="1130225" y="70021"/>
                </a:lnTo>
                <a:lnTo>
                  <a:pt x="1130225" y="66237"/>
                </a:lnTo>
                <a:lnTo>
                  <a:pt x="1130225" y="24431"/>
                </a:lnTo>
                <a:lnTo>
                  <a:pt x="1114551" y="24431"/>
                </a:lnTo>
                <a:lnTo>
                  <a:pt x="1111843" y="24431"/>
                </a:lnTo>
                <a:lnTo>
                  <a:pt x="1068980" y="24431"/>
                </a:lnTo>
                <a:lnTo>
                  <a:pt x="1068347" y="24431"/>
                </a:lnTo>
                <a:lnTo>
                  <a:pt x="1051203" y="24431"/>
                </a:lnTo>
                <a:lnTo>
                  <a:pt x="1051203" y="41531"/>
                </a:lnTo>
                <a:lnTo>
                  <a:pt x="1051203" y="232117"/>
                </a:lnTo>
                <a:lnTo>
                  <a:pt x="1008834" y="232117"/>
                </a:lnTo>
                <a:lnTo>
                  <a:pt x="1008834" y="232118"/>
                </a:lnTo>
                <a:lnTo>
                  <a:pt x="1008557" y="232118"/>
                </a:lnTo>
                <a:lnTo>
                  <a:pt x="1008557" y="232117"/>
                </a:lnTo>
                <a:lnTo>
                  <a:pt x="922595" y="232117"/>
                </a:lnTo>
                <a:lnTo>
                  <a:pt x="922595" y="125206"/>
                </a:lnTo>
                <a:lnTo>
                  <a:pt x="1008557" y="125206"/>
                </a:lnTo>
                <a:lnTo>
                  <a:pt x="1008557" y="106935"/>
                </a:lnTo>
                <a:lnTo>
                  <a:pt x="922595" y="106935"/>
                </a:lnTo>
                <a:lnTo>
                  <a:pt x="921962" y="106935"/>
                </a:lnTo>
                <a:lnTo>
                  <a:pt x="921962" y="41532"/>
                </a:lnTo>
                <a:lnTo>
                  <a:pt x="922595" y="41532"/>
                </a:lnTo>
                <a:lnTo>
                  <a:pt x="965458" y="41532"/>
                </a:lnTo>
                <a:lnTo>
                  <a:pt x="965458" y="66238"/>
                </a:lnTo>
                <a:lnTo>
                  <a:pt x="946221" y="66238"/>
                </a:lnTo>
                <a:lnTo>
                  <a:pt x="946221" y="83765"/>
                </a:lnTo>
                <a:lnTo>
                  <a:pt x="983840" y="83765"/>
                </a:lnTo>
                <a:lnTo>
                  <a:pt x="983840" y="70022"/>
                </a:lnTo>
                <a:lnTo>
                  <a:pt x="983840" y="66238"/>
                </a:lnTo>
                <a:lnTo>
                  <a:pt x="983840" y="24432"/>
                </a:lnTo>
                <a:lnTo>
                  <a:pt x="968165" y="24432"/>
                </a:lnTo>
                <a:lnTo>
                  <a:pt x="965458" y="24432"/>
                </a:lnTo>
                <a:lnTo>
                  <a:pt x="922595" y="24432"/>
                </a:lnTo>
                <a:lnTo>
                  <a:pt x="921962" y="24432"/>
                </a:lnTo>
                <a:lnTo>
                  <a:pt x="904818" y="24432"/>
                </a:lnTo>
                <a:lnTo>
                  <a:pt x="904818" y="41532"/>
                </a:lnTo>
                <a:lnTo>
                  <a:pt x="904818" y="232118"/>
                </a:lnTo>
                <a:lnTo>
                  <a:pt x="862449" y="232118"/>
                </a:lnTo>
                <a:lnTo>
                  <a:pt x="862171" y="232118"/>
                </a:lnTo>
                <a:lnTo>
                  <a:pt x="776209" y="232118"/>
                </a:lnTo>
                <a:lnTo>
                  <a:pt x="776209" y="125207"/>
                </a:lnTo>
                <a:lnTo>
                  <a:pt x="862171" y="125207"/>
                </a:lnTo>
                <a:lnTo>
                  <a:pt x="862171" y="106935"/>
                </a:lnTo>
                <a:lnTo>
                  <a:pt x="776209" y="106935"/>
                </a:lnTo>
                <a:lnTo>
                  <a:pt x="775577" y="106935"/>
                </a:lnTo>
                <a:lnTo>
                  <a:pt x="775577" y="41532"/>
                </a:lnTo>
                <a:lnTo>
                  <a:pt x="776209" y="41532"/>
                </a:lnTo>
                <a:lnTo>
                  <a:pt x="819073" y="41532"/>
                </a:lnTo>
                <a:lnTo>
                  <a:pt x="819073" y="66238"/>
                </a:lnTo>
                <a:lnTo>
                  <a:pt x="799835" y="66238"/>
                </a:lnTo>
                <a:lnTo>
                  <a:pt x="799835" y="83765"/>
                </a:lnTo>
                <a:lnTo>
                  <a:pt x="837455" y="83765"/>
                </a:lnTo>
                <a:lnTo>
                  <a:pt x="837455" y="70022"/>
                </a:lnTo>
                <a:lnTo>
                  <a:pt x="837455" y="66238"/>
                </a:lnTo>
                <a:lnTo>
                  <a:pt x="837455" y="24432"/>
                </a:lnTo>
                <a:lnTo>
                  <a:pt x="821780" y="24432"/>
                </a:lnTo>
                <a:lnTo>
                  <a:pt x="819073" y="24432"/>
                </a:lnTo>
                <a:lnTo>
                  <a:pt x="776209" y="24432"/>
                </a:lnTo>
                <a:lnTo>
                  <a:pt x="775577" y="24432"/>
                </a:lnTo>
                <a:lnTo>
                  <a:pt x="758433" y="24432"/>
                </a:lnTo>
                <a:lnTo>
                  <a:pt x="758433" y="41532"/>
                </a:lnTo>
                <a:lnTo>
                  <a:pt x="758433" y="232118"/>
                </a:lnTo>
                <a:lnTo>
                  <a:pt x="716064" y="232118"/>
                </a:lnTo>
                <a:lnTo>
                  <a:pt x="716064" y="232119"/>
                </a:lnTo>
                <a:lnTo>
                  <a:pt x="715787" y="232119"/>
                </a:lnTo>
                <a:lnTo>
                  <a:pt x="715787" y="232118"/>
                </a:lnTo>
                <a:lnTo>
                  <a:pt x="629824" y="232118"/>
                </a:lnTo>
                <a:lnTo>
                  <a:pt x="629824" y="125207"/>
                </a:lnTo>
                <a:lnTo>
                  <a:pt x="715787" y="125207"/>
                </a:lnTo>
                <a:lnTo>
                  <a:pt x="715787" y="106936"/>
                </a:lnTo>
                <a:lnTo>
                  <a:pt x="629824" y="106936"/>
                </a:lnTo>
                <a:lnTo>
                  <a:pt x="629193" y="106936"/>
                </a:lnTo>
                <a:lnTo>
                  <a:pt x="629193" y="41533"/>
                </a:lnTo>
                <a:lnTo>
                  <a:pt x="629824" y="41533"/>
                </a:lnTo>
                <a:lnTo>
                  <a:pt x="672689" y="41533"/>
                </a:lnTo>
                <a:lnTo>
                  <a:pt x="672689" y="66239"/>
                </a:lnTo>
                <a:lnTo>
                  <a:pt x="653451" y="66239"/>
                </a:lnTo>
                <a:lnTo>
                  <a:pt x="653451" y="83766"/>
                </a:lnTo>
                <a:lnTo>
                  <a:pt x="691071" y="83766"/>
                </a:lnTo>
                <a:lnTo>
                  <a:pt x="691071" y="70023"/>
                </a:lnTo>
                <a:lnTo>
                  <a:pt x="691071" y="66239"/>
                </a:lnTo>
                <a:lnTo>
                  <a:pt x="691071" y="24433"/>
                </a:lnTo>
                <a:lnTo>
                  <a:pt x="675396" y="24433"/>
                </a:lnTo>
                <a:lnTo>
                  <a:pt x="672689" y="24433"/>
                </a:lnTo>
                <a:lnTo>
                  <a:pt x="629824" y="24433"/>
                </a:lnTo>
                <a:lnTo>
                  <a:pt x="629193" y="24433"/>
                </a:lnTo>
                <a:lnTo>
                  <a:pt x="612049" y="24433"/>
                </a:lnTo>
                <a:lnTo>
                  <a:pt x="612049" y="41533"/>
                </a:lnTo>
                <a:lnTo>
                  <a:pt x="612049" y="232119"/>
                </a:lnTo>
                <a:lnTo>
                  <a:pt x="569678" y="232119"/>
                </a:lnTo>
                <a:lnTo>
                  <a:pt x="569678" y="232120"/>
                </a:lnTo>
                <a:lnTo>
                  <a:pt x="569401" y="232120"/>
                </a:lnTo>
                <a:lnTo>
                  <a:pt x="569401" y="232119"/>
                </a:lnTo>
                <a:lnTo>
                  <a:pt x="483440" y="232119"/>
                </a:lnTo>
                <a:lnTo>
                  <a:pt x="483440" y="125208"/>
                </a:lnTo>
                <a:lnTo>
                  <a:pt x="569401" y="125208"/>
                </a:lnTo>
                <a:lnTo>
                  <a:pt x="569401" y="106937"/>
                </a:lnTo>
                <a:lnTo>
                  <a:pt x="483440" y="106937"/>
                </a:lnTo>
                <a:lnTo>
                  <a:pt x="482807" y="106937"/>
                </a:lnTo>
                <a:lnTo>
                  <a:pt x="482807" y="41534"/>
                </a:lnTo>
                <a:lnTo>
                  <a:pt x="483440" y="41534"/>
                </a:lnTo>
                <a:lnTo>
                  <a:pt x="526303" y="41534"/>
                </a:lnTo>
                <a:lnTo>
                  <a:pt x="526303" y="66240"/>
                </a:lnTo>
                <a:lnTo>
                  <a:pt x="507065" y="66240"/>
                </a:lnTo>
                <a:lnTo>
                  <a:pt x="507065" y="83767"/>
                </a:lnTo>
                <a:lnTo>
                  <a:pt x="544685" y="83767"/>
                </a:lnTo>
                <a:lnTo>
                  <a:pt x="544685" y="70024"/>
                </a:lnTo>
                <a:lnTo>
                  <a:pt x="544685" y="66240"/>
                </a:lnTo>
                <a:lnTo>
                  <a:pt x="544685" y="24434"/>
                </a:lnTo>
                <a:lnTo>
                  <a:pt x="529010" y="24434"/>
                </a:lnTo>
                <a:lnTo>
                  <a:pt x="526303" y="24434"/>
                </a:lnTo>
                <a:lnTo>
                  <a:pt x="483440" y="24434"/>
                </a:lnTo>
                <a:lnTo>
                  <a:pt x="482807" y="24434"/>
                </a:lnTo>
                <a:lnTo>
                  <a:pt x="465663" y="24434"/>
                </a:lnTo>
                <a:lnTo>
                  <a:pt x="465663" y="41534"/>
                </a:lnTo>
                <a:lnTo>
                  <a:pt x="465663" y="232120"/>
                </a:lnTo>
                <a:lnTo>
                  <a:pt x="423294" y="232120"/>
                </a:lnTo>
                <a:lnTo>
                  <a:pt x="423018" y="232120"/>
                </a:lnTo>
                <a:lnTo>
                  <a:pt x="337056" y="232120"/>
                </a:lnTo>
                <a:lnTo>
                  <a:pt x="337056" y="125209"/>
                </a:lnTo>
                <a:lnTo>
                  <a:pt x="423018" y="125209"/>
                </a:lnTo>
                <a:lnTo>
                  <a:pt x="423018" y="106937"/>
                </a:lnTo>
                <a:lnTo>
                  <a:pt x="337056" y="106937"/>
                </a:lnTo>
                <a:lnTo>
                  <a:pt x="336424" y="106937"/>
                </a:lnTo>
                <a:lnTo>
                  <a:pt x="336424" y="41534"/>
                </a:lnTo>
                <a:lnTo>
                  <a:pt x="337056" y="41534"/>
                </a:lnTo>
                <a:lnTo>
                  <a:pt x="379920" y="41534"/>
                </a:lnTo>
                <a:lnTo>
                  <a:pt x="379920" y="66240"/>
                </a:lnTo>
                <a:lnTo>
                  <a:pt x="360682" y="66240"/>
                </a:lnTo>
                <a:lnTo>
                  <a:pt x="360682" y="83767"/>
                </a:lnTo>
                <a:lnTo>
                  <a:pt x="398302" y="83767"/>
                </a:lnTo>
                <a:lnTo>
                  <a:pt x="398302" y="70024"/>
                </a:lnTo>
                <a:lnTo>
                  <a:pt x="398302" y="66240"/>
                </a:lnTo>
                <a:lnTo>
                  <a:pt x="398302" y="24434"/>
                </a:lnTo>
                <a:lnTo>
                  <a:pt x="382626" y="24434"/>
                </a:lnTo>
                <a:lnTo>
                  <a:pt x="379920" y="24434"/>
                </a:lnTo>
                <a:lnTo>
                  <a:pt x="337056" y="24434"/>
                </a:lnTo>
                <a:lnTo>
                  <a:pt x="336424" y="24434"/>
                </a:lnTo>
                <a:lnTo>
                  <a:pt x="319280" y="24434"/>
                </a:lnTo>
                <a:lnTo>
                  <a:pt x="319280" y="41534"/>
                </a:lnTo>
                <a:lnTo>
                  <a:pt x="319280" y="232120"/>
                </a:lnTo>
                <a:lnTo>
                  <a:pt x="276911" y="232120"/>
                </a:lnTo>
                <a:lnTo>
                  <a:pt x="276911" y="232121"/>
                </a:lnTo>
                <a:lnTo>
                  <a:pt x="276634" y="232121"/>
                </a:lnTo>
                <a:lnTo>
                  <a:pt x="276634" y="232120"/>
                </a:lnTo>
                <a:lnTo>
                  <a:pt x="190671" y="232120"/>
                </a:lnTo>
                <a:lnTo>
                  <a:pt x="190671" y="125209"/>
                </a:lnTo>
                <a:lnTo>
                  <a:pt x="276634" y="125209"/>
                </a:lnTo>
                <a:lnTo>
                  <a:pt x="276634" y="106938"/>
                </a:lnTo>
                <a:lnTo>
                  <a:pt x="190671" y="106938"/>
                </a:lnTo>
                <a:lnTo>
                  <a:pt x="190039" y="106938"/>
                </a:lnTo>
                <a:lnTo>
                  <a:pt x="190039" y="41535"/>
                </a:lnTo>
                <a:lnTo>
                  <a:pt x="190671" y="41535"/>
                </a:lnTo>
                <a:lnTo>
                  <a:pt x="233536" y="41535"/>
                </a:lnTo>
                <a:lnTo>
                  <a:pt x="233536" y="66241"/>
                </a:lnTo>
                <a:lnTo>
                  <a:pt x="214298" y="66241"/>
                </a:lnTo>
                <a:lnTo>
                  <a:pt x="214298" y="83768"/>
                </a:lnTo>
                <a:lnTo>
                  <a:pt x="251917" y="83768"/>
                </a:lnTo>
                <a:lnTo>
                  <a:pt x="251917" y="70025"/>
                </a:lnTo>
                <a:lnTo>
                  <a:pt x="251917" y="66241"/>
                </a:lnTo>
                <a:lnTo>
                  <a:pt x="251917" y="24435"/>
                </a:lnTo>
                <a:lnTo>
                  <a:pt x="236243" y="24435"/>
                </a:lnTo>
                <a:lnTo>
                  <a:pt x="233536" y="24435"/>
                </a:lnTo>
                <a:lnTo>
                  <a:pt x="190671" y="24435"/>
                </a:lnTo>
                <a:lnTo>
                  <a:pt x="190039" y="24435"/>
                </a:lnTo>
                <a:lnTo>
                  <a:pt x="172896" y="24435"/>
                </a:lnTo>
                <a:lnTo>
                  <a:pt x="172896" y="41535"/>
                </a:lnTo>
                <a:lnTo>
                  <a:pt x="172896" y="232121"/>
                </a:lnTo>
                <a:lnTo>
                  <a:pt x="129951" y="232121"/>
                </a:lnTo>
                <a:lnTo>
                  <a:pt x="129674" y="232121"/>
                </a:lnTo>
                <a:lnTo>
                  <a:pt x="44287" y="232121"/>
                </a:lnTo>
                <a:lnTo>
                  <a:pt x="44287" y="125210"/>
                </a:lnTo>
                <a:lnTo>
                  <a:pt x="129674" y="125210"/>
                </a:lnTo>
                <a:lnTo>
                  <a:pt x="129674" y="106939"/>
                </a:lnTo>
                <a:lnTo>
                  <a:pt x="44287" y="106939"/>
                </a:lnTo>
                <a:lnTo>
                  <a:pt x="43080" y="106939"/>
                </a:lnTo>
                <a:lnTo>
                  <a:pt x="43080" y="41534"/>
                </a:lnTo>
                <a:lnTo>
                  <a:pt x="44287" y="41534"/>
                </a:lnTo>
                <a:lnTo>
                  <a:pt x="86575" y="41534"/>
                </a:lnTo>
                <a:lnTo>
                  <a:pt x="86575" y="66242"/>
                </a:lnTo>
                <a:lnTo>
                  <a:pt x="67338" y="66242"/>
                </a:lnTo>
                <a:lnTo>
                  <a:pt x="67338" y="83769"/>
                </a:lnTo>
                <a:lnTo>
                  <a:pt x="104958" y="83769"/>
                </a:lnTo>
                <a:lnTo>
                  <a:pt x="104958" y="70025"/>
                </a:lnTo>
                <a:lnTo>
                  <a:pt x="104958" y="66242"/>
                </a:lnTo>
                <a:lnTo>
                  <a:pt x="104958" y="24435"/>
                </a:lnTo>
                <a:lnTo>
                  <a:pt x="89283" y="24435"/>
                </a:lnTo>
                <a:lnTo>
                  <a:pt x="86575" y="24435"/>
                </a:lnTo>
                <a:lnTo>
                  <a:pt x="44287" y="24435"/>
                </a:lnTo>
                <a:lnTo>
                  <a:pt x="43080" y="24435"/>
                </a:lnTo>
                <a:lnTo>
                  <a:pt x="25936" y="24435"/>
                </a:lnTo>
                <a:lnTo>
                  <a:pt x="25936" y="41534"/>
                </a:lnTo>
                <a:lnTo>
                  <a:pt x="25936" y="232121"/>
                </a:lnTo>
                <a:lnTo>
                  <a:pt x="0" y="232121"/>
                </a:lnTo>
                <a:lnTo>
                  <a:pt x="0" y="207714"/>
                </a:lnTo>
                <a:lnTo>
                  <a:pt x="1066" y="207714"/>
                </a:lnTo>
                <a:lnTo>
                  <a:pt x="1066" y="190614"/>
                </a:lnTo>
                <a:lnTo>
                  <a:pt x="1066" y="27"/>
                </a:lnTo>
                <a:lnTo>
                  <a:pt x="44287" y="27"/>
                </a:lnTo>
                <a:lnTo>
                  <a:pt x="129951" y="27"/>
                </a:lnTo>
                <a:lnTo>
                  <a:pt x="129951" y="125210"/>
                </a:lnTo>
                <a:lnTo>
                  <a:pt x="130882" y="125210"/>
                </a:lnTo>
                <a:lnTo>
                  <a:pt x="130882" y="190614"/>
                </a:lnTo>
                <a:lnTo>
                  <a:pt x="129951" y="190614"/>
                </a:lnTo>
                <a:lnTo>
                  <a:pt x="129951" y="207713"/>
                </a:lnTo>
                <a:lnTo>
                  <a:pt x="130882" y="207713"/>
                </a:lnTo>
                <a:lnTo>
                  <a:pt x="148025" y="207713"/>
                </a:lnTo>
                <a:lnTo>
                  <a:pt x="148025" y="190614"/>
                </a:lnTo>
                <a:lnTo>
                  <a:pt x="148025" y="27"/>
                </a:lnTo>
                <a:lnTo>
                  <a:pt x="190671" y="27"/>
                </a:lnTo>
                <a:lnTo>
                  <a:pt x="276911" y="27"/>
                </a:lnTo>
                <a:lnTo>
                  <a:pt x="276911" y="125209"/>
                </a:lnTo>
                <a:lnTo>
                  <a:pt x="277265" y="125209"/>
                </a:lnTo>
                <a:lnTo>
                  <a:pt x="277265" y="190613"/>
                </a:lnTo>
                <a:lnTo>
                  <a:pt x="276911" y="190613"/>
                </a:lnTo>
                <a:lnTo>
                  <a:pt x="276911" y="207712"/>
                </a:lnTo>
                <a:lnTo>
                  <a:pt x="277265" y="207712"/>
                </a:lnTo>
                <a:lnTo>
                  <a:pt x="294409" y="207712"/>
                </a:lnTo>
                <a:lnTo>
                  <a:pt x="294409" y="190613"/>
                </a:lnTo>
                <a:lnTo>
                  <a:pt x="294409" y="26"/>
                </a:lnTo>
                <a:lnTo>
                  <a:pt x="337056" y="26"/>
                </a:lnTo>
                <a:lnTo>
                  <a:pt x="423294" y="26"/>
                </a:lnTo>
                <a:lnTo>
                  <a:pt x="423294" y="125209"/>
                </a:lnTo>
                <a:lnTo>
                  <a:pt x="423650" y="125209"/>
                </a:lnTo>
                <a:lnTo>
                  <a:pt x="423650" y="190613"/>
                </a:lnTo>
                <a:lnTo>
                  <a:pt x="423294" y="190613"/>
                </a:lnTo>
                <a:lnTo>
                  <a:pt x="423294" y="207712"/>
                </a:lnTo>
                <a:lnTo>
                  <a:pt x="423650" y="207712"/>
                </a:lnTo>
                <a:lnTo>
                  <a:pt x="440794" y="207712"/>
                </a:lnTo>
                <a:lnTo>
                  <a:pt x="440794" y="190613"/>
                </a:lnTo>
                <a:lnTo>
                  <a:pt x="440794" y="26"/>
                </a:lnTo>
                <a:lnTo>
                  <a:pt x="483440" y="26"/>
                </a:lnTo>
                <a:lnTo>
                  <a:pt x="569678" y="26"/>
                </a:lnTo>
                <a:lnTo>
                  <a:pt x="569678" y="125208"/>
                </a:lnTo>
                <a:lnTo>
                  <a:pt x="570035" y="125208"/>
                </a:lnTo>
                <a:lnTo>
                  <a:pt x="570035" y="190612"/>
                </a:lnTo>
                <a:lnTo>
                  <a:pt x="569678" y="190612"/>
                </a:lnTo>
                <a:lnTo>
                  <a:pt x="569678" y="207711"/>
                </a:lnTo>
                <a:lnTo>
                  <a:pt x="570035" y="207711"/>
                </a:lnTo>
                <a:lnTo>
                  <a:pt x="587179" y="207711"/>
                </a:lnTo>
                <a:lnTo>
                  <a:pt x="587179" y="190612"/>
                </a:lnTo>
                <a:lnTo>
                  <a:pt x="587179" y="25"/>
                </a:lnTo>
                <a:lnTo>
                  <a:pt x="629824" y="25"/>
                </a:lnTo>
                <a:lnTo>
                  <a:pt x="716064" y="25"/>
                </a:lnTo>
                <a:lnTo>
                  <a:pt x="716064" y="125207"/>
                </a:lnTo>
                <a:lnTo>
                  <a:pt x="716419" y="125207"/>
                </a:lnTo>
                <a:lnTo>
                  <a:pt x="716419" y="190611"/>
                </a:lnTo>
                <a:lnTo>
                  <a:pt x="716064" y="190611"/>
                </a:lnTo>
                <a:lnTo>
                  <a:pt x="716064" y="207710"/>
                </a:lnTo>
                <a:lnTo>
                  <a:pt x="716419" y="207710"/>
                </a:lnTo>
                <a:lnTo>
                  <a:pt x="733563" y="207710"/>
                </a:lnTo>
                <a:lnTo>
                  <a:pt x="733563" y="190611"/>
                </a:lnTo>
                <a:lnTo>
                  <a:pt x="733563" y="24"/>
                </a:lnTo>
                <a:lnTo>
                  <a:pt x="776209" y="24"/>
                </a:lnTo>
                <a:lnTo>
                  <a:pt x="862449" y="24"/>
                </a:lnTo>
                <a:lnTo>
                  <a:pt x="862449" y="125207"/>
                </a:lnTo>
                <a:lnTo>
                  <a:pt x="862804" y="125207"/>
                </a:lnTo>
                <a:lnTo>
                  <a:pt x="862804" y="190611"/>
                </a:lnTo>
                <a:lnTo>
                  <a:pt x="862449" y="190611"/>
                </a:lnTo>
                <a:lnTo>
                  <a:pt x="862449" y="207710"/>
                </a:lnTo>
                <a:lnTo>
                  <a:pt x="862804" y="207710"/>
                </a:lnTo>
                <a:lnTo>
                  <a:pt x="879948" y="207710"/>
                </a:lnTo>
                <a:lnTo>
                  <a:pt x="879948" y="190611"/>
                </a:lnTo>
                <a:lnTo>
                  <a:pt x="879948" y="24"/>
                </a:lnTo>
                <a:lnTo>
                  <a:pt x="922595" y="24"/>
                </a:lnTo>
                <a:lnTo>
                  <a:pt x="1008834" y="24"/>
                </a:lnTo>
                <a:lnTo>
                  <a:pt x="1008834" y="125206"/>
                </a:lnTo>
                <a:lnTo>
                  <a:pt x="1009189" y="125206"/>
                </a:lnTo>
                <a:lnTo>
                  <a:pt x="1009189" y="190610"/>
                </a:lnTo>
                <a:lnTo>
                  <a:pt x="1008834" y="190610"/>
                </a:lnTo>
                <a:lnTo>
                  <a:pt x="1008834" y="207709"/>
                </a:lnTo>
                <a:lnTo>
                  <a:pt x="1009189" y="207709"/>
                </a:lnTo>
                <a:lnTo>
                  <a:pt x="1026333" y="207709"/>
                </a:lnTo>
                <a:lnTo>
                  <a:pt x="1026333" y="190610"/>
                </a:lnTo>
                <a:lnTo>
                  <a:pt x="1026333" y="23"/>
                </a:lnTo>
                <a:lnTo>
                  <a:pt x="1068980" y="23"/>
                </a:lnTo>
                <a:lnTo>
                  <a:pt x="1155218" y="23"/>
                </a:lnTo>
                <a:lnTo>
                  <a:pt x="1155218" y="125206"/>
                </a:lnTo>
                <a:lnTo>
                  <a:pt x="1155574" y="125206"/>
                </a:lnTo>
                <a:lnTo>
                  <a:pt x="1155574" y="190610"/>
                </a:lnTo>
                <a:lnTo>
                  <a:pt x="1155218" y="190610"/>
                </a:lnTo>
                <a:lnTo>
                  <a:pt x="1155218" y="207709"/>
                </a:lnTo>
                <a:lnTo>
                  <a:pt x="1155574" y="207709"/>
                </a:lnTo>
                <a:lnTo>
                  <a:pt x="1172718" y="207709"/>
                </a:lnTo>
                <a:lnTo>
                  <a:pt x="1172718" y="190610"/>
                </a:lnTo>
                <a:lnTo>
                  <a:pt x="1172718" y="23"/>
                </a:lnTo>
                <a:lnTo>
                  <a:pt x="1215364" y="23"/>
                </a:lnTo>
                <a:lnTo>
                  <a:pt x="1301604" y="23"/>
                </a:lnTo>
                <a:lnTo>
                  <a:pt x="1301604" y="125205"/>
                </a:lnTo>
                <a:lnTo>
                  <a:pt x="1301959" y="125205"/>
                </a:lnTo>
                <a:lnTo>
                  <a:pt x="1301959" y="190609"/>
                </a:lnTo>
                <a:lnTo>
                  <a:pt x="1301604" y="190609"/>
                </a:lnTo>
                <a:lnTo>
                  <a:pt x="1301604" y="207708"/>
                </a:lnTo>
                <a:lnTo>
                  <a:pt x="1301959" y="207708"/>
                </a:lnTo>
                <a:lnTo>
                  <a:pt x="1319102" y="207708"/>
                </a:lnTo>
                <a:lnTo>
                  <a:pt x="1319102" y="190609"/>
                </a:lnTo>
                <a:lnTo>
                  <a:pt x="1319102" y="22"/>
                </a:lnTo>
                <a:lnTo>
                  <a:pt x="1361750" y="22"/>
                </a:lnTo>
                <a:lnTo>
                  <a:pt x="1447988" y="22"/>
                </a:lnTo>
                <a:lnTo>
                  <a:pt x="1447988" y="125204"/>
                </a:lnTo>
                <a:lnTo>
                  <a:pt x="1448344" y="125204"/>
                </a:lnTo>
                <a:lnTo>
                  <a:pt x="1448344" y="190608"/>
                </a:lnTo>
                <a:lnTo>
                  <a:pt x="1447988" y="190608"/>
                </a:lnTo>
                <a:lnTo>
                  <a:pt x="1447988" y="207707"/>
                </a:lnTo>
                <a:lnTo>
                  <a:pt x="1448344" y="207707"/>
                </a:lnTo>
                <a:lnTo>
                  <a:pt x="1465488" y="207707"/>
                </a:lnTo>
                <a:lnTo>
                  <a:pt x="1465488" y="190608"/>
                </a:lnTo>
                <a:lnTo>
                  <a:pt x="1465488" y="21"/>
                </a:lnTo>
                <a:lnTo>
                  <a:pt x="1508134" y="21"/>
                </a:lnTo>
                <a:lnTo>
                  <a:pt x="1594373" y="21"/>
                </a:lnTo>
                <a:lnTo>
                  <a:pt x="1594373" y="125204"/>
                </a:lnTo>
                <a:lnTo>
                  <a:pt x="1594729" y="125204"/>
                </a:lnTo>
                <a:lnTo>
                  <a:pt x="1594729" y="190608"/>
                </a:lnTo>
                <a:lnTo>
                  <a:pt x="1594373" y="190608"/>
                </a:lnTo>
                <a:lnTo>
                  <a:pt x="1594373" y="207707"/>
                </a:lnTo>
                <a:lnTo>
                  <a:pt x="1594729" y="207707"/>
                </a:lnTo>
                <a:lnTo>
                  <a:pt x="1611873" y="207707"/>
                </a:lnTo>
                <a:lnTo>
                  <a:pt x="1611873" y="190608"/>
                </a:lnTo>
                <a:lnTo>
                  <a:pt x="1611873" y="21"/>
                </a:lnTo>
                <a:lnTo>
                  <a:pt x="1654520" y="21"/>
                </a:lnTo>
                <a:lnTo>
                  <a:pt x="1740758" y="21"/>
                </a:lnTo>
                <a:lnTo>
                  <a:pt x="1740758" y="125203"/>
                </a:lnTo>
                <a:lnTo>
                  <a:pt x="1741114" y="125203"/>
                </a:lnTo>
                <a:lnTo>
                  <a:pt x="1741114" y="190607"/>
                </a:lnTo>
                <a:lnTo>
                  <a:pt x="1740758" y="190607"/>
                </a:lnTo>
                <a:lnTo>
                  <a:pt x="1740758" y="207706"/>
                </a:lnTo>
                <a:lnTo>
                  <a:pt x="1741114" y="207706"/>
                </a:lnTo>
                <a:lnTo>
                  <a:pt x="1758257" y="207706"/>
                </a:lnTo>
                <a:lnTo>
                  <a:pt x="1758257" y="190607"/>
                </a:lnTo>
                <a:lnTo>
                  <a:pt x="1758257" y="20"/>
                </a:lnTo>
                <a:lnTo>
                  <a:pt x="1800905" y="20"/>
                </a:lnTo>
                <a:lnTo>
                  <a:pt x="1887143" y="20"/>
                </a:lnTo>
                <a:lnTo>
                  <a:pt x="1887143" y="125202"/>
                </a:lnTo>
                <a:lnTo>
                  <a:pt x="1887498" y="125202"/>
                </a:lnTo>
                <a:lnTo>
                  <a:pt x="1887498" y="190606"/>
                </a:lnTo>
                <a:lnTo>
                  <a:pt x="1887143" y="190606"/>
                </a:lnTo>
                <a:lnTo>
                  <a:pt x="1887143" y="207705"/>
                </a:lnTo>
                <a:lnTo>
                  <a:pt x="1887498" y="207705"/>
                </a:lnTo>
                <a:lnTo>
                  <a:pt x="1904642" y="207705"/>
                </a:lnTo>
                <a:lnTo>
                  <a:pt x="1904642" y="190606"/>
                </a:lnTo>
                <a:lnTo>
                  <a:pt x="1904642" y="19"/>
                </a:lnTo>
                <a:lnTo>
                  <a:pt x="1947289" y="19"/>
                </a:lnTo>
                <a:lnTo>
                  <a:pt x="2033528" y="19"/>
                </a:lnTo>
                <a:lnTo>
                  <a:pt x="2033528" y="125202"/>
                </a:lnTo>
                <a:lnTo>
                  <a:pt x="2033884" y="125202"/>
                </a:lnTo>
                <a:lnTo>
                  <a:pt x="2033884" y="190606"/>
                </a:lnTo>
                <a:lnTo>
                  <a:pt x="2033528" y="190606"/>
                </a:lnTo>
                <a:lnTo>
                  <a:pt x="2033528" y="207705"/>
                </a:lnTo>
                <a:lnTo>
                  <a:pt x="2033884" y="207705"/>
                </a:lnTo>
                <a:lnTo>
                  <a:pt x="2051028" y="207705"/>
                </a:lnTo>
                <a:lnTo>
                  <a:pt x="2051028" y="190606"/>
                </a:lnTo>
                <a:lnTo>
                  <a:pt x="2051028" y="19"/>
                </a:lnTo>
                <a:lnTo>
                  <a:pt x="2093674" y="19"/>
                </a:lnTo>
                <a:lnTo>
                  <a:pt x="2179914" y="19"/>
                </a:lnTo>
                <a:lnTo>
                  <a:pt x="2179914" y="125201"/>
                </a:lnTo>
                <a:lnTo>
                  <a:pt x="2180269" y="125201"/>
                </a:lnTo>
                <a:lnTo>
                  <a:pt x="2180269" y="190605"/>
                </a:lnTo>
                <a:lnTo>
                  <a:pt x="2179914" y="190605"/>
                </a:lnTo>
                <a:lnTo>
                  <a:pt x="2179914" y="207704"/>
                </a:lnTo>
                <a:lnTo>
                  <a:pt x="2180269" y="207704"/>
                </a:lnTo>
                <a:lnTo>
                  <a:pt x="2197413" y="207704"/>
                </a:lnTo>
                <a:lnTo>
                  <a:pt x="2197413" y="190605"/>
                </a:lnTo>
                <a:lnTo>
                  <a:pt x="2197413" y="18"/>
                </a:lnTo>
                <a:lnTo>
                  <a:pt x="2240060" y="18"/>
                </a:lnTo>
                <a:lnTo>
                  <a:pt x="2326299" y="18"/>
                </a:lnTo>
                <a:lnTo>
                  <a:pt x="2326299" y="125201"/>
                </a:lnTo>
                <a:lnTo>
                  <a:pt x="2326653" y="125201"/>
                </a:lnTo>
                <a:lnTo>
                  <a:pt x="2326653" y="190605"/>
                </a:lnTo>
                <a:lnTo>
                  <a:pt x="2326299" y="190605"/>
                </a:lnTo>
                <a:lnTo>
                  <a:pt x="2326299" y="207704"/>
                </a:lnTo>
                <a:lnTo>
                  <a:pt x="2326653" y="207704"/>
                </a:lnTo>
                <a:lnTo>
                  <a:pt x="2343798" y="207704"/>
                </a:lnTo>
                <a:lnTo>
                  <a:pt x="2343798" y="190605"/>
                </a:lnTo>
                <a:lnTo>
                  <a:pt x="2343798" y="18"/>
                </a:lnTo>
                <a:lnTo>
                  <a:pt x="2386443" y="18"/>
                </a:lnTo>
                <a:lnTo>
                  <a:pt x="2472684" y="18"/>
                </a:lnTo>
                <a:lnTo>
                  <a:pt x="2472684" y="125200"/>
                </a:lnTo>
                <a:lnTo>
                  <a:pt x="2473038" y="125200"/>
                </a:lnTo>
                <a:lnTo>
                  <a:pt x="2473038" y="190604"/>
                </a:lnTo>
                <a:lnTo>
                  <a:pt x="2472684" y="190604"/>
                </a:lnTo>
                <a:lnTo>
                  <a:pt x="2472684" y="207703"/>
                </a:lnTo>
                <a:lnTo>
                  <a:pt x="2473038" y="207703"/>
                </a:lnTo>
                <a:lnTo>
                  <a:pt x="2490182" y="207703"/>
                </a:lnTo>
                <a:lnTo>
                  <a:pt x="2490182" y="190604"/>
                </a:lnTo>
                <a:lnTo>
                  <a:pt x="2490182" y="17"/>
                </a:lnTo>
                <a:lnTo>
                  <a:pt x="2532829" y="17"/>
                </a:lnTo>
                <a:lnTo>
                  <a:pt x="2619066" y="17"/>
                </a:lnTo>
                <a:lnTo>
                  <a:pt x="2619066" y="125199"/>
                </a:lnTo>
                <a:lnTo>
                  <a:pt x="2619423" y="125199"/>
                </a:lnTo>
                <a:lnTo>
                  <a:pt x="2619423" y="190603"/>
                </a:lnTo>
                <a:lnTo>
                  <a:pt x="2619066" y="190603"/>
                </a:lnTo>
                <a:lnTo>
                  <a:pt x="2619066" y="207702"/>
                </a:lnTo>
                <a:lnTo>
                  <a:pt x="2619423" y="207702"/>
                </a:lnTo>
                <a:lnTo>
                  <a:pt x="2636567" y="207702"/>
                </a:lnTo>
                <a:lnTo>
                  <a:pt x="2636567" y="190603"/>
                </a:lnTo>
                <a:lnTo>
                  <a:pt x="2636567" y="16"/>
                </a:lnTo>
                <a:lnTo>
                  <a:pt x="2679213" y="16"/>
                </a:lnTo>
                <a:lnTo>
                  <a:pt x="2765452" y="16"/>
                </a:lnTo>
                <a:lnTo>
                  <a:pt x="2765452" y="125198"/>
                </a:lnTo>
                <a:lnTo>
                  <a:pt x="2765808" y="125198"/>
                </a:lnTo>
                <a:lnTo>
                  <a:pt x="2765808" y="190602"/>
                </a:lnTo>
                <a:lnTo>
                  <a:pt x="2765452" y="190602"/>
                </a:lnTo>
                <a:lnTo>
                  <a:pt x="2765452" y="207701"/>
                </a:lnTo>
                <a:lnTo>
                  <a:pt x="2765808" y="207701"/>
                </a:lnTo>
                <a:lnTo>
                  <a:pt x="2782952" y="207701"/>
                </a:lnTo>
                <a:lnTo>
                  <a:pt x="2782952" y="190602"/>
                </a:lnTo>
                <a:lnTo>
                  <a:pt x="2782952" y="15"/>
                </a:lnTo>
                <a:lnTo>
                  <a:pt x="2825597" y="15"/>
                </a:lnTo>
                <a:lnTo>
                  <a:pt x="2911837" y="15"/>
                </a:lnTo>
                <a:lnTo>
                  <a:pt x="2911837" y="125198"/>
                </a:lnTo>
                <a:lnTo>
                  <a:pt x="2912192" y="125198"/>
                </a:lnTo>
                <a:lnTo>
                  <a:pt x="2912192" y="190602"/>
                </a:lnTo>
                <a:lnTo>
                  <a:pt x="2911837" y="190602"/>
                </a:lnTo>
                <a:lnTo>
                  <a:pt x="2911837" y="207701"/>
                </a:lnTo>
                <a:lnTo>
                  <a:pt x="2912192" y="207701"/>
                </a:lnTo>
                <a:lnTo>
                  <a:pt x="2929336" y="207701"/>
                </a:lnTo>
                <a:lnTo>
                  <a:pt x="2929336" y="190602"/>
                </a:lnTo>
                <a:lnTo>
                  <a:pt x="2929336" y="15"/>
                </a:lnTo>
                <a:lnTo>
                  <a:pt x="2971983" y="15"/>
                </a:lnTo>
                <a:lnTo>
                  <a:pt x="3058221" y="15"/>
                </a:lnTo>
                <a:lnTo>
                  <a:pt x="3058221" y="125198"/>
                </a:lnTo>
                <a:lnTo>
                  <a:pt x="3058578" y="125198"/>
                </a:lnTo>
                <a:lnTo>
                  <a:pt x="3058578" y="190602"/>
                </a:lnTo>
                <a:lnTo>
                  <a:pt x="3058221" y="190602"/>
                </a:lnTo>
                <a:lnTo>
                  <a:pt x="3058221" y="207701"/>
                </a:lnTo>
                <a:lnTo>
                  <a:pt x="3058578" y="207701"/>
                </a:lnTo>
                <a:lnTo>
                  <a:pt x="3075722" y="207701"/>
                </a:lnTo>
                <a:lnTo>
                  <a:pt x="3075722" y="190602"/>
                </a:lnTo>
                <a:lnTo>
                  <a:pt x="3075722" y="15"/>
                </a:lnTo>
                <a:lnTo>
                  <a:pt x="3118368" y="15"/>
                </a:lnTo>
                <a:lnTo>
                  <a:pt x="3204607" y="15"/>
                </a:lnTo>
                <a:lnTo>
                  <a:pt x="3204607" y="125197"/>
                </a:lnTo>
                <a:lnTo>
                  <a:pt x="3204963" y="125197"/>
                </a:lnTo>
                <a:lnTo>
                  <a:pt x="3204963" y="190601"/>
                </a:lnTo>
                <a:lnTo>
                  <a:pt x="3204607" y="190601"/>
                </a:lnTo>
                <a:lnTo>
                  <a:pt x="3204607" y="207700"/>
                </a:lnTo>
                <a:lnTo>
                  <a:pt x="3204963" y="207700"/>
                </a:lnTo>
                <a:lnTo>
                  <a:pt x="3222107" y="207700"/>
                </a:lnTo>
                <a:lnTo>
                  <a:pt x="3222107" y="190601"/>
                </a:lnTo>
                <a:lnTo>
                  <a:pt x="3222107" y="14"/>
                </a:lnTo>
                <a:lnTo>
                  <a:pt x="3264752" y="14"/>
                </a:lnTo>
                <a:lnTo>
                  <a:pt x="3350992" y="14"/>
                </a:lnTo>
                <a:lnTo>
                  <a:pt x="3350992" y="125196"/>
                </a:lnTo>
                <a:lnTo>
                  <a:pt x="3351347" y="125196"/>
                </a:lnTo>
                <a:lnTo>
                  <a:pt x="3351347" y="190600"/>
                </a:lnTo>
                <a:lnTo>
                  <a:pt x="3350992" y="190600"/>
                </a:lnTo>
                <a:lnTo>
                  <a:pt x="3350992" y="207699"/>
                </a:lnTo>
                <a:lnTo>
                  <a:pt x="3351347" y="207699"/>
                </a:lnTo>
                <a:lnTo>
                  <a:pt x="3368491" y="207699"/>
                </a:lnTo>
                <a:lnTo>
                  <a:pt x="3368491" y="190600"/>
                </a:lnTo>
                <a:lnTo>
                  <a:pt x="3368491" y="13"/>
                </a:lnTo>
                <a:lnTo>
                  <a:pt x="3411138" y="13"/>
                </a:lnTo>
                <a:lnTo>
                  <a:pt x="3497376" y="13"/>
                </a:lnTo>
                <a:lnTo>
                  <a:pt x="3497376" y="125195"/>
                </a:lnTo>
                <a:lnTo>
                  <a:pt x="3497733" y="125195"/>
                </a:lnTo>
                <a:lnTo>
                  <a:pt x="3497733" y="190599"/>
                </a:lnTo>
                <a:lnTo>
                  <a:pt x="3497376" y="190599"/>
                </a:lnTo>
                <a:lnTo>
                  <a:pt x="3497376" y="207698"/>
                </a:lnTo>
                <a:lnTo>
                  <a:pt x="3497733" y="207698"/>
                </a:lnTo>
                <a:lnTo>
                  <a:pt x="3514877" y="207698"/>
                </a:lnTo>
                <a:lnTo>
                  <a:pt x="3514877" y="190599"/>
                </a:lnTo>
                <a:lnTo>
                  <a:pt x="3514877" y="12"/>
                </a:lnTo>
                <a:lnTo>
                  <a:pt x="3557523" y="12"/>
                </a:lnTo>
                <a:lnTo>
                  <a:pt x="3643762" y="12"/>
                </a:lnTo>
                <a:lnTo>
                  <a:pt x="3643762" y="125195"/>
                </a:lnTo>
                <a:lnTo>
                  <a:pt x="3644118" y="125195"/>
                </a:lnTo>
                <a:lnTo>
                  <a:pt x="3644118" y="190599"/>
                </a:lnTo>
                <a:lnTo>
                  <a:pt x="3643762" y="190599"/>
                </a:lnTo>
                <a:lnTo>
                  <a:pt x="3643762" y="207698"/>
                </a:lnTo>
                <a:lnTo>
                  <a:pt x="3644118" y="207698"/>
                </a:lnTo>
                <a:lnTo>
                  <a:pt x="3661262" y="207698"/>
                </a:lnTo>
                <a:lnTo>
                  <a:pt x="3661262" y="190599"/>
                </a:lnTo>
                <a:lnTo>
                  <a:pt x="3661262" y="12"/>
                </a:lnTo>
                <a:lnTo>
                  <a:pt x="3703907" y="12"/>
                </a:lnTo>
                <a:lnTo>
                  <a:pt x="3790147" y="12"/>
                </a:lnTo>
                <a:lnTo>
                  <a:pt x="3790147" y="125195"/>
                </a:lnTo>
                <a:lnTo>
                  <a:pt x="3790502" y="125195"/>
                </a:lnTo>
                <a:lnTo>
                  <a:pt x="3790502" y="190599"/>
                </a:lnTo>
                <a:lnTo>
                  <a:pt x="3790147" y="190599"/>
                </a:lnTo>
                <a:lnTo>
                  <a:pt x="3790147" y="207698"/>
                </a:lnTo>
                <a:lnTo>
                  <a:pt x="3790502" y="207698"/>
                </a:lnTo>
                <a:lnTo>
                  <a:pt x="3807646" y="207698"/>
                </a:lnTo>
                <a:lnTo>
                  <a:pt x="3807646" y="190599"/>
                </a:lnTo>
                <a:lnTo>
                  <a:pt x="3807646" y="12"/>
                </a:lnTo>
                <a:lnTo>
                  <a:pt x="3850292" y="12"/>
                </a:lnTo>
                <a:lnTo>
                  <a:pt x="3936531" y="12"/>
                </a:lnTo>
                <a:lnTo>
                  <a:pt x="3936531" y="125194"/>
                </a:lnTo>
                <a:lnTo>
                  <a:pt x="3936887" y="125194"/>
                </a:lnTo>
                <a:lnTo>
                  <a:pt x="3936887" y="190598"/>
                </a:lnTo>
                <a:lnTo>
                  <a:pt x="3936531" y="190598"/>
                </a:lnTo>
                <a:lnTo>
                  <a:pt x="3936531" y="207697"/>
                </a:lnTo>
                <a:lnTo>
                  <a:pt x="3936887" y="207697"/>
                </a:lnTo>
                <a:lnTo>
                  <a:pt x="3954031" y="207697"/>
                </a:lnTo>
                <a:lnTo>
                  <a:pt x="3954031" y="190598"/>
                </a:lnTo>
                <a:lnTo>
                  <a:pt x="3954031" y="11"/>
                </a:lnTo>
                <a:lnTo>
                  <a:pt x="3992262" y="11"/>
                </a:lnTo>
                <a:lnTo>
                  <a:pt x="4082916" y="11"/>
                </a:lnTo>
                <a:lnTo>
                  <a:pt x="4082916" y="207696"/>
                </a:lnTo>
                <a:lnTo>
                  <a:pt x="4096001" y="207696"/>
                </a:lnTo>
                <a:lnTo>
                  <a:pt x="4096001" y="190597"/>
                </a:lnTo>
                <a:lnTo>
                  <a:pt x="4096001" y="10"/>
                </a:lnTo>
                <a:lnTo>
                  <a:pt x="4134232" y="10"/>
                </a:lnTo>
                <a:lnTo>
                  <a:pt x="4224886" y="10"/>
                </a:lnTo>
                <a:lnTo>
                  <a:pt x="4224886" y="207695"/>
                </a:lnTo>
                <a:lnTo>
                  <a:pt x="4237971" y="207695"/>
                </a:lnTo>
                <a:lnTo>
                  <a:pt x="4237971" y="190596"/>
                </a:lnTo>
                <a:lnTo>
                  <a:pt x="4237971" y="9"/>
                </a:lnTo>
                <a:lnTo>
                  <a:pt x="4276202" y="9"/>
                </a:lnTo>
                <a:lnTo>
                  <a:pt x="4366856" y="9"/>
                </a:lnTo>
                <a:lnTo>
                  <a:pt x="4366856" y="207694"/>
                </a:lnTo>
                <a:lnTo>
                  <a:pt x="4379941" y="207694"/>
                </a:lnTo>
                <a:lnTo>
                  <a:pt x="4379941" y="190595"/>
                </a:lnTo>
                <a:lnTo>
                  <a:pt x="4379941" y="8"/>
                </a:lnTo>
                <a:lnTo>
                  <a:pt x="4418172" y="8"/>
                </a:lnTo>
                <a:lnTo>
                  <a:pt x="4508826" y="8"/>
                </a:lnTo>
                <a:lnTo>
                  <a:pt x="4508826" y="207694"/>
                </a:lnTo>
                <a:lnTo>
                  <a:pt x="4521911" y="207694"/>
                </a:lnTo>
                <a:lnTo>
                  <a:pt x="4521911" y="190595"/>
                </a:lnTo>
                <a:lnTo>
                  <a:pt x="4521911" y="8"/>
                </a:lnTo>
                <a:lnTo>
                  <a:pt x="4560142" y="8"/>
                </a:lnTo>
                <a:lnTo>
                  <a:pt x="4650796" y="8"/>
                </a:lnTo>
                <a:lnTo>
                  <a:pt x="4650796" y="207693"/>
                </a:lnTo>
                <a:lnTo>
                  <a:pt x="4663881" y="207693"/>
                </a:lnTo>
                <a:lnTo>
                  <a:pt x="4663881" y="190594"/>
                </a:lnTo>
                <a:lnTo>
                  <a:pt x="4663881" y="7"/>
                </a:lnTo>
                <a:lnTo>
                  <a:pt x="4702112" y="7"/>
                </a:lnTo>
                <a:lnTo>
                  <a:pt x="4792766" y="7"/>
                </a:lnTo>
                <a:lnTo>
                  <a:pt x="4792766" y="207692"/>
                </a:lnTo>
                <a:lnTo>
                  <a:pt x="4805851" y="207692"/>
                </a:lnTo>
                <a:lnTo>
                  <a:pt x="4805851" y="190593"/>
                </a:lnTo>
                <a:lnTo>
                  <a:pt x="4805851" y="6"/>
                </a:lnTo>
                <a:lnTo>
                  <a:pt x="4844082" y="6"/>
                </a:lnTo>
                <a:lnTo>
                  <a:pt x="4934736" y="6"/>
                </a:lnTo>
                <a:lnTo>
                  <a:pt x="4934736" y="207691"/>
                </a:lnTo>
                <a:lnTo>
                  <a:pt x="4947821" y="207691"/>
                </a:lnTo>
                <a:lnTo>
                  <a:pt x="4947821" y="190592"/>
                </a:lnTo>
                <a:lnTo>
                  <a:pt x="4947821" y="5"/>
                </a:lnTo>
                <a:lnTo>
                  <a:pt x="4986052" y="5"/>
                </a:lnTo>
                <a:lnTo>
                  <a:pt x="5076706" y="5"/>
                </a:lnTo>
                <a:lnTo>
                  <a:pt x="5076706" y="207690"/>
                </a:lnTo>
                <a:lnTo>
                  <a:pt x="5089791" y="207690"/>
                </a:lnTo>
                <a:lnTo>
                  <a:pt x="5089791" y="190591"/>
                </a:lnTo>
                <a:lnTo>
                  <a:pt x="5089791" y="4"/>
                </a:lnTo>
                <a:lnTo>
                  <a:pt x="5128022" y="4"/>
                </a:lnTo>
                <a:lnTo>
                  <a:pt x="5218676" y="4"/>
                </a:lnTo>
                <a:lnTo>
                  <a:pt x="5218676" y="207690"/>
                </a:lnTo>
                <a:lnTo>
                  <a:pt x="5231761" y="207690"/>
                </a:lnTo>
                <a:lnTo>
                  <a:pt x="5231761" y="190591"/>
                </a:lnTo>
                <a:lnTo>
                  <a:pt x="5231761" y="4"/>
                </a:lnTo>
                <a:lnTo>
                  <a:pt x="5269992" y="4"/>
                </a:lnTo>
                <a:lnTo>
                  <a:pt x="5360646" y="4"/>
                </a:lnTo>
                <a:lnTo>
                  <a:pt x="5360646" y="207689"/>
                </a:lnTo>
                <a:lnTo>
                  <a:pt x="5373731" y="207689"/>
                </a:lnTo>
                <a:lnTo>
                  <a:pt x="5373731" y="190590"/>
                </a:lnTo>
                <a:lnTo>
                  <a:pt x="5373731" y="3"/>
                </a:lnTo>
                <a:lnTo>
                  <a:pt x="5411963" y="3"/>
                </a:lnTo>
                <a:lnTo>
                  <a:pt x="5502616" y="3"/>
                </a:lnTo>
                <a:lnTo>
                  <a:pt x="5502616" y="207688"/>
                </a:lnTo>
                <a:lnTo>
                  <a:pt x="5515702" y="207688"/>
                </a:lnTo>
                <a:lnTo>
                  <a:pt x="5515702" y="190589"/>
                </a:lnTo>
                <a:lnTo>
                  <a:pt x="5515702" y="2"/>
                </a:lnTo>
                <a:lnTo>
                  <a:pt x="5553933" y="2"/>
                </a:lnTo>
                <a:lnTo>
                  <a:pt x="5644587" y="2"/>
                </a:lnTo>
                <a:lnTo>
                  <a:pt x="5644587" y="207687"/>
                </a:lnTo>
                <a:lnTo>
                  <a:pt x="5657672" y="207687"/>
                </a:lnTo>
                <a:lnTo>
                  <a:pt x="5657672" y="190588"/>
                </a:lnTo>
                <a:lnTo>
                  <a:pt x="5657672" y="1"/>
                </a:lnTo>
                <a:lnTo>
                  <a:pt x="5695903" y="1"/>
                </a:lnTo>
                <a:lnTo>
                  <a:pt x="5786557" y="1"/>
                </a:lnTo>
                <a:lnTo>
                  <a:pt x="5786557" y="207687"/>
                </a:lnTo>
                <a:lnTo>
                  <a:pt x="5799642" y="207687"/>
                </a:lnTo>
                <a:lnTo>
                  <a:pt x="5799642" y="190588"/>
                </a:lnTo>
                <a:lnTo>
                  <a:pt x="5799642" y="1"/>
                </a:lnTo>
                <a:lnTo>
                  <a:pt x="5837873" y="1"/>
                </a:lnTo>
                <a:lnTo>
                  <a:pt x="5928527" y="1"/>
                </a:lnTo>
                <a:lnTo>
                  <a:pt x="5928527" y="207686"/>
                </a:lnTo>
                <a:lnTo>
                  <a:pt x="5941612" y="207686"/>
                </a:lnTo>
                <a:lnTo>
                  <a:pt x="5941612" y="190587"/>
                </a:lnTo>
                <a:lnTo>
                  <a:pt x="5941612" y="0"/>
                </a:lnTo>
                <a:close/>
              </a:path>
            </a:pathLst>
          </a:custGeom>
          <a:solidFill>
            <a:srgbClr val="c2d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41"/>
          <p:cNvSpPr/>
          <p:nvPr/>
        </p:nvSpPr>
        <p:spPr>
          <a:xfrm flipH="1">
            <a:off x="961560" y="1268280"/>
            <a:ext cx="7688520" cy="0"/>
          </a:xfrm>
          <a:prstGeom prst="line">
            <a:avLst/>
          </a:prstGeom>
          <a:ln w="1440">
            <a:solidFill>
              <a:srgbClr val="c2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1747800" y="215100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山川泱泱，紅顏總易老，英雄終遲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1830240" y="4429080"/>
            <a:ext cx="59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地悠悠，古今興廢事，蕭條是皇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1747800" y="328932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過客匆匆，後浪推前浪，物是人已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20" descr=""/>
          <p:cNvPicPr/>
          <p:nvPr/>
        </p:nvPicPr>
        <p:blipFill>
          <a:blip r:embed="rId3"/>
          <a:stretch/>
        </p:blipFill>
        <p:spPr>
          <a:xfrm>
            <a:off x="9204480" y="1222200"/>
            <a:ext cx="1380960" cy="14148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21" descr=""/>
          <p:cNvPicPr/>
          <p:nvPr/>
        </p:nvPicPr>
        <p:blipFill>
          <a:blip r:embed="rId4"/>
          <a:stretch/>
        </p:blipFill>
        <p:spPr>
          <a:xfrm>
            <a:off x="9496440" y="2452680"/>
            <a:ext cx="1189080" cy="12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4" descr=""/>
          <p:cNvPicPr/>
          <p:nvPr/>
        </p:nvPicPr>
        <p:blipFill>
          <a:blip r:embed="rId1"/>
          <a:stretch/>
        </p:blipFill>
        <p:spPr>
          <a:xfrm>
            <a:off x="28440" y="-144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任意多边形 197"/>
          <p:cNvSpPr/>
          <p:nvPr/>
        </p:nvSpPr>
        <p:spPr>
          <a:xfrm flipV="1">
            <a:off x="752400" y="813240"/>
            <a:ext cx="8474040" cy="150840"/>
          </a:xfrm>
          <a:custGeom>
            <a:avLst/>
            <a:gdLst/>
            <a:ahLst/>
            <a:rect l="l" t="t" r="r" b="b"/>
            <a:pathLst>
              <a:path w="8472926" h="150832">
                <a:moveTo>
                  <a:pt x="4227667" y="150832"/>
                </a:moveTo>
                <a:lnTo>
                  <a:pt x="4374055" y="150832"/>
                </a:lnTo>
                <a:lnTo>
                  <a:pt x="4374056" y="150832"/>
                </a:lnTo>
                <a:lnTo>
                  <a:pt x="4520443" y="150832"/>
                </a:lnTo>
                <a:lnTo>
                  <a:pt x="4520444" y="150832"/>
                </a:lnTo>
                <a:lnTo>
                  <a:pt x="4666832" y="150832"/>
                </a:lnTo>
                <a:lnTo>
                  <a:pt x="4813220" y="150832"/>
                </a:lnTo>
                <a:lnTo>
                  <a:pt x="4813221" y="150832"/>
                </a:lnTo>
                <a:lnTo>
                  <a:pt x="4959608" y="150832"/>
                </a:lnTo>
                <a:lnTo>
                  <a:pt x="4959609" y="150832"/>
                </a:lnTo>
                <a:lnTo>
                  <a:pt x="5105996" y="150832"/>
                </a:lnTo>
                <a:lnTo>
                  <a:pt x="5105997" y="150832"/>
                </a:lnTo>
                <a:lnTo>
                  <a:pt x="5252385" y="150832"/>
                </a:lnTo>
                <a:lnTo>
                  <a:pt x="5398772" y="150832"/>
                </a:lnTo>
                <a:lnTo>
                  <a:pt x="5398774" y="150832"/>
                </a:lnTo>
                <a:lnTo>
                  <a:pt x="5545161" y="150832"/>
                </a:lnTo>
                <a:lnTo>
                  <a:pt x="5691549" y="150832"/>
                </a:lnTo>
                <a:lnTo>
                  <a:pt x="5691550" y="150832"/>
                </a:lnTo>
                <a:lnTo>
                  <a:pt x="5837938" y="150832"/>
                </a:lnTo>
                <a:lnTo>
                  <a:pt x="5984325" y="150832"/>
                </a:lnTo>
                <a:lnTo>
                  <a:pt x="5984327" y="150832"/>
                </a:lnTo>
                <a:lnTo>
                  <a:pt x="6130714" y="150832"/>
                </a:lnTo>
                <a:lnTo>
                  <a:pt x="6277102" y="150832"/>
                </a:lnTo>
                <a:lnTo>
                  <a:pt x="6277103" y="150832"/>
                </a:lnTo>
                <a:lnTo>
                  <a:pt x="6423491" y="150832"/>
                </a:lnTo>
                <a:lnTo>
                  <a:pt x="6569878" y="150832"/>
                </a:lnTo>
                <a:lnTo>
                  <a:pt x="6569880" y="150832"/>
                </a:lnTo>
                <a:lnTo>
                  <a:pt x="6716267" y="150832"/>
                </a:lnTo>
                <a:lnTo>
                  <a:pt x="6862655" y="150832"/>
                </a:lnTo>
                <a:lnTo>
                  <a:pt x="6862656" y="150832"/>
                </a:lnTo>
                <a:lnTo>
                  <a:pt x="7009044" y="150832"/>
                </a:lnTo>
                <a:lnTo>
                  <a:pt x="7155431" y="150832"/>
                </a:lnTo>
                <a:lnTo>
                  <a:pt x="7155433" y="150832"/>
                </a:lnTo>
                <a:lnTo>
                  <a:pt x="7301820" y="150832"/>
                </a:lnTo>
                <a:lnTo>
                  <a:pt x="7448208" y="150832"/>
                </a:lnTo>
                <a:lnTo>
                  <a:pt x="7448209" y="150832"/>
                </a:lnTo>
                <a:lnTo>
                  <a:pt x="7594597" y="150832"/>
                </a:lnTo>
                <a:lnTo>
                  <a:pt x="7740984" y="150832"/>
                </a:lnTo>
                <a:lnTo>
                  <a:pt x="7740986" y="150832"/>
                </a:lnTo>
                <a:lnTo>
                  <a:pt x="7887373" y="150832"/>
                </a:lnTo>
                <a:lnTo>
                  <a:pt x="8033761" y="150832"/>
                </a:lnTo>
                <a:lnTo>
                  <a:pt x="8033762" y="150832"/>
                </a:lnTo>
                <a:lnTo>
                  <a:pt x="8180150" y="150832"/>
                </a:lnTo>
                <a:lnTo>
                  <a:pt x="8326537" y="150832"/>
                </a:lnTo>
                <a:lnTo>
                  <a:pt x="8326539" y="150832"/>
                </a:lnTo>
                <a:lnTo>
                  <a:pt x="8472926" y="150832"/>
                </a:lnTo>
                <a:lnTo>
                  <a:pt x="8472926" y="1"/>
                </a:lnTo>
                <a:lnTo>
                  <a:pt x="8344151" y="1"/>
                </a:lnTo>
                <a:lnTo>
                  <a:pt x="8344151" y="113636"/>
                </a:lnTo>
                <a:lnTo>
                  <a:pt x="8437444" y="113636"/>
                </a:lnTo>
                <a:lnTo>
                  <a:pt x="8437444" y="37353"/>
                </a:lnTo>
                <a:lnTo>
                  <a:pt x="8382020" y="37353"/>
                </a:lnTo>
                <a:lnTo>
                  <a:pt x="8382020" y="76690"/>
                </a:lnTo>
                <a:lnTo>
                  <a:pt x="8400749" y="76690"/>
                </a:lnTo>
                <a:lnTo>
                  <a:pt x="8400749" y="58372"/>
                </a:lnTo>
                <a:lnTo>
                  <a:pt x="8415779" y="58372"/>
                </a:lnTo>
                <a:lnTo>
                  <a:pt x="8415779" y="91720"/>
                </a:lnTo>
                <a:lnTo>
                  <a:pt x="8406542" y="91720"/>
                </a:lnTo>
                <a:lnTo>
                  <a:pt x="8400749" y="91720"/>
                </a:lnTo>
                <a:lnTo>
                  <a:pt x="8365052" y="91720"/>
                </a:lnTo>
                <a:lnTo>
                  <a:pt x="8365052" y="80800"/>
                </a:lnTo>
                <a:lnTo>
                  <a:pt x="8365052" y="76690"/>
                </a:lnTo>
                <a:lnTo>
                  <a:pt x="8365052" y="22381"/>
                </a:lnTo>
                <a:lnTo>
                  <a:pt x="8374622" y="22381"/>
                </a:lnTo>
                <a:lnTo>
                  <a:pt x="8382020" y="22381"/>
                </a:lnTo>
                <a:lnTo>
                  <a:pt x="8452768" y="22381"/>
                </a:lnTo>
                <a:lnTo>
                  <a:pt x="8452768" y="30356"/>
                </a:lnTo>
                <a:lnTo>
                  <a:pt x="8452768" y="37353"/>
                </a:lnTo>
                <a:lnTo>
                  <a:pt x="8452768" y="129237"/>
                </a:lnTo>
                <a:lnTo>
                  <a:pt x="8443374" y="129237"/>
                </a:lnTo>
                <a:lnTo>
                  <a:pt x="8437444" y="129237"/>
                </a:lnTo>
                <a:lnTo>
                  <a:pt x="8326539" y="129237"/>
                </a:lnTo>
                <a:lnTo>
                  <a:pt x="8326539" y="1"/>
                </a:lnTo>
                <a:lnTo>
                  <a:pt x="8197764" y="1"/>
                </a:lnTo>
                <a:lnTo>
                  <a:pt x="8197764" y="113636"/>
                </a:lnTo>
                <a:lnTo>
                  <a:pt x="8291057" y="113636"/>
                </a:lnTo>
                <a:lnTo>
                  <a:pt x="8291057" y="37353"/>
                </a:lnTo>
                <a:lnTo>
                  <a:pt x="8235633" y="37353"/>
                </a:lnTo>
                <a:lnTo>
                  <a:pt x="8235633" y="76690"/>
                </a:lnTo>
                <a:lnTo>
                  <a:pt x="8254362" y="76690"/>
                </a:lnTo>
                <a:lnTo>
                  <a:pt x="8254362" y="58372"/>
                </a:lnTo>
                <a:lnTo>
                  <a:pt x="8269392" y="58372"/>
                </a:lnTo>
                <a:lnTo>
                  <a:pt x="8269392" y="91720"/>
                </a:lnTo>
                <a:lnTo>
                  <a:pt x="8260155" y="91720"/>
                </a:lnTo>
                <a:lnTo>
                  <a:pt x="8254362" y="91720"/>
                </a:lnTo>
                <a:lnTo>
                  <a:pt x="8218665" y="91720"/>
                </a:lnTo>
                <a:lnTo>
                  <a:pt x="8218665" y="80800"/>
                </a:lnTo>
                <a:lnTo>
                  <a:pt x="8218665" y="76690"/>
                </a:lnTo>
                <a:lnTo>
                  <a:pt x="8218665" y="22381"/>
                </a:lnTo>
                <a:lnTo>
                  <a:pt x="8228235" y="22381"/>
                </a:lnTo>
                <a:lnTo>
                  <a:pt x="8235633" y="22381"/>
                </a:lnTo>
                <a:lnTo>
                  <a:pt x="8306381" y="22381"/>
                </a:lnTo>
                <a:lnTo>
                  <a:pt x="8306381" y="30356"/>
                </a:lnTo>
                <a:lnTo>
                  <a:pt x="8306381" y="37353"/>
                </a:lnTo>
                <a:lnTo>
                  <a:pt x="8306381" y="129237"/>
                </a:lnTo>
                <a:lnTo>
                  <a:pt x="8296987" y="129237"/>
                </a:lnTo>
                <a:lnTo>
                  <a:pt x="8291057" y="129237"/>
                </a:lnTo>
                <a:lnTo>
                  <a:pt x="8180150" y="129237"/>
                </a:lnTo>
                <a:lnTo>
                  <a:pt x="8180150" y="1"/>
                </a:lnTo>
                <a:lnTo>
                  <a:pt x="8051375" y="1"/>
                </a:lnTo>
                <a:lnTo>
                  <a:pt x="8051375" y="113636"/>
                </a:lnTo>
                <a:lnTo>
                  <a:pt x="8144668" y="113636"/>
                </a:lnTo>
                <a:lnTo>
                  <a:pt x="8144668" y="37353"/>
                </a:lnTo>
                <a:lnTo>
                  <a:pt x="8089244" y="37353"/>
                </a:lnTo>
                <a:lnTo>
                  <a:pt x="8089244" y="76690"/>
                </a:lnTo>
                <a:lnTo>
                  <a:pt x="8107973" y="76690"/>
                </a:lnTo>
                <a:lnTo>
                  <a:pt x="8107973" y="58372"/>
                </a:lnTo>
                <a:lnTo>
                  <a:pt x="8123003" y="58372"/>
                </a:lnTo>
                <a:lnTo>
                  <a:pt x="8123003" y="91720"/>
                </a:lnTo>
                <a:lnTo>
                  <a:pt x="8113766" y="91720"/>
                </a:lnTo>
                <a:lnTo>
                  <a:pt x="8107973" y="91720"/>
                </a:lnTo>
                <a:lnTo>
                  <a:pt x="8072276" y="91720"/>
                </a:lnTo>
                <a:lnTo>
                  <a:pt x="8072276" y="80800"/>
                </a:lnTo>
                <a:lnTo>
                  <a:pt x="8072276" y="76690"/>
                </a:lnTo>
                <a:lnTo>
                  <a:pt x="8072276" y="22381"/>
                </a:lnTo>
                <a:lnTo>
                  <a:pt x="8081846" y="22381"/>
                </a:lnTo>
                <a:lnTo>
                  <a:pt x="8089244" y="22381"/>
                </a:lnTo>
                <a:lnTo>
                  <a:pt x="8159992" y="22381"/>
                </a:lnTo>
                <a:lnTo>
                  <a:pt x="8159992" y="30356"/>
                </a:lnTo>
                <a:lnTo>
                  <a:pt x="8159992" y="37353"/>
                </a:lnTo>
                <a:lnTo>
                  <a:pt x="8159992" y="129237"/>
                </a:lnTo>
                <a:lnTo>
                  <a:pt x="8150598" y="129237"/>
                </a:lnTo>
                <a:lnTo>
                  <a:pt x="8144668" y="129237"/>
                </a:lnTo>
                <a:lnTo>
                  <a:pt x="8033762" y="129237"/>
                </a:lnTo>
                <a:lnTo>
                  <a:pt x="8033762" y="1"/>
                </a:lnTo>
                <a:lnTo>
                  <a:pt x="7904987" y="1"/>
                </a:lnTo>
                <a:lnTo>
                  <a:pt x="7904987" y="113636"/>
                </a:lnTo>
                <a:lnTo>
                  <a:pt x="7998280" y="113636"/>
                </a:lnTo>
                <a:lnTo>
                  <a:pt x="7998280" y="37353"/>
                </a:lnTo>
                <a:lnTo>
                  <a:pt x="7942856" y="37353"/>
                </a:lnTo>
                <a:lnTo>
                  <a:pt x="7942856" y="76690"/>
                </a:lnTo>
                <a:lnTo>
                  <a:pt x="7961585" y="76690"/>
                </a:lnTo>
                <a:lnTo>
                  <a:pt x="7961585" y="58372"/>
                </a:lnTo>
                <a:lnTo>
                  <a:pt x="7976615" y="58372"/>
                </a:lnTo>
                <a:lnTo>
                  <a:pt x="7976615" y="91720"/>
                </a:lnTo>
                <a:lnTo>
                  <a:pt x="7967378" y="91720"/>
                </a:lnTo>
                <a:lnTo>
                  <a:pt x="7961585" y="91720"/>
                </a:lnTo>
                <a:lnTo>
                  <a:pt x="7925888" y="91720"/>
                </a:lnTo>
                <a:lnTo>
                  <a:pt x="7925888" y="80800"/>
                </a:lnTo>
                <a:lnTo>
                  <a:pt x="7925888" y="76690"/>
                </a:lnTo>
                <a:lnTo>
                  <a:pt x="7925888" y="22381"/>
                </a:lnTo>
                <a:lnTo>
                  <a:pt x="7935458" y="22381"/>
                </a:lnTo>
                <a:lnTo>
                  <a:pt x="7942856" y="22381"/>
                </a:lnTo>
                <a:lnTo>
                  <a:pt x="8013604" y="22381"/>
                </a:lnTo>
                <a:lnTo>
                  <a:pt x="8013604" y="30356"/>
                </a:lnTo>
                <a:lnTo>
                  <a:pt x="8013604" y="37353"/>
                </a:lnTo>
                <a:lnTo>
                  <a:pt x="8013604" y="129237"/>
                </a:lnTo>
                <a:lnTo>
                  <a:pt x="8004210" y="129237"/>
                </a:lnTo>
                <a:lnTo>
                  <a:pt x="7998280" y="129237"/>
                </a:lnTo>
                <a:lnTo>
                  <a:pt x="7887373" y="129237"/>
                </a:lnTo>
                <a:lnTo>
                  <a:pt x="7887373" y="1"/>
                </a:lnTo>
                <a:lnTo>
                  <a:pt x="7758598" y="1"/>
                </a:lnTo>
                <a:lnTo>
                  <a:pt x="7758598" y="113636"/>
                </a:lnTo>
                <a:lnTo>
                  <a:pt x="7851891" y="113636"/>
                </a:lnTo>
                <a:lnTo>
                  <a:pt x="7851891" y="37353"/>
                </a:lnTo>
                <a:lnTo>
                  <a:pt x="7796467" y="37353"/>
                </a:lnTo>
                <a:lnTo>
                  <a:pt x="7796467" y="76690"/>
                </a:lnTo>
                <a:lnTo>
                  <a:pt x="7815196" y="76690"/>
                </a:lnTo>
                <a:lnTo>
                  <a:pt x="7815196" y="58372"/>
                </a:lnTo>
                <a:lnTo>
                  <a:pt x="7830226" y="58372"/>
                </a:lnTo>
                <a:lnTo>
                  <a:pt x="7830226" y="91720"/>
                </a:lnTo>
                <a:lnTo>
                  <a:pt x="7820989" y="91720"/>
                </a:lnTo>
                <a:lnTo>
                  <a:pt x="7815196" y="91720"/>
                </a:lnTo>
                <a:lnTo>
                  <a:pt x="7779499" y="91720"/>
                </a:lnTo>
                <a:lnTo>
                  <a:pt x="7779499" y="80800"/>
                </a:lnTo>
                <a:lnTo>
                  <a:pt x="7779499" y="76690"/>
                </a:lnTo>
                <a:lnTo>
                  <a:pt x="7779499" y="22381"/>
                </a:lnTo>
                <a:lnTo>
                  <a:pt x="7789069" y="22381"/>
                </a:lnTo>
                <a:lnTo>
                  <a:pt x="7796467" y="22381"/>
                </a:lnTo>
                <a:lnTo>
                  <a:pt x="7867215" y="22381"/>
                </a:lnTo>
                <a:lnTo>
                  <a:pt x="7867215" y="30356"/>
                </a:lnTo>
                <a:lnTo>
                  <a:pt x="7867215" y="37353"/>
                </a:lnTo>
                <a:lnTo>
                  <a:pt x="7867215" y="129237"/>
                </a:lnTo>
                <a:lnTo>
                  <a:pt x="7857821" y="129237"/>
                </a:lnTo>
                <a:lnTo>
                  <a:pt x="7851891" y="129237"/>
                </a:lnTo>
                <a:lnTo>
                  <a:pt x="7740986" y="129237"/>
                </a:lnTo>
                <a:lnTo>
                  <a:pt x="7740986" y="1"/>
                </a:lnTo>
                <a:lnTo>
                  <a:pt x="7612211" y="1"/>
                </a:lnTo>
                <a:lnTo>
                  <a:pt x="7612211" y="113636"/>
                </a:lnTo>
                <a:lnTo>
                  <a:pt x="7705504" y="113636"/>
                </a:lnTo>
                <a:lnTo>
                  <a:pt x="7705504" y="37353"/>
                </a:lnTo>
                <a:lnTo>
                  <a:pt x="7650080" y="37353"/>
                </a:lnTo>
                <a:lnTo>
                  <a:pt x="7650080" y="76690"/>
                </a:lnTo>
                <a:lnTo>
                  <a:pt x="7668809" y="76690"/>
                </a:lnTo>
                <a:lnTo>
                  <a:pt x="7668809" y="58372"/>
                </a:lnTo>
                <a:lnTo>
                  <a:pt x="7683839" y="58372"/>
                </a:lnTo>
                <a:lnTo>
                  <a:pt x="7683839" y="91720"/>
                </a:lnTo>
                <a:lnTo>
                  <a:pt x="7674602" y="91720"/>
                </a:lnTo>
                <a:lnTo>
                  <a:pt x="7668809" y="91720"/>
                </a:lnTo>
                <a:lnTo>
                  <a:pt x="7633112" y="91720"/>
                </a:lnTo>
                <a:lnTo>
                  <a:pt x="7633112" y="80800"/>
                </a:lnTo>
                <a:lnTo>
                  <a:pt x="7633112" y="76690"/>
                </a:lnTo>
                <a:lnTo>
                  <a:pt x="7633112" y="22381"/>
                </a:lnTo>
                <a:lnTo>
                  <a:pt x="7642682" y="22381"/>
                </a:lnTo>
                <a:lnTo>
                  <a:pt x="7650080" y="22381"/>
                </a:lnTo>
                <a:lnTo>
                  <a:pt x="7720828" y="22381"/>
                </a:lnTo>
                <a:lnTo>
                  <a:pt x="7720828" y="30356"/>
                </a:lnTo>
                <a:lnTo>
                  <a:pt x="7720828" y="37353"/>
                </a:lnTo>
                <a:lnTo>
                  <a:pt x="7720828" y="129237"/>
                </a:lnTo>
                <a:lnTo>
                  <a:pt x="7711434" y="129237"/>
                </a:lnTo>
                <a:lnTo>
                  <a:pt x="7705504" y="129237"/>
                </a:lnTo>
                <a:lnTo>
                  <a:pt x="7594597" y="129237"/>
                </a:lnTo>
                <a:lnTo>
                  <a:pt x="7594597" y="1"/>
                </a:lnTo>
                <a:lnTo>
                  <a:pt x="7465822" y="1"/>
                </a:lnTo>
                <a:lnTo>
                  <a:pt x="7465822" y="113636"/>
                </a:lnTo>
                <a:lnTo>
                  <a:pt x="7559115" y="113636"/>
                </a:lnTo>
                <a:lnTo>
                  <a:pt x="7559115" y="37353"/>
                </a:lnTo>
                <a:lnTo>
                  <a:pt x="7503691" y="37353"/>
                </a:lnTo>
                <a:lnTo>
                  <a:pt x="7503691" y="76690"/>
                </a:lnTo>
                <a:lnTo>
                  <a:pt x="7522420" y="76690"/>
                </a:lnTo>
                <a:lnTo>
                  <a:pt x="7522420" y="58372"/>
                </a:lnTo>
                <a:lnTo>
                  <a:pt x="7537451" y="58372"/>
                </a:lnTo>
                <a:lnTo>
                  <a:pt x="7537451" y="91720"/>
                </a:lnTo>
                <a:lnTo>
                  <a:pt x="7528213" y="91720"/>
                </a:lnTo>
                <a:lnTo>
                  <a:pt x="7522420" y="91720"/>
                </a:lnTo>
                <a:lnTo>
                  <a:pt x="7486723" y="91720"/>
                </a:lnTo>
                <a:lnTo>
                  <a:pt x="7486723" y="80800"/>
                </a:lnTo>
                <a:lnTo>
                  <a:pt x="7486723" y="76690"/>
                </a:lnTo>
                <a:lnTo>
                  <a:pt x="7486723" y="22381"/>
                </a:lnTo>
                <a:lnTo>
                  <a:pt x="7496293" y="22381"/>
                </a:lnTo>
                <a:lnTo>
                  <a:pt x="7503691" y="22381"/>
                </a:lnTo>
                <a:lnTo>
                  <a:pt x="7574439" y="22381"/>
                </a:lnTo>
                <a:lnTo>
                  <a:pt x="7574439" y="30356"/>
                </a:lnTo>
                <a:lnTo>
                  <a:pt x="7574439" y="37353"/>
                </a:lnTo>
                <a:lnTo>
                  <a:pt x="7574439" y="129237"/>
                </a:lnTo>
                <a:lnTo>
                  <a:pt x="7565045" y="129237"/>
                </a:lnTo>
                <a:lnTo>
                  <a:pt x="7559115" y="129237"/>
                </a:lnTo>
                <a:lnTo>
                  <a:pt x="7448209" y="129237"/>
                </a:lnTo>
                <a:lnTo>
                  <a:pt x="7448209" y="1"/>
                </a:lnTo>
                <a:lnTo>
                  <a:pt x="7319434" y="1"/>
                </a:lnTo>
                <a:lnTo>
                  <a:pt x="7319434" y="113636"/>
                </a:lnTo>
                <a:lnTo>
                  <a:pt x="7412728" y="113636"/>
                </a:lnTo>
                <a:lnTo>
                  <a:pt x="7412728" y="37353"/>
                </a:lnTo>
                <a:lnTo>
                  <a:pt x="7357303" y="37353"/>
                </a:lnTo>
                <a:lnTo>
                  <a:pt x="7357303" y="76690"/>
                </a:lnTo>
                <a:lnTo>
                  <a:pt x="7376032" y="76690"/>
                </a:lnTo>
                <a:lnTo>
                  <a:pt x="7376032" y="58372"/>
                </a:lnTo>
                <a:lnTo>
                  <a:pt x="7391063" y="58372"/>
                </a:lnTo>
                <a:lnTo>
                  <a:pt x="7391063" y="91720"/>
                </a:lnTo>
                <a:lnTo>
                  <a:pt x="7381825" y="91720"/>
                </a:lnTo>
                <a:lnTo>
                  <a:pt x="7376032" y="91720"/>
                </a:lnTo>
                <a:lnTo>
                  <a:pt x="7340335" y="91720"/>
                </a:lnTo>
                <a:lnTo>
                  <a:pt x="7340335" y="80800"/>
                </a:lnTo>
                <a:lnTo>
                  <a:pt x="7340335" y="76690"/>
                </a:lnTo>
                <a:lnTo>
                  <a:pt x="7340335" y="22381"/>
                </a:lnTo>
                <a:lnTo>
                  <a:pt x="7349905" y="22381"/>
                </a:lnTo>
                <a:lnTo>
                  <a:pt x="7357303" y="22381"/>
                </a:lnTo>
                <a:lnTo>
                  <a:pt x="7428051" y="22381"/>
                </a:lnTo>
                <a:lnTo>
                  <a:pt x="7428051" y="30356"/>
                </a:lnTo>
                <a:lnTo>
                  <a:pt x="7428051" y="37353"/>
                </a:lnTo>
                <a:lnTo>
                  <a:pt x="7428051" y="129237"/>
                </a:lnTo>
                <a:lnTo>
                  <a:pt x="7418657" y="129237"/>
                </a:lnTo>
                <a:lnTo>
                  <a:pt x="7412728" y="129237"/>
                </a:lnTo>
                <a:lnTo>
                  <a:pt x="7301820" y="129237"/>
                </a:lnTo>
                <a:lnTo>
                  <a:pt x="7301820" y="1"/>
                </a:lnTo>
                <a:lnTo>
                  <a:pt x="7173045" y="1"/>
                </a:lnTo>
                <a:lnTo>
                  <a:pt x="7173045" y="113636"/>
                </a:lnTo>
                <a:lnTo>
                  <a:pt x="7266339" y="113636"/>
                </a:lnTo>
                <a:lnTo>
                  <a:pt x="7266339" y="37353"/>
                </a:lnTo>
                <a:lnTo>
                  <a:pt x="7210914" y="37353"/>
                </a:lnTo>
                <a:lnTo>
                  <a:pt x="7210914" y="76690"/>
                </a:lnTo>
                <a:lnTo>
                  <a:pt x="7229643" y="76690"/>
                </a:lnTo>
                <a:lnTo>
                  <a:pt x="7229643" y="58372"/>
                </a:lnTo>
                <a:lnTo>
                  <a:pt x="7244674" y="58372"/>
                </a:lnTo>
                <a:lnTo>
                  <a:pt x="7244674" y="91720"/>
                </a:lnTo>
                <a:lnTo>
                  <a:pt x="7235436" y="91720"/>
                </a:lnTo>
                <a:lnTo>
                  <a:pt x="7229643" y="91720"/>
                </a:lnTo>
                <a:lnTo>
                  <a:pt x="7193946" y="91720"/>
                </a:lnTo>
                <a:lnTo>
                  <a:pt x="7193946" y="80800"/>
                </a:lnTo>
                <a:lnTo>
                  <a:pt x="7193946" y="76690"/>
                </a:lnTo>
                <a:lnTo>
                  <a:pt x="7193946" y="22381"/>
                </a:lnTo>
                <a:lnTo>
                  <a:pt x="7203516" y="22381"/>
                </a:lnTo>
                <a:lnTo>
                  <a:pt x="7210914" y="22381"/>
                </a:lnTo>
                <a:lnTo>
                  <a:pt x="7281662" y="22381"/>
                </a:lnTo>
                <a:lnTo>
                  <a:pt x="7281662" y="30356"/>
                </a:lnTo>
                <a:lnTo>
                  <a:pt x="7281662" y="37353"/>
                </a:lnTo>
                <a:lnTo>
                  <a:pt x="7281662" y="129237"/>
                </a:lnTo>
                <a:lnTo>
                  <a:pt x="7272268" y="129237"/>
                </a:lnTo>
                <a:lnTo>
                  <a:pt x="7266339" y="129237"/>
                </a:lnTo>
                <a:lnTo>
                  <a:pt x="7155433" y="129237"/>
                </a:lnTo>
                <a:lnTo>
                  <a:pt x="7155433" y="1"/>
                </a:lnTo>
                <a:lnTo>
                  <a:pt x="7026658" y="1"/>
                </a:lnTo>
                <a:lnTo>
                  <a:pt x="7026658" y="113636"/>
                </a:lnTo>
                <a:lnTo>
                  <a:pt x="7119952" y="113636"/>
                </a:lnTo>
                <a:lnTo>
                  <a:pt x="7119952" y="37353"/>
                </a:lnTo>
                <a:lnTo>
                  <a:pt x="7064527" y="37353"/>
                </a:lnTo>
                <a:lnTo>
                  <a:pt x="7064527" y="76690"/>
                </a:lnTo>
                <a:lnTo>
                  <a:pt x="7083256" y="76690"/>
                </a:lnTo>
                <a:lnTo>
                  <a:pt x="7083256" y="58372"/>
                </a:lnTo>
                <a:lnTo>
                  <a:pt x="7098287" y="58372"/>
                </a:lnTo>
                <a:lnTo>
                  <a:pt x="7098287" y="91720"/>
                </a:lnTo>
                <a:lnTo>
                  <a:pt x="7089049" y="91720"/>
                </a:lnTo>
                <a:lnTo>
                  <a:pt x="7083256" y="91720"/>
                </a:lnTo>
                <a:lnTo>
                  <a:pt x="7047559" y="91720"/>
                </a:lnTo>
                <a:lnTo>
                  <a:pt x="7047559" y="80800"/>
                </a:lnTo>
                <a:lnTo>
                  <a:pt x="7047559" y="76690"/>
                </a:lnTo>
                <a:lnTo>
                  <a:pt x="7047559" y="22381"/>
                </a:lnTo>
                <a:lnTo>
                  <a:pt x="7057129" y="22381"/>
                </a:lnTo>
                <a:lnTo>
                  <a:pt x="7064527" y="22381"/>
                </a:lnTo>
                <a:lnTo>
                  <a:pt x="7135275" y="22381"/>
                </a:lnTo>
                <a:lnTo>
                  <a:pt x="7135275" y="30356"/>
                </a:lnTo>
                <a:lnTo>
                  <a:pt x="7135275" y="37353"/>
                </a:lnTo>
                <a:lnTo>
                  <a:pt x="7135275" y="129237"/>
                </a:lnTo>
                <a:lnTo>
                  <a:pt x="7125881" y="129237"/>
                </a:lnTo>
                <a:lnTo>
                  <a:pt x="7119952" y="129237"/>
                </a:lnTo>
                <a:lnTo>
                  <a:pt x="7009044" y="129237"/>
                </a:lnTo>
                <a:lnTo>
                  <a:pt x="7009044" y="1"/>
                </a:lnTo>
                <a:lnTo>
                  <a:pt x="6880269" y="1"/>
                </a:lnTo>
                <a:lnTo>
                  <a:pt x="6880269" y="113636"/>
                </a:lnTo>
                <a:lnTo>
                  <a:pt x="6973563" y="113636"/>
                </a:lnTo>
                <a:lnTo>
                  <a:pt x="6973563" y="37353"/>
                </a:lnTo>
                <a:lnTo>
                  <a:pt x="6918138" y="37353"/>
                </a:lnTo>
                <a:lnTo>
                  <a:pt x="6918138" y="76690"/>
                </a:lnTo>
                <a:lnTo>
                  <a:pt x="6936867" y="76690"/>
                </a:lnTo>
                <a:lnTo>
                  <a:pt x="6936867" y="58372"/>
                </a:lnTo>
                <a:lnTo>
                  <a:pt x="6951898" y="58372"/>
                </a:lnTo>
                <a:lnTo>
                  <a:pt x="6951898" y="91720"/>
                </a:lnTo>
                <a:lnTo>
                  <a:pt x="6942660" y="91720"/>
                </a:lnTo>
                <a:lnTo>
                  <a:pt x="6936867" y="91720"/>
                </a:lnTo>
                <a:lnTo>
                  <a:pt x="6901170" y="91720"/>
                </a:lnTo>
                <a:lnTo>
                  <a:pt x="6901170" y="80800"/>
                </a:lnTo>
                <a:lnTo>
                  <a:pt x="6901170" y="76690"/>
                </a:lnTo>
                <a:lnTo>
                  <a:pt x="6901170" y="22381"/>
                </a:lnTo>
                <a:lnTo>
                  <a:pt x="6910740" y="22381"/>
                </a:lnTo>
                <a:lnTo>
                  <a:pt x="6918138" y="22381"/>
                </a:lnTo>
                <a:lnTo>
                  <a:pt x="6988886" y="22381"/>
                </a:lnTo>
                <a:lnTo>
                  <a:pt x="6988886" y="30356"/>
                </a:lnTo>
                <a:lnTo>
                  <a:pt x="6988886" y="37353"/>
                </a:lnTo>
                <a:lnTo>
                  <a:pt x="6988886" y="129237"/>
                </a:lnTo>
                <a:lnTo>
                  <a:pt x="6979492" y="129237"/>
                </a:lnTo>
                <a:lnTo>
                  <a:pt x="6973563" y="129237"/>
                </a:lnTo>
                <a:lnTo>
                  <a:pt x="6862656" y="129237"/>
                </a:lnTo>
                <a:lnTo>
                  <a:pt x="6862656" y="1"/>
                </a:lnTo>
                <a:lnTo>
                  <a:pt x="6733881" y="1"/>
                </a:lnTo>
                <a:lnTo>
                  <a:pt x="6733881" y="113636"/>
                </a:lnTo>
                <a:lnTo>
                  <a:pt x="6827175" y="113636"/>
                </a:lnTo>
                <a:lnTo>
                  <a:pt x="6827175" y="37353"/>
                </a:lnTo>
                <a:lnTo>
                  <a:pt x="6771750" y="37353"/>
                </a:lnTo>
                <a:lnTo>
                  <a:pt x="6771750" y="76690"/>
                </a:lnTo>
                <a:lnTo>
                  <a:pt x="6790479" y="76690"/>
                </a:lnTo>
                <a:lnTo>
                  <a:pt x="6790479" y="58372"/>
                </a:lnTo>
                <a:lnTo>
                  <a:pt x="6805510" y="58372"/>
                </a:lnTo>
                <a:lnTo>
                  <a:pt x="6805510" y="91720"/>
                </a:lnTo>
                <a:lnTo>
                  <a:pt x="6796272" y="91720"/>
                </a:lnTo>
                <a:lnTo>
                  <a:pt x="6790479" y="91720"/>
                </a:lnTo>
                <a:lnTo>
                  <a:pt x="6754782" y="91720"/>
                </a:lnTo>
                <a:lnTo>
                  <a:pt x="6754782" y="80800"/>
                </a:lnTo>
                <a:lnTo>
                  <a:pt x="6754782" y="76690"/>
                </a:lnTo>
                <a:lnTo>
                  <a:pt x="6754782" y="22381"/>
                </a:lnTo>
                <a:lnTo>
                  <a:pt x="6764352" y="22381"/>
                </a:lnTo>
                <a:lnTo>
                  <a:pt x="6771750" y="22381"/>
                </a:lnTo>
                <a:lnTo>
                  <a:pt x="6842498" y="22381"/>
                </a:lnTo>
                <a:lnTo>
                  <a:pt x="6842498" y="30356"/>
                </a:lnTo>
                <a:lnTo>
                  <a:pt x="6842498" y="37353"/>
                </a:lnTo>
                <a:lnTo>
                  <a:pt x="6842498" y="129237"/>
                </a:lnTo>
                <a:lnTo>
                  <a:pt x="6833104" y="129237"/>
                </a:lnTo>
                <a:lnTo>
                  <a:pt x="6827175" y="129237"/>
                </a:lnTo>
                <a:lnTo>
                  <a:pt x="6716267" y="129237"/>
                </a:lnTo>
                <a:lnTo>
                  <a:pt x="6716267" y="1"/>
                </a:lnTo>
                <a:lnTo>
                  <a:pt x="6587492" y="1"/>
                </a:lnTo>
                <a:lnTo>
                  <a:pt x="6587492" y="113636"/>
                </a:lnTo>
                <a:lnTo>
                  <a:pt x="6680786" y="113636"/>
                </a:lnTo>
                <a:lnTo>
                  <a:pt x="6680786" y="37353"/>
                </a:lnTo>
                <a:lnTo>
                  <a:pt x="6625361" y="37353"/>
                </a:lnTo>
                <a:lnTo>
                  <a:pt x="6625361" y="76690"/>
                </a:lnTo>
                <a:lnTo>
                  <a:pt x="6644090" y="76690"/>
                </a:lnTo>
                <a:lnTo>
                  <a:pt x="6644090" y="58372"/>
                </a:lnTo>
                <a:lnTo>
                  <a:pt x="6659121" y="58372"/>
                </a:lnTo>
                <a:lnTo>
                  <a:pt x="6659121" y="91720"/>
                </a:lnTo>
                <a:lnTo>
                  <a:pt x="6649883" y="91720"/>
                </a:lnTo>
                <a:lnTo>
                  <a:pt x="6644090" y="91720"/>
                </a:lnTo>
                <a:lnTo>
                  <a:pt x="6608393" y="91720"/>
                </a:lnTo>
                <a:lnTo>
                  <a:pt x="6608393" y="80800"/>
                </a:lnTo>
                <a:lnTo>
                  <a:pt x="6608393" y="76690"/>
                </a:lnTo>
                <a:lnTo>
                  <a:pt x="6608393" y="22381"/>
                </a:lnTo>
                <a:lnTo>
                  <a:pt x="6617963" y="22381"/>
                </a:lnTo>
                <a:lnTo>
                  <a:pt x="6625361" y="22381"/>
                </a:lnTo>
                <a:lnTo>
                  <a:pt x="6696109" y="22381"/>
                </a:lnTo>
                <a:lnTo>
                  <a:pt x="6696109" y="30356"/>
                </a:lnTo>
                <a:lnTo>
                  <a:pt x="6696109" y="37353"/>
                </a:lnTo>
                <a:lnTo>
                  <a:pt x="6696109" y="129237"/>
                </a:lnTo>
                <a:lnTo>
                  <a:pt x="6686715" y="129237"/>
                </a:lnTo>
                <a:lnTo>
                  <a:pt x="6680786" y="129237"/>
                </a:lnTo>
                <a:lnTo>
                  <a:pt x="6569880" y="129237"/>
                </a:lnTo>
                <a:lnTo>
                  <a:pt x="6569880" y="1"/>
                </a:lnTo>
                <a:lnTo>
                  <a:pt x="6441105" y="1"/>
                </a:lnTo>
                <a:lnTo>
                  <a:pt x="6441105" y="113636"/>
                </a:lnTo>
                <a:lnTo>
                  <a:pt x="6534399" y="113636"/>
                </a:lnTo>
                <a:lnTo>
                  <a:pt x="6534399" y="37353"/>
                </a:lnTo>
                <a:lnTo>
                  <a:pt x="6478974" y="37353"/>
                </a:lnTo>
                <a:lnTo>
                  <a:pt x="6478974" y="76690"/>
                </a:lnTo>
                <a:lnTo>
                  <a:pt x="6497703" y="76690"/>
                </a:lnTo>
                <a:lnTo>
                  <a:pt x="6497703" y="58372"/>
                </a:lnTo>
                <a:lnTo>
                  <a:pt x="6512734" y="58372"/>
                </a:lnTo>
                <a:lnTo>
                  <a:pt x="6512734" y="91720"/>
                </a:lnTo>
                <a:lnTo>
                  <a:pt x="6503496" y="91720"/>
                </a:lnTo>
                <a:lnTo>
                  <a:pt x="6497703" y="91720"/>
                </a:lnTo>
                <a:lnTo>
                  <a:pt x="6462006" y="91720"/>
                </a:lnTo>
                <a:lnTo>
                  <a:pt x="6462006" y="80800"/>
                </a:lnTo>
                <a:lnTo>
                  <a:pt x="6462006" y="76690"/>
                </a:lnTo>
                <a:lnTo>
                  <a:pt x="6462006" y="22381"/>
                </a:lnTo>
                <a:lnTo>
                  <a:pt x="6471576" y="22381"/>
                </a:lnTo>
                <a:lnTo>
                  <a:pt x="6478974" y="22381"/>
                </a:lnTo>
                <a:lnTo>
                  <a:pt x="6549722" y="22381"/>
                </a:lnTo>
                <a:lnTo>
                  <a:pt x="6549722" y="30356"/>
                </a:lnTo>
                <a:lnTo>
                  <a:pt x="6549722" y="37353"/>
                </a:lnTo>
                <a:lnTo>
                  <a:pt x="6549722" y="129237"/>
                </a:lnTo>
                <a:lnTo>
                  <a:pt x="6540328" y="129237"/>
                </a:lnTo>
                <a:lnTo>
                  <a:pt x="6534399" y="129237"/>
                </a:lnTo>
                <a:lnTo>
                  <a:pt x="6423491" y="129237"/>
                </a:lnTo>
                <a:lnTo>
                  <a:pt x="6423491" y="1"/>
                </a:lnTo>
                <a:lnTo>
                  <a:pt x="6294716" y="1"/>
                </a:lnTo>
                <a:lnTo>
                  <a:pt x="6294716" y="113636"/>
                </a:lnTo>
                <a:lnTo>
                  <a:pt x="6388010" y="113636"/>
                </a:lnTo>
                <a:lnTo>
                  <a:pt x="6388010" y="37353"/>
                </a:lnTo>
                <a:lnTo>
                  <a:pt x="6332585" y="37353"/>
                </a:lnTo>
                <a:lnTo>
                  <a:pt x="6332585" y="76690"/>
                </a:lnTo>
                <a:lnTo>
                  <a:pt x="6351314" y="76690"/>
                </a:lnTo>
                <a:lnTo>
                  <a:pt x="6351314" y="58372"/>
                </a:lnTo>
                <a:lnTo>
                  <a:pt x="6366345" y="58372"/>
                </a:lnTo>
                <a:lnTo>
                  <a:pt x="6366345" y="91720"/>
                </a:lnTo>
                <a:lnTo>
                  <a:pt x="6357107" y="91720"/>
                </a:lnTo>
                <a:lnTo>
                  <a:pt x="6351314" y="91720"/>
                </a:lnTo>
                <a:lnTo>
                  <a:pt x="6315617" y="91720"/>
                </a:lnTo>
                <a:lnTo>
                  <a:pt x="6315617" y="80800"/>
                </a:lnTo>
                <a:lnTo>
                  <a:pt x="6315617" y="76690"/>
                </a:lnTo>
                <a:lnTo>
                  <a:pt x="6315617" y="22381"/>
                </a:lnTo>
                <a:lnTo>
                  <a:pt x="6325187" y="22381"/>
                </a:lnTo>
                <a:lnTo>
                  <a:pt x="6332585" y="22381"/>
                </a:lnTo>
                <a:lnTo>
                  <a:pt x="6403333" y="22381"/>
                </a:lnTo>
                <a:lnTo>
                  <a:pt x="6403333" y="30356"/>
                </a:lnTo>
                <a:lnTo>
                  <a:pt x="6403333" y="37353"/>
                </a:lnTo>
                <a:lnTo>
                  <a:pt x="6403333" y="129237"/>
                </a:lnTo>
                <a:lnTo>
                  <a:pt x="6393939" y="129237"/>
                </a:lnTo>
                <a:lnTo>
                  <a:pt x="6388010" y="129237"/>
                </a:lnTo>
                <a:lnTo>
                  <a:pt x="6277103" y="129237"/>
                </a:lnTo>
                <a:lnTo>
                  <a:pt x="6277103" y="1"/>
                </a:lnTo>
                <a:lnTo>
                  <a:pt x="6148328" y="1"/>
                </a:lnTo>
                <a:lnTo>
                  <a:pt x="6148328" y="113636"/>
                </a:lnTo>
                <a:lnTo>
                  <a:pt x="6241622" y="113636"/>
                </a:lnTo>
                <a:lnTo>
                  <a:pt x="6241622" y="37353"/>
                </a:lnTo>
                <a:lnTo>
                  <a:pt x="6186197" y="37353"/>
                </a:lnTo>
                <a:lnTo>
                  <a:pt x="6186197" y="76690"/>
                </a:lnTo>
                <a:lnTo>
                  <a:pt x="6204926" y="76690"/>
                </a:lnTo>
                <a:lnTo>
                  <a:pt x="6204926" y="58372"/>
                </a:lnTo>
                <a:lnTo>
                  <a:pt x="6219957" y="58372"/>
                </a:lnTo>
                <a:lnTo>
                  <a:pt x="6219957" y="91720"/>
                </a:lnTo>
                <a:lnTo>
                  <a:pt x="6210719" y="91720"/>
                </a:lnTo>
                <a:lnTo>
                  <a:pt x="6204926" y="91720"/>
                </a:lnTo>
                <a:lnTo>
                  <a:pt x="6169229" y="91720"/>
                </a:lnTo>
                <a:lnTo>
                  <a:pt x="6169229" y="80800"/>
                </a:lnTo>
                <a:lnTo>
                  <a:pt x="6169229" y="76690"/>
                </a:lnTo>
                <a:lnTo>
                  <a:pt x="6169229" y="22381"/>
                </a:lnTo>
                <a:lnTo>
                  <a:pt x="6178799" y="22381"/>
                </a:lnTo>
                <a:lnTo>
                  <a:pt x="6186197" y="22381"/>
                </a:lnTo>
                <a:lnTo>
                  <a:pt x="6256945" y="22381"/>
                </a:lnTo>
                <a:lnTo>
                  <a:pt x="6256945" y="30356"/>
                </a:lnTo>
                <a:lnTo>
                  <a:pt x="6256945" y="37353"/>
                </a:lnTo>
                <a:lnTo>
                  <a:pt x="6256945" y="129237"/>
                </a:lnTo>
                <a:lnTo>
                  <a:pt x="6247551" y="129237"/>
                </a:lnTo>
                <a:lnTo>
                  <a:pt x="6241622" y="129237"/>
                </a:lnTo>
                <a:lnTo>
                  <a:pt x="6130714" y="129237"/>
                </a:lnTo>
                <a:lnTo>
                  <a:pt x="6130714" y="1"/>
                </a:lnTo>
                <a:lnTo>
                  <a:pt x="6001939" y="1"/>
                </a:lnTo>
                <a:lnTo>
                  <a:pt x="6001939" y="113636"/>
                </a:lnTo>
                <a:lnTo>
                  <a:pt x="6095233" y="113636"/>
                </a:lnTo>
                <a:lnTo>
                  <a:pt x="6095233" y="37353"/>
                </a:lnTo>
                <a:lnTo>
                  <a:pt x="6039808" y="37353"/>
                </a:lnTo>
                <a:lnTo>
                  <a:pt x="6039808" y="76690"/>
                </a:lnTo>
                <a:lnTo>
                  <a:pt x="6058537" y="76690"/>
                </a:lnTo>
                <a:lnTo>
                  <a:pt x="6058537" y="58372"/>
                </a:lnTo>
                <a:lnTo>
                  <a:pt x="6073568" y="58372"/>
                </a:lnTo>
                <a:lnTo>
                  <a:pt x="6073568" y="91720"/>
                </a:lnTo>
                <a:lnTo>
                  <a:pt x="6064330" y="91720"/>
                </a:lnTo>
                <a:lnTo>
                  <a:pt x="6058537" y="91720"/>
                </a:lnTo>
                <a:lnTo>
                  <a:pt x="6022840" y="91720"/>
                </a:lnTo>
                <a:lnTo>
                  <a:pt x="6022840" y="80800"/>
                </a:lnTo>
                <a:lnTo>
                  <a:pt x="6022840" y="76690"/>
                </a:lnTo>
                <a:lnTo>
                  <a:pt x="6022840" y="22381"/>
                </a:lnTo>
                <a:lnTo>
                  <a:pt x="6032410" y="22381"/>
                </a:lnTo>
                <a:lnTo>
                  <a:pt x="6039808" y="22381"/>
                </a:lnTo>
                <a:lnTo>
                  <a:pt x="6110556" y="22381"/>
                </a:lnTo>
                <a:lnTo>
                  <a:pt x="6110556" y="30356"/>
                </a:lnTo>
                <a:lnTo>
                  <a:pt x="6110556" y="37353"/>
                </a:lnTo>
                <a:lnTo>
                  <a:pt x="6110556" y="129237"/>
                </a:lnTo>
                <a:lnTo>
                  <a:pt x="6101162" y="129237"/>
                </a:lnTo>
                <a:lnTo>
                  <a:pt x="6095233" y="129237"/>
                </a:lnTo>
                <a:lnTo>
                  <a:pt x="5984327" y="129237"/>
                </a:lnTo>
                <a:lnTo>
                  <a:pt x="5984327" y="1"/>
                </a:lnTo>
                <a:lnTo>
                  <a:pt x="5855552" y="1"/>
                </a:lnTo>
                <a:lnTo>
                  <a:pt x="5855552" y="113636"/>
                </a:lnTo>
                <a:lnTo>
                  <a:pt x="5948846" y="113636"/>
                </a:lnTo>
                <a:lnTo>
                  <a:pt x="5948846" y="37353"/>
                </a:lnTo>
                <a:lnTo>
                  <a:pt x="5893421" y="37353"/>
                </a:lnTo>
                <a:lnTo>
                  <a:pt x="5893421" y="76690"/>
                </a:lnTo>
                <a:lnTo>
                  <a:pt x="5912150" y="76690"/>
                </a:lnTo>
                <a:lnTo>
                  <a:pt x="5912150" y="58372"/>
                </a:lnTo>
                <a:lnTo>
                  <a:pt x="5927181" y="58372"/>
                </a:lnTo>
                <a:lnTo>
                  <a:pt x="5927181" y="91720"/>
                </a:lnTo>
                <a:lnTo>
                  <a:pt x="5917943" y="91720"/>
                </a:lnTo>
                <a:lnTo>
                  <a:pt x="5912150" y="91720"/>
                </a:lnTo>
                <a:lnTo>
                  <a:pt x="5876453" y="91720"/>
                </a:lnTo>
                <a:lnTo>
                  <a:pt x="5876453" y="80800"/>
                </a:lnTo>
                <a:lnTo>
                  <a:pt x="5876453" y="76690"/>
                </a:lnTo>
                <a:lnTo>
                  <a:pt x="5876453" y="22381"/>
                </a:lnTo>
                <a:lnTo>
                  <a:pt x="5886023" y="22381"/>
                </a:lnTo>
                <a:lnTo>
                  <a:pt x="5893421" y="22381"/>
                </a:lnTo>
                <a:lnTo>
                  <a:pt x="5964169" y="22381"/>
                </a:lnTo>
                <a:lnTo>
                  <a:pt x="5964169" y="30356"/>
                </a:lnTo>
                <a:lnTo>
                  <a:pt x="5964169" y="37353"/>
                </a:lnTo>
                <a:lnTo>
                  <a:pt x="5964169" y="129237"/>
                </a:lnTo>
                <a:lnTo>
                  <a:pt x="5954775" y="129237"/>
                </a:lnTo>
                <a:lnTo>
                  <a:pt x="5948846" y="129237"/>
                </a:lnTo>
                <a:lnTo>
                  <a:pt x="5837938" y="129237"/>
                </a:lnTo>
                <a:lnTo>
                  <a:pt x="5837938" y="1"/>
                </a:lnTo>
                <a:lnTo>
                  <a:pt x="5709163" y="1"/>
                </a:lnTo>
                <a:lnTo>
                  <a:pt x="5709163" y="113636"/>
                </a:lnTo>
                <a:lnTo>
                  <a:pt x="5802457" y="113636"/>
                </a:lnTo>
                <a:lnTo>
                  <a:pt x="5802457" y="37353"/>
                </a:lnTo>
                <a:lnTo>
                  <a:pt x="5747032" y="37353"/>
                </a:lnTo>
                <a:lnTo>
                  <a:pt x="5747032" y="76690"/>
                </a:lnTo>
                <a:lnTo>
                  <a:pt x="5765761" y="76690"/>
                </a:lnTo>
                <a:lnTo>
                  <a:pt x="5765761" y="58372"/>
                </a:lnTo>
                <a:lnTo>
                  <a:pt x="5780792" y="58372"/>
                </a:lnTo>
                <a:lnTo>
                  <a:pt x="5780792" y="91720"/>
                </a:lnTo>
                <a:lnTo>
                  <a:pt x="5771554" y="91720"/>
                </a:lnTo>
                <a:lnTo>
                  <a:pt x="5765761" y="91720"/>
                </a:lnTo>
                <a:lnTo>
                  <a:pt x="5730064" y="91720"/>
                </a:lnTo>
                <a:lnTo>
                  <a:pt x="5730064" y="80800"/>
                </a:lnTo>
                <a:lnTo>
                  <a:pt x="5730064" y="76690"/>
                </a:lnTo>
                <a:lnTo>
                  <a:pt x="5730064" y="22381"/>
                </a:lnTo>
                <a:lnTo>
                  <a:pt x="5739634" y="22381"/>
                </a:lnTo>
                <a:lnTo>
                  <a:pt x="5747032" y="22381"/>
                </a:lnTo>
                <a:lnTo>
                  <a:pt x="5817780" y="22381"/>
                </a:lnTo>
                <a:lnTo>
                  <a:pt x="5817780" y="30356"/>
                </a:lnTo>
                <a:lnTo>
                  <a:pt x="5817780" y="37353"/>
                </a:lnTo>
                <a:lnTo>
                  <a:pt x="5817780" y="129237"/>
                </a:lnTo>
                <a:lnTo>
                  <a:pt x="5808386" y="129237"/>
                </a:lnTo>
                <a:lnTo>
                  <a:pt x="5802457" y="129237"/>
                </a:lnTo>
                <a:lnTo>
                  <a:pt x="5691550" y="129237"/>
                </a:lnTo>
                <a:lnTo>
                  <a:pt x="5691550" y="1"/>
                </a:lnTo>
                <a:lnTo>
                  <a:pt x="5562775" y="1"/>
                </a:lnTo>
                <a:lnTo>
                  <a:pt x="5562775" y="113636"/>
                </a:lnTo>
                <a:lnTo>
                  <a:pt x="5656069" y="113636"/>
                </a:lnTo>
                <a:lnTo>
                  <a:pt x="5656069" y="37353"/>
                </a:lnTo>
                <a:lnTo>
                  <a:pt x="5600644" y="37353"/>
                </a:lnTo>
                <a:lnTo>
                  <a:pt x="5600644" y="76690"/>
                </a:lnTo>
                <a:lnTo>
                  <a:pt x="5619373" y="76690"/>
                </a:lnTo>
                <a:lnTo>
                  <a:pt x="5619373" y="58372"/>
                </a:lnTo>
                <a:lnTo>
                  <a:pt x="5634404" y="58372"/>
                </a:lnTo>
                <a:lnTo>
                  <a:pt x="5634404" y="91720"/>
                </a:lnTo>
                <a:lnTo>
                  <a:pt x="5625166" y="91720"/>
                </a:lnTo>
                <a:lnTo>
                  <a:pt x="5619373" y="91720"/>
                </a:lnTo>
                <a:lnTo>
                  <a:pt x="5583676" y="91720"/>
                </a:lnTo>
                <a:lnTo>
                  <a:pt x="5583676" y="80800"/>
                </a:lnTo>
                <a:lnTo>
                  <a:pt x="5583676" y="76690"/>
                </a:lnTo>
                <a:lnTo>
                  <a:pt x="5583676" y="22381"/>
                </a:lnTo>
                <a:lnTo>
                  <a:pt x="5593246" y="22381"/>
                </a:lnTo>
                <a:lnTo>
                  <a:pt x="5600644" y="22381"/>
                </a:lnTo>
                <a:lnTo>
                  <a:pt x="5671392" y="22381"/>
                </a:lnTo>
                <a:lnTo>
                  <a:pt x="5671392" y="30356"/>
                </a:lnTo>
                <a:lnTo>
                  <a:pt x="5671392" y="37353"/>
                </a:lnTo>
                <a:lnTo>
                  <a:pt x="5671392" y="129237"/>
                </a:lnTo>
                <a:lnTo>
                  <a:pt x="5661998" y="129237"/>
                </a:lnTo>
                <a:lnTo>
                  <a:pt x="5656069" y="129237"/>
                </a:lnTo>
                <a:lnTo>
                  <a:pt x="5545161" y="129237"/>
                </a:lnTo>
                <a:lnTo>
                  <a:pt x="5545161" y="1"/>
                </a:lnTo>
                <a:lnTo>
                  <a:pt x="5416386" y="1"/>
                </a:lnTo>
                <a:lnTo>
                  <a:pt x="5416386" y="113636"/>
                </a:lnTo>
                <a:lnTo>
                  <a:pt x="5509680" y="113636"/>
                </a:lnTo>
                <a:lnTo>
                  <a:pt x="5509680" y="37353"/>
                </a:lnTo>
                <a:lnTo>
                  <a:pt x="5454255" y="37353"/>
                </a:lnTo>
                <a:lnTo>
                  <a:pt x="5454255" y="76690"/>
                </a:lnTo>
                <a:lnTo>
                  <a:pt x="5472984" y="76690"/>
                </a:lnTo>
                <a:lnTo>
                  <a:pt x="5472984" y="58372"/>
                </a:lnTo>
                <a:lnTo>
                  <a:pt x="5488015" y="58372"/>
                </a:lnTo>
                <a:lnTo>
                  <a:pt x="5488015" y="91720"/>
                </a:lnTo>
                <a:lnTo>
                  <a:pt x="5478777" y="91720"/>
                </a:lnTo>
                <a:lnTo>
                  <a:pt x="5472984" y="91720"/>
                </a:lnTo>
                <a:lnTo>
                  <a:pt x="5437287" y="91720"/>
                </a:lnTo>
                <a:lnTo>
                  <a:pt x="5437287" y="80800"/>
                </a:lnTo>
                <a:lnTo>
                  <a:pt x="5437287" y="76690"/>
                </a:lnTo>
                <a:lnTo>
                  <a:pt x="5437287" y="22381"/>
                </a:lnTo>
                <a:lnTo>
                  <a:pt x="5446857" y="22381"/>
                </a:lnTo>
                <a:lnTo>
                  <a:pt x="5454255" y="22381"/>
                </a:lnTo>
                <a:lnTo>
                  <a:pt x="5525003" y="22381"/>
                </a:lnTo>
                <a:lnTo>
                  <a:pt x="5525003" y="30356"/>
                </a:lnTo>
                <a:lnTo>
                  <a:pt x="5525003" y="37353"/>
                </a:lnTo>
                <a:lnTo>
                  <a:pt x="5525003" y="129237"/>
                </a:lnTo>
                <a:lnTo>
                  <a:pt x="5515609" y="129237"/>
                </a:lnTo>
                <a:lnTo>
                  <a:pt x="5509680" y="129237"/>
                </a:lnTo>
                <a:lnTo>
                  <a:pt x="5398774" y="129237"/>
                </a:lnTo>
                <a:lnTo>
                  <a:pt x="5398774" y="1"/>
                </a:lnTo>
                <a:lnTo>
                  <a:pt x="5269999" y="1"/>
                </a:lnTo>
                <a:lnTo>
                  <a:pt x="5269999" y="113636"/>
                </a:lnTo>
                <a:lnTo>
                  <a:pt x="5363293" y="113636"/>
                </a:lnTo>
                <a:lnTo>
                  <a:pt x="5363293" y="37353"/>
                </a:lnTo>
                <a:lnTo>
                  <a:pt x="5307868" y="37353"/>
                </a:lnTo>
                <a:lnTo>
                  <a:pt x="5307868" y="76690"/>
                </a:lnTo>
                <a:lnTo>
                  <a:pt x="5326597" y="76690"/>
                </a:lnTo>
                <a:lnTo>
                  <a:pt x="5326597" y="58372"/>
                </a:lnTo>
                <a:lnTo>
                  <a:pt x="5341628" y="58372"/>
                </a:lnTo>
                <a:lnTo>
                  <a:pt x="5341628" y="91720"/>
                </a:lnTo>
                <a:lnTo>
                  <a:pt x="5332390" y="91720"/>
                </a:lnTo>
                <a:lnTo>
                  <a:pt x="5326597" y="91720"/>
                </a:lnTo>
                <a:lnTo>
                  <a:pt x="5290900" y="91720"/>
                </a:lnTo>
                <a:lnTo>
                  <a:pt x="5290900" y="80800"/>
                </a:lnTo>
                <a:lnTo>
                  <a:pt x="5290900" y="76690"/>
                </a:lnTo>
                <a:lnTo>
                  <a:pt x="5290900" y="22381"/>
                </a:lnTo>
                <a:lnTo>
                  <a:pt x="5300470" y="22381"/>
                </a:lnTo>
                <a:lnTo>
                  <a:pt x="5307868" y="22381"/>
                </a:lnTo>
                <a:lnTo>
                  <a:pt x="5378616" y="22381"/>
                </a:lnTo>
                <a:lnTo>
                  <a:pt x="5378616" y="30356"/>
                </a:lnTo>
                <a:lnTo>
                  <a:pt x="5378616" y="37353"/>
                </a:lnTo>
                <a:lnTo>
                  <a:pt x="5378616" y="129237"/>
                </a:lnTo>
                <a:lnTo>
                  <a:pt x="5369222" y="129237"/>
                </a:lnTo>
                <a:lnTo>
                  <a:pt x="5363293" y="129237"/>
                </a:lnTo>
                <a:lnTo>
                  <a:pt x="5252385" y="129237"/>
                </a:lnTo>
                <a:lnTo>
                  <a:pt x="5252385" y="1"/>
                </a:lnTo>
                <a:lnTo>
                  <a:pt x="5123610" y="1"/>
                </a:lnTo>
                <a:lnTo>
                  <a:pt x="5123610" y="113636"/>
                </a:lnTo>
                <a:lnTo>
                  <a:pt x="5216904" y="113636"/>
                </a:lnTo>
                <a:lnTo>
                  <a:pt x="5216904" y="37353"/>
                </a:lnTo>
                <a:lnTo>
                  <a:pt x="5161479" y="37353"/>
                </a:lnTo>
                <a:lnTo>
                  <a:pt x="5161479" y="76690"/>
                </a:lnTo>
                <a:lnTo>
                  <a:pt x="5180208" y="76690"/>
                </a:lnTo>
                <a:lnTo>
                  <a:pt x="5180208" y="58372"/>
                </a:lnTo>
                <a:lnTo>
                  <a:pt x="5195239" y="58372"/>
                </a:lnTo>
                <a:lnTo>
                  <a:pt x="5195239" y="91720"/>
                </a:lnTo>
                <a:lnTo>
                  <a:pt x="5186001" y="91720"/>
                </a:lnTo>
                <a:lnTo>
                  <a:pt x="5180208" y="91720"/>
                </a:lnTo>
                <a:lnTo>
                  <a:pt x="5144511" y="91720"/>
                </a:lnTo>
                <a:lnTo>
                  <a:pt x="5144511" y="80800"/>
                </a:lnTo>
                <a:lnTo>
                  <a:pt x="5144511" y="76690"/>
                </a:lnTo>
                <a:lnTo>
                  <a:pt x="5144511" y="22381"/>
                </a:lnTo>
                <a:lnTo>
                  <a:pt x="5154081" y="22381"/>
                </a:lnTo>
                <a:lnTo>
                  <a:pt x="5161479" y="22381"/>
                </a:lnTo>
                <a:lnTo>
                  <a:pt x="5232227" y="22381"/>
                </a:lnTo>
                <a:lnTo>
                  <a:pt x="5232227" y="30356"/>
                </a:lnTo>
                <a:lnTo>
                  <a:pt x="5232227" y="37353"/>
                </a:lnTo>
                <a:lnTo>
                  <a:pt x="5232227" y="129237"/>
                </a:lnTo>
                <a:lnTo>
                  <a:pt x="5222833" y="129237"/>
                </a:lnTo>
                <a:lnTo>
                  <a:pt x="5216904" y="129237"/>
                </a:lnTo>
                <a:lnTo>
                  <a:pt x="5105997" y="129237"/>
                </a:lnTo>
                <a:lnTo>
                  <a:pt x="5105997" y="1"/>
                </a:lnTo>
                <a:lnTo>
                  <a:pt x="4977222" y="1"/>
                </a:lnTo>
                <a:lnTo>
                  <a:pt x="4977222" y="113636"/>
                </a:lnTo>
                <a:lnTo>
                  <a:pt x="5070516" y="113636"/>
                </a:lnTo>
                <a:lnTo>
                  <a:pt x="5070516" y="37353"/>
                </a:lnTo>
                <a:lnTo>
                  <a:pt x="5015091" y="37353"/>
                </a:lnTo>
                <a:lnTo>
                  <a:pt x="5015091" y="76690"/>
                </a:lnTo>
                <a:lnTo>
                  <a:pt x="5033820" y="76690"/>
                </a:lnTo>
                <a:lnTo>
                  <a:pt x="5033820" y="58372"/>
                </a:lnTo>
                <a:lnTo>
                  <a:pt x="5048851" y="58372"/>
                </a:lnTo>
                <a:lnTo>
                  <a:pt x="5048851" y="91720"/>
                </a:lnTo>
                <a:lnTo>
                  <a:pt x="5039613" y="91720"/>
                </a:lnTo>
                <a:lnTo>
                  <a:pt x="5033820" y="91720"/>
                </a:lnTo>
                <a:lnTo>
                  <a:pt x="4998123" y="91720"/>
                </a:lnTo>
                <a:lnTo>
                  <a:pt x="4998123" y="80800"/>
                </a:lnTo>
                <a:lnTo>
                  <a:pt x="4998123" y="76690"/>
                </a:lnTo>
                <a:lnTo>
                  <a:pt x="4998123" y="22381"/>
                </a:lnTo>
                <a:lnTo>
                  <a:pt x="5007693" y="22381"/>
                </a:lnTo>
                <a:lnTo>
                  <a:pt x="5015091" y="22381"/>
                </a:lnTo>
                <a:lnTo>
                  <a:pt x="5085839" y="22381"/>
                </a:lnTo>
                <a:lnTo>
                  <a:pt x="5085839" y="30356"/>
                </a:lnTo>
                <a:lnTo>
                  <a:pt x="5085839" y="37353"/>
                </a:lnTo>
                <a:lnTo>
                  <a:pt x="5085839" y="129237"/>
                </a:lnTo>
                <a:lnTo>
                  <a:pt x="5076445" y="129237"/>
                </a:lnTo>
                <a:lnTo>
                  <a:pt x="5070516" y="129237"/>
                </a:lnTo>
                <a:lnTo>
                  <a:pt x="4959609" y="129237"/>
                </a:lnTo>
                <a:lnTo>
                  <a:pt x="4959609" y="1"/>
                </a:lnTo>
                <a:lnTo>
                  <a:pt x="4830834" y="1"/>
                </a:lnTo>
                <a:lnTo>
                  <a:pt x="4830834" y="113636"/>
                </a:lnTo>
                <a:lnTo>
                  <a:pt x="4924128" y="113636"/>
                </a:lnTo>
                <a:lnTo>
                  <a:pt x="4924128" y="37353"/>
                </a:lnTo>
                <a:lnTo>
                  <a:pt x="4868703" y="37353"/>
                </a:lnTo>
                <a:lnTo>
                  <a:pt x="4868703" y="76690"/>
                </a:lnTo>
                <a:lnTo>
                  <a:pt x="4887432" y="76690"/>
                </a:lnTo>
                <a:lnTo>
                  <a:pt x="4887432" y="58372"/>
                </a:lnTo>
                <a:lnTo>
                  <a:pt x="4902463" y="58372"/>
                </a:lnTo>
                <a:lnTo>
                  <a:pt x="4902463" y="91720"/>
                </a:lnTo>
                <a:lnTo>
                  <a:pt x="4893225" y="91720"/>
                </a:lnTo>
                <a:lnTo>
                  <a:pt x="4887432" y="91720"/>
                </a:lnTo>
                <a:lnTo>
                  <a:pt x="4851735" y="91720"/>
                </a:lnTo>
                <a:lnTo>
                  <a:pt x="4851735" y="80800"/>
                </a:lnTo>
                <a:lnTo>
                  <a:pt x="4851735" y="76690"/>
                </a:lnTo>
                <a:lnTo>
                  <a:pt x="4851735" y="22381"/>
                </a:lnTo>
                <a:lnTo>
                  <a:pt x="4861305" y="22381"/>
                </a:lnTo>
                <a:lnTo>
                  <a:pt x="4868703" y="22381"/>
                </a:lnTo>
                <a:lnTo>
                  <a:pt x="4939451" y="22381"/>
                </a:lnTo>
                <a:lnTo>
                  <a:pt x="4939451" y="30356"/>
                </a:lnTo>
                <a:lnTo>
                  <a:pt x="4939451" y="37353"/>
                </a:lnTo>
                <a:lnTo>
                  <a:pt x="4939451" y="129237"/>
                </a:lnTo>
                <a:lnTo>
                  <a:pt x="4930057" y="129237"/>
                </a:lnTo>
                <a:lnTo>
                  <a:pt x="4924128" y="129237"/>
                </a:lnTo>
                <a:lnTo>
                  <a:pt x="4813221" y="129237"/>
                </a:lnTo>
                <a:lnTo>
                  <a:pt x="4813221" y="1"/>
                </a:lnTo>
                <a:lnTo>
                  <a:pt x="4684446" y="1"/>
                </a:lnTo>
                <a:lnTo>
                  <a:pt x="4684446" y="113636"/>
                </a:lnTo>
                <a:lnTo>
                  <a:pt x="4777740" y="113636"/>
                </a:lnTo>
                <a:lnTo>
                  <a:pt x="4777740" y="37353"/>
                </a:lnTo>
                <a:lnTo>
                  <a:pt x="4722315" y="37353"/>
                </a:lnTo>
                <a:lnTo>
                  <a:pt x="4722315" y="76690"/>
                </a:lnTo>
                <a:lnTo>
                  <a:pt x="4741044" y="76690"/>
                </a:lnTo>
                <a:lnTo>
                  <a:pt x="4741044" y="58372"/>
                </a:lnTo>
                <a:lnTo>
                  <a:pt x="4756075" y="58372"/>
                </a:lnTo>
                <a:lnTo>
                  <a:pt x="4756075" y="91720"/>
                </a:lnTo>
                <a:lnTo>
                  <a:pt x="4746837" y="91720"/>
                </a:lnTo>
                <a:lnTo>
                  <a:pt x="4741044" y="91720"/>
                </a:lnTo>
                <a:lnTo>
                  <a:pt x="4705347" y="91720"/>
                </a:lnTo>
                <a:lnTo>
                  <a:pt x="4705347" y="80800"/>
                </a:lnTo>
                <a:lnTo>
                  <a:pt x="4705347" y="76690"/>
                </a:lnTo>
                <a:lnTo>
                  <a:pt x="4705347" y="22381"/>
                </a:lnTo>
                <a:lnTo>
                  <a:pt x="4714917" y="22381"/>
                </a:lnTo>
                <a:lnTo>
                  <a:pt x="4722315" y="22381"/>
                </a:lnTo>
                <a:lnTo>
                  <a:pt x="4793063" y="22381"/>
                </a:lnTo>
                <a:lnTo>
                  <a:pt x="4793063" y="30356"/>
                </a:lnTo>
                <a:lnTo>
                  <a:pt x="4793063" y="37353"/>
                </a:lnTo>
                <a:lnTo>
                  <a:pt x="4793063" y="129237"/>
                </a:lnTo>
                <a:lnTo>
                  <a:pt x="4783669" y="129237"/>
                </a:lnTo>
                <a:lnTo>
                  <a:pt x="4777740" y="129237"/>
                </a:lnTo>
                <a:lnTo>
                  <a:pt x="4666832" y="129237"/>
                </a:lnTo>
                <a:lnTo>
                  <a:pt x="4666832" y="1"/>
                </a:lnTo>
                <a:lnTo>
                  <a:pt x="4538057" y="1"/>
                </a:lnTo>
                <a:lnTo>
                  <a:pt x="4538057" y="113636"/>
                </a:lnTo>
                <a:lnTo>
                  <a:pt x="4631351" y="113636"/>
                </a:lnTo>
                <a:lnTo>
                  <a:pt x="4631351" y="37353"/>
                </a:lnTo>
                <a:lnTo>
                  <a:pt x="4575926" y="37353"/>
                </a:lnTo>
                <a:lnTo>
                  <a:pt x="4575926" y="76690"/>
                </a:lnTo>
                <a:lnTo>
                  <a:pt x="4594655" y="76690"/>
                </a:lnTo>
                <a:lnTo>
                  <a:pt x="4594655" y="58372"/>
                </a:lnTo>
                <a:lnTo>
                  <a:pt x="4609686" y="58372"/>
                </a:lnTo>
                <a:lnTo>
                  <a:pt x="4609686" y="91720"/>
                </a:lnTo>
                <a:lnTo>
                  <a:pt x="4600448" y="91720"/>
                </a:lnTo>
                <a:lnTo>
                  <a:pt x="4594655" y="91720"/>
                </a:lnTo>
                <a:lnTo>
                  <a:pt x="4558958" y="91720"/>
                </a:lnTo>
                <a:lnTo>
                  <a:pt x="4558958" y="80800"/>
                </a:lnTo>
                <a:lnTo>
                  <a:pt x="4558958" y="76690"/>
                </a:lnTo>
                <a:lnTo>
                  <a:pt x="4558958" y="22381"/>
                </a:lnTo>
                <a:lnTo>
                  <a:pt x="4568528" y="22381"/>
                </a:lnTo>
                <a:lnTo>
                  <a:pt x="4575926" y="22381"/>
                </a:lnTo>
                <a:lnTo>
                  <a:pt x="4646674" y="22381"/>
                </a:lnTo>
                <a:lnTo>
                  <a:pt x="4646674" y="30356"/>
                </a:lnTo>
                <a:lnTo>
                  <a:pt x="4646674" y="37353"/>
                </a:lnTo>
                <a:lnTo>
                  <a:pt x="4646674" y="129237"/>
                </a:lnTo>
                <a:lnTo>
                  <a:pt x="4637280" y="129237"/>
                </a:lnTo>
                <a:lnTo>
                  <a:pt x="4631351" y="129237"/>
                </a:lnTo>
                <a:lnTo>
                  <a:pt x="4520444" y="129237"/>
                </a:lnTo>
                <a:lnTo>
                  <a:pt x="4520444" y="1"/>
                </a:lnTo>
                <a:lnTo>
                  <a:pt x="4391669" y="1"/>
                </a:lnTo>
                <a:lnTo>
                  <a:pt x="4391669" y="113636"/>
                </a:lnTo>
                <a:lnTo>
                  <a:pt x="4484963" y="113636"/>
                </a:lnTo>
                <a:lnTo>
                  <a:pt x="4484963" y="37353"/>
                </a:lnTo>
                <a:lnTo>
                  <a:pt x="4429538" y="37353"/>
                </a:lnTo>
                <a:lnTo>
                  <a:pt x="4429538" y="76690"/>
                </a:lnTo>
                <a:lnTo>
                  <a:pt x="4448267" y="76690"/>
                </a:lnTo>
                <a:lnTo>
                  <a:pt x="4448267" y="58372"/>
                </a:lnTo>
                <a:lnTo>
                  <a:pt x="4463298" y="58372"/>
                </a:lnTo>
                <a:lnTo>
                  <a:pt x="4463298" y="91720"/>
                </a:lnTo>
                <a:lnTo>
                  <a:pt x="4454060" y="91720"/>
                </a:lnTo>
                <a:lnTo>
                  <a:pt x="4448267" y="91720"/>
                </a:lnTo>
                <a:lnTo>
                  <a:pt x="4412570" y="91720"/>
                </a:lnTo>
                <a:lnTo>
                  <a:pt x="4412570" y="80800"/>
                </a:lnTo>
                <a:lnTo>
                  <a:pt x="4412570" y="76690"/>
                </a:lnTo>
                <a:lnTo>
                  <a:pt x="4412570" y="22381"/>
                </a:lnTo>
                <a:lnTo>
                  <a:pt x="4422140" y="22381"/>
                </a:lnTo>
                <a:lnTo>
                  <a:pt x="4429538" y="22381"/>
                </a:lnTo>
                <a:lnTo>
                  <a:pt x="4500286" y="22381"/>
                </a:lnTo>
                <a:lnTo>
                  <a:pt x="4500286" y="30356"/>
                </a:lnTo>
                <a:lnTo>
                  <a:pt x="4500286" y="37353"/>
                </a:lnTo>
                <a:lnTo>
                  <a:pt x="4500286" y="129237"/>
                </a:lnTo>
                <a:lnTo>
                  <a:pt x="4490892" y="129237"/>
                </a:lnTo>
                <a:lnTo>
                  <a:pt x="4484963" y="129237"/>
                </a:lnTo>
                <a:lnTo>
                  <a:pt x="4374056" y="129237"/>
                </a:lnTo>
                <a:lnTo>
                  <a:pt x="4374056" y="1"/>
                </a:lnTo>
                <a:lnTo>
                  <a:pt x="4245281" y="1"/>
                </a:lnTo>
                <a:lnTo>
                  <a:pt x="4245281" y="113636"/>
                </a:lnTo>
                <a:lnTo>
                  <a:pt x="4338575" y="113636"/>
                </a:lnTo>
                <a:lnTo>
                  <a:pt x="4338575" y="37353"/>
                </a:lnTo>
                <a:lnTo>
                  <a:pt x="4283150" y="37353"/>
                </a:lnTo>
                <a:lnTo>
                  <a:pt x="4283150" y="76690"/>
                </a:lnTo>
                <a:lnTo>
                  <a:pt x="4301879" y="76690"/>
                </a:lnTo>
                <a:lnTo>
                  <a:pt x="4301879" y="58372"/>
                </a:lnTo>
                <a:lnTo>
                  <a:pt x="4316910" y="58372"/>
                </a:lnTo>
                <a:lnTo>
                  <a:pt x="4316910" y="91720"/>
                </a:lnTo>
                <a:lnTo>
                  <a:pt x="4307672" y="91720"/>
                </a:lnTo>
                <a:lnTo>
                  <a:pt x="4301879" y="91720"/>
                </a:lnTo>
                <a:lnTo>
                  <a:pt x="4266182" y="91720"/>
                </a:lnTo>
                <a:lnTo>
                  <a:pt x="4266182" y="80800"/>
                </a:lnTo>
                <a:lnTo>
                  <a:pt x="4266182" y="76690"/>
                </a:lnTo>
                <a:lnTo>
                  <a:pt x="4266182" y="22381"/>
                </a:lnTo>
                <a:lnTo>
                  <a:pt x="4275752" y="22381"/>
                </a:lnTo>
                <a:lnTo>
                  <a:pt x="4283150" y="22381"/>
                </a:lnTo>
                <a:lnTo>
                  <a:pt x="4353898" y="22381"/>
                </a:lnTo>
                <a:lnTo>
                  <a:pt x="4353898" y="30356"/>
                </a:lnTo>
                <a:lnTo>
                  <a:pt x="4353898" y="37353"/>
                </a:lnTo>
                <a:lnTo>
                  <a:pt x="4353898" y="129237"/>
                </a:lnTo>
                <a:lnTo>
                  <a:pt x="4344504" y="129237"/>
                </a:lnTo>
                <a:lnTo>
                  <a:pt x="4338575" y="129237"/>
                </a:lnTo>
                <a:lnTo>
                  <a:pt x="4227667" y="129237"/>
                </a:lnTo>
                <a:lnTo>
                  <a:pt x="4227667" y="0"/>
                </a:lnTo>
                <a:lnTo>
                  <a:pt x="4098892" y="0"/>
                </a:lnTo>
                <a:lnTo>
                  <a:pt x="4098892" y="113635"/>
                </a:lnTo>
                <a:lnTo>
                  <a:pt x="4192186" y="113635"/>
                </a:lnTo>
                <a:lnTo>
                  <a:pt x="4192186" y="37352"/>
                </a:lnTo>
                <a:lnTo>
                  <a:pt x="4136761" y="37352"/>
                </a:lnTo>
                <a:lnTo>
                  <a:pt x="4136761" y="76689"/>
                </a:lnTo>
                <a:lnTo>
                  <a:pt x="4155490" y="76689"/>
                </a:lnTo>
                <a:lnTo>
                  <a:pt x="4155490" y="58371"/>
                </a:lnTo>
                <a:lnTo>
                  <a:pt x="4170521" y="58371"/>
                </a:lnTo>
                <a:lnTo>
                  <a:pt x="4170521" y="91719"/>
                </a:lnTo>
                <a:lnTo>
                  <a:pt x="4161283" y="91719"/>
                </a:lnTo>
                <a:lnTo>
                  <a:pt x="4155490" y="91719"/>
                </a:lnTo>
                <a:lnTo>
                  <a:pt x="4119793" y="91719"/>
                </a:lnTo>
                <a:lnTo>
                  <a:pt x="4119793" y="80799"/>
                </a:lnTo>
                <a:lnTo>
                  <a:pt x="4119793" y="76689"/>
                </a:lnTo>
                <a:lnTo>
                  <a:pt x="4119793" y="22380"/>
                </a:lnTo>
                <a:lnTo>
                  <a:pt x="4129363" y="22380"/>
                </a:lnTo>
                <a:lnTo>
                  <a:pt x="4136761" y="22380"/>
                </a:lnTo>
                <a:lnTo>
                  <a:pt x="4207509" y="22380"/>
                </a:lnTo>
                <a:lnTo>
                  <a:pt x="4207509" y="30355"/>
                </a:lnTo>
                <a:lnTo>
                  <a:pt x="4207509" y="37352"/>
                </a:lnTo>
                <a:lnTo>
                  <a:pt x="4207509" y="129236"/>
                </a:lnTo>
                <a:lnTo>
                  <a:pt x="4198115" y="129236"/>
                </a:lnTo>
                <a:lnTo>
                  <a:pt x="4192186" y="129236"/>
                </a:lnTo>
                <a:lnTo>
                  <a:pt x="4081279" y="129236"/>
                </a:lnTo>
                <a:lnTo>
                  <a:pt x="4081279" y="0"/>
                </a:lnTo>
                <a:lnTo>
                  <a:pt x="3952504" y="0"/>
                </a:lnTo>
                <a:lnTo>
                  <a:pt x="3952504" y="113635"/>
                </a:lnTo>
                <a:lnTo>
                  <a:pt x="4045798" y="113635"/>
                </a:lnTo>
                <a:lnTo>
                  <a:pt x="4045798" y="37352"/>
                </a:lnTo>
                <a:lnTo>
                  <a:pt x="3990373" y="37352"/>
                </a:lnTo>
                <a:lnTo>
                  <a:pt x="3990373" y="76689"/>
                </a:lnTo>
                <a:lnTo>
                  <a:pt x="4009102" y="76689"/>
                </a:lnTo>
                <a:lnTo>
                  <a:pt x="4009102" y="58371"/>
                </a:lnTo>
                <a:lnTo>
                  <a:pt x="4024133" y="58371"/>
                </a:lnTo>
                <a:lnTo>
                  <a:pt x="4024133" y="91719"/>
                </a:lnTo>
                <a:lnTo>
                  <a:pt x="4014895" y="91719"/>
                </a:lnTo>
                <a:lnTo>
                  <a:pt x="4009102" y="91719"/>
                </a:lnTo>
                <a:lnTo>
                  <a:pt x="3973405" y="91719"/>
                </a:lnTo>
                <a:lnTo>
                  <a:pt x="3973405" y="80799"/>
                </a:lnTo>
                <a:lnTo>
                  <a:pt x="3973405" y="76689"/>
                </a:lnTo>
                <a:lnTo>
                  <a:pt x="3973405" y="22380"/>
                </a:lnTo>
                <a:lnTo>
                  <a:pt x="3982975" y="22380"/>
                </a:lnTo>
                <a:lnTo>
                  <a:pt x="3990373" y="22380"/>
                </a:lnTo>
                <a:lnTo>
                  <a:pt x="4061121" y="22380"/>
                </a:lnTo>
                <a:lnTo>
                  <a:pt x="4061121" y="30355"/>
                </a:lnTo>
                <a:lnTo>
                  <a:pt x="4061121" y="37352"/>
                </a:lnTo>
                <a:lnTo>
                  <a:pt x="4061121" y="129236"/>
                </a:lnTo>
                <a:lnTo>
                  <a:pt x="4051727" y="129236"/>
                </a:lnTo>
                <a:lnTo>
                  <a:pt x="4045798" y="129236"/>
                </a:lnTo>
                <a:lnTo>
                  <a:pt x="3934890" y="129236"/>
                </a:lnTo>
                <a:lnTo>
                  <a:pt x="3934890" y="0"/>
                </a:lnTo>
                <a:lnTo>
                  <a:pt x="3806115" y="0"/>
                </a:lnTo>
                <a:lnTo>
                  <a:pt x="3806115" y="113635"/>
                </a:lnTo>
                <a:lnTo>
                  <a:pt x="3899409" y="113635"/>
                </a:lnTo>
                <a:lnTo>
                  <a:pt x="3899409" y="37352"/>
                </a:lnTo>
                <a:lnTo>
                  <a:pt x="3843984" y="37352"/>
                </a:lnTo>
                <a:lnTo>
                  <a:pt x="3843984" y="76689"/>
                </a:lnTo>
                <a:lnTo>
                  <a:pt x="3862713" y="76689"/>
                </a:lnTo>
                <a:lnTo>
                  <a:pt x="3862713" y="58371"/>
                </a:lnTo>
                <a:lnTo>
                  <a:pt x="3877744" y="58371"/>
                </a:lnTo>
                <a:lnTo>
                  <a:pt x="3877744" y="91719"/>
                </a:lnTo>
                <a:lnTo>
                  <a:pt x="3868506" y="91719"/>
                </a:lnTo>
                <a:lnTo>
                  <a:pt x="3862713" y="91719"/>
                </a:lnTo>
                <a:lnTo>
                  <a:pt x="3827016" y="91719"/>
                </a:lnTo>
                <a:lnTo>
                  <a:pt x="3827016" y="80799"/>
                </a:lnTo>
                <a:lnTo>
                  <a:pt x="3827016" y="76689"/>
                </a:lnTo>
                <a:lnTo>
                  <a:pt x="3827016" y="22380"/>
                </a:lnTo>
                <a:lnTo>
                  <a:pt x="3836586" y="22380"/>
                </a:lnTo>
                <a:lnTo>
                  <a:pt x="3843984" y="22380"/>
                </a:lnTo>
                <a:lnTo>
                  <a:pt x="3914732" y="22380"/>
                </a:lnTo>
                <a:lnTo>
                  <a:pt x="3914732" y="30355"/>
                </a:lnTo>
                <a:lnTo>
                  <a:pt x="3914732" y="37352"/>
                </a:lnTo>
                <a:lnTo>
                  <a:pt x="3914732" y="129236"/>
                </a:lnTo>
                <a:lnTo>
                  <a:pt x="3905338" y="129236"/>
                </a:lnTo>
                <a:lnTo>
                  <a:pt x="3899409" y="129236"/>
                </a:lnTo>
                <a:lnTo>
                  <a:pt x="3788503" y="129236"/>
                </a:lnTo>
                <a:lnTo>
                  <a:pt x="3788503" y="0"/>
                </a:lnTo>
                <a:lnTo>
                  <a:pt x="3659728" y="0"/>
                </a:lnTo>
                <a:lnTo>
                  <a:pt x="3659728" y="113635"/>
                </a:lnTo>
                <a:lnTo>
                  <a:pt x="3753022" y="113635"/>
                </a:lnTo>
                <a:lnTo>
                  <a:pt x="3753022" y="37352"/>
                </a:lnTo>
                <a:lnTo>
                  <a:pt x="3697597" y="37352"/>
                </a:lnTo>
                <a:lnTo>
                  <a:pt x="3697597" y="76689"/>
                </a:lnTo>
                <a:lnTo>
                  <a:pt x="3716326" y="76689"/>
                </a:lnTo>
                <a:lnTo>
                  <a:pt x="3716326" y="58371"/>
                </a:lnTo>
                <a:lnTo>
                  <a:pt x="3731357" y="58371"/>
                </a:lnTo>
                <a:lnTo>
                  <a:pt x="3731357" y="91719"/>
                </a:lnTo>
                <a:lnTo>
                  <a:pt x="3722119" y="91719"/>
                </a:lnTo>
                <a:lnTo>
                  <a:pt x="3716326" y="91719"/>
                </a:lnTo>
                <a:lnTo>
                  <a:pt x="3680629" y="91719"/>
                </a:lnTo>
                <a:lnTo>
                  <a:pt x="3680629" y="80799"/>
                </a:lnTo>
                <a:lnTo>
                  <a:pt x="3680629" y="76689"/>
                </a:lnTo>
                <a:lnTo>
                  <a:pt x="3680629" y="22380"/>
                </a:lnTo>
                <a:lnTo>
                  <a:pt x="3690199" y="22380"/>
                </a:lnTo>
                <a:lnTo>
                  <a:pt x="3697597" y="22380"/>
                </a:lnTo>
                <a:lnTo>
                  <a:pt x="3768345" y="22380"/>
                </a:lnTo>
                <a:lnTo>
                  <a:pt x="3768345" y="30355"/>
                </a:lnTo>
                <a:lnTo>
                  <a:pt x="3768345" y="37352"/>
                </a:lnTo>
                <a:lnTo>
                  <a:pt x="3768345" y="129236"/>
                </a:lnTo>
                <a:lnTo>
                  <a:pt x="3758951" y="129236"/>
                </a:lnTo>
                <a:lnTo>
                  <a:pt x="3753022" y="129236"/>
                </a:lnTo>
                <a:lnTo>
                  <a:pt x="3642114" y="129236"/>
                </a:lnTo>
                <a:lnTo>
                  <a:pt x="3642114" y="0"/>
                </a:lnTo>
                <a:lnTo>
                  <a:pt x="3513339" y="0"/>
                </a:lnTo>
                <a:lnTo>
                  <a:pt x="3513339" y="113635"/>
                </a:lnTo>
                <a:lnTo>
                  <a:pt x="3606633" y="113635"/>
                </a:lnTo>
                <a:lnTo>
                  <a:pt x="3606633" y="37352"/>
                </a:lnTo>
                <a:lnTo>
                  <a:pt x="3551208" y="37352"/>
                </a:lnTo>
                <a:lnTo>
                  <a:pt x="3551208" y="76689"/>
                </a:lnTo>
                <a:lnTo>
                  <a:pt x="3569937" y="76689"/>
                </a:lnTo>
                <a:lnTo>
                  <a:pt x="3569937" y="58371"/>
                </a:lnTo>
                <a:lnTo>
                  <a:pt x="3584968" y="58371"/>
                </a:lnTo>
                <a:lnTo>
                  <a:pt x="3584968" y="91719"/>
                </a:lnTo>
                <a:lnTo>
                  <a:pt x="3575730" y="91719"/>
                </a:lnTo>
                <a:lnTo>
                  <a:pt x="3569937" y="91719"/>
                </a:lnTo>
                <a:lnTo>
                  <a:pt x="3534240" y="91719"/>
                </a:lnTo>
                <a:lnTo>
                  <a:pt x="3534240" y="80799"/>
                </a:lnTo>
                <a:lnTo>
                  <a:pt x="3534240" y="76689"/>
                </a:lnTo>
                <a:lnTo>
                  <a:pt x="3534240" y="22380"/>
                </a:lnTo>
                <a:lnTo>
                  <a:pt x="3543810" y="22380"/>
                </a:lnTo>
                <a:lnTo>
                  <a:pt x="3551208" y="22380"/>
                </a:lnTo>
                <a:lnTo>
                  <a:pt x="3621956" y="22380"/>
                </a:lnTo>
                <a:lnTo>
                  <a:pt x="3621956" y="30355"/>
                </a:lnTo>
                <a:lnTo>
                  <a:pt x="3621956" y="37352"/>
                </a:lnTo>
                <a:lnTo>
                  <a:pt x="3621956" y="129236"/>
                </a:lnTo>
                <a:lnTo>
                  <a:pt x="3612562" y="129236"/>
                </a:lnTo>
                <a:lnTo>
                  <a:pt x="3606633" y="129236"/>
                </a:lnTo>
                <a:lnTo>
                  <a:pt x="3495726" y="129236"/>
                </a:lnTo>
                <a:lnTo>
                  <a:pt x="3495726" y="0"/>
                </a:lnTo>
                <a:lnTo>
                  <a:pt x="3366951" y="0"/>
                </a:lnTo>
                <a:lnTo>
                  <a:pt x="3366951" y="113635"/>
                </a:lnTo>
                <a:lnTo>
                  <a:pt x="3460245" y="113635"/>
                </a:lnTo>
                <a:lnTo>
                  <a:pt x="3460245" y="37352"/>
                </a:lnTo>
                <a:lnTo>
                  <a:pt x="3404820" y="37352"/>
                </a:lnTo>
                <a:lnTo>
                  <a:pt x="3404820" y="76689"/>
                </a:lnTo>
                <a:lnTo>
                  <a:pt x="3423549" y="76689"/>
                </a:lnTo>
                <a:lnTo>
                  <a:pt x="3423549" y="58371"/>
                </a:lnTo>
                <a:lnTo>
                  <a:pt x="3438580" y="58371"/>
                </a:lnTo>
                <a:lnTo>
                  <a:pt x="3438580" y="91719"/>
                </a:lnTo>
                <a:lnTo>
                  <a:pt x="3429342" y="91719"/>
                </a:lnTo>
                <a:lnTo>
                  <a:pt x="3423549" y="91719"/>
                </a:lnTo>
                <a:lnTo>
                  <a:pt x="3387852" y="91719"/>
                </a:lnTo>
                <a:lnTo>
                  <a:pt x="3387852" y="80799"/>
                </a:lnTo>
                <a:lnTo>
                  <a:pt x="3387852" y="76689"/>
                </a:lnTo>
                <a:lnTo>
                  <a:pt x="3387852" y="22380"/>
                </a:lnTo>
                <a:lnTo>
                  <a:pt x="3397422" y="22380"/>
                </a:lnTo>
                <a:lnTo>
                  <a:pt x="3404820" y="22380"/>
                </a:lnTo>
                <a:lnTo>
                  <a:pt x="3475568" y="22380"/>
                </a:lnTo>
                <a:lnTo>
                  <a:pt x="3475568" y="30355"/>
                </a:lnTo>
                <a:lnTo>
                  <a:pt x="3475568" y="37352"/>
                </a:lnTo>
                <a:lnTo>
                  <a:pt x="3475568" y="129236"/>
                </a:lnTo>
                <a:lnTo>
                  <a:pt x="3466174" y="129236"/>
                </a:lnTo>
                <a:lnTo>
                  <a:pt x="3460245" y="129236"/>
                </a:lnTo>
                <a:lnTo>
                  <a:pt x="3349338" y="129236"/>
                </a:lnTo>
                <a:lnTo>
                  <a:pt x="3349338" y="0"/>
                </a:lnTo>
                <a:lnTo>
                  <a:pt x="3220563" y="0"/>
                </a:lnTo>
                <a:lnTo>
                  <a:pt x="3220563" y="113635"/>
                </a:lnTo>
                <a:lnTo>
                  <a:pt x="3313856" y="113635"/>
                </a:lnTo>
                <a:lnTo>
                  <a:pt x="3313856" y="37352"/>
                </a:lnTo>
                <a:lnTo>
                  <a:pt x="3258432" y="37352"/>
                </a:lnTo>
                <a:lnTo>
                  <a:pt x="3258432" y="76689"/>
                </a:lnTo>
                <a:lnTo>
                  <a:pt x="3277162" y="76689"/>
                </a:lnTo>
                <a:lnTo>
                  <a:pt x="3277162" y="58371"/>
                </a:lnTo>
                <a:lnTo>
                  <a:pt x="3292192" y="58371"/>
                </a:lnTo>
                <a:lnTo>
                  <a:pt x="3292192" y="91719"/>
                </a:lnTo>
                <a:lnTo>
                  <a:pt x="3282954" y="91719"/>
                </a:lnTo>
                <a:lnTo>
                  <a:pt x="3277162" y="91719"/>
                </a:lnTo>
                <a:lnTo>
                  <a:pt x="3241464" y="91719"/>
                </a:lnTo>
                <a:lnTo>
                  <a:pt x="3241464" y="80799"/>
                </a:lnTo>
                <a:lnTo>
                  <a:pt x="3241464" y="76689"/>
                </a:lnTo>
                <a:lnTo>
                  <a:pt x="3241464" y="22380"/>
                </a:lnTo>
                <a:lnTo>
                  <a:pt x="3251035" y="22380"/>
                </a:lnTo>
                <a:lnTo>
                  <a:pt x="3258432" y="22380"/>
                </a:lnTo>
                <a:lnTo>
                  <a:pt x="3329181" y="22380"/>
                </a:lnTo>
                <a:lnTo>
                  <a:pt x="3329181" y="30355"/>
                </a:lnTo>
                <a:lnTo>
                  <a:pt x="3329181" y="37352"/>
                </a:lnTo>
                <a:lnTo>
                  <a:pt x="3329181" y="129236"/>
                </a:lnTo>
                <a:lnTo>
                  <a:pt x="3319787" y="129236"/>
                </a:lnTo>
                <a:lnTo>
                  <a:pt x="3313856" y="129236"/>
                </a:lnTo>
                <a:lnTo>
                  <a:pt x="3202952" y="129236"/>
                </a:lnTo>
                <a:lnTo>
                  <a:pt x="3202952" y="0"/>
                </a:lnTo>
                <a:lnTo>
                  <a:pt x="3074175" y="0"/>
                </a:lnTo>
                <a:lnTo>
                  <a:pt x="3074175" y="113635"/>
                </a:lnTo>
                <a:lnTo>
                  <a:pt x="3167470" y="113635"/>
                </a:lnTo>
                <a:lnTo>
                  <a:pt x="3167470" y="37352"/>
                </a:lnTo>
                <a:lnTo>
                  <a:pt x="3112046" y="37352"/>
                </a:lnTo>
                <a:lnTo>
                  <a:pt x="3112046" y="76689"/>
                </a:lnTo>
                <a:lnTo>
                  <a:pt x="3130774" y="76689"/>
                </a:lnTo>
                <a:lnTo>
                  <a:pt x="3130774" y="58371"/>
                </a:lnTo>
                <a:lnTo>
                  <a:pt x="3145804" y="58371"/>
                </a:lnTo>
                <a:lnTo>
                  <a:pt x="3145804" y="91719"/>
                </a:lnTo>
                <a:lnTo>
                  <a:pt x="3136568" y="91719"/>
                </a:lnTo>
                <a:lnTo>
                  <a:pt x="3130774" y="91719"/>
                </a:lnTo>
                <a:lnTo>
                  <a:pt x="3095076" y="91719"/>
                </a:lnTo>
                <a:lnTo>
                  <a:pt x="3095076" y="80799"/>
                </a:lnTo>
                <a:lnTo>
                  <a:pt x="3095076" y="76689"/>
                </a:lnTo>
                <a:lnTo>
                  <a:pt x="3095076" y="22380"/>
                </a:lnTo>
                <a:lnTo>
                  <a:pt x="3104648" y="22380"/>
                </a:lnTo>
                <a:lnTo>
                  <a:pt x="3112046" y="22380"/>
                </a:lnTo>
                <a:lnTo>
                  <a:pt x="3182793" y="22380"/>
                </a:lnTo>
                <a:lnTo>
                  <a:pt x="3182793" y="30355"/>
                </a:lnTo>
                <a:lnTo>
                  <a:pt x="3182793" y="37352"/>
                </a:lnTo>
                <a:lnTo>
                  <a:pt x="3182793" y="129236"/>
                </a:lnTo>
                <a:lnTo>
                  <a:pt x="3173400" y="129236"/>
                </a:lnTo>
                <a:lnTo>
                  <a:pt x="3167470" y="129236"/>
                </a:lnTo>
                <a:lnTo>
                  <a:pt x="3056563" y="129236"/>
                </a:lnTo>
                <a:lnTo>
                  <a:pt x="3056563" y="0"/>
                </a:lnTo>
                <a:lnTo>
                  <a:pt x="2927788" y="0"/>
                </a:lnTo>
                <a:lnTo>
                  <a:pt x="2927788" y="113635"/>
                </a:lnTo>
                <a:lnTo>
                  <a:pt x="3021080" y="113635"/>
                </a:lnTo>
                <a:lnTo>
                  <a:pt x="3021080" y="37352"/>
                </a:lnTo>
                <a:lnTo>
                  <a:pt x="2965657" y="37352"/>
                </a:lnTo>
                <a:lnTo>
                  <a:pt x="2965657" y="76689"/>
                </a:lnTo>
                <a:lnTo>
                  <a:pt x="2984386" y="76689"/>
                </a:lnTo>
                <a:lnTo>
                  <a:pt x="2984386" y="58371"/>
                </a:lnTo>
                <a:lnTo>
                  <a:pt x="2999417" y="58371"/>
                </a:lnTo>
                <a:lnTo>
                  <a:pt x="2999417" y="91719"/>
                </a:lnTo>
                <a:lnTo>
                  <a:pt x="2990179" y="91719"/>
                </a:lnTo>
                <a:lnTo>
                  <a:pt x="2984386" y="91719"/>
                </a:lnTo>
                <a:lnTo>
                  <a:pt x="2948689" y="91719"/>
                </a:lnTo>
                <a:lnTo>
                  <a:pt x="2948689" y="80799"/>
                </a:lnTo>
                <a:lnTo>
                  <a:pt x="2948689" y="76689"/>
                </a:lnTo>
                <a:lnTo>
                  <a:pt x="2948689" y="22380"/>
                </a:lnTo>
                <a:lnTo>
                  <a:pt x="2958259" y="22380"/>
                </a:lnTo>
                <a:lnTo>
                  <a:pt x="2965657" y="22380"/>
                </a:lnTo>
                <a:lnTo>
                  <a:pt x="3036405" y="22380"/>
                </a:lnTo>
                <a:lnTo>
                  <a:pt x="3036405" y="30355"/>
                </a:lnTo>
                <a:lnTo>
                  <a:pt x="3036405" y="37352"/>
                </a:lnTo>
                <a:lnTo>
                  <a:pt x="3036405" y="129236"/>
                </a:lnTo>
                <a:lnTo>
                  <a:pt x="3027010" y="129236"/>
                </a:lnTo>
                <a:lnTo>
                  <a:pt x="3021080" y="129236"/>
                </a:lnTo>
                <a:lnTo>
                  <a:pt x="2910175" y="129236"/>
                </a:lnTo>
                <a:lnTo>
                  <a:pt x="2910175" y="0"/>
                </a:lnTo>
                <a:lnTo>
                  <a:pt x="2781398" y="0"/>
                </a:lnTo>
                <a:lnTo>
                  <a:pt x="2781398" y="113635"/>
                </a:lnTo>
                <a:lnTo>
                  <a:pt x="2874693" y="113635"/>
                </a:lnTo>
                <a:lnTo>
                  <a:pt x="2874693" y="37352"/>
                </a:lnTo>
                <a:lnTo>
                  <a:pt x="2819269" y="37352"/>
                </a:lnTo>
                <a:lnTo>
                  <a:pt x="2819269" y="76689"/>
                </a:lnTo>
                <a:lnTo>
                  <a:pt x="2837998" y="76689"/>
                </a:lnTo>
                <a:lnTo>
                  <a:pt x="2837998" y="58371"/>
                </a:lnTo>
                <a:lnTo>
                  <a:pt x="2853028" y="58371"/>
                </a:lnTo>
                <a:lnTo>
                  <a:pt x="2853028" y="91719"/>
                </a:lnTo>
                <a:lnTo>
                  <a:pt x="2843791" y="91719"/>
                </a:lnTo>
                <a:lnTo>
                  <a:pt x="2837998" y="91719"/>
                </a:lnTo>
                <a:lnTo>
                  <a:pt x="2802301" y="91719"/>
                </a:lnTo>
                <a:lnTo>
                  <a:pt x="2802301" y="80799"/>
                </a:lnTo>
                <a:lnTo>
                  <a:pt x="2802301" y="76689"/>
                </a:lnTo>
                <a:lnTo>
                  <a:pt x="2802301" y="22380"/>
                </a:lnTo>
                <a:lnTo>
                  <a:pt x="2811870" y="22380"/>
                </a:lnTo>
                <a:lnTo>
                  <a:pt x="2819269" y="22380"/>
                </a:lnTo>
                <a:lnTo>
                  <a:pt x="2890017" y="22380"/>
                </a:lnTo>
                <a:lnTo>
                  <a:pt x="2890017" y="30355"/>
                </a:lnTo>
                <a:lnTo>
                  <a:pt x="2890017" y="37352"/>
                </a:lnTo>
                <a:lnTo>
                  <a:pt x="2890017" y="129236"/>
                </a:lnTo>
                <a:lnTo>
                  <a:pt x="2880623" y="129236"/>
                </a:lnTo>
                <a:lnTo>
                  <a:pt x="2874693" y="129236"/>
                </a:lnTo>
                <a:lnTo>
                  <a:pt x="2763786" y="129236"/>
                </a:lnTo>
                <a:lnTo>
                  <a:pt x="2763786" y="0"/>
                </a:lnTo>
                <a:lnTo>
                  <a:pt x="2635010" y="0"/>
                </a:lnTo>
                <a:lnTo>
                  <a:pt x="2635010" y="113635"/>
                </a:lnTo>
                <a:lnTo>
                  <a:pt x="2728303" y="113635"/>
                </a:lnTo>
                <a:lnTo>
                  <a:pt x="2728303" y="37352"/>
                </a:lnTo>
                <a:lnTo>
                  <a:pt x="2672880" y="37352"/>
                </a:lnTo>
                <a:lnTo>
                  <a:pt x="2672880" y="76689"/>
                </a:lnTo>
                <a:lnTo>
                  <a:pt x="2691609" y="76689"/>
                </a:lnTo>
                <a:lnTo>
                  <a:pt x="2691609" y="58371"/>
                </a:lnTo>
                <a:lnTo>
                  <a:pt x="2706639" y="58371"/>
                </a:lnTo>
                <a:lnTo>
                  <a:pt x="2706639" y="91719"/>
                </a:lnTo>
                <a:lnTo>
                  <a:pt x="2697401" y="91719"/>
                </a:lnTo>
                <a:lnTo>
                  <a:pt x="2691609" y="91719"/>
                </a:lnTo>
                <a:lnTo>
                  <a:pt x="2655911" y="91719"/>
                </a:lnTo>
                <a:lnTo>
                  <a:pt x="2655911" y="80799"/>
                </a:lnTo>
                <a:lnTo>
                  <a:pt x="2655911" y="76689"/>
                </a:lnTo>
                <a:lnTo>
                  <a:pt x="2655911" y="22380"/>
                </a:lnTo>
                <a:lnTo>
                  <a:pt x="2665482" y="22380"/>
                </a:lnTo>
                <a:lnTo>
                  <a:pt x="2672880" y="22380"/>
                </a:lnTo>
                <a:lnTo>
                  <a:pt x="2743628" y="22380"/>
                </a:lnTo>
                <a:lnTo>
                  <a:pt x="2743628" y="30355"/>
                </a:lnTo>
                <a:lnTo>
                  <a:pt x="2743628" y="37352"/>
                </a:lnTo>
                <a:lnTo>
                  <a:pt x="2743628" y="129236"/>
                </a:lnTo>
                <a:lnTo>
                  <a:pt x="2734234" y="129236"/>
                </a:lnTo>
                <a:lnTo>
                  <a:pt x="2728303" y="129236"/>
                </a:lnTo>
                <a:lnTo>
                  <a:pt x="2617398" y="129236"/>
                </a:lnTo>
                <a:lnTo>
                  <a:pt x="2617398" y="0"/>
                </a:lnTo>
                <a:lnTo>
                  <a:pt x="2488624" y="0"/>
                </a:lnTo>
                <a:lnTo>
                  <a:pt x="2488624" y="113635"/>
                </a:lnTo>
                <a:lnTo>
                  <a:pt x="2581917" y="113635"/>
                </a:lnTo>
                <a:lnTo>
                  <a:pt x="2581917" y="37352"/>
                </a:lnTo>
                <a:lnTo>
                  <a:pt x="2526492" y="37352"/>
                </a:lnTo>
                <a:lnTo>
                  <a:pt x="2526492" y="76689"/>
                </a:lnTo>
                <a:lnTo>
                  <a:pt x="2545221" y="76689"/>
                </a:lnTo>
                <a:lnTo>
                  <a:pt x="2545221" y="58371"/>
                </a:lnTo>
                <a:lnTo>
                  <a:pt x="2560252" y="58371"/>
                </a:lnTo>
                <a:lnTo>
                  <a:pt x="2560252" y="91719"/>
                </a:lnTo>
                <a:lnTo>
                  <a:pt x="2551014" y="91719"/>
                </a:lnTo>
                <a:lnTo>
                  <a:pt x="2545221" y="91719"/>
                </a:lnTo>
                <a:lnTo>
                  <a:pt x="2509526" y="91719"/>
                </a:lnTo>
                <a:lnTo>
                  <a:pt x="2509526" y="80799"/>
                </a:lnTo>
                <a:lnTo>
                  <a:pt x="2509526" y="76689"/>
                </a:lnTo>
                <a:lnTo>
                  <a:pt x="2509526" y="22380"/>
                </a:lnTo>
                <a:lnTo>
                  <a:pt x="2519095" y="22380"/>
                </a:lnTo>
                <a:lnTo>
                  <a:pt x="2526492" y="22380"/>
                </a:lnTo>
                <a:lnTo>
                  <a:pt x="2597240" y="22380"/>
                </a:lnTo>
                <a:lnTo>
                  <a:pt x="2597240" y="30355"/>
                </a:lnTo>
                <a:lnTo>
                  <a:pt x="2597240" y="37352"/>
                </a:lnTo>
                <a:lnTo>
                  <a:pt x="2597240" y="129236"/>
                </a:lnTo>
                <a:lnTo>
                  <a:pt x="2587847" y="129236"/>
                </a:lnTo>
                <a:lnTo>
                  <a:pt x="2581917" y="129236"/>
                </a:lnTo>
                <a:lnTo>
                  <a:pt x="2471010" y="129236"/>
                </a:lnTo>
                <a:lnTo>
                  <a:pt x="2471010" y="0"/>
                </a:lnTo>
                <a:lnTo>
                  <a:pt x="2342234" y="0"/>
                </a:lnTo>
                <a:lnTo>
                  <a:pt x="2342234" y="113635"/>
                </a:lnTo>
                <a:lnTo>
                  <a:pt x="2435529" y="113635"/>
                </a:lnTo>
                <a:lnTo>
                  <a:pt x="2435529" y="37352"/>
                </a:lnTo>
                <a:lnTo>
                  <a:pt x="2380104" y="37352"/>
                </a:lnTo>
                <a:lnTo>
                  <a:pt x="2380104" y="76689"/>
                </a:lnTo>
                <a:lnTo>
                  <a:pt x="2398833" y="76689"/>
                </a:lnTo>
                <a:lnTo>
                  <a:pt x="2398833" y="58371"/>
                </a:lnTo>
                <a:lnTo>
                  <a:pt x="2413863" y="58371"/>
                </a:lnTo>
                <a:lnTo>
                  <a:pt x="2413863" y="91719"/>
                </a:lnTo>
                <a:lnTo>
                  <a:pt x="2404626" y="91719"/>
                </a:lnTo>
                <a:lnTo>
                  <a:pt x="2398833" y="91719"/>
                </a:lnTo>
                <a:lnTo>
                  <a:pt x="2363136" y="91719"/>
                </a:lnTo>
                <a:lnTo>
                  <a:pt x="2363136" y="80799"/>
                </a:lnTo>
                <a:lnTo>
                  <a:pt x="2363136" y="76689"/>
                </a:lnTo>
                <a:lnTo>
                  <a:pt x="2363136" y="22380"/>
                </a:lnTo>
                <a:lnTo>
                  <a:pt x="2372705" y="22380"/>
                </a:lnTo>
                <a:lnTo>
                  <a:pt x="2380104" y="22380"/>
                </a:lnTo>
                <a:lnTo>
                  <a:pt x="2450851" y="22380"/>
                </a:lnTo>
                <a:lnTo>
                  <a:pt x="2450851" y="30355"/>
                </a:lnTo>
                <a:lnTo>
                  <a:pt x="2450851" y="37352"/>
                </a:lnTo>
                <a:lnTo>
                  <a:pt x="2450851" y="129236"/>
                </a:lnTo>
                <a:lnTo>
                  <a:pt x="2441458" y="129236"/>
                </a:lnTo>
                <a:lnTo>
                  <a:pt x="2435529" y="129236"/>
                </a:lnTo>
                <a:lnTo>
                  <a:pt x="2324621" y="129236"/>
                </a:lnTo>
                <a:lnTo>
                  <a:pt x="2324621" y="0"/>
                </a:lnTo>
                <a:lnTo>
                  <a:pt x="2195846" y="0"/>
                </a:lnTo>
                <a:lnTo>
                  <a:pt x="2195846" y="113635"/>
                </a:lnTo>
                <a:lnTo>
                  <a:pt x="2289140" y="113635"/>
                </a:lnTo>
                <a:lnTo>
                  <a:pt x="2289140" y="37352"/>
                </a:lnTo>
                <a:lnTo>
                  <a:pt x="2233716" y="37352"/>
                </a:lnTo>
                <a:lnTo>
                  <a:pt x="2233716" y="76689"/>
                </a:lnTo>
                <a:lnTo>
                  <a:pt x="2252444" y="76689"/>
                </a:lnTo>
                <a:lnTo>
                  <a:pt x="2252444" y="58371"/>
                </a:lnTo>
                <a:lnTo>
                  <a:pt x="2267474" y="58371"/>
                </a:lnTo>
                <a:lnTo>
                  <a:pt x="2267474" y="91719"/>
                </a:lnTo>
                <a:lnTo>
                  <a:pt x="2258237" y="91719"/>
                </a:lnTo>
                <a:lnTo>
                  <a:pt x="2252444" y="91719"/>
                </a:lnTo>
                <a:lnTo>
                  <a:pt x="2216748" y="91719"/>
                </a:lnTo>
                <a:lnTo>
                  <a:pt x="2216748" y="80799"/>
                </a:lnTo>
                <a:lnTo>
                  <a:pt x="2216748" y="76689"/>
                </a:lnTo>
                <a:lnTo>
                  <a:pt x="2216748" y="22380"/>
                </a:lnTo>
                <a:lnTo>
                  <a:pt x="2226317" y="22380"/>
                </a:lnTo>
                <a:lnTo>
                  <a:pt x="2233716" y="22380"/>
                </a:lnTo>
                <a:lnTo>
                  <a:pt x="2304465" y="22380"/>
                </a:lnTo>
                <a:lnTo>
                  <a:pt x="2304465" y="30355"/>
                </a:lnTo>
                <a:lnTo>
                  <a:pt x="2304465" y="37352"/>
                </a:lnTo>
                <a:lnTo>
                  <a:pt x="2304465" y="129236"/>
                </a:lnTo>
                <a:lnTo>
                  <a:pt x="2295070" y="129236"/>
                </a:lnTo>
                <a:lnTo>
                  <a:pt x="2289140" y="129236"/>
                </a:lnTo>
                <a:lnTo>
                  <a:pt x="2178233" y="129236"/>
                </a:lnTo>
                <a:lnTo>
                  <a:pt x="2178233" y="0"/>
                </a:lnTo>
                <a:lnTo>
                  <a:pt x="2049457" y="0"/>
                </a:lnTo>
                <a:lnTo>
                  <a:pt x="2049457" y="113635"/>
                </a:lnTo>
                <a:lnTo>
                  <a:pt x="2142751" y="113635"/>
                </a:lnTo>
                <a:lnTo>
                  <a:pt x="2142751" y="37352"/>
                </a:lnTo>
                <a:lnTo>
                  <a:pt x="2087327" y="37352"/>
                </a:lnTo>
                <a:lnTo>
                  <a:pt x="2087327" y="76689"/>
                </a:lnTo>
                <a:lnTo>
                  <a:pt x="2106056" y="76689"/>
                </a:lnTo>
                <a:lnTo>
                  <a:pt x="2106056" y="58371"/>
                </a:lnTo>
                <a:lnTo>
                  <a:pt x="2121086" y="58371"/>
                </a:lnTo>
                <a:lnTo>
                  <a:pt x="2121086" y="91719"/>
                </a:lnTo>
                <a:lnTo>
                  <a:pt x="2111848" y="91719"/>
                </a:lnTo>
                <a:lnTo>
                  <a:pt x="2106056" y="91719"/>
                </a:lnTo>
                <a:lnTo>
                  <a:pt x="2070359" y="91719"/>
                </a:lnTo>
                <a:lnTo>
                  <a:pt x="2070359" y="80799"/>
                </a:lnTo>
                <a:lnTo>
                  <a:pt x="2070359" y="76689"/>
                </a:lnTo>
                <a:lnTo>
                  <a:pt x="2070359" y="22380"/>
                </a:lnTo>
                <a:lnTo>
                  <a:pt x="2079928" y="22380"/>
                </a:lnTo>
                <a:lnTo>
                  <a:pt x="2087327" y="22380"/>
                </a:lnTo>
                <a:lnTo>
                  <a:pt x="2158076" y="22380"/>
                </a:lnTo>
                <a:lnTo>
                  <a:pt x="2158076" y="30355"/>
                </a:lnTo>
                <a:lnTo>
                  <a:pt x="2158076" y="37352"/>
                </a:lnTo>
                <a:lnTo>
                  <a:pt x="2158076" y="129236"/>
                </a:lnTo>
                <a:lnTo>
                  <a:pt x="2148682" y="129236"/>
                </a:lnTo>
                <a:lnTo>
                  <a:pt x="2142751" y="129236"/>
                </a:lnTo>
                <a:lnTo>
                  <a:pt x="2031846" y="129236"/>
                </a:lnTo>
                <a:lnTo>
                  <a:pt x="2031846" y="0"/>
                </a:lnTo>
                <a:lnTo>
                  <a:pt x="1903070" y="0"/>
                </a:lnTo>
                <a:lnTo>
                  <a:pt x="1903070" y="113635"/>
                </a:lnTo>
                <a:lnTo>
                  <a:pt x="1996364" y="113635"/>
                </a:lnTo>
                <a:lnTo>
                  <a:pt x="1996364" y="37352"/>
                </a:lnTo>
                <a:lnTo>
                  <a:pt x="1940940" y="37352"/>
                </a:lnTo>
                <a:lnTo>
                  <a:pt x="1940940" y="76689"/>
                </a:lnTo>
                <a:lnTo>
                  <a:pt x="1959668" y="76689"/>
                </a:lnTo>
                <a:lnTo>
                  <a:pt x="1959668" y="58371"/>
                </a:lnTo>
                <a:lnTo>
                  <a:pt x="1974699" y="58371"/>
                </a:lnTo>
                <a:lnTo>
                  <a:pt x="1974699" y="91719"/>
                </a:lnTo>
                <a:lnTo>
                  <a:pt x="1965462" y="91719"/>
                </a:lnTo>
                <a:lnTo>
                  <a:pt x="1959668" y="91719"/>
                </a:lnTo>
                <a:lnTo>
                  <a:pt x="1923972" y="91719"/>
                </a:lnTo>
                <a:lnTo>
                  <a:pt x="1923972" y="80799"/>
                </a:lnTo>
                <a:lnTo>
                  <a:pt x="1923972" y="76689"/>
                </a:lnTo>
                <a:lnTo>
                  <a:pt x="1923972" y="22380"/>
                </a:lnTo>
                <a:lnTo>
                  <a:pt x="1933542" y="22380"/>
                </a:lnTo>
                <a:lnTo>
                  <a:pt x="1940940" y="22380"/>
                </a:lnTo>
                <a:lnTo>
                  <a:pt x="2011688" y="22380"/>
                </a:lnTo>
                <a:lnTo>
                  <a:pt x="2011688" y="30355"/>
                </a:lnTo>
                <a:lnTo>
                  <a:pt x="2011688" y="37352"/>
                </a:lnTo>
                <a:lnTo>
                  <a:pt x="2011688" y="129236"/>
                </a:lnTo>
                <a:lnTo>
                  <a:pt x="2002294" y="129236"/>
                </a:lnTo>
                <a:lnTo>
                  <a:pt x="1996364" y="129236"/>
                </a:lnTo>
                <a:lnTo>
                  <a:pt x="1885457" y="129236"/>
                </a:lnTo>
                <a:lnTo>
                  <a:pt x="1885457" y="0"/>
                </a:lnTo>
                <a:lnTo>
                  <a:pt x="1756681" y="0"/>
                </a:lnTo>
                <a:lnTo>
                  <a:pt x="1756681" y="113635"/>
                </a:lnTo>
                <a:lnTo>
                  <a:pt x="1849975" y="113635"/>
                </a:lnTo>
                <a:lnTo>
                  <a:pt x="1849975" y="37352"/>
                </a:lnTo>
                <a:lnTo>
                  <a:pt x="1794551" y="37352"/>
                </a:lnTo>
                <a:lnTo>
                  <a:pt x="1794551" y="76689"/>
                </a:lnTo>
                <a:lnTo>
                  <a:pt x="1813280" y="76689"/>
                </a:lnTo>
                <a:lnTo>
                  <a:pt x="1813280" y="58371"/>
                </a:lnTo>
                <a:lnTo>
                  <a:pt x="1828310" y="58371"/>
                </a:lnTo>
                <a:lnTo>
                  <a:pt x="1828310" y="91719"/>
                </a:lnTo>
                <a:lnTo>
                  <a:pt x="1819073" y="91719"/>
                </a:lnTo>
                <a:lnTo>
                  <a:pt x="1813280" y="91719"/>
                </a:lnTo>
                <a:lnTo>
                  <a:pt x="1777583" y="91719"/>
                </a:lnTo>
                <a:lnTo>
                  <a:pt x="1777583" y="80799"/>
                </a:lnTo>
                <a:lnTo>
                  <a:pt x="1777583" y="76689"/>
                </a:lnTo>
                <a:lnTo>
                  <a:pt x="1777583" y="22380"/>
                </a:lnTo>
                <a:lnTo>
                  <a:pt x="1787153" y="22380"/>
                </a:lnTo>
                <a:lnTo>
                  <a:pt x="1794551" y="22380"/>
                </a:lnTo>
                <a:lnTo>
                  <a:pt x="1865299" y="22380"/>
                </a:lnTo>
                <a:lnTo>
                  <a:pt x="1865299" y="30355"/>
                </a:lnTo>
                <a:lnTo>
                  <a:pt x="1865299" y="37352"/>
                </a:lnTo>
                <a:lnTo>
                  <a:pt x="1865299" y="129236"/>
                </a:lnTo>
                <a:lnTo>
                  <a:pt x="1855906" y="129236"/>
                </a:lnTo>
                <a:lnTo>
                  <a:pt x="1849975" y="129236"/>
                </a:lnTo>
                <a:lnTo>
                  <a:pt x="1739068" y="129236"/>
                </a:lnTo>
                <a:lnTo>
                  <a:pt x="1739068" y="0"/>
                </a:lnTo>
                <a:lnTo>
                  <a:pt x="1610294" y="0"/>
                </a:lnTo>
                <a:lnTo>
                  <a:pt x="1610294" y="113635"/>
                </a:lnTo>
                <a:lnTo>
                  <a:pt x="1703586" y="113635"/>
                </a:lnTo>
                <a:lnTo>
                  <a:pt x="1703586" y="37352"/>
                </a:lnTo>
                <a:lnTo>
                  <a:pt x="1648163" y="37352"/>
                </a:lnTo>
                <a:lnTo>
                  <a:pt x="1648163" y="76689"/>
                </a:lnTo>
                <a:lnTo>
                  <a:pt x="1666891" y="76689"/>
                </a:lnTo>
                <a:lnTo>
                  <a:pt x="1666891" y="58371"/>
                </a:lnTo>
                <a:lnTo>
                  <a:pt x="1681922" y="58371"/>
                </a:lnTo>
                <a:lnTo>
                  <a:pt x="1681922" y="91719"/>
                </a:lnTo>
                <a:lnTo>
                  <a:pt x="1672684" y="91719"/>
                </a:lnTo>
                <a:lnTo>
                  <a:pt x="1666891" y="91719"/>
                </a:lnTo>
                <a:lnTo>
                  <a:pt x="1631194" y="91719"/>
                </a:lnTo>
                <a:lnTo>
                  <a:pt x="1631194" y="80799"/>
                </a:lnTo>
                <a:lnTo>
                  <a:pt x="1631194" y="76689"/>
                </a:lnTo>
                <a:lnTo>
                  <a:pt x="1631194" y="22380"/>
                </a:lnTo>
                <a:lnTo>
                  <a:pt x="1640765" y="22380"/>
                </a:lnTo>
                <a:lnTo>
                  <a:pt x="1648163" y="22380"/>
                </a:lnTo>
                <a:lnTo>
                  <a:pt x="1718910" y="22380"/>
                </a:lnTo>
                <a:lnTo>
                  <a:pt x="1718910" y="30355"/>
                </a:lnTo>
                <a:lnTo>
                  <a:pt x="1718910" y="37352"/>
                </a:lnTo>
                <a:lnTo>
                  <a:pt x="1718910" y="129236"/>
                </a:lnTo>
                <a:lnTo>
                  <a:pt x="1709517" y="129236"/>
                </a:lnTo>
                <a:lnTo>
                  <a:pt x="1703586" y="129236"/>
                </a:lnTo>
                <a:lnTo>
                  <a:pt x="1592680" y="129236"/>
                </a:lnTo>
                <a:lnTo>
                  <a:pt x="1592680" y="0"/>
                </a:lnTo>
                <a:lnTo>
                  <a:pt x="1463905" y="0"/>
                </a:lnTo>
                <a:lnTo>
                  <a:pt x="1463905" y="113635"/>
                </a:lnTo>
                <a:lnTo>
                  <a:pt x="1557199" y="113635"/>
                </a:lnTo>
                <a:lnTo>
                  <a:pt x="1557199" y="37352"/>
                </a:lnTo>
                <a:lnTo>
                  <a:pt x="1501775" y="37352"/>
                </a:lnTo>
                <a:lnTo>
                  <a:pt x="1501775" y="76689"/>
                </a:lnTo>
                <a:lnTo>
                  <a:pt x="1520504" y="76689"/>
                </a:lnTo>
                <a:lnTo>
                  <a:pt x="1520504" y="58371"/>
                </a:lnTo>
                <a:lnTo>
                  <a:pt x="1535533" y="58371"/>
                </a:lnTo>
                <a:lnTo>
                  <a:pt x="1535533" y="91719"/>
                </a:lnTo>
                <a:lnTo>
                  <a:pt x="1526296" y="91719"/>
                </a:lnTo>
                <a:lnTo>
                  <a:pt x="1520504" y="91719"/>
                </a:lnTo>
                <a:lnTo>
                  <a:pt x="1484807" y="91719"/>
                </a:lnTo>
                <a:lnTo>
                  <a:pt x="1484807" y="80799"/>
                </a:lnTo>
                <a:lnTo>
                  <a:pt x="1484807" y="76689"/>
                </a:lnTo>
                <a:lnTo>
                  <a:pt x="1484807" y="22380"/>
                </a:lnTo>
                <a:lnTo>
                  <a:pt x="1494376" y="22380"/>
                </a:lnTo>
                <a:lnTo>
                  <a:pt x="1501775" y="22380"/>
                </a:lnTo>
                <a:lnTo>
                  <a:pt x="1572523" y="22380"/>
                </a:lnTo>
                <a:lnTo>
                  <a:pt x="1572523" y="30355"/>
                </a:lnTo>
                <a:lnTo>
                  <a:pt x="1572523" y="37352"/>
                </a:lnTo>
                <a:lnTo>
                  <a:pt x="1572523" y="129236"/>
                </a:lnTo>
                <a:lnTo>
                  <a:pt x="1563129" y="129236"/>
                </a:lnTo>
                <a:lnTo>
                  <a:pt x="1557199" y="129236"/>
                </a:lnTo>
                <a:lnTo>
                  <a:pt x="1446293" y="129236"/>
                </a:lnTo>
                <a:lnTo>
                  <a:pt x="1446293" y="0"/>
                </a:lnTo>
                <a:lnTo>
                  <a:pt x="1317517" y="0"/>
                </a:lnTo>
                <a:lnTo>
                  <a:pt x="1317517" y="113635"/>
                </a:lnTo>
                <a:lnTo>
                  <a:pt x="1410811" y="113635"/>
                </a:lnTo>
                <a:lnTo>
                  <a:pt x="1410811" y="37352"/>
                </a:lnTo>
                <a:lnTo>
                  <a:pt x="1355386" y="37352"/>
                </a:lnTo>
                <a:lnTo>
                  <a:pt x="1355386" y="76689"/>
                </a:lnTo>
                <a:lnTo>
                  <a:pt x="1374116" y="76689"/>
                </a:lnTo>
                <a:lnTo>
                  <a:pt x="1374116" y="58371"/>
                </a:lnTo>
                <a:lnTo>
                  <a:pt x="1389147" y="58371"/>
                </a:lnTo>
                <a:lnTo>
                  <a:pt x="1389147" y="91719"/>
                </a:lnTo>
                <a:lnTo>
                  <a:pt x="1379908" y="91719"/>
                </a:lnTo>
                <a:lnTo>
                  <a:pt x="1374116" y="91719"/>
                </a:lnTo>
                <a:lnTo>
                  <a:pt x="1338419" y="91719"/>
                </a:lnTo>
                <a:lnTo>
                  <a:pt x="1338419" y="80799"/>
                </a:lnTo>
                <a:lnTo>
                  <a:pt x="1338419" y="76689"/>
                </a:lnTo>
                <a:lnTo>
                  <a:pt x="1338419" y="22380"/>
                </a:lnTo>
                <a:lnTo>
                  <a:pt x="1347989" y="22380"/>
                </a:lnTo>
                <a:lnTo>
                  <a:pt x="1355386" y="22380"/>
                </a:lnTo>
                <a:lnTo>
                  <a:pt x="1426136" y="22380"/>
                </a:lnTo>
                <a:lnTo>
                  <a:pt x="1426136" y="30355"/>
                </a:lnTo>
                <a:lnTo>
                  <a:pt x="1426136" y="37352"/>
                </a:lnTo>
                <a:lnTo>
                  <a:pt x="1426136" y="129236"/>
                </a:lnTo>
                <a:lnTo>
                  <a:pt x="1416741" y="129236"/>
                </a:lnTo>
                <a:lnTo>
                  <a:pt x="1410811" y="129236"/>
                </a:lnTo>
                <a:lnTo>
                  <a:pt x="1299904" y="129236"/>
                </a:lnTo>
                <a:lnTo>
                  <a:pt x="1299904" y="0"/>
                </a:lnTo>
                <a:lnTo>
                  <a:pt x="1171130" y="0"/>
                </a:lnTo>
                <a:lnTo>
                  <a:pt x="1171130" y="113635"/>
                </a:lnTo>
                <a:lnTo>
                  <a:pt x="1264422" y="113635"/>
                </a:lnTo>
                <a:lnTo>
                  <a:pt x="1264422" y="37352"/>
                </a:lnTo>
                <a:lnTo>
                  <a:pt x="1208999" y="37352"/>
                </a:lnTo>
                <a:lnTo>
                  <a:pt x="1208999" y="76689"/>
                </a:lnTo>
                <a:lnTo>
                  <a:pt x="1227728" y="76689"/>
                </a:lnTo>
                <a:lnTo>
                  <a:pt x="1227728" y="58371"/>
                </a:lnTo>
                <a:lnTo>
                  <a:pt x="1242759" y="58371"/>
                </a:lnTo>
                <a:lnTo>
                  <a:pt x="1242759" y="91719"/>
                </a:lnTo>
                <a:lnTo>
                  <a:pt x="1233521" y="91719"/>
                </a:lnTo>
                <a:lnTo>
                  <a:pt x="1227728" y="91719"/>
                </a:lnTo>
                <a:lnTo>
                  <a:pt x="1192031" y="91719"/>
                </a:lnTo>
                <a:lnTo>
                  <a:pt x="1192031" y="80799"/>
                </a:lnTo>
                <a:lnTo>
                  <a:pt x="1192031" y="76689"/>
                </a:lnTo>
                <a:lnTo>
                  <a:pt x="1192031" y="22380"/>
                </a:lnTo>
                <a:lnTo>
                  <a:pt x="1201601" y="22380"/>
                </a:lnTo>
                <a:lnTo>
                  <a:pt x="1208999" y="22380"/>
                </a:lnTo>
                <a:lnTo>
                  <a:pt x="1279746" y="22380"/>
                </a:lnTo>
                <a:lnTo>
                  <a:pt x="1279746" y="30355"/>
                </a:lnTo>
                <a:lnTo>
                  <a:pt x="1279746" y="37352"/>
                </a:lnTo>
                <a:lnTo>
                  <a:pt x="1279746" y="129236"/>
                </a:lnTo>
                <a:lnTo>
                  <a:pt x="1270351" y="129236"/>
                </a:lnTo>
                <a:lnTo>
                  <a:pt x="1264422" y="129236"/>
                </a:lnTo>
                <a:lnTo>
                  <a:pt x="1153517" y="129236"/>
                </a:lnTo>
                <a:lnTo>
                  <a:pt x="1153517" y="0"/>
                </a:lnTo>
                <a:lnTo>
                  <a:pt x="1024742" y="0"/>
                </a:lnTo>
                <a:lnTo>
                  <a:pt x="1024742" y="113635"/>
                </a:lnTo>
                <a:lnTo>
                  <a:pt x="1118035" y="113635"/>
                </a:lnTo>
                <a:lnTo>
                  <a:pt x="1118035" y="37352"/>
                </a:lnTo>
                <a:lnTo>
                  <a:pt x="1062611" y="37352"/>
                </a:lnTo>
                <a:lnTo>
                  <a:pt x="1062611" y="76689"/>
                </a:lnTo>
                <a:lnTo>
                  <a:pt x="1081340" y="76689"/>
                </a:lnTo>
                <a:lnTo>
                  <a:pt x="1081340" y="58371"/>
                </a:lnTo>
                <a:lnTo>
                  <a:pt x="1096371" y="58371"/>
                </a:lnTo>
                <a:lnTo>
                  <a:pt x="1096371" y="91719"/>
                </a:lnTo>
                <a:lnTo>
                  <a:pt x="1087133" y="91719"/>
                </a:lnTo>
                <a:lnTo>
                  <a:pt x="1081340" y="91719"/>
                </a:lnTo>
                <a:lnTo>
                  <a:pt x="1045644" y="91719"/>
                </a:lnTo>
                <a:lnTo>
                  <a:pt x="1045644" y="80799"/>
                </a:lnTo>
                <a:lnTo>
                  <a:pt x="1045644" y="76689"/>
                </a:lnTo>
                <a:lnTo>
                  <a:pt x="1045644" y="22380"/>
                </a:lnTo>
                <a:lnTo>
                  <a:pt x="1055214" y="22380"/>
                </a:lnTo>
                <a:lnTo>
                  <a:pt x="1062611" y="22380"/>
                </a:lnTo>
                <a:lnTo>
                  <a:pt x="1133360" y="22380"/>
                </a:lnTo>
                <a:lnTo>
                  <a:pt x="1133360" y="30355"/>
                </a:lnTo>
                <a:lnTo>
                  <a:pt x="1133360" y="37352"/>
                </a:lnTo>
                <a:lnTo>
                  <a:pt x="1133360" y="129236"/>
                </a:lnTo>
                <a:lnTo>
                  <a:pt x="1123966" y="129236"/>
                </a:lnTo>
                <a:lnTo>
                  <a:pt x="1118035" y="129236"/>
                </a:lnTo>
                <a:lnTo>
                  <a:pt x="1007130" y="129236"/>
                </a:lnTo>
                <a:lnTo>
                  <a:pt x="1007130" y="0"/>
                </a:lnTo>
                <a:lnTo>
                  <a:pt x="878354" y="0"/>
                </a:lnTo>
                <a:lnTo>
                  <a:pt x="878354" y="113635"/>
                </a:lnTo>
                <a:lnTo>
                  <a:pt x="971648" y="113635"/>
                </a:lnTo>
                <a:lnTo>
                  <a:pt x="971648" y="37352"/>
                </a:lnTo>
                <a:lnTo>
                  <a:pt x="916224" y="37352"/>
                </a:lnTo>
                <a:lnTo>
                  <a:pt x="916224" y="76689"/>
                </a:lnTo>
                <a:lnTo>
                  <a:pt x="934952" y="76689"/>
                </a:lnTo>
                <a:lnTo>
                  <a:pt x="934952" y="58371"/>
                </a:lnTo>
                <a:lnTo>
                  <a:pt x="949982" y="58371"/>
                </a:lnTo>
                <a:lnTo>
                  <a:pt x="949982" y="91719"/>
                </a:lnTo>
                <a:lnTo>
                  <a:pt x="940745" y="91719"/>
                </a:lnTo>
                <a:lnTo>
                  <a:pt x="934952" y="91719"/>
                </a:lnTo>
                <a:lnTo>
                  <a:pt x="899256" y="91719"/>
                </a:lnTo>
                <a:lnTo>
                  <a:pt x="899256" y="80799"/>
                </a:lnTo>
                <a:lnTo>
                  <a:pt x="899256" y="76689"/>
                </a:lnTo>
                <a:lnTo>
                  <a:pt x="899256" y="22380"/>
                </a:lnTo>
                <a:lnTo>
                  <a:pt x="908826" y="22380"/>
                </a:lnTo>
                <a:lnTo>
                  <a:pt x="916224" y="22380"/>
                </a:lnTo>
                <a:lnTo>
                  <a:pt x="986971" y="22380"/>
                </a:lnTo>
                <a:lnTo>
                  <a:pt x="986971" y="30355"/>
                </a:lnTo>
                <a:lnTo>
                  <a:pt x="986971" y="37352"/>
                </a:lnTo>
                <a:lnTo>
                  <a:pt x="986971" y="129236"/>
                </a:lnTo>
                <a:lnTo>
                  <a:pt x="977578" y="129236"/>
                </a:lnTo>
                <a:lnTo>
                  <a:pt x="971648" y="129236"/>
                </a:lnTo>
                <a:lnTo>
                  <a:pt x="860742" y="129236"/>
                </a:lnTo>
                <a:lnTo>
                  <a:pt x="860742" y="0"/>
                </a:lnTo>
                <a:lnTo>
                  <a:pt x="731966" y="0"/>
                </a:lnTo>
                <a:lnTo>
                  <a:pt x="731966" y="113635"/>
                </a:lnTo>
                <a:lnTo>
                  <a:pt x="825259" y="113635"/>
                </a:lnTo>
                <a:lnTo>
                  <a:pt x="825259" y="37352"/>
                </a:lnTo>
                <a:lnTo>
                  <a:pt x="769835" y="37352"/>
                </a:lnTo>
                <a:lnTo>
                  <a:pt x="769835" y="76689"/>
                </a:lnTo>
                <a:lnTo>
                  <a:pt x="788565" y="76689"/>
                </a:lnTo>
                <a:lnTo>
                  <a:pt x="788565" y="58371"/>
                </a:lnTo>
                <a:lnTo>
                  <a:pt x="803595" y="58371"/>
                </a:lnTo>
                <a:lnTo>
                  <a:pt x="803595" y="91719"/>
                </a:lnTo>
                <a:lnTo>
                  <a:pt x="794357" y="91719"/>
                </a:lnTo>
                <a:lnTo>
                  <a:pt x="788565" y="91719"/>
                </a:lnTo>
                <a:lnTo>
                  <a:pt x="752868" y="91719"/>
                </a:lnTo>
                <a:lnTo>
                  <a:pt x="752868" y="80799"/>
                </a:lnTo>
                <a:lnTo>
                  <a:pt x="752868" y="76689"/>
                </a:lnTo>
                <a:lnTo>
                  <a:pt x="752868" y="22380"/>
                </a:lnTo>
                <a:lnTo>
                  <a:pt x="762437" y="22380"/>
                </a:lnTo>
                <a:lnTo>
                  <a:pt x="769835" y="22380"/>
                </a:lnTo>
                <a:lnTo>
                  <a:pt x="840583" y="22380"/>
                </a:lnTo>
                <a:lnTo>
                  <a:pt x="840583" y="30355"/>
                </a:lnTo>
                <a:lnTo>
                  <a:pt x="840583" y="37352"/>
                </a:lnTo>
                <a:lnTo>
                  <a:pt x="840583" y="129236"/>
                </a:lnTo>
                <a:lnTo>
                  <a:pt x="831190" y="129236"/>
                </a:lnTo>
                <a:lnTo>
                  <a:pt x="825259" y="129236"/>
                </a:lnTo>
                <a:lnTo>
                  <a:pt x="714352" y="129236"/>
                </a:lnTo>
                <a:lnTo>
                  <a:pt x="714352" y="0"/>
                </a:lnTo>
                <a:lnTo>
                  <a:pt x="585577" y="0"/>
                </a:lnTo>
                <a:lnTo>
                  <a:pt x="585577" y="113635"/>
                </a:lnTo>
                <a:lnTo>
                  <a:pt x="678871" y="113635"/>
                </a:lnTo>
                <a:lnTo>
                  <a:pt x="678871" y="37352"/>
                </a:lnTo>
                <a:lnTo>
                  <a:pt x="623446" y="37352"/>
                </a:lnTo>
                <a:lnTo>
                  <a:pt x="623446" y="76689"/>
                </a:lnTo>
                <a:lnTo>
                  <a:pt x="642175" y="76689"/>
                </a:lnTo>
                <a:lnTo>
                  <a:pt x="642175" y="58371"/>
                </a:lnTo>
                <a:lnTo>
                  <a:pt x="657206" y="58371"/>
                </a:lnTo>
                <a:lnTo>
                  <a:pt x="657206" y="91719"/>
                </a:lnTo>
                <a:lnTo>
                  <a:pt x="647968" y="91719"/>
                </a:lnTo>
                <a:lnTo>
                  <a:pt x="642175" y="91719"/>
                </a:lnTo>
                <a:lnTo>
                  <a:pt x="606479" y="91719"/>
                </a:lnTo>
                <a:lnTo>
                  <a:pt x="606479" y="80799"/>
                </a:lnTo>
                <a:lnTo>
                  <a:pt x="606479" y="76689"/>
                </a:lnTo>
                <a:lnTo>
                  <a:pt x="606479" y="22380"/>
                </a:lnTo>
                <a:lnTo>
                  <a:pt x="616048" y="22380"/>
                </a:lnTo>
                <a:lnTo>
                  <a:pt x="623446" y="22380"/>
                </a:lnTo>
                <a:lnTo>
                  <a:pt x="694195" y="22380"/>
                </a:lnTo>
                <a:lnTo>
                  <a:pt x="694195" y="30355"/>
                </a:lnTo>
                <a:lnTo>
                  <a:pt x="694195" y="37352"/>
                </a:lnTo>
                <a:lnTo>
                  <a:pt x="694195" y="129236"/>
                </a:lnTo>
                <a:lnTo>
                  <a:pt x="684800" y="129236"/>
                </a:lnTo>
                <a:lnTo>
                  <a:pt x="678871" y="129236"/>
                </a:lnTo>
                <a:lnTo>
                  <a:pt x="567964" y="129236"/>
                </a:lnTo>
                <a:lnTo>
                  <a:pt x="567964" y="0"/>
                </a:lnTo>
                <a:lnTo>
                  <a:pt x="439189" y="0"/>
                </a:lnTo>
                <a:lnTo>
                  <a:pt x="439189" y="113635"/>
                </a:lnTo>
                <a:lnTo>
                  <a:pt x="532482" y="113635"/>
                </a:lnTo>
                <a:lnTo>
                  <a:pt x="532482" y="37352"/>
                </a:lnTo>
                <a:lnTo>
                  <a:pt x="477059" y="37352"/>
                </a:lnTo>
                <a:lnTo>
                  <a:pt x="477059" y="76689"/>
                </a:lnTo>
                <a:lnTo>
                  <a:pt x="495787" y="76689"/>
                </a:lnTo>
                <a:lnTo>
                  <a:pt x="495787" y="58371"/>
                </a:lnTo>
                <a:lnTo>
                  <a:pt x="510818" y="58371"/>
                </a:lnTo>
                <a:lnTo>
                  <a:pt x="510818" y="91719"/>
                </a:lnTo>
                <a:lnTo>
                  <a:pt x="501581" y="91719"/>
                </a:lnTo>
                <a:lnTo>
                  <a:pt x="495787" y="91719"/>
                </a:lnTo>
                <a:lnTo>
                  <a:pt x="460091" y="91719"/>
                </a:lnTo>
                <a:lnTo>
                  <a:pt x="460091" y="80799"/>
                </a:lnTo>
                <a:lnTo>
                  <a:pt x="460091" y="76689"/>
                </a:lnTo>
                <a:lnTo>
                  <a:pt x="460091" y="22380"/>
                </a:lnTo>
                <a:lnTo>
                  <a:pt x="469661" y="22380"/>
                </a:lnTo>
                <a:lnTo>
                  <a:pt x="477059" y="22380"/>
                </a:lnTo>
                <a:lnTo>
                  <a:pt x="547807" y="22380"/>
                </a:lnTo>
                <a:lnTo>
                  <a:pt x="547807" y="30355"/>
                </a:lnTo>
                <a:lnTo>
                  <a:pt x="547807" y="37352"/>
                </a:lnTo>
                <a:lnTo>
                  <a:pt x="547807" y="129236"/>
                </a:lnTo>
                <a:lnTo>
                  <a:pt x="538412" y="129236"/>
                </a:lnTo>
                <a:lnTo>
                  <a:pt x="532482" y="129236"/>
                </a:lnTo>
                <a:lnTo>
                  <a:pt x="421577" y="129236"/>
                </a:lnTo>
                <a:lnTo>
                  <a:pt x="421577" y="0"/>
                </a:lnTo>
                <a:lnTo>
                  <a:pt x="292801" y="0"/>
                </a:lnTo>
                <a:lnTo>
                  <a:pt x="292801" y="113635"/>
                </a:lnTo>
                <a:lnTo>
                  <a:pt x="386094" y="113635"/>
                </a:lnTo>
                <a:lnTo>
                  <a:pt x="386094" y="37352"/>
                </a:lnTo>
                <a:lnTo>
                  <a:pt x="330671" y="37352"/>
                </a:lnTo>
                <a:lnTo>
                  <a:pt x="330671" y="76689"/>
                </a:lnTo>
                <a:lnTo>
                  <a:pt x="349399" y="76689"/>
                </a:lnTo>
                <a:lnTo>
                  <a:pt x="349399" y="58371"/>
                </a:lnTo>
                <a:lnTo>
                  <a:pt x="364429" y="58371"/>
                </a:lnTo>
                <a:lnTo>
                  <a:pt x="364429" y="91719"/>
                </a:lnTo>
                <a:lnTo>
                  <a:pt x="355193" y="91719"/>
                </a:lnTo>
                <a:lnTo>
                  <a:pt x="349399" y="91719"/>
                </a:lnTo>
                <a:lnTo>
                  <a:pt x="313703" y="91719"/>
                </a:lnTo>
                <a:lnTo>
                  <a:pt x="313703" y="80799"/>
                </a:lnTo>
                <a:lnTo>
                  <a:pt x="313703" y="76689"/>
                </a:lnTo>
                <a:lnTo>
                  <a:pt x="313703" y="22380"/>
                </a:lnTo>
                <a:lnTo>
                  <a:pt x="323272" y="22380"/>
                </a:lnTo>
                <a:lnTo>
                  <a:pt x="330671" y="22380"/>
                </a:lnTo>
                <a:lnTo>
                  <a:pt x="401419" y="22380"/>
                </a:lnTo>
                <a:lnTo>
                  <a:pt x="401419" y="30355"/>
                </a:lnTo>
                <a:lnTo>
                  <a:pt x="401419" y="37352"/>
                </a:lnTo>
                <a:lnTo>
                  <a:pt x="401419" y="129236"/>
                </a:lnTo>
                <a:lnTo>
                  <a:pt x="392025" y="129236"/>
                </a:lnTo>
                <a:lnTo>
                  <a:pt x="386094" y="129236"/>
                </a:lnTo>
                <a:lnTo>
                  <a:pt x="275188" y="129236"/>
                </a:lnTo>
                <a:lnTo>
                  <a:pt x="275188" y="0"/>
                </a:lnTo>
                <a:lnTo>
                  <a:pt x="146413" y="0"/>
                </a:lnTo>
                <a:lnTo>
                  <a:pt x="146413" y="113635"/>
                </a:lnTo>
                <a:lnTo>
                  <a:pt x="239707" y="113635"/>
                </a:lnTo>
                <a:lnTo>
                  <a:pt x="239707" y="37352"/>
                </a:lnTo>
                <a:lnTo>
                  <a:pt x="184283" y="37352"/>
                </a:lnTo>
                <a:lnTo>
                  <a:pt x="184283" y="76689"/>
                </a:lnTo>
                <a:lnTo>
                  <a:pt x="203012" y="76689"/>
                </a:lnTo>
                <a:lnTo>
                  <a:pt x="203012" y="58371"/>
                </a:lnTo>
                <a:lnTo>
                  <a:pt x="218042" y="58371"/>
                </a:lnTo>
                <a:lnTo>
                  <a:pt x="218042" y="91719"/>
                </a:lnTo>
                <a:lnTo>
                  <a:pt x="208805" y="91719"/>
                </a:lnTo>
                <a:lnTo>
                  <a:pt x="203012" y="91719"/>
                </a:lnTo>
                <a:lnTo>
                  <a:pt x="167315" y="91719"/>
                </a:lnTo>
                <a:lnTo>
                  <a:pt x="167315" y="80799"/>
                </a:lnTo>
                <a:lnTo>
                  <a:pt x="167315" y="76689"/>
                </a:lnTo>
                <a:lnTo>
                  <a:pt x="167315" y="22380"/>
                </a:lnTo>
                <a:lnTo>
                  <a:pt x="176885" y="22380"/>
                </a:lnTo>
                <a:lnTo>
                  <a:pt x="184283" y="22380"/>
                </a:lnTo>
                <a:lnTo>
                  <a:pt x="255031" y="22380"/>
                </a:lnTo>
                <a:lnTo>
                  <a:pt x="255031" y="30355"/>
                </a:lnTo>
                <a:lnTo>
                  <a:pt x="255031" y="37352"/>
                </a:lnTo>
                <a:lnTo>
                  <a:pt x="255031" y="129236"/>
                </a:lnTo>
                <a:lnTo>
                  <a:pt x="245637" y="129236"/>
                </a:lnTo>
                <a:lnTo>
                  <a:pt x="239707" y="129236"/>
                </a:lnTo>
                <a:lnTo>
                  <a:pt x="128800" y="129236"/>
                </a:lnTo>
                <a:lnTo>
                  <a:pt x="128800" y="0"/>
                </a:lnTo>
                <a:lnTo>
                  <a:pt x="24" y="0"/>
                </a:lnTo>
                <a:lnTo>
                  <a:pt x="24" y="113635"/>
                </a:lnTo>
                <a:lnTo>
                  <a:pt x="93318" y="113635"/>
                </a:lnTo>
                <a:lnTo>
                  <a:pt x="93318" y="37352"/>
                </a:lnTo>
                <a:lnTo>
                  <a:pt x="37893" y="37352"/>
                </a:lnTo>
                <a:lnTo>
                  <a:pt x="37893" y="76689"/>
                </a:lnTo>
                <a:lnTo>
                  <a:pt x="56622" y="76689"/>
                </a:lnTo>
                <a:lnTo>
                  <a:pt x="56622" y="58370"/>
                </a:lnTo>
                <a:lnTo>
                  <a:pt x="71653" y="58370"/>
                </a:lnTo>
                <a:lnTo>
                  <a:pt x="71653" y="91719"/>
                </a:lnTo>
                <a:lnTo>
                  <a:pt x="62416" y="91719"/>
                </a:lnTo>
                <a:lnTo>
                  <a:pt x="56622" y="91719"/>
                </a:lnTo>
                <a:lnTo>
                  <a:pt x="20926" y="91719"/>
                </a:lnTo>
                <a:lnTo>
                  <a:pt x="20926" y="80799"/>
                </a:lnTo>
                <a:lnTo>
                  <a:pt x="20926" y="76689"/>
                </a:lnTo>
                <a:lnTo>
                  <a:pt x="20926" y="22380"/>
                </a:lnTo>
                <a:lnTo>
                  <a:pt x="30495" y="22380"/>
                </a:lnTo>
                <a:lnTo>
                  <a:pt x="37893" y="22380"/>
                </a:lnTo>
                <a:lnTo>
                  <a:pt x="108642" y="22380"/>
                </a:lnTo>
                <a:lnTo>
                  <a:pt x="108642" y="30356"/>
                </a:lnTo>
                <a:lnTo>
                  <a:pt x="108642" y="37352"/>
                </a:lnTo>
                <a:lnTo>
                  <a:pt x="108642" y="129236"/>
                </a:lnTo>
                <a:lnTo>
                  <a:pt x="99248" y="129236"/>
                </a:lnTo>
                <a:lnTo>
                  <a:pt x="93318" y="129236"/>
                </a:lnTo>
                <a:lnTo>
                  <a:pt x="0" y="129236"/>
                </a:lnTo>
                <a:lnTo>
                  <a:pt x="0" y="150831"/>
                </a:lnTo>
                <a:lnTo>
                  <a:pt x="128800" y="150831"/>
                </a:lnTo>
                <a:lnTo>
                  <a:pt x="275188" y="150831"/>
                </a:lnTo>
                <a:lnTo>
                  <a:pt x="275188" y="150831"/>
                </a:lnTo>
                <a:lnTo>
                  <a:pt x="421576" y="150831"/>
                </a:lnTo>
                <a:lnTo>
                  <a:pt x="421577" y="150831"/>
                </a:lnTo>
                <a:lnTo>
                  <a:pt x="567964" y="150831"/>
                </a:lnTo>
                <a:lnTo>
                  <a:pt x="567964" y="150831"/>
                </a:lnTo>
                <a:lnTo>
                  <a:pt x="714352" y="150831"/>
                </a:lnTo>
                <a:lnTo>
                  <a:pt x="860741" y="150831"/>
                </a:lnTo>
                <a:lnTo>
                  <a:pt x="860742" y="150831"/>
                </a:lnTo>
                <a:lnTo>
                  <a:pt x="1007129" y="150831"/>
                </a:lnTo>
                <a:lnTo>
                  <a:pt x="1007130" y="150831"/>
                </a:lnTo>
                <a:lnTo>
                  <a:pt x="1153516" y="150831"/>
                </a:lnTo>
                <a:lnTo>
                  <a:pt x="1153517" y="150831"/>
                </a:lnTo>
                <a:lnTo>
                  <a:pt x="1299904" y="150831"/>
                </a:lnTo>
                <a:lnTo>
                  <a:pt x="1446291" y="150831"/>
                </a:lnTo>
                <a:lnTo>
                  <a:pt x="1446293" y="150831"/>
                </a:lnTo>
                <a:lnTo>
                  <a:pt x="1592680" y="150831"/>
                </a:lnTo>
                <a:lnTo>
                  <a:pt x="1739067" y="150831"/>
                </a:lnTo>
                <a:lnTo>
                  <a:pt x="1739068" y="150831"/>
                </a:lnTo>
                <a:lnTo>
                  <a:pt x="1885457" y="150831"/>
                </a:lnTo>
                <a:lnTo>
                  <a:pt x="2031844" y="150831"/>
                </a:lnTo>
                <a:lnTo>
                  <a:pt x="2031846" y="150831"/>
                </a:lnTo>
                <a:lnTo>
                  <a:pt x="2178233" y="150831"/>
                </a:lnTo>
                <a:lnTo>
                  <a:pt x="2324620" y="150831"/>
                </a:lnTo>
                <a:lnTo>
                  <a:pt x="2324621" y="150831"/>
                </a:lnTo>
                <a:lnTo>
                  <a:pt x="2471010" y="150831"/>
                </a:lnTo>
                <a:lnTo>
                  <a:pt x="2617397" y="150831"/>
                </a:lnTo>
                <a:lnTo>
                  <a:pt x="2617398" y="150831"/>
                </a:lnTo>
                <a:lnTo>
                  <a:pt x="2763786" y="150831"/>
                </a:lnTo>
                <a:lnTo>
                  <a:pt x="2910174" y="150831"/>
                </a:lnTo>
                <a:lnTo>
                  <a:pt x="2910175" y="150831"/>
                </a:lnTo>
                <a:lnTo>
                  <a:pt x="3056563" y="150831"/>
                </a:lnTo>
                <a:lnTo>
                  <a:pt x="3202950" y="150831"/>
                </a:lnTo>
                <a:lnTo>
                  <a:pt x="3202952" y="150831"/>
                </a:lnTo>
                <a:lnTo>
                  <a:pt x="3349338" y="150831"/>
                </a:lnTo>
                <a:lnTo>
                  <a:pt x="3495725" y="150831"/>
                </a:lnTo>
                <a:lnTo>
                  <a:pt x="3495726" y="150831"/>
                </a:lnTo>
                <a:lnTo>
                  <a:pt x="3642114" y="150831"/>
                </a:lnTo>
                <a:lnTo>
                  <a:pt x="3788501" y="150831"/>
                </a:lnTo>
                <a:lnTo>
                  <a:pt x="3788503" y="150831"/>
                </a:lnTo>
                <a:lnTo>
                  <a:pt x="3934890" y="150831"/>
                </a:lnTo>
                <a:lnTo>
                  <a:pt x="4081278" y="150831"/>
                </a:lnTo>
                <a:lnTo>
                  <a:pt x="4081279" y="150831"/>
                </a:lnTo>
                <a:lnTo>
                  <a:pt x="4227667" y="150831"/>
                </a:lnTo>
                <a:lnTo>
                  <a:pt x="4227667" y="150832"/>
                </a:lnTo>
                <a:close/>
              </a:path>
            </a:pathLst>
          </a:custGeom>
          <a:solidFill>
            <a:srgbClr val="5b9bd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1" descr=""/>
          <p:cNvPicPr/>
          <p:nvPr/>
        </p:nvPicPr>
        <p:blipFill>
          <a:blip r:embed="rId2"/>
          <a:stretch/>
        </p:blipFill>
        <p:spPr>
          <a:xfrm>
            <a:off x="10920240" y="773280"/>
            <a:ext cx="354240" cy="5554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34"/>
          <p:cNvSpPr/>
          <p:nvPr/>
        </p:nvSpPr>
        <p:spPr>
          <a:xfrm>
            <a:off x="9295920" y="739800"/>
            <a:ext cx="60696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夫物芸芸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各複歸其根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1160640" y="1790640"/>
            <a:ext cx="76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興，百姓苦；亡，百姓苦。眾生何其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0"/>
          <p:cNvSpPr/>
          <p:nvPr/>
        </p:nvSpPr>
        <p:spPr>
          <a:xfrm>
            <a:off x="1144440" y="4484520"/>
            <a:ext cx="76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恐吾輩不暇自哀，惟後人哀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5"/>
          <p:cNvSpPr/>
          <p:nvPr/>
        </p:nvSpPr>
        <p:spPr>
          <a:xfrm>
            <a:off x="1128600" y="3137760"/>
            <a:ext cx="76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然，今觀眾生相，熙熙攘攘，皆为利而来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16" descr=""/>
          <p:cNvPicPr/>
          <p:nvPr/>
        </p:nvPicPr>
        <p:blipFill>
          <a:blip r:embed="rId3"/>
          <a:stretch/>
        </p:blipFill>
        <p:spPr>
          <a:xfrm rot="21359400">
            <a:off x="9891360" y="775800"/>
            <a:ext cx="1227240" cy="155268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7" descr=""/>
          <p:cNvPicPr/>
          <p:nvPr/>
        </p:nvPicPr>
        <p:blipFill>
          <a:blip r:embed="rId4"/>
          <a:stretch/>
        </p:blipFill>
        <p:spPr>
          <a:xfrm>
            <a:off x="10404360" y="2151000"/>
            <a:ext cx="951120" cy="1590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024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53:00Z</dcterms:created>
  <dc:creator>J.F. Peng</dc:creator>
  <dc:description/>
  <dc:language>en-US</dc:language>
  <cp:lastModifiedBy>J.F. Peng</cp:lastModifiedBy>
  <dcterms:modified xsi:type="dcterms:W3CDTF">2015-06-13T11:47:52Z</dcterms:modified>
  <cp:revision>2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