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397-81CC-42E6-8921-5850D012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6A9-D201-4AC6-8250-E15749D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E93-FFEA-4624-807E-C2011B08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799-0C15-4CBB-B8D6-1589B9B0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AF9-CB0D-4EB0-A47F-B7169A3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8DE-F2C3-4C69-AD20-AC55EF8C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435-F6AA-4EDA-9D25-B899261C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410-47FD-4785-997F-AD20994F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D16-880F-4557-9D99-977170B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D68-FD02-4EF8-B4DE-9CAD37A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637-BD78-43E3-B687-5632E94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1A8-6AFD-4142-8C62-289FA3C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1582-181C-45FB-BF1F-3748A34425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hyperlink" Target="http://www.eeppt.com/dongta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50004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E:\2010\中秋\未标题-43.png"/>
          <p:cNvPicPr/>
          <p:nvPr/>
        </p:nvPicPr>
        <p:blipFill>
          <a:blip r:embed="rId2"/>
          <a:srcRect l="3280" t="25002" r="66094" b="25254"/>
          <a:stretch/>
        </p:blipFill>
        <p:spPr>
          <a:xfrm>
            <a:off x="966960" y="1428840"/>
            <a:ext cx="2800080" cy="28432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370640" y="1030320"/>
            <a:ext cx="1195560" cy="3800520"/>
            <a:chOff x="7370640" y="1030320"/>
            <a:chExt cx="1195560" cy="3800520"/>
          </a:xfrm>
        </p:grpSpPr>
        <p:pic>
          <p:nvPicPr>
            <p:cNvPr id="44" name="图片 10" descr="2.png"/>
            <p:cNvPicPr/>
            <p:nvPr/>
          </p:nvPicPr>
          <p:blipFill>
            <a:blip r:embed="rId3"/>
            <a:stretch/>
          </p:blipFill>
          <p:spPr>
            <a:xfrm>
              <a:off x="7376400" y="1030320"/>
              <a:ext cx="118980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1" descr="3.png"/>
            <p:cNvPicPr/>
            <p:nvPr/>
          </p:nvPicPr>
          <p:blipFill>
            <a:blip r:embed="rId4"/>
            <a:stretch/>
          </p:blipFill>
          <p:spPr>
            <a:xfrm>
              <a:off x="7370640" y="3497760"/>
              <a:ext cx="119232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3" descr="5.png"/>
            <p:cNvPicPr/>
            <p:nvPr/>
          </p:nvPicPr>
          <p:blipFill>
            <a:blip r:embed="rId5"/>
            <a:stretch/>
          </p:blipFill>
          <p:spPr>
            <a:xfrm>
              <a:off x="8098920" y="2859120"/>
              <a:ext cx="36324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6022800" y="507960"/>
            <a:ext cx="847800" cy="5207040"/>
            <a:chOff x="6022800" y="507960"/>
            <a:chExt cx="847800" cy="5207040"/>
          </a:xfrm>
        </p:grpSpPr>
        <p:sp>
          <p:nvSpPr>
            <p:cNvPr id="48" name="矩形 15"/>
            <p:cNvSpPr/>
            <p:nvPr/>
          </p:nvSpPr>
          <p:spPr>
            <a:xfrm>
              <a:off x="6022800" y="507960"/>
              <a:ext cx="79884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E:\2010\中秋\未标题-24.png"/>
            <p:cNvPicPr/>
            <p:nvPr/>
          </p:nvPicPr>
          <p:blipFill>
            <a:blip r:embed="rId6">
              <a:lum bright="-72000"/>
            </a:blip>
            <a:srcRect l="38243" t="0" r="34545" b="40000"/>
            <a:stretch/>
          </p:blipFill>
          <p:spPr>
            <a:xfrm>
              <a:off x="6022800" y="2351160"/>
              <a:ext cx="847800" cy="2985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500040"/>
            <a:ext cx="18288000" cy="5214960"/>
            <a:chOff x="0" y="500040"/>
            <a:chExt cx="18288000" cy="5214960"/>
          </a:xfrm>
        </p:grpSpPr>
        <p:pic>
          <p:nvPicPr>
            <p:cNvPr id="52" name="Picture 2" descr="E:\2010\中秋\未标题-1.png"/>
            <p:cNvPicPr/>
            <p:nvPr/>
          </p:nvPicPr>
          <p:blipFill>
            <a:blip r:embed="rId1"/>
            <a:srcRect l="0" t="34885" r="0" b="34885"/>
            <a:stretch/>
          </p:blipFill>
          <p:spPr>
            <a:xfrm>
              <a:off x="0" y="500040"/>
              <a:ext cx="9144000" cy="47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E:\2010\中秋\未标题-43.png"/>
            <p:cNvPicPr/>
            <p:nvPr/>
          </p:nvPicPr>
          <p:blipFill>
            <a:blip r:embed="rId2"/>
            <a:srcRect l="3280" t="25002" r="66094" b="25254"/>
            <a:stretch/>
          </p:blipFill>
          <p:spPr>
            <a:xfrm>
              <a:off x="966960" y="1429200"/>
              <a:ext cx="2800080" cy="28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矩形 15"/>
            <p:cNvSpPr/>
            <p:nvPr/>
          </p:nvSpPr>
          <p:spPr>
            <a:xfrm>
              <a:off x="6022800" y="507960"/>
              <a:ext cx="79848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E:\2010\中秋\未标题-24.png"/>
            <p:cNvPicPr/>
            <p:nvPr/>
          </p:nvPicPr>
          <p:blipFill>
            <a:blip r:embed="rId3">
              <a:lum bright="-72000"/>
            </a:blip>
            <a:srcRect l="38243" t="0" r="34545" b="40000"/>
            <a:stretch/>
          </p:blipFill>
          <p:spPr>
            <a:xfrm>
              <a:off x="6023520" y="2351160"/>
              <a:ext cx="847440" cy="29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7370280" y="1030320"/>
              <a:ext cx="1196280" cy="3800520"/>
              <a:chOff x="7370280" y="1030320"/>
              <a:chExt cx="1196280" cy="3800520"/>
            </a:xfrm>
          </p:grpSpPr>
          <p:pic>
            <p:nvPicPr>
              <p:cNvPr id="57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7376040" y="1030320"/>
                <a:ext cx="11905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图片 11" descr="3.png"/>
              <p:cNvPicPr/>
              <p:nvPr/>
            </p:nvPicPr>
            <p:blipFill>
              <a:blip r:embed="rId5"/>
              <a:stretch/>
            </p:blipFill>
            <p:spPr>
              <a:xfrm>
                <a:off x="7370280" y="3497760"/>
                <a:ext cx="1193040" cy="133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图片 13" descr="5.png"/>
              <p:cNvPicPr/>
              <p:nvPr/>
            </p:nvPicPr>
            <p:blipFill>
              <a:blip r:embed="rId6"/>
              <a:stretch/>
            </p:blipFill>
            <p:spPr>
              <a:xfrm>
                <a:off x="8098920" y="2859120"/>
                <a:ext cx="363240" cy="536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2" descr="E:\2010\中秋\未标题-1.png"/>
            <p:cNvPicPr/>
            <p:nvPr/>
          </p:nvPicPr>
          <p:blipFill>
            <a:blip r:embed="rId7"/>
            <a:srcRect l="0" t="34885" r="0" b="34885"/>
            <a:stretch/>
          </p:blipFill>
          <p:spPr>
            <a:xfrm>
              <a:off x="9144000" y="500040"/>
              <a:ext cx="9144000" cy="478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" descr="C:\Documents and Settings\Administrator\My Documents\My Pictures\4382569_144755007479_2.jpg"/>
          <p:cNvPicPr/>
          <p:nvPr/>
        </p:nvPicPr>
        <p:blipFill>
          <a:blip r:embed="rId8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19000" y="5329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27374E-007 L -0.74722 7.27374E-007 E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6816600" y="500040"/>
            <a:ext cx="18285840" cy="5214960"/>
            <a:chOff x="-6816600" y="500040"/>
            <a:chExt cx="18285840" cy="5214960"/>
          </a:xfrm>
        </p:grpSpPr>
        <p:pic>
          <p:nvPicPr>
            <p:cNvPr id="66" name="Picture 2" descr="E:\2010\中秋\未标题-1.png"/>
            <p:cNvPicPr/>
            <p:nvPr/>
          </p:nvPicPr>
          <p:blipFill>
            <a:blip r:embed="rId1"/>
            <a:srcRect l="0" t="34885" r="0" b="34885"/>
            <a:stretch/>
          </p:blipFill>
          <p:spPr>
            <a:xfrm>
              <a:off x="-6816600" y="500040"/>
              <a:ext cx="9142920" cy="47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E:\2010\中秋\未标题-43.png"/>
            <p:cNvPicPr/>
            <p:nvPr/>
          </p:nvPicPr>
          <p:blipFill>
            <a:blip r:embed="rId2"/>
            <a:srcRect l="3280" t="25002" r="66094" b="25254"/>
            <a:stretch/>
          </p:blipFill>
          <p:spPr>
            <a:xfrm>
              <a:off x="-5849640" y="1429200"/>
              <a:ext cx="2800080" cy="28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矩形 15"/>
            <p:cNvSpPr/>
            <p:nvPr/>
          </p:nvSpPr>
          <p:spPr>
            <a:xfrm>
              <a:off x="-793800" y="507960"/>
              <a:ext cx="79812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4" descr="E:\2010\中秋\未标题-24.png"/>
            <p:cNvPicPr/>
            <p:nvPr/>
          </p:nvPicPr>
          <p:blipFill>
            <a:blip r:embed="rId3">
              <a:lum bright="-72000"/>
            </a:blip>
            <a:srcRect l="38243" t="0" r="34545" b="40000"/>
            <a:stretch/>
          </p:blipFill>
          <p:spPr>
            <a:xfrm>
              <a:off x="-793440" y="2351160"/>
              <a:ext cx="847080" cy="29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552960" y="1030320"/>
              <a:ext cx="1196280" cy="3800520"/>
              <a:chOff x="552960" y="1030320"/>
              <a:chExt cx="1196280" cy="3800520"/>
            </a:xfrm>
          </p:grpSpPr>
          <p:pic>
            <p:nvPicPr>
              <p:cNvPr id="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558720" y="1030320"/>
                <a:ext cx="11905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图片 11" descr="3.png"/>
              <p:cNvPicPr/>
              <p:nvPr/>
            </p:nvPicPr>
            <p:blipFill>
              <a:blip r:embed="rId5"/>
              <a:stretch/>
            </p:blipFill>
            <p:spPr>
              <a:xfrm>
                <a:off x="552960" y="3497760"/>
                <a:ext cx="1193040" cy="133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图片 13" descr="5.png"/>
              <p:cNvPicPr/>
              <p:nvPr/>
            </p:nvPicPr>
            <p:blipFill>
              <a:blip r:embed="rId6"/>
              <a:stretch/>
            </p:blipFill>
            <p:spPr>
              <a:xfrm>
                <a:off x="1281600" y="2859120"/>
                <a:ext cx="363240" cy="536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" name="Picture 2" descr="E:\2010\中秋\未标题-1.png"/>
            <p:cNvPicPr/>
            <p:nvPr/>
          </p:nvPicPr>
          <p:blipFill>
            <a:blip r:embed="rId7"/>
            <a:srcRect l="0" t="34885" r="0" b="34885"/>
            <a:stretch/>
          </p:blipFill>
          <p:spPr>
            <a:xfrm>
              <a:off x="2326320" y="500040"/>
              <a:ext cx="9142920" cy="478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" descr="C:\Documents and Settings\Administrator\My Documents\My Pictures\4382569_144755007479_2.jpg"/>
          <p:cNvPicPr/>
          <p:nvPr/>
        </p:nvPicPr>
        <p:blipFill>
          <a:blip r:embed="rId8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720" y="4743360"/>
            <a:ext cx="6578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500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2600" y="1030320"/>
            <a:ext cx="1195200" cy="3800520"/>
            <a:chOff x="552600" y="1030320"/>
            <a:chExt cx="1195200" cy="3800520"/>
          </a:xfrm>
        </p:grpSpPr>
        <p:pic>
          <p:nvPicPr>
            <p:cNvPr id="81" name="图片 10" descr="2.png"/>
            <p:cNvPicPr/>
            <p:nvPr/>
          </p:nvPicPr>
          <p:blipFill>
            <a:blip r:embed="rId2"/>
            <a:stretch/>
          </p:blipFill>
          <p:spPr>
            <a:xfrm>
              <a:off x="558360" y="1030320"/>
              <a:ext cx="118944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11" descr="3.png"/>
            <p:cNvPicPr/>
            <p:nvPr/>
          </p:nvPicPr>
          <p:blipFill>
            <a:blip r:embed="rId3"/>
            <a:stretch/>
          </p:blipFill>
          <p:spPr>
            <a:xfrm>
              <a:off x="552600" y="3497760"/>
              <a:ext cx="119196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13" descr="5.png"/>
            <p:cNvPicPr/>
            <p:nvPr/>
          </p:nvPicPr>
          <p:blipFill>
            <a:blip r:embed="rId4"/>
            <a:stretch/>
          </p:blipFill>
          <p:spPr>
            <a:xfrm>
              <a:off x="1280520" y="2859120"/>
              <a:ext cx="362880" cy="53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" descr="C:\Documents and Settings\Administrator\My Documents\My Pictures\4382569_144755007479_2.jpg"/>
          <p:cNvPicPr/>
          <p:nvPr/>
        </p:nvPicPr>
        <p:blipFill>
          <a:blip r:embed="rId5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0" y="0"/>
            <a:ext cx="9144000" cy="28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0" y="2857680"/>
            <a:ext cx="914400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1994040"/>
            <a:ext cx="9144000" cy="172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E:\2010\中秋\未标题-2.png"/>
          <p:cNvPicPr/>
          <p:nvPr/>
        </p:nvPicPr>
        <p:blipFill>
          <a:blip r:embed="rId2"/>
          <a:srcRect l="36508" t="42161" r="0" b="34224"/>
          <a:stretch/>
        </p:blipFill>
        <p:spPr>
          <a:xfrm>
            <a:off x="3338640" y="2409840"/>
            <a:ext cx="5805360" cy="134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E:\2010\中秋\未标题-3.png"/>
          <p:cNvPicPr/>
          <p:nvPr/>
        </p:nvPicPr>
        <p:blipFill>
          <a:blip r:embed="rId3"/>
          <a:srcRect l="5717" t="37846" r="66988" b="53524"/>
          <a:stretch/>
        </p:blipFill>
        <p:spPr>
          <a:xfrm>
            <a:off x="522360" y="2162160"/>
            <a:ext cx="2496960" cy="49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E:\2010\中秋\未标题-4.png"/>
          <p:cNvPicPr/>
          <p:nvPr/>
        </p:nvPicPr>
        <p:blipFill>
          <a:blip r:embed="rId4"/>
          <a:srcRect l="5555" t="44957" r="83335" b="49461"/>
          <a:stretch/>
        </p:blipFill>
        <p:spPr>
          <a:xfrm>
            <a:off x="507960" y="2568600"/>
            <a:ext cx="1015920" cy="318960"/>
          </a:xfrm>
          <a:prstGeom prst="rect">
            <a:avLst/>
          </a:prstGeom>
          <a:ln w="0">
            <a:noFill/>
          </a:ln>
        </p:spPr>
      </p:pic>
      <p:sp>
        <p:nvSpPr>
          <p:cNvPr id="92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19120" y="31212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5f5"/>
                </a:solidFill>
                <a:latin typeface="微软雅黑"/>
                <a:ea typeface="微软雅黑"/>
              </a:rPr>
              <a:t>祝愿节日快乐，合家团圆</a:t>
            </a:r>
            <a:r>
              <a:rPr b="0" lang="en-US" sz="1800" spc="-1" strike="noStrike">
                <a:solidFill>
                  <a:srgbClr val="f5f5f5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3320" y="5073480"/>
            <a:ext cx="61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7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"/>
                            </p:stCondLst>
                            <p:childTnLst>
                              <p:par>
                                <p:cTn id="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0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3FD-0D26-4555-A474-3C211C74C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8:58:53Z</dcterms:created>
  <dc:creator>Chris</dc:creator>
  <dc:description/>
  <dc:language>en-US</dc:language>
  <cp:lastModifiedBy>番茄花园</cp:lastModifiedBy>
  <dcterms:modified xsi:type="dcterms:W3CDTF">2015-06-13T11:47:06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