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368-C469-42F9-81F8-197AB686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FFC-DF91-4AAA-8DA5-9D488D64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1B60-1B17-427C-A453-89431D00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31C-085B-41C0-BBA2-B3AD8C7F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488-B081-4319-92F2-0E0A9006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991D-78E9-4EBD-8A0B-DE5133C1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4841-3BA3-41E7-91FB-391DD997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C87-3478-4C7F-B204-2D62C4BB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488-A949-4FD3-9346-3C5C45E2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E8AA-C089-40DC-9D52-745DDA15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D00-6580-430D-8D36-AD4DA538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59B-C380-48F4-882F-213270E1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568A-1492-48ED-8AD8-FE5A30CDA8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31EAE-B184-4DE7-A88C-065BD2D0D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植物类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411280" y="3141720"/>
            <a:ext cx="2908440" cy="2708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363528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162108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410080" y="609480"/>
            <a:ext cx="2210040" cy="1970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523880" y="3200400"/>
            <a:ext cx="2590920" cy="1959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295280" y="457200"/>
            <a:ext cx="243864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F21A-5DD3-46F5-A2E8-3A52919F5D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17:4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