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067-C292-47C5-80F3-77D722F9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4DE-B445-43A0-BB46-A738DE65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D7D-78C1-4025-A095-B60A4931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0F2-9C80-4E0B-8E09-5B88F71E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92C-1C50-41D8-BBA1-178ABD4F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3AB-AD53-4BFF-A594-65E6F8FA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6E5-00C4-4D49-8AF3-7296F382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461-9861-415E-8895-5AF49125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C85-98AA-4689-9F3F-78B2AF4C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EEB-FA56-4417-914A-24A04E2F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7A8-89EA-4707-AC9B-BDEABD09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777-547C-4923-ABC1-5EDC3FBE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BDE4-BC9A-4470-BBA0-308FF3C8C0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576A-D199-4081-A942-F50C92B018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318756-13061ZF34578.jpg"/>
          <p:cNvPicPr/>
          <p:nvPr/>
        </p:nvPicPr>
        <p:blipFill>
          <a:blip r:embed="rId1"/>
          <a:stretch/>
        </p:blipFill>
        <p:spPr>
          <a:xfrm>
            <a:off x="0" y="689040"/>
            <a:ext cx="7709040" cy="616896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318769-130G60I61522.jpg"/>
          <p:cNvPicPr/>
          <p:nvPr/>
        </p:nvPicPr>
        <p:blipFill>
          <a:blip r:embed="rId1"/>
          <a:stretch/>
        </p:blipFill>
        <p:spPr>
          <a:xfrm>
            <a:off x="0" y="536400"/>
            <a:ext cx="7023240" cy="632160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235105-1305160I11570.jpg"/>
          <p:cNvPicPr/>
          <p:nvPr/>
        </p:nvPicPr>
        <p:blipFill>
          <a:blip r:embed="rId1"/>
          <a:stretch/>
        </p:blipFill>
        <p:spPr>
          <a:xfrm>
            <a:off x="1817640" y="0"/>
            <a:ext cx="7326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