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3A93-4217-4373-B929-E4D0A4531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6286-EA77-4CDE-8908-3A1D8607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54A7-7938-43E3-A3C0-2FEE4ECBD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CC61-13E6-433A-ABBC-51AEB016E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ECB5-9F83-47F2-AFA2-540D4EC6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FD8C-8576-4BA7-AE3B-B87D8861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113F-8453-4A4A-9FA0-014E35A8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7627-990D-4AE7-A762-013C84AA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57CC-BCF5-4C5E-A809-15B77DC1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F8E9-701E-4798-A2F0-0056E2F5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7632-0357-40EF-B53E-2053190D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10C9-738E-407E-AA2C-DF663C46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C94F-8E10-4BCB-BBFF-A20426D1399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9F2A-82F1-404B-88BD-3ED3615351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1" descr="8879-120309200U019.jpg"/>
          <p:cNvPicPr/>
          <p:nvPr/>
        </p:nvPicPr>
        <p:blipFill>
          <a:blip r:embed="rId1"/>
          <a:stretch/>
        </p:blipFill>
        <p:spPr>
          <a:xfrm>
            <a:off x="3699000" y="1668600"/>
            <a:ext cx="544500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" descr="8879-120309203U047.jpg"/>
          <p:cNvPicPr/>
          <p:nvPr/>
        </p:nvPicPr>
        <p:blipFill>
          <a:blip r:embed="rId1"/>
          <a:stretch/>
        </p:blipFill>
        <p:spPr>
          <a:xfrm>
            <a:off x="2770200" y="620640"/>
            <a:ext cx="63882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8879-12030920353013.jpg"/>
          <p:cNvPicPr/>
          <p:nvPr/>
        </p:nvPicPr>
        <p:blipFill>
          <a:blip r:embed="rId1"/>
          <a:stretch/>
        </p:blipFill>
        <p:spPr>
          <a:xfrm>
            <a:off x="3025800" y="0"/>
            <a:ext cx="61182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60416-11120910433374.jpg"/>
          <p:cNvPicPr/>
          <p:nvPr/>
        </p:nvPicPr>
        <p:blipFill>
          <a:blip r:embed="rId1"/>
          <a:stretch/>
        </p:blipFill>
        <p:spPr>
          <a:xfrm>
            <a:off x="1449360" y="693720"/>
            <a:ext cx="7155000" cy="5595840"/>
          </a:xfrm>
          <a:prstGeom prst="rect">
            <a:avLst/>
          </a:prstGeom>
          <a:ln w="0">
            <a:noFill/>
          </a:ln>
        </p:spPr>
      </p:pic>
      <p:sp>
        <p:nvSpPr>
          <p:cNvPr id="57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3T11:18:3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