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0246-E36A-42FB-B8E2-D76772908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3E86-17D1-4754-BAA5-BECADC777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AA95-AF84-4C91-AE9D-95500EF29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0106-B23A-4172-A657-EDE3F0DC9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9443-0AF1-4657-AC62-392D7E518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EEAC-0156-4130-85DB-5CB2EF7E8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5492-7F42-4288-9F77-24EBA7D05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8987-E7DA-481D-8A63-66F741823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2674-C9A5-40C6-A019-D0B7F1ACC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0037-07BF-4649-93FE-CDB033D4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5C9A-CACF-4343-98C1-6C372219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14D3-690C-469E-ACA8-20C36827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6E159-B05C-4672-91BC-B612F17AA78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F7CBE-17B9-4C0D-B920-CE1F234534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234972-13110FU42367.jpg"/>
          <p:cNvPicPr/>
          <p:nvPr/>
        </p:nvPicPr>
        <p:blipFill>
          <a:blip r:embed="rId1"/>
          <a:stretch/>
        </p:blipFill>
        <p:spPr>
          <a:xfrm>
            <a:off x="-9360" y="960480"/>
            <a:ext cx="6229080" cy="5610240"/>
          </a:xfrm>
          <a:prstGeom prst="rect">
            <a:avLst/>
          </a:prstGeom>
          <a:ln w="0">
            <a:noFill/>
          </a:ln>
        </p:spPr>
      </p:pic>
      <p:sp>
        <p:nvSpPr>
          <p:cNvPr id="42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" descr="234973-1310120G95346.jpg"/>
          <p:cNvPicPr/>
          <p:nvPr/>
        </p:nvPicPr>
        <p:blipFill>
          <a:blip r:embed="rId1"/>
          <a:stretch/>
        </p:blipFill>
        <p:spPr>
          <a:xfrm>
            <a:off x="-9360" y="523800"/>
            <a:ext cx="7221240" cy="6154920"/>
          </a:xfrm>
          <a:prstGeom prst="rect">
            <a:avLst/>
          </a:prstGeom>
          <a:ln w="0">
            <a:noFill/>
          </a:ln>
        </p:spPr>
      </p:pic>
      <p:sp>
        <p:nvSpPr>
          <p:cNvPr id="46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1" descr="234973-1310120K31340.jpg"/>
          <p:cNvPicPr/>
          <p:nvPr/>
        </p:nvPicPr>
        <p:blipFill>
          <a:blip r:embed="rId1"/>
          <a:stretch/>
        </p:blipFill>
        <p:spPr>
          <a:xfrm>
            <a:off x="1206360" y="0"/>
            <a:ext cx="793764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6-13T11:18:3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