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19040" y="24876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19040" y="1197000"/>
            <a:ext cx="829152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9040" y="3568680"/>
            <a:ext cx="829152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4876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9040" y="1197000"/>
            <a:ext cx="404604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7760" y="1197000"/>
            <a:ext cx="404604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19040" y="3568680"/>
            <a:ext cx="404604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67760" y="3568680"/>
            <a:ext cx="404604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9040" y="24876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9040" y="1197000"/>
            <a:ext cx="266976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22720" y="1197000"/>
            <a:ext cx="266976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6400" y="1197000"/>
            <a:ext cx="266976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19040" y="3568680"/>
            <a:ext cx="266976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22720" y="3568680"/>
            <a:ext cx="266976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6400" y="3568680"/>
            <a:ext cx="266976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9350-7A69-4C7F-BDBE-EA2238D6D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19040" y="24876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19040" y="1197000"/>
            <a:ext cx="8291520" cy="45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6370a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8362-F722-4079-B662-E3679CED5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19040" y="24876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19040" y="1197000"/>
            <a:ext cx="8291520" cy="45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C3DE-D6D6-46F4-AAAD-9025D09D0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4876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19040" y="1197000"/>
            <a:ext cx="4046040" cy="45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7760" y="1197000"/>
            <a:ext cx="4046040" cy="45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5076-7CAB-41E9-A6D8-4FEBEC5ED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24876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8887-96B3-4135-8787-E7566D3E7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19040" y="248760"/>
            <a:ext cx="8291520" cy="32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6370a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C824-BD24-4307-AC82-F6471FC9A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24876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19040" y="1197000"/>
            <a:ext cx="404604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7760" y="1197000"/>
            <a:ext cx="4046040" cy="45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19040" y="3568680"/>
            <a:ext cx="404604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15FE-670E-495C-8977-2E499424C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9040" y="24876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19040" y="1197000"/>
            <a:ext cx="8291520" cy="45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6370a"/>
              </a:solidFill>
              <a:latin typeface="幼圆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4876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9040" y="1197000"/>
            <a:ext cx="4046040" cy="45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7760" y="1197000"/>
            <a:ext cx="404604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7760" y="3568680"/>
            <a:ext cx="404604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66B6-3414-407F-97E2-3C86A213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4876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9040" y="1197000"/>
            <a:ext cx="404604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7760" y="1197000"/>
            <a:ext cx="404604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19040" y="3568680"/>
            <a:ext cx="829152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A50D-65DF-4818-BB9B-739647BD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4876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9040" y="1197000"/>
            <a:ext cx="829152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19040" y="3568680"/>
            <a:ext cx="829152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8B7F-5804-410B-BB27-C34EE3B73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19040" y="24876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19040" y="1197000"/>
            <a:ext cx="404604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7760" y="1197000"/>
            <a:ext cx="404604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9040" y="3568680"/>
            <a:ext cx="404604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7760" y="3568680"/>
            <a:ext cx="404604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57FA-5491-48E9-B3AF-C3D256544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9040" y="24876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19040" y="1197000"/>
            <a:ext cx="266976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22720" y="1197000"/>
            <a:ext cx="266976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6400" y="1197000"/>
            <a:ext cx="266976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19040" y="3568680"/>
            <a:ext cx="266976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22720" y="3568680"/>
            <a:ext cx="266976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6400" y="3568680"/>
            <a:ext cx="266976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7C91-96EB-4D6F-B072-DF28C89C4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EC6FB-931E-4B48-863C-11D9A6B92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19040" y="24876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19040" y="1197000"/>
            <a:ext cx="8291520" cy="45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6370a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A1FF1-A48A-4E13-AE94-38DAAB5DA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19040" y="24876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19040" y="1197000"/>
            <a:ext cx="8291520" cy="45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F9059-782F-4ACB-A810-2F9B8849D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19040" y="24876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19040" y="1197000"/>
            <a:ext cx="4046040" cy="45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7760" y="1197000"/>
            <a:ext cx="4046040" cy="45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5D327-E92A-43C6-A1DF-A599EB600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19040" y="24876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8FEBD-26F8-4E1B-82B9-D47F79CB1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19040" y="24876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19040" y="1197000"/>
            <a:ext cx="8291520" cy="45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19040" y="248760"/>
            <a:ext cx="8291520" cy="32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6370a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8E087-A6A2-4E31-9666-EB2A034E3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19040" y="24876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19040" y="1197000"/>
            <a:ext cx="404604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7760" y="1197000"/>
            <a:ext cx="4046040" cy="45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19040" y="3568680"/>
            <a:ext cx="404604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DA2E9-ADDB-4A28-8D29-F5C6215B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19040" y="24876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19040" y="1197000"/>
            <a:ext cx="4046040" cy="45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7760" y="1197000"/>
            <a:ext cx="404604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7760" y="3568680"/>
            <a:ext cx="404604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1E167-8303-4B94-A8A4-43276DEFD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19040" y="24876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19040" y="1197000"/>
            <a:ext cx="404604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7760" y="1197000"/>
            <a:ext cx="404604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19040" y="3568680"/>
            <a:ext cx="829152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0E1E0-181A-4383-A9C0-92F12A857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19040" y="24876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19040" y="1197000"/>
            <a:ext cx="829152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19040" y="3568680"/>
            <a:ext cx="829152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95148-D499-4249-97BD-FA4F16E01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19040" y="24876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19040" y="1197000"/>
            <a:ext cx="404604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7760" y="1197000"/>
            <a:ext cx="404604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19040" y="3568680"/>
            <a:ext cx="404604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7760" y="3568680"/>
            <a:ext cx="404604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3B632-7DB4-4D7E-BFC3-431B64D5F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19040" y="24876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19040" y="1197000"/>
            <a:ext cx="266976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22720" y="1197000"/>
            <a:ext cx="266976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6400" y="1197000"/>
            <a:ext cx="266976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19040" y="3568680"/>
            <a:ext cx="266976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22720" y="3568680"/>
            <a:ext cx="266976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6400" y="3568680"/>
            <a:ext cx="266976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FC535-6362-4C80-A10E-AE1E2F789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19040" y="24876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19040" y="1197000"/>
            <a:ext cx="4046040" cy="45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67760" y="1197000"/>
            <a:ext cx="4046040" cy="45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4876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幼圆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19040" y="248760"/>
            <a:ext cx="8291520" cy="32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6370a"/>
              </a:solidFill>
              <a:latin typeface="幼圆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4876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9040" y="1197000"/>
            <a:ext cx="404604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197000"/>
            <a:ext cx="4046040" cy="45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19040" y="3568680"/>
            <a:ext cx="404604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9040" y="24876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19040" y="1197000"/>
            <a:ext cx="4046040" cy="45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7760" y="1197000"/>
            <a:ext cx="404604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67760" y="3568680"/>
            <a:ext cx="404604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9040" y="24876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19040" y="1197000"/>
            <a:ext cx="404604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760" y="1197000"/>
            <a:ext cx="404604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19040" y="3568680"/>
            <a:ext cx="829152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19040" y="24876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幼圆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7672D-62A8-4D5B-B042-40BE3113118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19040" y="1197000"/>
            <a:ext cx="8291520" cy="45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271440" algn="just">
              <a:lnSpc>
                <a:spcPct val="110000"/>
              </a:lnSpc>
              <a:spcBef>
                <a:spcPts val="1800"/>
              </a:spcBef>
              <a:buClr>
                <a:srgbClr val="f25d22"/>
              </a:buClr>
              <a:buSzPct val="70000"/>
              <a:buFont typeface="Wingdings 2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5d22"/>
                </a:solidFill>
                <a:latin typeface="幼圆"/>
              </a:rPr>
              <a:t>Click to edit the outline text format</a:t>
            </a: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ffdf6b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5d22"/>
                </a:solidFill>
                <a:latin typeface="幼圆"/>
              </a:rPr>
              <a:t>Second Outline Level</a:t>
            </a: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5d22"/>
                </a:solidFill>
                <a:latin typeface="幼圆"/>
              </a:rPr>
              <a:t>Third Outline Level</a:t>
            </a: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5d22"/>
                </a:solidFill>
                <a:latin typeface="幼圆"/>
              </a:rPr>
              <a:t>Fourth Outline Level</a:t>
            </a: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5d22"/>
                </a:solidFill>
                <a:latin typeface="幼圆"/>
              </a:rPr>
              <a:t>Fifth Outline Level</a:t>
            </a: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5d22"/>
                </a:solidFill>
                <a:latin typeface="幼圆"/>
              </a:rPr>
              <a:t>Sixth Outline Level</a:t>
            </a: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5d22"/>
                </a:solidFill>
                <a:latin typeface="幼圆"/>
              </a:rPr>
              <a:t>Seventh Outline Level</a:t>
            </a: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12720" y="2827080"/>
            <a:ext cx="493092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5d22"/>
                </a:solidFill>
                <a:latin typeface="幼圆"/>
              </a:rPr>
              <a:t>Click to edit the title text format</a:t>
            </a:r>
            <a:endParaRPr b="0" lang="en-US" sz="32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07A6F-B67F-4BA6-A313-969D95509B4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85680" indent="0"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6370a"/>
                </a:solidFill>
                <a:latin typeface="幼圆"/>
              </a:rPr>
              <a:t>Click to edit the outline text format</a:t>
            </a:r>
            <a:endParaRPr b="0" lang="en-US" sz="2000" spc="-1" strike="noStrike">
              <a:solidFill>
                <a:srgbClr val="a6370a"/>
              </a:solidFill>
              <a:latin typeface="幼圆"/>
            </a:endParaRPr>
          </a:p>
          <a:p>
            <a:pPr lvl="1" indent="0" algn="ctr">
              <a:lnSpc>
                <a:spcPct val="13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d7d7d"/>
                </a:solidFill>
                <a:latin typeface="幼圆"/>
              </a:rPr>
              <a:t>Second Outline Level</a:t>
            </a:r>
            <a:endParaRPr b="0" lang="en-US" sz="1600" spc="-1" strike="noStrike">
              <a:solidFill>
                <a:srgbClr val="7d7d7d"/>
              </a:solidFill>
              <a:latin typeface="幼圆"/>
            </a:endParaRPr>
          </a:p>
          <a:p>
            <a:pPr lvl="2" marL="914400"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2971800"/>
            <a:ext cx="6251400" cy="706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幼圆"/>
              </a:rPr>
              <a:t>健康餐饮水果</a:t>
            </a:r>
            <a:r>
              <a:rPr b="0" lang="zh-CN" sz="3600" spc="-1" strike="noStrike">
                <a:solidFill>
                  <a:srgbClr val="ffffff"/>
                </a:solidFill>
                <a:latin typeface="幼圆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幼圆"/>
              </a:rPr>
              <a:t>模板</a:t>
            </a:r>
            <a:endParaRPr b="0" lang="en-US" sz="36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121" name="矩形 4"/>
          <p:cNvSpPr/>
          <p:nvPr/>
        </p:nvSpPr>
        <p:spPr>
          <a:xfrm>
            <a:off x="6556320" y="20520"/>
            <a:ext cx="76356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8280" y="1444320"/>
            <a:ext cx="6413400" cy="58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幼圆"/>
              </a:rPr>
              <a:t>Slide Title</a:t>
            </a:r>
            <a:endParaRPr b="0" lang="en-US" sz="32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2053800"/>
            <a:ext cx="8229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幼圆"/>
              </a:rPr>
              <a:t>Make Effective Presentations</a:t>
            </a:r>
            <a:endParaRPr b="0" lang="en-US" sz="2800" spc="-1" strike="noStrike">
              <a:solidFill>
                <a:srgbClr val="a6370a"/>
              </a:solidFill>
              <a:latin typeface="幼圆"/>
            </a:endParaRPr>
          </a:p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幼圆"/>
              </a:rPr>
              <a:t>Using Awesome Backgrounds</a:t>
            </a:r>
            <a:endParaRPr b="0" lang="en-US" sz="2800" spc="-1" strike="noStrike">
              <a:solidFill>
                <a:srgbClr val="a6370a"/>
              </a:solidFill>
              <a:latin typeface="幼圆"/>
            </a:endParaRPr>
          </a:p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幼圆"/>
              </a:rPr>
              <a:t>Engage your Audience</a:t>
            </a:r>
            <a:endParaRPr b="0" lang="en-US" sz="2800" spc="-1" strike="noStrike">
              <a:solidFill>
                <a:srgbClr val="a6370a"/>
              </a:solidFill>
              <a:latin typeface="幼圆"/>
            </a:endParaRPr>
          </a:p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幼圆"/>
              </a:rPr>
              <a:t>Capture Audience Attention</a:t>
            </a:r>
            <a:endParaRPr b="0" lang="en-US" sz="2800" spc="-1" strike="noStrike">
              <a:solidFill>
                <a:srgbClr val="a6370a"/>
              </a:solidFill>
              <a:latin typeface="幼圆"/>
            </a:endParaRPr>
          </a:p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6370a"/>
              </a:solidFill>
              <a:latin typeface="幼圆"/>
            </a:endParaRPr>
          </a:p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6370a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1469520"/>
            <a:ext cx="6404040" cy="58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幼圆"/>
              </a:rPr>
              <a:t>Slide Title</a:t>
            </a:r>
            <a:endParaRPr b="0" lang="en-US" sz="32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205380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幼圆"/>
              </a:rPr>
              <a:t>Product A</a:t>
            </a:r>
            <a:endParaRPr b="0" lang="en-US" sz="2400" spc="-1" strike="noStrike">
              <a:solidFill>
                <a:srgbClr val="a6370a"/>
              </a:solidFill>
              <a:latin typeface="幼圆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6840" y="2684520"/>
            <a:ext cx="4040280" cy="37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幼圆"/>
              </a:rPr>
              <a:t>Feature 1</a:t>
            </a:r>
            <a:endParaRPr b="0" lang="en-US" sz="2400" spc="-1" strike="noStrike">
              <a:solidFill>
                <a:srgbClr val="a6370a"/>
              </a:solidFill>
              <a:latin typeface="幼圆"/>
            </a:endParaRPr>
          </a:p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幼圆"/>
              </a:rPr>
              <a:t>Feature 2</a:t>
            </a:r>
            <a:endParaRPr b="0" lang="en-US" sz="2400" spc="-1" strike="noStrike">
              <a:solidFill>
                <a:srgbClr val="a6370a"/>
              </a:solidFill>
              <a:latin typeface="幼圆"/>
            </a:endParaRPr>
          </a:p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幼圆"/>
              </a:rPr>
              <a:t>Feature 3</a:t>
            </a:r>
            <a:endParaRPr b="0" lang="en-US" sz="2400" spc="-1" strike="noStrike">
              <a:solidFill>
                <a:srgbClr val="a6370a"/>
              </a:solidFill>
              <a:latin typeface="幼圆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644720" y="205380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幼圆"/>
              </a:rPr>
              <a:t>Product B</a:t>
            </a:r>
            <a:endParaRPr b="0" lang="en-US" sz="2400" spc="-1" strike="noStrike">
              <a:solidFill>
                <a:srgbClr val="a6370a"/>
              </a:solidFill>
              <a:latin typeface="幼圆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44720" y="2684520"/>
            <a:ext cx="4041720" cy="37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幼圆"/>
              </a:rPr>
              <a:t>Feature 1</a:t>
            </a:r>
            <a:endParaRPr b="0" lang="en-US" sz="2400" spc="-1" strike="noStrike">
              <a:solidFill>
                <a:srgbClr val="a6370a"/>
              </a:solidFill>
              <a:latin typeface="幼圆"/>
            </a:endParaRPr>
          </a:p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幼圆"/>
              </a:rPr>
              <a:t>Feature 2</a:t>
            </a:r>
            <a:endParaRPr b="0" lang="en-US" sz="2400" spc="-1" strike="noStrike">
              <a:solidFill>
                <a:srgbClr val="a6370a"/>
              </a:solidFill>
              <a:latin typeface="幼圆"/>
            </a:endParaRPr>
          </a:p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幼圆"/>
              </a:rPr>
              <a:t>Feature 3</a:t>
            </a:r>
            <a:endParaRPr b="0" lang="en-US" sz="2400" spc="-1" strike="noStrike">
              <a:solidFill>
                <a:srgbClr val="a6370a"/>
              </a:solidFill>
              <a:latin typeface="幼圆"/>
            </a:endParaRPr>
          </a:p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6370a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幼圆"/>
              </a:rPr>
              <a:t>使用规范说明</a:t>
            </a:r>
            <a:endParaRPr b="0" lang="en-US" sz="2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幼圆"/>
              </a:rPr>
              <a:t>站点介绍：</a:t>
            </a:r>
            <a:endParaRPr b="0" lang="en-US" sz="1800" spc="-1" strike="noStrike">
              <a:solidFill>
                <a:srgbClr val="f25d22"/>
              </a:solidFill>
              <a:latin typeface="幼圆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25d22"/>
              </a:solidFill>
              <a:latin typeface="幼圆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幼圆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幼圆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幼圆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幼圆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幼圆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幼圆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幼圆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幼圆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幼圆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幼圆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幼圆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幼圆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幼圆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幼圆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幼圆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幼圆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1a84b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c1a84b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f25d22"/>
              </a:solidFill>
              <a:latin typeface="幼圆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25d22"/>
              </a:solidFill>
              <a:latin typeface="幼圆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25d22"/>
              </a:solidFill>
              <a:latin typeface="幼圆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幼圆"/>
              </a:rPr>
              <a:t>特别说明：</a:t>
            </a:r>
            <a:endParaRPr b="0" lang="en-US" sz="1800" spc="-1" strike="noStrike">
              <a:solidFill>
                <a:srgbClr val="f25d22"/>
              </a:solidFill>
              <a:latin typeface="幼圆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25d22"/>
              </a:solidFill>
              <a:latin typeface="幼圆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幼圆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幼圆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f25d22"/>
              </a:solidFill>
              <a:latin typeface="幼圆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25d22"/>
              </a:solidFill>
              <a:latin typeface="幼圆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25d22"/>
              </a:solidFill>
              <a:latin typeface="幼圆"/>
            </a:endParaRPr>
          </a:p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幼圆"/>
              </a:rPr>
              <a:t>栏目推荐：</a:t>
            </a:r>
            <a:endParaRPr b="0" lang="en-US" sz="1800" spc="-1" strike="noStrike">
              <a:solidFill>
                <a:srgbClr val="f25d22"/>
              </a:solidFill>
              <a:latin typeface="幼圆"/>
            </a:endParaRPr>
          </a:p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1a84b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c1a84b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c1a84b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f25d22"/>
              </a:solidFill>
              <a:latin typeface="幼圆"/>
            </a:endParaRPr>
          </a:p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1a84b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c1a84b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c1a84b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f25d22"/>
              </a:solidFill>
              <a:latin typeface="幼圆"/>
            </a:endParaRPr>
          </a:p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1a84b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c1a84b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c1a84b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f25d22"/>
              </a:solidFill>
              <a:latin typeface="幼圆"/>
            </a:endParaRPr>
          </a:p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1a84b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c1a84b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f25d22"/>
              </a:solidFill>
              <a:latin typeface="幼圆"/>
            </a:endParaRPr>
          </a:p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1a84b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f25d22"/>
              </a:solidFill>
              <a:latin typeface="幼圆"/>
            </a:endParaRPr>
          </a:p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1a84b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f25d22"/>
              </a:solidFill>
              <a:latin typeface="幼圆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D335-AA7C-4AC4-A32A-B3606211F28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1T19:17:00Z</dcterms:created>
  <dc:creator>http://www.eeppt.com</dc:creator>
  <dc:description>ppt模板下载网站 http://www.eeppt.com</dc:description>
  <dc:language>en-US</dc:language>
  <cp:lastModifiedBy/>
  <dcterms:modified xsi:type="dcterms:W3CDTF">2015-06-15T00:43:03Z</dcterms:modified>
  <cp:revision>2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