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9CC-2830-477A-A0AA-7877D81A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CB7-07FB-4195-84BC-6EC656E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B9A-549C-4E6E-B803-91351D21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F87-64B8-4079-89A2-4330367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365-A2E5-4A02-821B-B8FB753B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7C9A-21FF-4F2E-BC31-68090162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E15-5E4D-4DF1-8677-F707A8D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59B5-7516-42E2-94F5-FE7FBBE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C6AF-0581-41F9-9DDB-2490B0A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457A-54C5-4480-B615-B6698EA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74D-CBC6-4740-80ED-6FBD31E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525-F6DF-49E7-A058-464BC209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72D-B7F2-4F2C-8C28-4217A84D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C3A-6026-4D63-A63D-CD4B7E0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D6B-3300-4E52-8AA9-C1CC020F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B539-C18B-4D5D-9E5F-BD96CFB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7924-8B9E-4617-B539-1C261726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DEC-A5E8-4120-B7E3-4D871B68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262-0E92-4309-89D2-81482CF6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B15-8E45-4F2B-B01C-A4FD8564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F28-D175-4A06-BDF6-A28405A4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5DB-FD5C-4B8B-9FCE-FEDFB39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C29-EF71-4359-8BBF-B6C54CA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E66-C5F5-4C89-850A-A09A9E0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674-0FDD-481D-B6F3-8D08A929D3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F5A-9A91-48C5-97E6-9811F9D0F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B24-A6AB-40DB-AA9F-857C901C2E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C3BF-7377-442D-A504-0496E0FA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267000" y="785880"/>
            <a:ext cx="1233720" cy="100008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626000" y="2000160"/>
            <a:ext cx="1589040" cy="12891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0200" y="3143160"/>
            <a:ext cx="1935360" cy="15699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908600" y="4319640"/>
            <a:ext cx="2381040" cy="19335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>
            <a:off x="4260960" y="1695600"/>
            <a:ext cx="745920" cy="5378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"/>
          <p:cNvSpPr/>
          <p:nvPr/>
        </p:nvSpPr>
        <p:spPr>
          <a:xfrm flipH="1">
            <a:off x="4143240" y="3098160"/>
            <a:ext cx="635040" cy="4014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6"/>
          <p:cNvSpPr/>
          <p:nvPr/>
        </p:nvSpPr>
        <p:spPr>
          <a:xfrm>
            <a:off x="4102200" y="4346640"/>
            <a:ext cx="1095120" cy="660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191200" y="4460760"/>
            <a:ext cx="1809720" cy="1468440"/>
          </a:xfrm>
          <a:prstGeom prst="roundRect">
            <a:avLst>
              <a:gd name="adj" fmla="val 8685"/>
            </a:avLst>
          </a:prstGeom>
          <a:solidFill>
            <a:srgbClr val="f2f2f2">
              <a:alpha val="29000"/>
            </a:srgbClr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num11"/>
          <p:cNvPicPr/>
          <p:nvPr/>
        </p:nvPicPr>
        <p:blipFill>
          <a:blip r:embed="rId2"/>
          <a:stretch/>
        </p:blipFill>
        <p:spPr>
          <a:xfrm>
            <a:off x="5108400" y="3759120"/>
            <a:ext cx="1486080" cy="167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 rot="19731600">
            <a:off x="3079800" y="1114560"/>
            <a:ext cx="162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19731600">
            <a:off x="2686680" y="3735000"/>
            <a:ext cx="1625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 rot="19731600">
            <a:off x="4554000" y="2392200"/>
            <a:ext cx="1627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834080" y="101124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4834080" y="127332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1714680" y="228600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1714680" y="254808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1214280" y="492912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1214280" y="519120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6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