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8E5-F354-4987-95B6-89CA19D8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A73-990D-46BF-A186-00CDF62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839-5415-469A-8EF1-4F70C768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53B-69DA-432F-BEF9-BDE42ADB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63D-9A66-457E-8ED1-23F30F4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59C-ED92-445E-8074-30F7744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3F6-D534-4E58-9A4B-B6143B76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7E6-C602-49D2-A02D-90E950B9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1F9-5573-4B59-A774-1D685B9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603-20DE-4CE2-B8AC-DCAE4A46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5B2-64EE-436D-8050-68353F1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788-FC7E-4AE6-A374-CCCF204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CB6-540E-4FD7-BB2E-A125C93670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33D0-77C0-454A-B660-CF72E1D33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3760"/>
            <a:ext cx="7353360" cy="391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666960" y="1343160"/>
            <a:ext cx="914400" cy="4138920"/>
            <a:chOff x="3666960" y="1343160"/>
            <a:chExt cx="914400" cy="4138920"/>
          </a:xfrm>
        </p:grpSpPr>
        <p:grpSp>
          <p:nvGrpSpPr>
            <p:cNvPr id="48" name=""/>
            <p:cNvGrpSpPr/>
            <p:nvPr/>
          </p:nvGrpSpPr>
          <p:grpSpPr>
            <a:xfrm>
              <a:off x="3666960" y="1346760"/>
              <a:ext cx="533520" cy="4135320"/>
              <a:chOff x="3666960" y="1346760"/>
              <a:chExt cx="533520" cy="4135320"/>
            </a:xfrm>
          </p:grpSpPr>
          <p:sp>
            <p:nvSpPr>
              <p:cNvPr id="49" name="Rectangle 5"/>
              <p:cNvSpPr/>
              <p:nvPr/>
            </p:nvSpPr>
            <p:spPr>
              <a:xfrm flipV="1">
                <a:off x="3666960" y="1346400"/>
                <a:ext cx="533520" cy="41288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4"/>
              <p:cNvSpPr/>
              <p:nvPr/>
            </p:nvSpPr>
            <p:spPr>
              <a:xfrm flipH="1" flipV="1">
                <a:off x="3894840" y="1352160"/>
                <a:ext cx="304920" cy="412956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Rectangle 25"/>
            <p:cNvSpPr/>
            <p:nvPr/>
          </p:nvSpPr>
          <p:spPr>
            <a:xfrm flipH="1" flipV="1">
              <a:off x="4200480" y="1343160"/>
              <a:ext cx="380880" cy="4132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81360" y="1339920"/>
            <a:ext cx="890640" cy="4136760"/>
            <a:chOff x="4581360" y="1339920"/>
            <a:chExt cx="890640" cy="4136760"/>
          </a:xfrm>
        </p:grpSpPr>
        <p:sp>
          <p:nvSpPr>
            <p:cNvPr id="53" name="Rectangle 18"/>
            <p:cNvSpPr/>
            <p:nvPr/>
          </p:nvSpPr>
          <p:spPr>
            <a:xfrm flipH="1" flipV="1">
              <a:off x="4938480" y="1339920"/>
              <a:ext cx="533520" cy="4132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 flipV="1">
              <a:off x="4938480" y="1343880"/>
              <a:ext cx="304920" cy="413280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6"/>
            <p:cNvSpPr/>
            <p:nvPr/>
          </p:nvSpPr>
          <p:spPr>
            <a:xfrm flipV="1">
              <a:off x="4581360" y="1341720"/>
              <a:ext cx="380880" cy="4132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5" descr="山寺树梢顶"/>
          <p:cNvPicPr/>
          <p:nvPr/>
        </p:nvPicPr>
        <p:blipFill>
          <a:blip r:embed="rId4"/>
          <a:stretch/>
        </p:blipFill>
        <p:spPr>
          <a:xfrm>
            <a:off x="900000" y="1463760"/>
            <a:ext cx="7351920" cy="3914640"/>
          </a:xfrm>
          <a:prstGeom prst="rect">
            <a:avLst/>
          </a:prstGeom>
          <a:ln w="0">
            <a:noFill/>
          </a:ln>
        </p:spPr>
      </p:pic>
      <p:sp>
        <p:nvSpPr>
          <p:cNvPr id="57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0"/>
          <p:cNvSpPr/>
          <p:nvPr/>
        </p:nvSpPr>
        <p:spPr>
          <a:xfrm>
            <a:off x="1752480" y="1752480"/>
            <a:ext cx="71640" cy="730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160" y="617220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43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732-19B7-4AC0-8A94-5603ABD80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10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