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F7B-A3EA-436A-BBC6-496489C0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1B0-228F-4646-9A6C-C368B943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EF3-CF99-4579-A021-7B5972F0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328-79F2-4D4B-9977-484B5C10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8E1-8FB1-4859-A6EC-86431E61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0D4-60FD-493A-93FE-39BD69FE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354-7126-40FF-8523-232D9DEC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886-F4D9-42F8-8B12-31CE33B3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80D-1A40-4E80-B92F-1745AC87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E7B-0128-452A-B37F-D54E385F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C80-F7C8-41FC-9F86-82C8F1A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70F-CED9-4FD5-92AC-A245E16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 fontScale="97000"/>
          </a:bodyPr>
          <a:p>
            <a:pPr marL="374040" indent="-374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11440" indent="-312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50280" indent="-24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50680" indent="-249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51080" indent="-2491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51080" indent="-2491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51080" indent="-2491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2CADDDAD-5A26-4594-AA9C-BC8365931FC4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INCOLN\Desktop\doing buz in china\16-9-1.jpg"/>
          <p:cNvPicPr/>
          <p:nvPr/>
        </p:nvPicPr>
        <p:blipFill>
          <a:blip r:embed="rId1">
            <a:grayscl/>
          </a:blip>
          <a:stretch/>
        </p:blipFill>
        <p:spPr>
          <a:xfrm>
            <a:off x="4998960" y="863640"/>
            <a:ext cx="2360520" cy="163188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42" name="Picture 3" descr="C:\Users\LINCOLN\Desktop\doing buz in china\16-9-2.jpg"/>
          <p:cNvPicPr/>
          <p:nvPr/>
        </p:nvPicPr>
        <p:blipFill>
          <a:blip r:embed="rId2">
            <a:grayscl/>
          </a:blip>
          <a:stretch/>
        </p:blipFill>
        <p:spPr>
          <a:xfrm>
            <a:off x="115920" y="863640"/>
            <a:ext cx="2355840" cy="163188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43" name="Picture 4" descr="C:\Users\LINCOLN\Desktop\doing buz in china\16-9-3.jpg"/>
          <p:cNvPicPr/>
          <p:nvPr/>
        </p:nvPicPr>
        <p:blipFill>
          <a:blip r:embed="rId3">
            <a:grayscl/>
          </a:blip>
          <a:stretch/>
        </p:blipFill>
        <p:spPr>
          <a:xfrm>
            <a:off x="2577960" y="836640"/>
            <a:ext cx="2346480" cy="162072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44" name="Picture 5" descr="C:\Users\LINCOLN\Desktop\doing buz in china\16-9-4.jpg"/>
          <p:cNvPicPr/>
          <p:nvPr/>
        </p:nvPicPr>
        <p:blipFill>
          <a:blip r:embed="rId4">
            <a:grayscl/>
          </a:blip>
          <a:stretch/>
        </p:blipFill>
        <p:spPr>
          <a:xfrm>
            <a:off x="7448400" y="863640"/>
            <a:ext cx="2352960" cy="163188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sp>
        <p:nvSpPr>
          <p:cNvPr id="45" name="TextBox 2"/>
          <p:cNvSpPr/>
          <p:nvPr/>
        </p:nvSpPr>
        <p:spPr>
          <a:xfrm>
            <a:off x="2800440" y="3814920"/>
            <a:ext cx="53942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电子商务研究</a:t>
            </a:r>
            <a:r>
              <a:rPr b="1" lang="zh-CN" sz="41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1" lang="zh-CN" sz="41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板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4" descr=""/>
          <p:cNvPicPr/>
          <p:nvPr/>
        </p:nvPicPr>
        <p:blipFill>
          <a:blip r:embed="rId5">
            <a:grayscl/>
          </a:blip>
          <a:srcRect l="0" t="0" r="0" b="6131"/>
          <a:stretch/>
        </p:blipFill>
        <p:spPr>
          <a:xfrm>
            <a:off x="4998960" y="849240"/>
            <a:ext cx="2360520" cy="163512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  <p:pic>
        <p:nvPicPr>
          <p:cNvPr id="47" name="图片 6" descr=""/>
          <p:cNvPicPr/>
          <p:nvPr/>
        </p:nvPicPr>
        <p:blipFill>
          <a:blip r:embed="rId6">
            <a:grayscl/>
          </a:blip>
          <a:srcRect l="0" t="0" r="0" b="16443"/>
          <a:stretch/>
        </p:blipFill>
        <p:spPr>
          <a:xfrm>
            <a:off x="115920" y="849240"/>
            <a:ext cx="2355840" cy="1635120"/>
          </a:xfrm>
          <a:prstGeom prst="rect">
            <a:avLst/>
          </a:prstGeom>
          <a:ln w="12600">
            <a:solidFill>
              <a:srgbClr val="f2f2f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"/>
          <p:cNvSpPr/>
          <p:nvPr/>
        </p:nvSpPr>
        <p:spPr>
          <a:xfrm>
            <a:off x="0" y="6270480"/>
            <a:ext cx="662040" cy="384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99960" y="6200640"/>
            <a:ext cx="468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08200" y="836640"/>
            <a:ext cx="8197920" cy="49928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8024760" y="1143000"/>
            <a:ext cx="15001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3381480" y="2143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81480" y="26431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381480" y="31719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3381480" y="3672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 rot="20201400">
            <a:off x="-75960" y="798480"/>
            <a:ext cx="4016520" cy="444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8"/>
          <p:cNvSpPr/>
          <p:nvPr/>
        </p:nvSpPr>
        <p:spPr>
          <a:xfrm>
            <a:off x="5688000" y="1617840"/>
            <a:ext cx="1560600" cy="1726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6149520" y="2259000"/>
            <a:ext cx="6645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互联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683480" y="2390760"/>
            <a:ext cx="1325520" cy="14698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7966440" y="2903400"/>
            <a:ext cx="8168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模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6357960" y="3605040"/>
            <a:ext cx="1325520" cy="14684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6554880" y="4118040"/>
            <a:ext cx="9694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虚拟数字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"/>
          <p:cNvSpPr/>
          <p:nvPr/>
        </p:nvSpPr>
        <p:spPr>
          <a:xfrm>
            <a:off x="351000" y="3349800"/>
            <a:ext cx="5360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商务是基于互联网及移动互联网诞生的一种全新的商业模式，用户不需要进入实体店面，通过虚拟数字化电子方式完成交易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0" y="6270480"/>
            <a:ext cx="662040" cy="384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399960" y="6200640"/>
            <a:ext cx="468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32"/>
          <p:cNvSpPr/>
          <p:nvPr/>
        </p:nvSpPr>
        <p:spPr>
          <a:xfrm>
            <a:off x="351000" y="1420920"/>
            <a:ext cx="5538600" cy="4924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30"/>
          <p:cNvSpPr/>
          <p:nvPr/>
        </p:nvSpPr>
        <p:spPr>
          <a:xfrm>
            <a:off x="6357960" y="1420920"/>
            <a:ext cx="3103560" cy="4924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85720" y="0"/>
            <a:ext cx="311040" cy="663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876240" y="297000"/>
            <a:ext cx="1290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表 12" descr=""/>
          <p:cNvPicPr/>
          <p:nvPr/>
        </p:nvPicPr>
        <p:blipFill>
          <a:blip r:embed="rId1"/>
          <a:stretch/>
        </p:blipFill>
        <p:spPr>
          <a:xfrm>
            <a:off x="351000" y="2565360"/>
            <a:ext cx="617040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矩形 20"/>
          <p:cNvSpPr/>
          <p:nvPr/>
        </p:nvSpPr>
        <p:spPr>
          <a:xfrm>
            <a:off x="6669000" y="3263760"/>
            <a:ext cx="1092240" cy="2325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21"/>
          <p:cNvSpPr/>
          <p:nvPr/>
        </p:nvSpPr>
        <p:spPr>
          <a:xfrm>
            <a:off x="8151840" y="2575080"/>
            <a:ext cx="1092240" cy="3014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669000" y="5589720"/>
            <a:ext cx="279252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电子商务拉动网络经济</a:t>
            </a: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9.7%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增长，贡献率最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6824520" y="3695760"/>
            <a:ext cx="1092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5"/>
          <p:cNvSpPr/>
          <p:nvPr/>
        </p:nvSpPr>
        <p:spPr>
          <a:xfrm>
            <a:off x="8369280" y="3695760"/>
            <a:ext cx="1092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6"/>
          <p:cNvSpPr/>
          <p:nvPr/>
        </p:nvSpPr>
        <p:spPr>
          <a:xfrm>
            <a:off x="6778080" y="4133880"/>
            <a:ext cx="92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5.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27"/>
          <p:cNvSpPr/>
          <p:nvPr/>
        </p:nvSpPr>
        <p:spPr>
          <a:xfrm>
            <a:off x="8323560" y="4145040"/>
            <a:ext cx="92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4.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29"/>
          <p:cNvSpPr/>
          <p:nvPr/>
        </p:nvSpPr>
        <p:spPr>
          <a:xfrm>
            <a:off x="573120" y="5459400"/>
            <a:ext cx="518796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中国电子商务整体交易规模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，较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.4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前三年中国电子商务市场交易规模总额已超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年的水平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33"/>
          <p:cNvSpPr/>
          <p:nvPr/>
        </p:nvSpPr>
        <p:spPr>
          <a:xfrm>
            <a:off x="351000" y="1420920"/>
            <a:ext cx="49528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34"/>
          <p:cNvSpPr/>
          <p:nvPr/>
        </p:nvSpPr>
        <p:spPr>
          <a:xfrm>
            <a:off x="6357960" y="1415880"/>
            <a:ext cx="49528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37"/>
          <p:cNvSpPr/>
          <p:nvPr/>
        </p:nvSpPr>
        <p:spPr>
          <a:xfrm>
            <a:off x="5781600" y="1420920"/>
            <a:ext cx="108000" cy="42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39"/>
          <p:cNvSpPr/>
          <p:nvPr/>
        </p:nvSpPr>
        <p:spPr>
          <a:xfrm>
            <a:off x="9342360" y="1413000"/>
            <a:ext cx="108000" cy="42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680" cy="2281320"/>
          </a:xfrm>
          <a:prstGeom prst="rect">
            <a:avLst/>
          </a:prstGeom>
          <a:ln w="0">
            <a:noFill/>
          </a:ln>
        </p:spPr>
      </p:pic>
      <p:pic>
        <p:nvPicPr>
          <p:cNvPr id="84" name="图表 8" descr=""/>
          <p:cNvPicPr/>
          <p:nvPr/>
        </p:nvPicPr>
        <p:blipFill>
          <a:blip r:embed="rId2"/>
          <a:stretch/>
        </p:blipFill>
        <p:spPr>
          <a:xfrm>
            <a:off x="-272880" y="527040"/>
            <a:ext cx="7018200" cy="7950240"/>
          </a:xfrm>
          <a:prstGeom prst="rect">
            <a:avLst/>
          </a:prstGeom>
          <a:ln w="0">
            <a:noFill/>
          </a:ln>
        </p:spPr>
      </p:pic>
      <p:sp>
        <p:nvSpPr>
          <p:cNvPr id="85" name="矩形 13"/>
          <p:cNvSpPr/>
          <p:nvPr/>
        </p:nvSpPr>
        <p:spPr>
          <a:xfrm>
            <a:off x="585720" y="0"/>
            <a:ext cx="311040" cy="663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5732640" y="2368440"/>
            <a:ext cx="3354120" cy="235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732640" y="3048120"/>
            <a:ext cx="3354120" cy="346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仍然是未来电子商务交易规模的最主要组成部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732640" y="3825720"/>
            <a:ext cx="3354120" cy="590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消费领域的网上交易规模增速略快于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6"/>
          <p:cNvSpPr/>
          <p:nvPr/>
        </p:nvSpPr>
        <p:spPr>
          <a:xfrm>
            <a:off x="8978760" y="2357280"/>
            <a:ext cx="108000" cy="424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732640" y="2368440"/>
            <a:ext cx="156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876240" y="297000"/>
            <a:ext cx="1290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136440" y="1441440"/>
            <a:ext cx="4429080" cy="481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130320" y="1758960"/>
            <a:ext cx="23328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130320" y="2968560"/>
            <a:ext cx="23328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130320" y="4178160"/>
            <a:ext cx="23328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130320" y="5286240"/>
            <a:ext cx="23328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7"/>
          <p:cNvSpPr/>
          <p:nvPr/>
        </p:nvSpPr>
        <p:spPr>
          <a:xfrm>
            <a:off x="0" y="357120"/>
            <a:ext cx="896760" cy="331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30"/>
          <p:cNvSpPr/>
          <p:nvPr/>
        </p:nvSpPr>
        <p:spPr>
          <a:xfrm>
            <a:off x="4457880" y="1441440"/>
            <a:ext cx="107640" cy="42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34" descr=""/>
          <p:cNvPicPr/>
          <p:nvPr/>
        </p:nvPicPr>
        <p:blipFill>
          <a:blip r:embed="rId1"/>
          <a:stretch/>
        </p:blipFill>
        <p:spPr>
          <a:xfrm>
            <a:off x="4719600" y="3890880"/>
            <a:ext cx="2484360" cy="23241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7" descr=""/>
          <p:cNvPicPr/>
          <p:nvPr/>
        </p:nvPicPr>
        <p:blipFill>
          <a:blip r:embed="rId2"/>
          <a:stretch/>
        </p:blipFill>
        <p:spPr>
          <a:xfrm>
            <a:off x="7292880" y="3884760"/>
            <a:ext cx="2484360" cy="232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LINCOLN\Desktop\2012.4.7 桌面\doing buz in china\china-flag.jpg"/>
          <p:cNvPicPr/>
          <p:nvPr/>
        </p:nvPicPr>
        <p:blipFill>
          <a:blip r:embed="rId3"/>
          <a:srcRect l="0" t="0" r="5202" b="0"/>
          <a:stretch/>
        </p:blipFill>
        <p:spPr>
          <a:xfrm>
            <a:off x="4719600" y="1441440"/>
            <a:ext cx="2484360" cy="23241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9" descr=""/>
          <p:cNvPicPr/>
          <p:nvPr/>
        </p:nvPicPr>
        <p:blipFill>
          <a:blip r:embed="rId4"/>
          <a:srcRect l="10915" t="0" r="0" b="0"/>
          <a:stretch/>
        </p:blipFill>
        <p:spPr>
          <a:xfrm>
            <a:off x="7292880" y="3860640"/>
            <a:ext cx="2497320" cy="23464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1" descr=""/>
          <p:cNvPicPr/>
          <p:nvPr/>
        </p:nvPicPr>
        <p:blipFill>
          <a:blip r:embed="rId5"/>
          <a:srcRect l="16603" t="0" r="0" b="0"/>
          <a:stretch/>
        </p:blipFill>
        <p:spPr>
          <a:xfrm>
            <a:off x="4719600" y="3884760"/>
            <a:ext cx="2484360" cy="23158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2" descr=""/>
          <p:cNvPicPr/>
          <p:nvPr/>
        </p:nvPicPr>
        <p:blipFill>
          <a:blip r:embed="rId6"/>
          <a:srcRect l="11055" t="0" r="0" b="0"/>
          <a:stretch/>
        </p:blipFill>
        <p:spPr>
          <a:xfrm>
            <a:off x="7292880" y="1440000"/>
            <a:ext cx="2500560" cy="233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3"/>
          <p:cNvSpPr/>
          <p:nvPr/>
        </p:nvSpPr>
        <p:spPr>
          <a:xfrm>
            <a:off x="876240" y="297000"/>
            <a:ext cx="1290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880920" y="19288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880920" y="31431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880920" y="42861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3"/>
          <p:cNvSpPr/>
          <p:nvPr/>
        </p:nvSpPr>
        <p:spPr>
          <a:xfrm>
            <a:off x="880920" y="55008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680" cy="2281320"/>
          </a:xfrm>
          <a:prstGeom prst="rect">
            <a:avLst/>
          </a:prstGeom>
          <a:ln w="0">
            <a:noFill/>
          </a:ln>
        </p:spPr>
      </p:pic>
      <p:pic>
        <p:nvPicPr>
          <p:cNvPr id="111" name="图表 3" descr=""/>
          <p:cNvPicPr/>
          <p:nvPr/>
        </p:nvPicPr>
        <p:blipFill>
          <a:blip r:embed="rId2"/>
          <a:stretch/>
        </p:blipFill>
        <p:spPr>
          <a:xfrm>
            <a:off x="-272880" y="527040"/>
            <a:ext cx="7018200" cy="7950240"/>
          </a:xfrm>
          <a:prstGeom prst="rect">
            <a:avLst/>
          </a:prstGeom>
          <a:ln w="0">
            <a:noFill/>
          </a:ln>
        </p:spPr>
      </p:pic>
      <p:sp>
        <p:nvSpPr>
          <p:cNvPr id="112" name="矩形 4"/>
          <p:cNvSpPr/>
          <p:nvPr/>
        </p:nvSpPr>
        <p:spPr>
          <a:xfrm>
            <a:off x="585720" y="0"/>
            <a:ext cx="311040" cy="663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5732640" y="1798560"/>
            <a:ext cx="3354120" cy="313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732640" y="2478240"/>
            <a:ext cx="3354120" cy="346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寡头垄断型市场格局已经形成，很难在短期内打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732640" y="3255840"/>
            <a:ext cx="3354120" cy="1076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计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2C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交易规模会突破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亿元，但占总体网络购物规模的比重将由目前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7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复合增长率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8978760" y="1787400"/>
            <a:ext cx="108000" cy="424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5732640" y="1798560"/>
            <a:ext cx="156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876240" y="297000"/>
            <a:ext cx="1290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376280"/>
            <a:ext cx="9126720" cy="47894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587520" y="4222800"/>
            <a:ext cx="89708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7Z</dcterms:created>
  <dc:creator>http://www.eeppt.com</dc:creator>
  <dc:description>ppt模板下载网站 http://www.eeppt.com</dc:description>
  <dc:language>en-US</dc:language>
  <cp:lastModifiedBy/>
  <dcterms:modified xsi:type="dcterms:W3CDTF">2015-06-15T01:03:36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