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6E7B-AAFE-429D-9CE9-2DED3D88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A2FA-894B-483D-B501-56754AF33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FE55-1DE9-4A92-8B00-C3198C806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E7E2-B7A7-4761-AFE0-13CA52B71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64E14-0568-47FF-ACF0-FDC3B0BC72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C64B8-D8C7-4B5B-B78D-042A6C57A9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9C0B0-70BF-4648-8B73-A2104C476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2693F-F235-4B91-AFCA-6D665332A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37ED-02EC-4698-9379-677E83BBC2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AEE0E-16AE-4517-967E-69C058F4D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A0E4D-1500-4FF4-BE19-F29583EAA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868B-035B-49EF-A909-456067C4A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A9439-8F24-44D8-8CB2-374B994096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2EE75-CE65-4F5E-8DB0-763A8131B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B77D32-FA06-45C5-BC92-F1B96AE049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AF0DC-01E0-4D03-9691-FC9D10906F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96EC1-BFC0-4E93-A48B-B84B33718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4D43-0E5E-4A40-AF00-F2CCD1443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0B42-D7C7-45CD-B769-EA4B4BFF6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3EE9-B87D-4CF4-BCA4-763FADB95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5A81-B129-42FF-AC7B-7A5BF66D5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B0E9-CCCC-4AC5-80C5-2EB7B8A98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C0C9-AB1D-4A25-ACCF-83EE1A39E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BDA2-7494-4B52-BF0C-414606B76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0"/>
            <a:ext cx="9137520" cy="6853320"/>
            <a:chOff x="3240" y="0"/>
            <a:chExt cx="9137520" cy="6853320"/>
          </a:xfrm>
        </p:grpSpPr>
        <p:sp>
          <p:nvSpPr>
            <p:cNvPr id="1" name="未知"/>
            <p:cNvSpPr/>
            <p:nvPr/>
          </p:nvSpPr>
          <p:spPr>
            <a:xfrm>
              <a:off x="3240" y="0"/>
              <a:ext cx="8391600" cy="2222640"/>
            </a:xfrm>
            <a:custGeom>
              <a:avLst/>
              <a:gdLst/>
              <a:ahLst/>
              <a:rect l="l" t="t" r="r" b="b"/>
              <a:pathLst>
                <a:path w="15857" h="4199">
                  <a:moveTo>
                    <a:pt x="0" y="4199"/>
                  </a:moveTo>
                  <a:lnTo>
                    <a:pt x="112" y="3894"/>
                  </a:lnTo>
                  <a:lnTo>
                    <a:pt x="252" y="3603"/>
                  </a:lnTo>
                  <a:lnTo>
                    <a:pt x="421" y="3327"/>
                  </a:lnTo>
                  <a:lnTo>
                    <a:pt x="618" y="3066"/>
                  </a:lnTo>
                  <a:lnTo>
                    <a:pt x="843" y="2817"/>
                  </a:lnTo>
                  <a:lnTo>
                    <a:pt x="1096" y="2582"/>
                  </a:lnTo>
                  <a:lnTo>
                    <a:pt x="1375" y="2360"/>
                  </a:lnTo>
                  <a:lnTo>
                    <a:pt x="1681" y="2151"/>
                  </a:lnTo>
                  <a:lnTo>
                    <a:pt x="2014" y="1953"/>
                  </a:lnTo>
                  <a:lnTo>
                    <a:pt x="2371" y="1768"/>
                  </a:lnTo>
                  <a:lnTo>
                    <a:pt x="2754" y="1594"/>
                  </a:lnTo>
                  <a:lnTo>
                    <a:pt x="3163" y="1432"/>
                  </a:lnTo>
                  <a:lnTo>
                    <a:pt x="3595" y="1280"/>
                  </a:lnTo>
                  <a:lnTo>
                    <a:pt x="4052" y="1140"/>
                  </a:lnTo>
                  <a:lnTo>
                    <a:pt x="4531" y="1009"/>
                  </a:lnTo>
                  <a:lnTo>
                    <a:pt x="5034" y="888"/>
                  </a:lnTo>
                  <a:lnTo>
                    <a:pt x="5559" y="776"/>
                  </a:lnTo>
                  <a:lnTo>
                    <a:pt x="6107" y="673"/>
                  </a:lnTo>
                  <a:lnTo>
                    <a:pt x="6676" y="580"/>
                  </a:lnTo>
                  <a:lnTo>
                    <a:pt x="7267" y="495"/>
                  </a:lnTo>
                  <a:lnTo>
                    <a:pt x="7879" y="417"/>
                  </a:lnTo>
                  <a:lnTo>
                    <a:pt x="8511" y="348"/>
                  </a:lnTo>
                  <a:lnTo>
                    <a:pt x="9162" y="286"/>
                  </a:lnTo>
                  <a:lnTo>
                    <a:pt x="9834" y="231"/>
                  </a:lnTo>
                  <a:lnTo>
                    <a:pt x="10525" y="183"/>
                  </a:lnTo>
                  <a:lnTo>
                    <a:pt x="11234" y="140"/>
                  </a:lnTo>
                  <a:lnTo>
                    <a:pt x="11961" y="104"/>
                  </a:lnTo>
                  <a:lnTo>
                    <a:pt x="12707" y="73"/>
                  </a:lnTo>
                  <a:lnTo>
                    <a:pt x="13469" y="48"/>
                  </a:lnTo>
                  <a:lnTo>
                    <a:pt x="14249" y="27"/>
                  </a:lnTo>
                  <a:lnTo>
                    <a:pt x="15045" y="12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4199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240" y="0"/>
              <a:ext cx="8391600" cy="1836720"/>
            </a:xfrm>
            <a:custGeom>
              <a:avLst/>
              <a:gdLst/>
              <a:ahLst/>
              <a:rect l="l" t="t" r="r" b="b"/>
              <a:pathLst>
                <a:path w="15857" h="3472">
                  <a:moveTo>
                    <a:pt x="0" y="3472"/>
                  </a:moveTo>
                  <a:lnTo>
                    <a:pt x="123" y="3202"/>
                  </a:lnTo>
                  <a:lnTo>
                    <a:pt x="272" y="2945"/>
                  </a:lnTo>
                  <a:lnTo>
                    <a:pt x="449" y="2703"/>
                  </a:lnTo>
                  <a:lnTo>
                    <a:pt x="652" y="2475"/>
                  </a:lnTo>
                  <a:lnTo>
                    <a:pt x="883" y="2260"/>
                  </a:lnTo>
                  <a:lnTo>
                    <a:pt x="1140" y="2059"/>
                  </a:lnTo>
                  <a:lnTo>
                    <a:pt x="1423" y="1869"/>
                  </a:lnTo>
                  <a:lnTo>
                    <a:pt x="1732" y="1692"/>
                  </a:lnTo>
                  <a:lnTo>
                    <a:pt x="2065" y="1526"/>
                  </a:lnTo>
                  <a:lnTo>
                    <a:pt x="2424" y="1373"/>
                  </a:lnTo>
                  <a:lnTo>
                    <a:pt x="2807" y="1229"/>
                  </a:lnTo>
                  <a:lnTo>
                    <a:pt x="3215" y="1096"/>
                  </a:lnTo>
                  <a:lnTo>
                    <a:pt x="3647" y="974"/>
                  </a:lnTo>
                  <a:lnTo>
                    <a:pt x="4101" y="861"/>
                  </a:lnTo>
                  <a:lnTo>
                    <a:pt x="4579" y="757"/>
                  </a:lnTo>
                  <a:lnTo>
                    <a:pt x="5079" y="662"/>
                  </a:lnTo>
                  <a:lnTo>
                    <a:pt x="5601" y="576"/>
                  </a:lnTo>
                  <a:lnTo>
                    <a:pt x="6146" y="497"/>
                  </a:lnTo>
                  <a:lnTo>
                    <a:pt x="6712" y="426"/>
                  </a:lnTo>
                  <a:lnTo>
                    <a:pt x="7298" y="362"/>
                  </a:lnTo>
                  <a:lnTo>
                    <a:pt x="7906" y="305"/>
                  </a:lnTo>
                  <a:lnTo>
                    <a:pt x="8535" y="254"/>
                  </a:lnTo>
                  <a:lnTo>
                    <a:pt x="9183" y="208"/>
                  </a:lnTo>
                  <a:lnTo>
                    <a:pt x="9851" y="169"/>
                  </a:lnTo>
                  <a:lnTo>
                    <a:pt x="10538" y="134"/>
                  </a:lnTo>
                  <a:lnTo>
                    <a:pt x="11244" y="105"/>
                  </a:lnTo>
                  <a:lnTo>
                    <a:pt x="11969" y="79"/>
                  </a:lnTo>
                  <a:lnTo>
                    <a:pt x="12712" y="57"/>
                  </a:lnTo>
                  <a:lnTo>
                    <a:pt x="13472" y="39"/>
                  </a:lnTo>
                  <a:lnTo>
                    <a:pt x="14250" y="24"/>
                  </a:lnTo>
                  <a:lnTo>
                    <a:pt x="15046" y="11"/>
                  </a:lnTo>
                  <a:lnTo>
                    <a:pt x="15857" y="0"/>
                  </a:lnTo>
                  <a:lnTo>
                    <a:pt x="0" y="0"/>
                  </a:lnTo>
                  <a:lnTo>
                    <a:pt x="0" y="3472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191200" y="5148360"/>
              <a:ext cx="3949560" cy="1704960"/>
            </a:xfrm>
            <a:custGeom>
              <a:avLst/>
              <a:gdLst/>
              <a:ahLst/>
              <a:rect l="l" t="t" r="r" b="b"/>
              <a:pathLst>
                <a:path w="7465" h="3223">
                  <a:moveTo>
                    <a:pt x="7465" y="0"/>
                  </a:moveTo>
                  <a:lnTo>
                    <a:pt x="7413" y="235"/>
                  </a:lnTo>
                  <a:lnTo>
                    <a:pt x="7347" y="457"/>
                  </a:lnTo>
                  <a:lnTo>
                    <a:pt x="7267" y="670"/>
                  </a:lnTo>
                  <a:lnTo>
                    <a:pt x="7174" y="871"/>
                  </a:lnTo>
                  <a:lnTo>
                    <a:pt x="7068" y="1061"/>
                  </a:lnTo>
                  <a:lnTo>
                    <a:pt x="6949" y="1241"/>
                  </a:lnTo>
                  <a:lnTo>
                    <a:pt x="6818" y="1412"/>
                  </a:lnTo>
                  <a:lnTo>
                    <a:pt x="6674" y="1573"/>
                  </a:lnTo>
                  <a:lnTo>
                    <a:pt x="6517" y="1724"/>
                  </a:lnTo>
                  <a:lnTo>
                    <a:pt x="6349" y="1867"/>
                  </a:lnTo>
                  <a:lnTo>
                    <a:pt x="6169" y="2000"/>
                  </a:lnTo>
                  <a:lnTo>
                    <a:pt x="5976" y="2125"/>
                  </a:lnTo>
                  <a:lnTo>
                    <a:pt x="5773" y="2240"/>
                  </a:lnTo>
                  <a:lnTo>
                    <a:pt x="5558" y="2350"/>
                  </a:lnTo>
                  <a:lnTo>
                    <a:pt x="5332" y="2450"/>
                  </a:lnTo>
                  <a:lnTo>
                    <a:pt x="5095" y="2543"/>
                  </a:lnTo>
                  <a:lnTo>
                    <a:pt x="4848" y="2628"/>
                  </a:lnTo>
                  <a:lnTo>
                    <a:pt x="4590" y="2707"/>
                  </a:lnTo>
                  <a:lnTo>
                    <a:pt x="4322" y="2778"/>
                  </a:lnTo>
                  <a:lnTo>
                    <a:pt x="4044" y="2844"/>
                  </a:lnTo>
                  <a:lnTo>
                    <a:pt x="3756" y="2904"/>
                  </a:lnTo>
                  <a:lnTo>
                    <a:pt x="3459" y="2957"/>
                  </a:lnTo>
                  <a:lnTo>
                    <a:pt x="3151" y="3004"/>
                  </a:lnTo>
                  <a:lnTo>
                    <a:pt x="2836" y="3046"/>
                  </a:lnTo>
                  <a:lnTo>
                    <a:pt x="2511" y="3084"/>
                  </a:lnTo>
                  <a:lnTo>
                    <a:pt x="2176" y="3117"/>
                  </a:lnTo>
                  <a:lnTo>
                    <a:pt x="1833" y="3144"/>
                  </a:lnTo>
                  <a:lnTo>
                    <a:pt x="1482" y="3167"/>
                  </a:lnTo>
                  <a:lnTo>
                    <a:pt x="1124" y="3187"/>
                  </a:lnTo>
                  <a:lnTo>
                    <a:pt x="757" y="3203"/>
                  </a:lnTo>
                  <a:lnTo>
                    <a:pt x="382" y="3215"/>
                  </a:lnTo>
                  <a:lnTo>
                    <a:pt x="0" y="3223"/>
                  </a:lnTo>
                  <a:lnTo>
                    <a:pt x="7465" y="3223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5191200" y="5443560"/>
              <a:ext cx="3949560" cy="1409760"/>
            </a:xfrm>
            <a:custGeom>
              <a:avLst/>
              <a:gdLst/>
              <a:ahLst/>
              <a:rect l="l" t="t" r="r" b="b"/>
              <a:pathLst>
                <a:path w="7465" h="2664">
                  <a:moveTo>
                    <a:pt x="7465" y="0"/>
                  </a:moveTo>
                  <a:lnTo>
                    <a:pt x="7407" y="207"/>
                  </a:lnTo>
                  <a:lnTo>
                    <a:pt x="7337" y="404"/>
                  </a:lnTo>
                  <a:lnTo>
                    <a:pt x="7254" y="589"/>
                  </a:lnTo>
                  <a:lnTo>
                    <a:pt x="7158" y="764"/>
                  </a:lnTo>
                  <a:lnTo>
                    <a:pt x="7050" y="930"/>
                  </a:lnTo>
                  <a:lnTo>
                    <a:pt x="6929" y="1084"/>
                  </a:lnTo>
                  <a:lnTo>
                    <a:pt x="6795" y="1230"/>
                  </a:lnTo>
                  <a:lnTo>
                    <a:pt x="6650" y="1366"/>
                  </a:lnTo>
                  <a:lnTo>
                    <a:pt x="6493" y="1492"/>
                  </a:lnTo>
                  <a:lnTo>
                    <a:pt x="6324" y="1611"/>
                  </a:lnTo>
                  <a:lnTo>
                    <a:pt x="6144" y="1721"/>
                  </a:lnTo>
                  <a:lnTo>
                    <a:pt x="5951" y="1823"/>
                  </a:lnTo>
                  <a:lnTo>
                    <a:pt x="5748" y="1917"/>
                  </a:lnTo>
                  <a:lnTo>
                    <a:pt x="5535" y="2004"/>
                  </a:lnTo>
                  <a:lnTo>
                    <a:pt x="5310" y="2083"/>
                  </a:lnTo>
                  <a:lnTo>
                    <a:pt x="5074" y="2157"/>
                  </a:lnTo>
                  <a:lnTo>
                    <a:pt x="4828" y="2223"/>
                  </a:lnTo>
                  <a:lnTo>
                    <a:pt x="4572" y="2283"/>
                  </a:lnTo>
                  <a:lnTo>
                    <a:pt x="4306" y="2338"/>
                  </a:lnTo>
                  <a:lnTo>
                    <a:pt x="4029" y="2387"/>
                  </a:lnTo>
                  <a:lnTo>
                    <a:pt x="3743" y="2431"/>
                  </a:lnTo>
                  <a:lnTo>
                    <a:pt x="3447" y="2470"/>
                  </a:lnTo>
                  <a:lnTo>
                    <a:pt x="3142" y="2505"/>
                  </a:lnTo>
                  <a:lnTo>
                    <a:pt x="2827" y="2535"/>
                  </a:lnTo>
                  <a:lnTo>
                    <a:pt x="2504" y="2562"/>
                  </a:lnTo>
                  <a:lnTo>
                    <a:pt x="2171" y="2585"/>
                  </a:lnTo>
                  <a:lnTo>
                    <a:pt x="1830" y="2604"/>
                  </a:lnTo>
                  <a:lnTo>
                    <a:pt x="1480" y="2621"/>
                  </a:lnTo>
                  <a:lnTo>
                    <a:pt x="1123" y="2635"/>
                  </a:lnTo>
                  <a:lnTo>
                    <a:pt x="756" y="2647"/>
                  </a:lnTo>
                  <a:lnTo>
                    <a:pt x="382" y="2657"/>
                  </a:lnTo>
                  <a:lnTo>
                    <a:pt x="0" y="2664"/>
                  </a:lnTo>
                  <a:lnTo>
                    <a:pt x="7465" y="2664"/>
                  </a:lnTo>
                  <a:lnTo>
                    <a:pt x="7465" y="0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350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94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254-DDCF-438F-AED8-DF004C1B5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440"/>
            <a:ext cx="9131400" cy="6843960"/>
            <a:chOff x="0" y="1440"/>
            <a:chExt cx="9131400" cy="6843960"/>
          </a:xfrm>
        </p:grpSpPr>
        <p:sp>
          <p:nvSpPr>
            <p:cNvPr id="46" name=""/>
            <p:cNvSpPr/>
            <p:nvPr/>
          </p:nvSpPr>
          <p:spPr>
            <a:xfrm>
              <a:off x="0" y="1440"/>
              <a:ext cx="9128160" cy="6843960"/>
            </a:xfrm>
            <a:prstGeom prst="rect">
              <a:avLst/>
            </a:prstGeom>
            <a:noFill/>
            <a:ln w="14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4680" y="1454040"/>
              <a:ext cx="9126720" cy="5389560"/>
            </a:xfrm>
            <a:custGeom>
              <a:avLst/>
              <a:gdLst/>
              <a:ahLst/>
              <a:rect l="l" t="t" r="r" b="b"/>
              <a:pathLst>
                <a:path w="17249" h="10185">
                  <a:moveTo>
                    <a:pt x="0" y="0"/>
                  </a:moveTo>
                  <a:lnTo>
                    <a:pt x="121" y="741"/>
                  </a:lnTo>
                  <a:lnTo>
                    <a:pt x="273" y="1445"/>
                  </a:lnTo>
                  <a:lnTo>
                    <a:pt x="456" y="2114"/>
                  </a:lnTo>
                  <a:lnTo>
                    <a:pt x="671" y="2750"/>
                  </a:lnTo>
                  <a:lnTo>
                    <a:pt x="916" y="3353"/>
                  </a:lnTo>
                  <a:lnTo>
                    <a:pt x="1191" y="3923"/>
                  </a:lnTo>
                  <a:lnTo>
                    <a:pt x="1495" y="4461"/>
                  </a:lnTo>
                  <a:lnTo>
                    <a:pt x="1828" y="4969"/>
                  </a:lnTo>
                  <a:lnTo>
                    <a:pt x="2190" y="5448"/>
                  </a:lnTo>
                  <a:lnTo>
                    <a:pt x="2579" y="5897"/>
                  </a:lnTo>
                  <a:lnTo>
                    <a:pt x="2995" y="6318"/>
                  </a:lnTo>
                  <a:lnTo>
                    <a:pt x="3439" y="6711"/>
                  </a:lnTo>
                  <a:lnTo>
                    <a:pt x="3910" y="7079"/>
                  </a:lnTo>
                  <a:lnTo>
                    <a:pt x="4406" y="7421"/>
                  </a:lnTo>
                  <a:lnTo>
                    <a:pt x="4928" y="7738"/>
                  </a:lnTo>
                  <a:lnTo>
                    <a:pt x="5475" y="8032"/>
                  </a:lnTo>
                  <a:lnTo>
                    <a:pt x="6046" y="8303"/>
                  </a:lnTo>
                  <a:lnTo>
                    <a:pt x="6643" y="8551"/>
                  </a:lnTo>
                  <a:lnTo>
                    <a:pt x="7261" y="8778"/>
                  </a:lnTo>
                  <a:lnTo>
                    <a:pt x="7904" y="8985"/>
                  </a:lnTo>
                  <a:lnTo>
                    <a:pt x="8569" y="9172"/>
                  </a:lnTo>
                  <a:lnTo>
                    <a:pt x="9257" y="9341"/>
                  </a:lnTo>
                  <a:lnTo>
                    <a:pt x="9966" y="9492"/>
                  </a:lnTo>
                  <a:lnTo>
                    <a:pt x="10697" y="9626"/>
                  </a:lnTo>
                  <a:lnTo>
                    <a:pt x="11448" y="9742"/>
                  </a:lnTo>
                  <a:lnTo>
                    <a:pt x="12220" y="9845"/>
                  </a:lnTo>
                  <a:lnTo>
                    <a:pt x="13011" y="9932"/>
                  </a:lnTo>
                  <a:lnTo>
                    <a:pt x="13821" y="10007"/>
                  </a:lnTo>
                  <a:lnTo>
                    <a:pt x="14652" y="10068"/>
                  </a:lnTo>
                  <a:lnTo>
                    <a:pt x="15500" y="10118"/>
                  </a:lnTo>
                  <a:lnTo>
                    <a:pt x="16366" y="10156"/>
                  </a:lnTo>
                  <a:lnTo>
                    <a:pt x="17249" y="10185"/>
                  </a:lnTo>
                  <a:lnTo>
                    <a:pt x="0" y="10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96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4680" y="2389320"/>
              <a:ext cx="9126720" cy="4454280"/>
            </a:xfrm>
            <a:custGeom>
              <a:avLst/>
              <a:gdLst/>
              <a:ahLst/>
              <a:rect l="l" t="t" r="r" b="b"/>
              <a:pathLst>
                <a:path w="17249" h="8420">
                  <a:moveTo>
                    <a:pt x="0" y="0"/>
                  </a:moveTo>
                  <a:lnTo>
                    <a:pt x="132" y="656"/>
                  </a:lnTo>
                  <a:lnTo>
                    <a:pt x="294" y="1277"/>
                  </a:lnTo>
                  <a:lnTo>
                    <a:pt x="487" y="1863"/>
                  </a:lnTo>
                  <a:lnTo>
                    <a:pt x="708" y="2417"/>
                  </a:lnTo>
                  <a:lnTo>
                    <a:pt x="960" y="2938"/>
                  </a:lnTo>
                  <a:lnTo>
                    <a:pt x="1239" y="3427"/>
                  </a:lnTo>
                  <a:lnTo>
                    <a:pt x="1547" y="3886"/>
                  </a:lnTo>
                  <a:lnTo>
                    <a:pt x="1883" y="4316"/>
                  </a:lnTo>
                  <a:lnTo>
                    <a:pt x="2246" y="4717"/>
                  </a:lnTo>
                  <a:lnTo>
                    <a:pt x="2636" y="5091"/>
                  </a:lnTo>
                  <a:lnTo>
                    <a:pt x="3053" y="5438"/>
                  </a:lnTo>
                  <a:lnTo>
                    <a:pt x="3497" y="5760"/>
                  </a:lnTo>
                  <a:lnTo>
                    <a:pt x="3965" y="6057"/>
                  </a:lnTo>
                  <a:lnTo>
                    <a:pt x="4460" y="6332"/>
                  </a:lnTo>
                  <a:lnTo>
                    <a:pt x="4979" y="6583"/>
                  </a:lnTo>
                  <a:lnTo>
                    <a:pt x="5524" y="6814"/>
                  </a:lnTo>
                  <a:lnTo>
                    <a:pt x="6092" y="7024"/>
                  </a:lnTo>
                  <a:lnTo>
                    <a:pt x="6685" y="7215"/>
                  </a:lnTo>
                  <a:lnTo>
                    <a:pt x="7300" y="7388"/>
                  </a:lnTo>
                  <a:lnTo>
                    <a:pt x="7939" y="7543"/>
                  </a:lnTo>
                  <a:lnTo>
                    <a:pt x="8600" y="7681"/>
                  </a:lnTo>
                  <a:lnTo>
                    <a:pt x="9283" y="7806"/>
                  </a:lnTo>
                  <a:lnTo>
                    <a:pt x="9988" y="7915"/>
                  </a:lnTo>
                  <a:lnTo>
                    <a:pt x="10715" y="8010"/>
                  </a:lnTo>
                  <a:lnTo>
                    <a:pt x="11463" y="8094"/>
                  </a:lnTo>
                  <a:lnTo>
                    <a:pt x="12231" y="8166"/>
                  </a:lnTo>
                  <a:lnTo>
                    <a:pt x="13019" y="8228"/>
                  </a:lnTo>
                  <a:lnTo>
                    <a:pt x="13827" y="8281"/>
                  </a:lnTo>
                  <a:lnTo>
                    <a:pt x="14654" y="8325"/>
                  </a:lnTo>
                  <a:lnTo>
                    <a:pt x="15501" y="8363"/>
                  </a:lnTo>
                  <a:lnTo>
                    <a:pt x="16366" y="8394"/>
                  </a:lnTo>
                  <a:lnTo>
                    <a:pt x="17249" y="8420"/>
                  </a:lnTo>
                  <a:lnTo>
                    <a:pt x="0" y="8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9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3135240" y="4680"/>
              <a:ext cx="5989680" cy="3086280"/>
            </a:xfrm>
            <a:custGeom>
              <a:avLst/>
              <a:gdLst/>
              <a:ahLst/>
              <a:rect l="l" t="t" r="r" b="b"/>
              <a:pathLst>
                <a:path w="11319" h="5832">
                  <a:moveTo>
                    <a:pt x="11319" y="5832"/>
                  </a:moveTo>
                  <a:lnTo>
                    <a:pt x="11239" y="5407"/>
                  </a:lnTo>
                  <a:lnTo>
                    <a:pt x="11140" y="5004"/>
                  </a:lnTo>
                  <a:lnTo>
                    <a:pt x="11019" y="4621"/>
                  </a:lnTo>
                  <a:lnTo>
                    <a:pt x="10879" y="4257"/>
                  </a:lnTo>
                  <a:lnTo>
                    <a:pt x="10718" y="3912"/>
                  </a:lnTo>
                  <a:lnTo>
                    <a:pt x="10537" y="3586"/>
                  </a:lnTo>
                  <a:lnTo>
                    <a:pt x="10338" y="3277"/>
                  </a:lnTo>
                  <a:lnTo>
                    <a:pt x="10119" y="2986"/>
                  </a:lnTo>
                  <a:lnTo>
                    <a:pt x="9882" y="2712"/>
                  </a:lnTo>
                  <a:lnTo>
                    <a:pt x="9627" y="2455"/>
                  </a:lnTo>
                  <a:lnTo>
                    <a:pt x="9353" y="2214"/>
                  </a:lnTo>
                  <a:lnTo>
                    <a:pt x="9062" y="1989"/>
                  </a:lnTo>
                  <a:lnTo>
                    <a:pt x="8753" y="1778"/>
                  </a:lnTo>
                  <a:lnTo>
                    <a:pt x="8427" y="1583"/>
                  </a:lnTo>
                  <a:lnTo>
                    <a:pt x="8085" y="1400"/>
                  </a:lnTo>
                  <a:lnTo>
                    <a:pt x="7726" y="1233"/>
                  </a:lnTo>
                  <a:lnTo>
                    <a:pt x="7351" y="1077"/>
                  </a:lnTo>
                  <a:lnTo>
                    <a:pt x="6960" y="935"/>
                  </a:lnTo>
                  <a:lnTo>
                    <a:pt x="6553" y="805"/>
                  </a:lnTo>
                  <a:lnTo>
                    <a:pt x="6132" y="686"/>
                  </a:lnTo>
                  <a:lnTo>
                    <a:pt x="5696" y="579"/>
                  </a:lnTo>
                  <a:lnTo>
                    <a:pt x="5244" y="483"/>
                  </a:lnTo>
                  <a:lnTo>
                    <a:pt x="4779" y="397"/>
                  </a:lnTo>
                  <a:lnTo>
                    <a:pt x="4299" y="320"/>
                  </a:lnTo>
                  <a:lnTo>
                    <a:pt x="3807" y="253"/>
                  </a:lnTo>
                  <a:lnTo>
                    <a:pt x="3300" y="194"/>
                  </a:lnTo>
                  <a:lnTo>
                    <a:pt x="2781" y="144"/>
                  </a:lnTo>
                  <a:lnTo>
                    <a:pt x="2250" y="101"/>
                  </a:lnTo>
                  <a:lnTo>
                    <a:pt x="1704" y="67"/>
                  </a:lnTo>
                  <a:lnTo>
                    <a:pt x="1148" y="38"/>
                  </a:lnTo>
                  <a:lnTo>
                    <a:pt x="580" y="16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5832"/>
                  </a:lnTo>
                  <a:close/>
                </a:path>
              </a:pathLst>
            </a:custGeom>
            <a:solidFill>
              <a:srgbClr val="aeb8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135240" y="4680"/>
              <a:ext cx="5989680" cy="2551320"/>
            </a:xfrm>
            <a:custGeom>
              <a:avLst/>
              <a:gdLst/>
              <a:ahLst/>
              <a:rect l="l" t="t" r="r" b="b"/>
              <a:pathLst>
                <a:path w="11319" h="4822">
                  <a:moveTo>
                    <a:pt x="11319" y="4822"/>
                  </a:moveTo>
                  <a:lnTo>
                    <a:pt x="11232" y="4446"/>
                  </a:lnTo>
                  <a:lnTo>
                    <a:pt x="11126" y="4090"/>
                  </a:lnTo>
                  <a:lnTo>
                    <a:pt x="11000" y="3754"/>
                  </a:lnTo>
                  <a:lnTo>
                    <a:pt x="10854" y="3438"/>
                  </a:lnTo>
                  <a:lnTo>
                    <a:pt x="10689" y="3139"/>
                  </a:lnTo>
                  <a:lnTo>
                    <a:pt x="10506" y="2859"/>
                  </a:lnTo>
                  <a:lnTo>
                    <a:pt x="10304" y="2595"/>
                  </a:lnTo>
                  <a:lnTo>
                    <a:pt x="10084" y="2350"/>
                  </a:lnTo>
                  <a:lnTo>
                    <a:pt x="9845" y="2120"/>
                  </a:lnTo>
                  <a:lnTo>
                    <a:pt x="9589" y="1907"/>
                  </a:lnTo>
                  <a:lnTo>
                    <a:pt x="9315" y="1707"/>
                  </a:lnTo>
                  <a:lnTo>
                    <a:pt x="9024" y="1523"/>
                  </a:lnTo>
                  <a:lnTo>
                    <a:pt x="8717" y="1353"/>
                  </a:lnTo>
                  <a:lnTo>
                    <a:pt x="8393" y="1195"/>
                  </a:lnTo>
                  <a:lnTo>
                    <a:pt x="8051" y="1051"/>
                  </a:lnTo>
                  <a:lnTo>
                    <a:pt x="7694" y="920"/>
                  </a:lnTo>
                  <a:lnTo>
                    <a:pt x="7321" y="799"/>
                  </a:lnTo>
                  <a:lnTo>
                    <a:pt x="6932" y="690"/>
                  </a:lnTo>
                  <a:lnTo>
                    <a:pt x="6528" y="590"/>
                  </a:lnTo>
                  <a:lnTo>
                    <a:pt x="6109" y="502"/>
                  </a:lnTo>
                  <a:lnTo>
                    <a:pt x="5675" y="423"/>
                  </a:lnTo>
                  <a:lnTo>
                    <a:pt x="5227" y="352"/>
                  </a:lnTo>
                  <a:lnTo>
                    <a:pt x="4765" y="289"/>
                  </a:lnTo>
                  <a:lnTo>
                    <a:pt x="4287" y="234"/>
                  </a:lnTo>
                  <a:lnTo>
                    <a:pt x="3797" y="186"/>
                  </a:lnTo>
                  <a:lnTo>
                    <a:pt x="3293" y="145"/>
                  </a:lnTo>
                  <a:lnTo>
                    <a:pt x="2775" y="110"/>
                  </a:lnTo>
                  <a:lnTo>
                    <a:pt x="2245" y="79"/>
                  </a:lnTo>
                  <a:lnTo>
                    <a:pt x="1703" y="54"/>
                  </a:lnTo>
                  <a:lnTo>
                    <a:pt x="1147" y="32"/>
                  </a:lnTo>
                  <a:lnTo>
                    <a:pt x="580" y="15"/>
                  </a:lnTo>
                  <a:lnTo>
                    <a:pt x="0" y="0"/>
                  </a:lnTo>
                  <a:lnTo>
                    <a:pt x="11319" y="0"/>
                  </a:lnTo>
                  <a:lnTo>
                    <a:pt x="11319" y="4822"/>
                  </a:lnTo>
                  <a:close/>
                </a:path>
              </a:pathLst>
            </a:custGeom>
            <a:solidFill>
              <a:srgbClr val="8e8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9480" y="6070680"/>
              <a:ext cx="270000" cy="361800"/>
            </a:xfrm>
            <a:prstGeom prst="rect">
              <a:avLst/>
            </a:prstGeom>
            <a:solidFill>
              <a:srgbClr val="42b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91640" y="6070680"/>
              <a:ext cx="387360" cy="361800"/>
            </a:xfrm>
            <a:prstGeom prst="rect">
              <a:avLst/>
            </a:prstGeom>
            <a:solidFill>
              <a:srgbClr val="009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53360" y="6070680"/>
              <a:ext cx="185760" cy="361800"/>
            </a:xfrm>
            <a:prstGeom prst="rect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488440" y="5872320"/>
              <a:ext cx="388800" cy="758520"/>
            </a:xfrm>
            <a:custGeom>
              <a:avLst/>
              <a:gdLst/>
              <a:ahLst/>
              <a:rect l="l" t="t" r="r" b="b"/>
              <a:pathLst>
                <a:path w="736" h="1435">
                  <a:moveTo>
                    <a:pt x="0" y="0"/>
                  </a:moveTo>
                  <a:lnTo>
                    <a:pt x="736" y="716"/>
                  </a:lnTo>
                  <a:lnTo>
                    <a:pt x="0" y="14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144440" y="334800"/>
              <a:ext cx="203400" cy="203400"/>
            </a:xfrm>
            <a:custGeom>
              <a:avLst/>
              <a:gdLst/>
              <a:ahLst/>
              <a:rect l="l" t="t" r="r" b="b"/>
              <a:pathLst>
                <a:path w="386" h="386">
                  <a:moveTo>
                    <a:pt x="386" y="193"/>
                  </a:moveTo>
                  <a:lnTo>
                    <a:pt x="386" y="174"/>
                  </a:lnTo>
                  <a:lnTo>
                    <a:pt x="382" y="154"/>
                  </a:lnTo>
                  <a:lnTo>
                    <a:pt x="377" y="136"/>
                  </a:lnTo>
                  <a:lnTo>
                    <a:pt x="371" y="117"/>
                  </a:lnTo>
                  <a:lnTo>
                    <a:pt x="363" y="101"/>
                  </a:lnTo>
                  <a:lnTo>
                    <a:pt x="353" y="85"/>
                  </a:lnTo>
                  <a:lnTo>
                    <a:pt x="343" y="70"/>
                  </a:lnTo>
                  <a:lnTo>
                    <a:pt x="330" y="56"/>
                  </a:lnTo>
                  <a:lnTo>
                    <a:pt x="316" y="44"/>
                  </a:lnTo>
                  <a:lnTo>
                    <a:pt x="300" y="32"/>
                  </a:lnTo>
                  <a:lnTo>
                    <a:pt x="285" y="23"/>
                  </a:lnTo>
                  <a:lnTo>
                    <a:pt x="268" y="15"/>
                  </a:lnTo>
                  <a:lnTo>
                    <a:pt x="251" y="8"/>
                  </a:lnTo>
                  <a:lnTo>
                    <a:pt x="232" y="4"/>
                  </a:lnTo>
                  <a:lnTo>
                    <a:pt x="213" y="1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5" y="4"/>
                  </a:lnTo>
                  <a:lnTo>
                    <a:pt x="135" y="8"/>
                  </a:lnTo>
                  <a:lnTo>
                    <a:pt x="118" y="15"/>
                  </a:lnTo>
                  <a:lnTo>
                    <a:pt x="101" y="23"/>
                  </a:lnTo>
                  <a:lnTo>
                    <a:pt x="85" y="32"/>
                  </a:lnTo>
                  <a:lnTo>
                    <a:pt x="70" y="44"/>
                  </a:lnTo>
                  <a:lnTo>
                    <a:pt x="56" y="56"/>
                  </a:lnTo>
                  <a:lnTo>
                    <a:pt x="44" y="70"/>
                  </a:lnTo>
                  <a:lnTo>
                    <a:pt x="33" y="85"/>
                  </a:lnTo>
                  <a:lnTo>
                    <a:pt x="23" y="101"/>
                  </a:lnTo>
                  <a:lnTo>
                    <a:pt x="15" y="117"/>
                  </a:lnTo>
                  <a:lnTo>
                    <a:pt x="9" y="136"/>
                  </a:lnTo>
                  <a:lnTo>
                    <a:pt x="3" y="154"/>
                  </a:lnTo>
                  <a:lnTo>
                    <a:pt x="1" y="174"/>
                  </a:lnTo>
                  <a:lnTo>
                    <a:pt x="0" y="193"/>
                  </a:lnTo>
                  <a:lnTo>
                    <a:pt x="1" y="212"/>
                  </a:lnTo>
                  <a:lnTo>
                    <a:pt x="3" y="232"/>
                  </a:lnTo>
                  <a:lnTo>
                    <a:pt x="9" y="250"/>
                  </a:lnTo>
                  <a:lnTo>
                    <a:pt x="15" y="267"/>
                  </a:lnTo>
                  <a:lnTo>
                    <a:pt x="23" y="285"/>
                  </a:lnTo>
                  <a:lnTo>
                    <a:pt x="33" y="301"/>
                  </a:lnTo>
                  <a:lnTo>
                    <a:pt x="44" y="315"/>
                  </a:lnTo>
                  <a:lnTo>
                    <a:pt x="56" y="329"/>
                  </a:lnTo>
                  <a:lnTo>
                    <a:pt x="70" y="342"/>
                  </a:lnTo>
                  <a:lnTo>
                    <a:pt x="85" y="353"/>
                  </a:lnTo>
                  <a:lnTo>
                    <a:pt x="101" y="363"/>
                  </a:lnTo>
                  <a:lnTo>
                    <a:pt x="118" y="371"/>
                  </a:lnTo>
                  <a:lnTo>
                    <a:pt x="135" y="378"/>
                  </a:lnTo>
                  <a:lnTo>
                    <a:pt x="155" y="382"/>
                  </a:lnTo>
                  <a:lnTo>
                    <a:pt x="173" y="385"/>
                  </a:lnTo>
                  <a:lnTo>
                    <a:pt x="193" y="386"/>
                  </a:lnTo>
                  <a:lnTo>
                    <a:pt x="213" y="385"/>
                  </a:lnTo>
                  <a:lnTo>
                    <a:pt x="232" y="382"/>
                  </a:lnTo>
                  <a:lnTo>
                    <a:pt x="251" y="378"/>
                  </a:lnTo>
                  <a:lnTo>
                    <a:pt x="268" y="371"/>
                  </a:lnTo>
                  <a:lnTo>
                    <a:pt x="285" y="363"/>
                  </a:lnTo>
                  <a:lnTo>
                    <a:pt x="300" y="353"/>
                  </a:lnTo>
                  <a:lnTo>
                    <a:pt x="316" y="342"/>
                  </a:lnTo>
                  <a:lnTo>
                    <a:pt x="330" y="329"/>
                  </a:lnTo>
                  <a:lnTo>
                    <a:pt x="343" y="315"/>
                  </a:lnTo>
                  <a:lnTo>
                    <a:pt x="353" y="301"/>
                  </a:lnTo>
                  <a:lnTo>
                    <a:pt x="363" y="285"/>
                  </a:lnTo>
                  <a:lnTo>
                    <a:pt x="371" y="267"/>
                  </a:lnTo>
                  <a:lnTo>
                    <a:pt x="377" y="250"/>
                  </a:lnTo>
                  <a:lnTo>
                    <a:pt x="382" y="232"/>
                  </a:lnTo>
                  <a:lnTo>
                    <a:pt x="386" y="212"/>
                  </a:lnTo>
                  <a:lnTo>
                    <a:pt x="386" y="193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93720" y="314280"/>
              <a:ext cx="246240" cy="244440"/>
            </a:xfrm>
            <a:custGeom>
              <a:avLst/>
              <a:gdLst/>
              <a:ahLst/>
              <a:rect l="l" t="t" r="r" b="b"/>
              <a:pathLst>
                <a:path w="465" h="463">
                  <a:moveTo>
                    <a:pt x="465" y="232"/>
                  </a:moveTo>
                  <a:lnTo>
                    <a:pt x="465" y="220"/>
                  </a:lnTo>
                  <a:lnTo>
                    <a:pt x="464" y="208"/>
                  </a:lnTo>
                  <a:lnTo>
                    <a:pt x="461" y="196"/>
                  </a:lnTo>
                  <a:lnTo>
                    <a:pt x="460" y="186"/>
                  </a:lnTo>
                  <a:lnTo>
                    <a:pt x="457" y="174"/>
                  </a:lnTo>
                  <a:lnTo>
                    <a:pt x="454" y="163"/>
                  </a:lnTo>
                  <a:lnTo>
                    <a:pt x="451" y="152"/>
                  </a:lnTo>
                  <a:lnTo>
                    <a:pt x="446" y="141"/>
                  </a:lnTo>
                  <a:lnTo>
                    <a:pt x="442" y="132"/>
                  </a:lnTo>
                  <a:lnTo>
                    <a:pt x="437" y="122"/>
                  </a:lnTo>
                  <a:lnTo>
                    <a:pt x="431" y="112"/>
                  </a:lnTo>
                  <a:lnTo>
                    <a:pt x="425" y="102"/>
                  </a:lnTo>
                  <a:lnTo>
                    <a:pt x="412" y="84"/>
                  </a:lnTo>
                  <a:lnTo>
                    <a:pt x="397" y="68"/>
                  </a:lnTo>
                  <a:lnTo>
                    <a:pt x="380" y="53"/>
                  </a:lnTo>
                  <a:lnTo>
                    <a:pt x="362" y="40"/>
                  </a:lnTo>
                  <a:lnTo>
                    <a:pt x="352" y="33"/>
                  </a:lnTo>
                  <a:lnTo>
                    <a:pt x="343" y="28"/>
                  </a:lnTo>
                  <a:lnTo>
                    <a:pt x="333" y="22"/>
                  </a:lnTo>
                  <a:lnTo>
                    <a:pt x="323" y="18"/>
                  </a:lnTo>
                  <a:lnTo>
                    <a:pt x="312" y="14"/>
                  </a:lnTo>
                  <a:lnTo>
                    <a:pt x="302" y="11"/>
                  </a:lnTo>
                  <a:lnTo>
                    <a:pt x="291" y="7"/>
                  </a:lnTo>
                  <a:lnTo>
                    <a:pt x="279" y="4"/>
                  </a:lnTo>
                  <a:lnTo>
                    <a:pt x="268" y="3"/>
                  </a:lnTo>
                  <a:lnTo>
                    <a:pt x="256" y="1"/>
                  </a:lnTo>
                  <a:lnTo>
                    <a:pt x="244" y="0"/>
                  </a:lnTo>
                  <a:lnTo>
                    <a:pt x="232" y="0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8" y="3"/>
                  </a:lnTo>
                  <a:lnTo>
                    <a:pt x="186" y="4"/>
                  </a:lnTo>
                  <a:lnTo>
                    <a:pt x="175" y="7"/>
                  </a:lnTo>
                  <a:lnTo>
                    <a:pt x="163" y="11"/>
                  </a:lnTo>
                  <a:lnTo>
                    <a:pt x="152" y="14"/>
                  </a:lnTo>
                  <a:lnTo>
                    <a:pt x="143" y="18"/>
                  </a:lnTo>
                  <a:lnTo>
                    <a:pt x="132" y="22"/>
                  </a:lnTo>
                  <a:lnTo>
                    <a:pt x="122" y="28"/>
                  </a:lnTo>
                  <a:lnTo>
                    <a:pt x="113" y="33"/>
                  </a:lnTo>
                  <a:lnTo>
                    <a:pt x="103" y="40"/>
                  </a:lnTo>
                  <a:lnTo>
                    <a:pt x="86" y="53"/>
                  </a:lnTo>
                  <a:lnTo>
                    <a:pt x="68" y="68"/>
                  </a:lnTo>
                  <a:lnTo>
                    <a:pt x="54" y="84"/>
                  </a:lnTo>
                  <a:lnTo>
                    <a:pt x="40" y="102"/>
                  </a:lnTo>
                  <a:lnTo>
                    <a:pt x="35" y="112"/>
                  </a:lnTo>
                  <a:lnTo>
                    <a:pt x="28" y="122"/>
                  </a:lnTo>
                  <a:lnTo>
                    <a:pt x="24" y="132"/>
                  </a:lnTo>
                  <a:lnTo>
                    <a:pt x="19" y="141"/>
                  </a:lnTo>
                  <a:lnTo>
                    <a:pt x="15" y="152"/>
                  </a:lnTo>
                  <a:lnTo>
                    <a:pt x="11" y="163"/>
                  </a:lnTo>
                  <a:lnTo>
                    <a:pt x="8" y="174"/>
                  </a:lnTo>
                  <a:lnTo>
                    <a:pt x="6" y="186"/>
                  </a:lnTo>
                  <a:lnTo>
                    <a:pt x="3" y="196"/>
                  </a:lnTo>
                  <a:lnTo>
                    <a:pt x="2" y="208"/>
                  </a:lnTo>
                  <a:lnTo>
                    <a:pt x="1" y="220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6" y="278"/>
                  </a:lnTo>
                  <a:lnTo>
                    <a:pt x="8" y="289"/>
                  </a:lnTo>
                  <a:lnTo>
                    <a:pt x="11" y="301"/>
                  </a:lnTo>
                  <a:lnTo>
                    <a:pt x="15" y="311"/>
                  </a:lnTo>
                  <a:lnTo>
                    <a:pt x="19" y="322"/>
                  </a:lnTo>
                  <a:lnTo>
                    <a:pt x="24" y="332"/>
                  </a:lnTo>
                  <a:lnTo>
                    <a:pt x="28" y="342"/>
                  </a:lnTo>
                  <a:lnTo>
                    <a:pt x="35" y="352"/>
                  </a:lnTo>
                  <a:lnTo>
                    <a:pt x="40" y="362"/>
                  </a:lnTo>
                  <a:lnTo>
                    <a:pt x="54" y="379"/>
                  </a:lnTo>
                  <a:lnTo>
                    <a:pt x="68" y="395"/>
                  </a:lnTo>
                  <a:lnTo>
                    <a:pt x="86" y="410"/>
                  </a:lnTo>
                  <a:lnTo>
                    <a:pt x="103" y="424"/>
                  </a:lnTo>
                  <a:lnTo>
                    <a:pt x="113" y="430"/>
                  </a:lnTo>
                  <a:lnTo>
                    <a:pt x="122" y="436"/>
                  </a:lnTo>
                  <a:lnTo>
                    <a:pt x="132" y="440"/>
                  </a:lnTo>
                  <a:lnTo>
                    <a:pt x="143" y="446"/>
                  </a:lnTo>
                  <a:lnTo>
                    <a:pt x="152" y="449"/>
                  </a:lnTo>
                  <a:lnTo>
                    <a:pt x="163" y="453"/>
                  </a:lnTo>
                  <a:lnTo>
                    <a:pt x="175" y="457"/>
                  </a:lnTo>
                  <a:lnTo>
                    <a:pt x="186" y="459"/>
                  </a:lnTo>
                  <a:lnTo>
                    <a:pt x="198" y="461"/>
                  </a:lnTo>
                  <a:lnTo>
                    <a:pt x="209" y="462"/>
                  </a:lnTo>
                  <a:lnTo>
                    <a:pt x="221" y="463"/>
                  </a:lnTo>
                  <a:lnTo>
                    <a:pt x="232" y="463"/>
                  </a:lnTo>
                  <a:lnTo>
                    <a:pt x="244" y="463"/>
                  </a:lnTo>
                  <a:lnTo>
                    <a:pt x="256" y="462"/>
                  </a:lnTo>
                  <a:lnTo>
                    <a:pt x="268" y="461"/>
                  </a:lnTo>
                  <a:lnTo>
                    <a:pt x="279" y="459"/>
                  </a:lnTo>
                  <a:lnTo>
                    <a:pt x="291" y="457"/>
                  </a:lnTo>
                  <a:lnTo>
                    <a:pt x="302" y="453"/>
                  </a:lnTo>
                  <a:lnTo>
                    <a:pt x="312" y="449"/>
                  </a:lnTo>
                  <a:lnTo>
                    <a:pt x="323" y="446"/>
                  </a:lnTo>
                  <a:lnTo>
                    <a:pt x="333" y="440"/>
                  </a:lnTo>
                  <a:lnTo>
                    <a:pt x="343" y="436"/>
                  </a:lnTo>
                  <a:lnTo>
                    <a:pt x="352" y="430"/>
                  </a:lnTo>
                  <a:lnTo>
                    <a:pt x="362" y="424"/>
                  </a:lnTo>
                  <a:lnTo>
                    <a:pt x="380" y="410"/>
                  </a:lnTo>
                  <a:lnTo>
                    <a:pt x="397" y="395"/>
                  </a:lnTo>
                  <a:lnTo>
                    <a:pt x="412" y="379"/>
                  </a:lnTo>
                  <a:lnTo>
                    <a:pt x="425" y="362"/>
                  </a:lnTo>
                  <a:lnTo>
                    <a:pt x="431" y="352"/>
                  </a:lnTo>
                  <a:lnTo>
                    <a:pt x="437" y="342"/>
                  </a:lnTo>
                  <a:lnTo>
                    <a:pt x="442" y="332"/>
                  </a:lnTo>
                  <a:lnTo>
                    <a:pt x="446" y="322"/>
                  </a:lnTo>
                  <a:lnTo>
                    <a:pt x="451" y="311"/>
                  </a:lnTo>
                  <a:lnTo>
                    <a:pt x="454" y="301"/>
                  </a:lnTo>
                  <a:lnTo>
                    <a:pt x="457" y="289"/>
                  </a:lnTo>
                  <a:lnTo>
                    <a:pt x="460" y="278"/>
                  </a:lnTo>
                  <a:lnTo>
                    <a:pt x="461" y="267"/>
                  </a:lnTo>
                  <a:lnTo>
                    <a:pt x="464" y="256"/>
                  </a:lnTo>
                  <a:lnTo>
                    <a:pt x="465" y="244"/>
                  </a:lnTo>
                  <a:lnTo>
                    <a:pt x="465" y="232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46240" y="293760"/>
              <a:ext cx="287280" cy="285840"/>
            </a:xfrm>
            <a:custGeom>
              <a:avLst/>
              <a:gdLst/>
              <a:ahLst/>
              <a:rect l="l" t="t" r="r" b="b"/>
              <a:pathLst>
                <a:path w="542" h="541">
                  <a:moveTo>
                    <a:pt x="542" y="271"/>
                  </a:moveTo>
                  <a:lnTo>
                    <a:pt x="542" y="257"/>
                  </a:lnTo>
                  <a:lnTo>
                    <a:pt x="540" y="243"/>
                  </a:lnTo>
                  <a:lnTo>
                    <a:pt x="538" y="230"/>
                  </a:lnTo>
                  <a:lnTo>
                    <a:pt x="536" y="216"/>
                  </a:lnTo>
                  <a:lnTo>
                    <a:pt x="533" y="203"/>
                  </a:lnTo>
                  <a:lnTo>
                    <a:pt x="530" y="190"/>
                  </a:lnTo>
                  <a:lnTo>
                    <a:pt x="525" y="178"/>
                  </a:lnTo>
                  <a:lnTo>
                    <a:pt x="520" y="165"/>
                  </a:lnTo>
                  <a:lnTo>
                    <a:pt x="515" y="153"/>
                  </a:lnTo>
                  <a:lnTo>
                    <a:pt x="509" y="142"/>
                  </a:lnTo>
                  <a:lnTo>
                    <a:pt x="503" y="131"/>
                  </a:lnTo>
                  <a:lnTo>
                    <a:pt x="495" y="120"/>
                  </a:lnTo>
                  <a:lnTo>
                    <a:pt x="488" y="109"/>
                  </a:lnTo>
                  <a:lnTo>
                    <a:pt x="480" y="99"/>
                  </a:lnTo>
                  <a:lnTo>
                    <a:pt x="471" y="90"/>
                  </a:lnTo>
                  <a:lnTo>
                    <a:pt x="462" y="80"/>
                  </a:lnTo>
                  <a:lnTo>
                    <a:pt x="453" y="70"/>
                  </a:lnTo>
                  <a:lnTo>
                    <a:pt x="443" y="63"/>
                  </a:lnTo>
                  <a:lnTo>
                    <a:pt x="432" y="54"/>
                  </a:lnTo>
                  <a:lnTo>
                    <a:pt x="422" y="46"/>
                  </a:lnTo>
                  <a:lnTo>
                    <a:pt x="411" y="40"/>
                  </a:lnTo>
                  <a:lnTo>
                    <a:pt x="400" y="33"/>
                  </a:lnTo>
                  <a:lnTo>
                    <a:pt x="388" y="27"/>
                  </a:lnTo>
                  <a:lnTo>
                    <a:pt x="376" y="22"/>
                  </a:lnTo>
                  <a:lnTo>
                    <a:pt x="363" y="17"/>
                  </a:lnTo>
                  <a:lnTo>
                    <a:pt x="351" y="13"/>
                  </a:lnTo>
                  <a:lnTo>
                    <a:pt x="339" y="9"/>
                  </a:lnTo>
                  <a:lnTo>
                    <a:pt x="326" y="5"/>
                  </a:lnTo>
                  <a:lnTo>
                    <a:pt x="312" y="3"/>
                  </a:lnTo>
                  <a:lnTo>
                    <a:pt x="299" y="2"/>
                  </a:lnTo>
                  <a:lnTo>
                    <a:pt x="285" y="1"/>
                  </a:lnTo>
                  <a:lnTo>
                    <a:pt x="270" y="0"/>
                  </a:lnTo>
                  <a:lnTo>
                    <a:pt x="258" y="1"/>
                  </a:lnTo>
                  <a:lnTo>
                    <a:pt x="243" y="2"/>
                  </a:lnTo>
                  <a:lnTo>
                    <a:pt x="229" y="3"/>
                  </a:lnTo>
                  <a:lnTo>
                    <a:pt x="216" y="5"/>
                  </a:lnTo>
                  <a:lnTo>
                    <a:pt x="204" y="9"/>
                  </a:lnTo>
                  <a:lnTo>
                    <a:pt x="191" y="13"/>
                  </a:lnTo>
                  <a:lnTo>
                    <a:pt x="178" y="17"/>
                  </a:lnTo>
                  <a:lnTo>
                    <a:pt x="166" y="22"/>
                  </a:lnTo>
                  <a:lnTo>
                    <a:pt x="154" y="27"/>
                  </a:lnTo>
                  <a:lnTo>
                    <a:pt x="142" y="33"/>
                  </a:lnTo>
                  <a:lnTo>
                    <a:pt x="131" y="40"/>
                  </a:lnTo>
                  <a:lnTo>
                    <a:pt x="120" y="46"/>
                  </a:lnTo>
                  <a:lnTo>
                    <a:pt x="110" y="54"/>
                  </a:lnTo>
                  <a:lnTo>
                    <a:pt x="99" y="63"/>
                  </a:lnTo>
                  <a:lnTo>
                    <a:pt x="89" y="70"/>
                  </a:lnTo>
                  <a:lnTo>
                    <a:pt x="79" y="80"/>
                  </a:lnTo>
                  <a:lnTo>
                    <a:pt x="71" y="90"/>
                  </a:lnTo>
                  <a:lnTo>
                    <a:pt x="62" y="99"/>
                  </a:lnTo>
                  <a:lnTo>
                    <a:pt x="54" y="109"/>
                  </a:lnTo>
                  <a:lnTo>
                    <a:pt x="47" y="120"/>
                  </a:lnTo>
                  <a:lnTo>
                    <a:pt x="39" y="131"/>
                  </a:lnTo>
                  <a:lnTo>
                    <a:pt x="33" y="142"/>
                  </a:lnTo>
                  <a:lnTo>
                    <a:pt x="27" y="153"/>
                  </a:lnTo>
                  <a:lnTo>
                    <a:pt x="22" y="165"/>
                  </a:lnTo>
                  <a:lnTo>
                    <a:pt x="17" y="178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6" y="216"/>
                  </a:lnTo>
                  <a:lnTo>
                    <a:pt x="4" y="230"/>
                  </a:lnTo>
                  <a:lnTo>
                    <a:pt x="2" y="243"/>
                  </a:lnTo>
                  <a:lnTo>
                    <a:pt x="0" y="257"/>
                  </a:lnTo>
                  <a:lnTo>
                    <a:pt x="0" y="271"/>
                  </a:lnTo>
                  <a:lnTo>
                    <a:pt x="0" y="285"/>
                  </a:lnTo>
                  <a:lnTo>
                    <a:pt x="2" y="298"/>
                  </a:lnTo>
                  <a:lnTo>
                    <a:pt x="4" y="312"/>
                  </a:lnTo>
                  <a:lnTo>
                    <a:pt x="6" y="325"/>
                  </a:lnTo>
                  <a:lnTo>
                    <a:pt x="9" y="338"/>
                  </a:lnTo>
                  <a:lnTo>
                    <a:pt x="12" y="351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27" y="388"/>
                  </a:lnTo>
                  <a:lnTo>
                    <a:pt x="33" y="399"/>
                  </a:lnTo>
                  <a:lnTo>
                    <a:pt x="39" y="411"/>
                  </a:lnTo>
                  <a:lnTo>
                    <a:pt x="47" y="422"/>
                  </a:lnTo>
                  <a:lnTo>
                    <a:pt x="54" y="432"/>
                  </a:lnTo>
                  <a:lnTo>
                    <a:pt x="62" y="443"/>
                  </a:lnTo>
                  <a:lnTo>
                    <a:pt x="71" y="452"/>
                  </a:lnTo>
                  <a:lnTo>
                    <a:pt x="79" y="462"/>
                  </a:lnTo>
                  <a:lnTo>
                    <a:pt x="89" y="471"/>
                  </a:lnTo>
                  <a:lnTo>
                    <a:pt x="99" y="479"/>
                  </a:lnTo>
                  <a:lnTo>
                    <a:pt x="110" y="487"/>
                  </a:lnTo>
                  <a:lnTo>
                    <a:pt x="120" y="494"/>
                  </a:lnTo>
                  <a:lnTo>
                    <a:pt x="131" y="502"/>
                  </a:lnTo>
                  <a:lnTo>
                    <a:pt x="142" y="509"/>
                  </a:lnTo>
                  <a:lnTo>
                    <a:pt x="154" y="515"/>
                  </a:lnTo>
                  <a:lnTo>
                    <a:pt x="166" y="520"/>
                  </a:lnTo>
                  <a:lnTo>
                    <a:pt x="178" y="525"/>
                  </a:lnTo>
                  <a:lnTo>
                    <a:pt x="191" y="529"/>
                  </a:lnTo>
                  <a:lnTo>
                    <a:pt x="204" y="532"/>
                  </a:lnTo>
                  <a:lnTo>
                    <a:pt x="216" y="536"/>
                  </a:lnTo>
                  <a:lnTo>
                    <a:pt x="229" y="538"/>
                  </a:lnTo>
                  <a:lnTo>
                    <a:pt x="243" y="540"/>
                  </a:lnTo>
                  <a:lnTo>
                    <a:pt x="258" y="541"/>
                  </a:lnTo>
                  <a:lnTo>
                    <a:pt x="270" y="541"/>
                  </a:lnTo>
                  <a:lnTo>
                    <a:pt x="285" y="541"/>
                  </a:lnTo>
                  <a:lnTo>
                    <a:pt x="299" y="540"/>
                  </a:lnTo>
                  <a:lnTo>
                    <a:pt x="312" y="538"/>
                  </a:lnTo>
                  <a:lnTo>
                    <a:pt x="326" y="536"/>
                  </a:lnTo>
                  <a:lnTo>
                    <a:pt x="339" y="532"/>
                  </a:lnTo>
                  <a:lnTo>
                    <a:pt x="351" y="529"/>
                  </a:lnTo>
                  <a:lnTo>
                    <a:pt x="363" y="525"/>
                  </a:lnTo>
                  <a:lnTo>
                    <a:pt x="376" y="520"/>
                  </a:lnTo>
                  <a:lnTo>
                    <a:pt x="388" y="515"/>
                  </a:lnTo>
                  <a:lnTo>
                    <a:pt x="400" y="509"/>
                  </a:lnTo>
                  <a:lnTo>
                    <a:pt x="411" y="502"/>
                  </a:lnTo>
                  <a:lnTo>
                    <a:pt x="422" y="494"/>
                  </a:lnTo>
                  <a:lnTo>
                    <a:pt x="432" y="487"/>
                  </a:lnTo>
                  <a:lnTo>
                    <a:pt x="443" y="479"/>
                  </a:lnTo>
                  <a:lnTo>
                    <a:pt x="453" y="471"/>
                  </a:lnTo>
                  <a:lnTo>
                    <a:pt x="462" y="462"/>
                  </a:lnTo>
                  <a:lnTo>
                    <a:pt x="471" y="452"/>
                  </a:lnTo>
                  <a:lnTo>
                    <a:pt x="480" y="443"/>
                  </a:lnTo>
                  <a:lnTo>
                    <a:pt x="488" y="432"/>
                  </a:lnTo>
                  <a:lnTo>
                    <a:pt x="495" y="422"/>
                  </a:lnTo>
                  <a:lnTo>
                    <a:pt x="503" y="411"/>
                  </a:lnTo>
                  <a:lnTo>
                    <a:pt x="509" y="399"/>
                  </a:lnTo>
                  <a:lnTo>
                    <a:pt x="515" y="388"/>
                  </a:lnTo>
                  <a:lnTo>
                    <a:pt x="520" y="376"/>
                  </a:lnTo>
                  <a:lnTo>
                    <a:pt x="525" y="364"/>
                  </a:lnTo>
                  <a:lnTo>
                    <a:pt x="530" y="351"/>
                  </a:lnTo>
                  <a:lnTo>
                    <a:pt x="533" y="338"/>
                  </a:lnTo>
                  <a:lnTo>
                    <a:pt x="536" y="325"/>
                  </a:lnTo>
                  <a:lnTo>
                    <a:pt x="538" y="312"/>
                  </a:lnTo>
                  <a:lnTo>
                    <a:pt x="540" y="298"/>
                  </a:lnTo>
                  <a:lnTo>
                    <a:pt x="542" y="285"/>
                  </a:lnTo>
                  <a:lnTo>
                    <a:pt x="542" y="271"/>
                  </a:lnTo>
                  <a:close/>
                </a:path>
              </a:pathLst>
            </a:cu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56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4"/>
          </p:nvPr>
        </p:nvSpPr>
        <p:spPr>
          <a:xfrm>
            <a:off x="3240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22AF-034C-4CF3-AABC-BCB0CA7E4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财务状况报告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司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AD64B-AC08-4BC2-A14B-0784A3BA811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调整与变革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整计划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整计划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整计划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589E0-FE77-42E8-AE50-846B3B5149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目标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年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未来总体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C107-4839-47C9-B636-7343ED7EB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8169-A587-444E-AED3-C30903B5D7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回顾与分析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937F7-0355-434D-B8E2-CA9330156EBC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市场回顾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总体市场发展回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市场销售量增长与衰退状况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大环境下的机遇与挑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5F915-0FF6-4EFD-B7D6-C4EE47AF6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业绩回顾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财年整体营业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纯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核心业务增幅与市场占有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增业务发展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B527-2D04-4050-902B-EB9D5DEECA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业绩概要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484280"/>
          <a:ext cx="8229600" cy="4696920"/>
        </p:xfrm>
        <a:graphic>
          <a:graphicData uri="http://schemas.openxmlformats.org/drawingml/2006/table">
            <a:tbl>
              <a:tblPr/>
              <a:tblGrid>
                <a:gridCol w="3538440"/>
                <a:gridCol w="1656000"/>
                <a:gridCol w="1584360"/>
                <a:gridCol w="145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货币单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/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变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营业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整体毛利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除利息、税项、折旧及摊销前经营利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股东应占利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股东回报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末期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B4AC-CE44-432B-BD69-2BCA9FB5C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财年营业额分布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68240" y="404640"/>
          <a:ext cx="7620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404640"/>
                    <a:ext cx="7620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EA1E8-402C-4FC2-A66C-996B5949B9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各项对比分析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财年综合损益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要业务毛利率分析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营费用分析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综合资产负债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E56C-D685-4ABC-A340-64AD4118A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主要财务数据一览表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货币单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/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现金储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银行债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净现金储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净有形资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资本性输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流动比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存货周转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收帐周转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付帐周转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F30F-37A7-48E8-B7F3-49537914A1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568"/>
                </a:solidFill>
                <a:latin typeface="Arial"/>
              </a:rPr>
              <a:t>未来展望</a:t>
            </a:r>
            <a:endParaRPr b="1" lang="en-US" sz="4400" spc="-1" strike="noStrike">
              <a:solidFill>
                <a:srgbClr val="0045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公司Log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14705-A2E0-4FC8-B634-2704F161C3B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6:44Z</dcterms:created>
  <dc:creator>http://www.eeppt.com</dc:creator>
  <dc:description>ppt模板下载网站 http://www.eeppt.com</dc:description>
  <dc:language>en-US</dc:language>
  <cp:lastModifiedBy/>
  <dcterms:modified xsi:type="dcterms:W3CDTF">2015-06-13T08:43:4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