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A25-F771-4A75-A8D0-52FED141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FD7-AEB8-4EC5-B296-454BB66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7D0-98A5-4A32-8A45-1DC232C2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885-CA4B-4880-953D-7127F93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D2D-9D3C-49C1-8638-C1546E4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D33-294B-4680-86AC-580D510C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E60-04C8-4E1A-841C-AE7FA6C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1B5-CC51-4433-AEF1-8229C854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B59-9687-460F-B134-135247B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97C-14E1-41E9-B532-A1F3C23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A06-932D-4CA6-9542-634E299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243-F750-43CF-87C8-253312D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88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700-73FB-44C3-B961-0D39CC3BA0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-1440"/>
            <a:ext cx="4047840" cy="3004920"/>
          </a:xfrm>
          <a:prstGeom prst="rect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0"/>
            <a:ext cx="4124160" cy="300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0480" y="3352680"/>
            <a:ext cx="4043520" cy="350532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0"/>
            <a:ext cx="5104080" cy="33526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5105520" cy="36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52680"/>
            <a:ext cx="510048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0"/>
            <a:ext cx="4044960" cy="3008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4884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503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国外柠檬水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1120" y="299988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52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9f5d2"/>
                </a:gs>
                <a:gs pos="100000">
                  <a:srgbClr val="ebd5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55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4d8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58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edd5"/>
                </a:gs>
                <a:gs pos="100000">
                  <a:srgbClr val="66b1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66b1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ebd53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b13d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ebd531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66b13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66b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0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d531">
                    <a:alpha val="90196"/>
                  </a:srgbClr>
                </a:gs>
                <a:gs pos="50000">
                  <a:srgbClr val="f7efb8"/>
                </a:gs>
                <a:gs pos="100000">
                  <a:srgbClr val="ebd531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14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4884e">
                    <a:alpha val="90196"/>
                  </a:srgbClr>
                </a:gs>
                <a:gs pos="50000">
                  <a:srgbClr val="a9d6c2"/>
                </a:gs>
                <a:gs pos="100000">
                  <a:srgbClr val="04884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18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3f15"/>
                </a:gs>
                <a:gs pos="50000">
                  <a:srgbClr val="66b13d"/>
                </a:gs>
                <a:gs pos="100000">
                  <a:srgbClr val="243f15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13d">
                    <a:alpha val="90196"/>
                  </a:srgbClr>
                </a:gs>
                <a:gs pos="50000">
                  <a:srgbClr val="cae3bc"/>
                </a:gs>
                <a:gs pos="100000">
                  <a:srgbClr val="66b13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b13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324880" y="1933560"/>
            <a:ext cx="4218120" cy="4161960"/>
            <a:chOff x="2324880" y="1933560"/>
            <a:chExt cx="4218120" cy="4161960"/>
          </a:xfrm>
        </p:grpSpPr>
        <p:sp>
          <p:nvSpPr>
            <p:cNvPr id="526" name=""/>
            <p:cNvSpPr/>
            <p:nvPr/>
          </p:nvSpPr>
          <p:spPr>
            <a:xfrm rot="10800000">
              <a:off x="3814920" y="504324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32560" y="1933560"/>
              <a:ext cx="1194120" cy="10526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86200">
              <a:off x="5191920" y="4243320"/>
              <a:ext cx="1193760" cy="105408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597000">
              <a:off x="5188680" y="27093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4374200">
              <a:off x="2485080" y="425160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7985000">
              <a:off x="2489040" y="2704680"/>
              <a:ext cx="1193760" cy="105444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56480" y="5429160"/>
              <a:ext cx="118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b1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53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c8d20">
                  <a:alpha val="12156"/>
                </a:srgbClr>
              </a:gs>
              <a:gs pos="50000">
                <a:srgbClr val="ebd531"/>
              </a:gs>
              <a:gs pos="100000">
                <a:srgbClr val="9c8d20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07026"/>
              </a:gs>
              <a:gs pos="100000">
                <a:srgbClr val="66b13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66b13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ebd53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ff9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19358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b16800"/>
              </a:gs>
              <a:gs pos="100000">
                <a:srgbClr val="ff9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ebd531"/>
              </a:gs>
              <a:gs pos="100000">
                <a:srgbClr val="a3942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b183c"/>
              </a:gs>
              <a:gs pos="100000">
                <a:srgbClr val="193583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3d6b24"/>
              </a:gs>
              <a:gs pos="100000">
                <a:srgbClr val="66b1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36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40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48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666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670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ebd531"/>
                </a:gs>
                <a:gs pos="100000">
                  <a:srgbClr val="6c62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b13d"/>
                </a:gs>
                <a:gs pos="100000">
                  <a:srgbClr val="2f51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8a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ebd53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bd53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bd53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688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44c11"/>
                </a:gs>
                <a:gs pos="50000">
                  <a:srgbClr val="ebd531"/>
                </a:gs>
                <a:gs pos="100000">
                  <a:srgbClr val="544c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746918"/>
                </a:gs>
                <a:gs pos="100000">
                  <a:srgbClr val="ebd5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691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e5300"/>
                </a:gs>
                <a:gs pos="50000">
                  <a:srgbClr val="ff9600"/>
                </a:gs>
                <a:gs pos="100000">
                  <a:srgbClr val="8e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8e5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694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3761b"/>
                </a:gs>
                <a:gs pos="50000">
                  <a:srgbClr val="ebd531"/>
                </a:gs>
                <a:gs pos="100000">
                  <a:srgbClr val="837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ebd531"/>
                </a:gs>
                <a:gs pos="100000">
                  <a:srgbClr val="8376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697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76200"/>
                </a:gs>
                <a:gs pos="50000">
                  <a:srgbClr val="ff9600"/>
                </a:gs>
                <a:gs pos="100000">
                  <a:srgbClr val="a7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2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b13d"/>
                </a:gs>
                <a:gs pos="50000">
                  <a:srgbClr val="ddedd5"/>
                </a:gs>
                <a:gs pos="100000">
                  <a:srgbClr val="66b13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6b13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d531"/>
                </a:gs>
                <a:gs pos="50000">
                  <a:srgbClr val="f9f5d2"/>
                </a:gs>
                <a:gs pos="100000">
                  <a:srgbClr val="ebd53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ebd53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9e4d8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9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ee7c8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3583"/>
                    </a:gs>
                    <a:gs pos="100000">
                      <a:srgbClr val="04884e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3583"/>
                  </a:gs>
                  <a:gs pos="100000">
                    <a:srgbClr val="04884e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17" name=""/>
          <p:cNvSpPr/>
          <p:nvPr/>
        </p:nvSpPr>
        <p:spPr>
          <a:xfrm>
            <a:off x="18288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5181120" y="2971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E03-5DC7-4B80-A4E5-C170B8633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6280" y="1337760"/>
            <a:ext cx="818496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View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Master]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Slide Master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Notes Master]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3020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ae3d"/>
              </a:gs>
              <a:gs pos="50000">
                <a:srgbClr val="ff9600"/>
              </a:gs>
              <a:gs pos="100000">
                <a:srgbClr val="feae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ac36b"/>
              </a:gs>
              <a:gs pos="50000">
                <a:srgbClr val="66b13d"/>
              </a:gs>
              <a:gs pos="100000">
                <a:srgbClr val="8ac3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8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1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b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b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0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7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63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4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0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47712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8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66b13d"/>
          </a:solidFill>
          <a:ln w="9360">
            <a:solidFill>
              <a:srgbClr val="66b13d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66b13d">
              <a:alpha val="50000"/>
            </a:srgbClr>
          </a:solidFill>
          <a:ln w="9360">
            <a:solidFill>
              <a:srgbClr val="66b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0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8399600">
              <a:off x="3515040" y="32659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b13d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15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16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7872600">
                <a:off x="5245560" y="12290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1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6519600">
                <a:off x="4917240" y="10065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f7efb8"/>
              </a:gs>
              <a:gs pos="100000">
                <a:srgbClr val="ebd53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47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48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1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79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297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23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49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54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59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0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66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72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78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79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85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1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12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 rot="5400000">
              <a:off x="3032640" y="231804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 flipV="1" rot="16200000">
              <a:off x="303588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0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0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38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39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31Z</dcterms:created>
  <dc:creator>http://www.eeppt.com</dc:creator>
  <dc:description>ppt模板下载网站 http://www.eeppt.com</dc:description>
  <dc:language>en-US</dc:language>
  <cp:lastModifiedBy/>
  <dcterms:modified xsi:type="dcterms:W3CDTF">2015-06-14T01:55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